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77C-EE49-4DA7-8916-C6490A6F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8D0-12D4-4A26-BC91-3B8E72DD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17F-F692-483F-A7F5-F080036B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047-52BD-41E4-97CE-C9DEA37F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06DB-3F6A-4C3A-9DB4-689E41B5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49AF-6E80-4548-ADA9-B1010B20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7D81-97FF-4F3E-A5CF-A8FB6232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3E9D-ACF0-48EA-857C-81029A4C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02AE-60D1-4DBD-83E0-C448B105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3A83-16F3-40C8-ABED-1575AA89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8EE9-138D-4D79-A747-2C51074C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298A-EB80-4ADB-B9A7-67D9EC45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6BD2-54CE-4480-A4AE-A52C226F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ACF6-492F-41A1-A922-3075064A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C9A6-5543-4C21-ABBC-84D42C81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3C6E-2718-47F5-A873-43E6CAAD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57C0-1E4B-483A-8899-B1CD7D82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44F8-C873-4AD6-9751-5F6FBFF6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F56-58A6-4439-8A1F-C2AFD6F7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D72-339C-4D94-813C-BE240F97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130-E6FC-433D-88C1-25A6D6E8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ADC-CFF5-41DE-821F-8674580B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889-514C-4D49-8667-8EFB2780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E73-80C8-4930-B6AB-E8A635D4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87E0-7540-4CFB-A3A9-5A7FD214A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D0A7-9B43-46C4-96E5-B9CE77517979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29日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C81E-60A9-431B-9BF4-94E5BBEC08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380880" y="2438280"/>
            <a:ext cx="8305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7.6 </a:t>
            </a: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锐角三角函数的简单应用</a:t>
            </a:r>
            <a:r>
              <a:rPr b="1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(1)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73"/>
          <p:cNvSpPr/>
          <p:nvPr/>
        </p:nvSpPr>
        <p:spPr>
          <a:xfrm>
            <a:off x="390600" y="925560"/>
            <a:ext cx="83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如图所示，秋千链子的长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静止时的秋千踏板（大小忽略不计）距地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5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秋千向两边摆动时，若最大摆角（摆角指秋千链子与铅垂线的夹角）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秋千踏板与地面的最大距离为多少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78"/>
          <p:cNvSpPr/>
          <p:nvPr/>
        </p:nvSpPr>
        <p:spPr>
          <a:xfrm>
            <a:off x="-34920" y="299556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204"/>
          <p:cNvGrpSpPr/>
          <p:nvPr/>
        </p:nvGrpSpPr>
        <p:grpSpPr>
          <a:xfrm>
            <a:off x="2379960" y="2089800"/>
            <a:ext cx="4270320" cy="3042000"/>
            <a:chOff x="2379960" y="2089800"/>
            <a:chExt cx="4270320" cy="3042000"/>
          </a:xfrm>
        </p:grpSpPr>
        <p:grpSp>
          <p:nvGrpSpPr>
            <p:cNvPr id="196" name="Group 1205"/>
            <p:cNvGrpSpPr/>
            <p:nvPr/>
          </p:nvGrpSpPr>
          <p:grpSpPr>
            <a:xfrm>
              <a:off x="4344120" y="2309760"/>
              <a:ext cx="400320" cy="452160"/>
              <a:chOff x="4344120" y="2309760"/>
              <a:chExt cx="400320" cy="452160"/>
            </a:xfrm>
          </p:grpSpPr>
          <p:sp>
            <p:nvSpPr>
              <p:cNvPr id="197" name="Rectangle 1206"/>
              <p:cNvSpPr/>
              <p:nvPr/>
            </p:nvSpPr>
            <p:spPr>
              <a:xfrm>
                <a:off x="4344120" y="2376720"/>
                <a:ext cx="70920" cy="75600"/>
              </a:xfrm>
              <a:prstGeom prst="rect">
                <a:avLst/>
              </a:prstGeom>
              <a:gradFill rotWithShape="0">
                <a:gsLst>
                  <a:gs pos="0">
                    <a:srgbClr val="004747"/>
                  </a:gs>
                  <a:gs pos="50000">
                    <a:srgbClr val="009999"/>
                  </a:gs>
                  <a:gs pos="100000">
                    <a:srgbClr val="004747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207"/>
              <p:cNvSpPr/>
              <p:nvPr/>
            </p:nvSpPr>
            <p:spPr>
              <a:xfrm>
                <a:off x="4633200" y="2377080"/>
                <a:ext cx="43920" cy="75600"/>
              </a:xfrm>
              <a:prstGeom prst="rect">
                <a:avLst/>
              </a:prstGeom>
              <a:gradFill rotWithShape="0">
                <a:gsLst>
                  <a:gs pos="0">
                    <a:srgbClr val="004747"/>
                  </a:gs>
                  <a:gs pos="50000">
                    <a:srgbClr val="009999"/>
                  </a:gs>
                  <a:gs pos="100000">
                    <a:srgbClr val="004747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08"/>
              <p:cNvSpPr/>
              <p:nvPr/>
            </p:nvSpPr>
            <p:spPr>
              <a:xfrm>
                <a:off x="4678200" y="2336760"/>
                <a:ext cx="66240" cy="150840"/>
              </a:xfrm>
              <a:prstGeom prst="rect">
                <a:avLst/>
              </a:prstGeom>
              <a:gradFill rotWithShape="0">
                <a:gsLst>
                  <a:gs pos="0">
                    <a:srgbClr val="004747"/>
                  </a:gs>
                  <a:gs pos="50000">
                    <a:srgbClr val="009999"/>
                  </a:gs>
                  <a:gs pos="100000">
                    <a:srgbClr val="004747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209"/>
              <p:cNvSpPr/>
              <p:nvPr/>
            </p:nvSpPr>
            <p:spPr>
              <a:xfrm>
                <a:off x="4344840" y="2309760"/>
                <a:ext cx="354960" cy="452160"/>
              </a:xfrm>
              <a:custGeom>
                <a:avLst/>
                <a:gdLst/>
                <a:ahLst/>
                <a:rect l="l" t="t" r="r" b="b"/>
                <a:pathLst>
                  <a:path w="731" h="932">
                    <a:moveTo>
                      <a:pt x="146" y="0"/>
                    </a:moveTo>
                    <a:lnTo>
                      <a:pt x="146" y="512"/>
                    </a:lnTo>
                    <a:lnTo>
                      <a:pt x="0" y="512"/>
                    </a:lnTo>
                    <a:lnTo>
                      <a:pt x="0" y="932"/>
                    </a:lnTo>
                    <a:lnTo>
                      <a:pt x="731" y="932"/>
                    </a:lnTo>
                    <a:lnTo>
                      <a:pt x="731" y="503"/>
                    </a:lnTo>
                    <a:lnTo>
                      <a:pt x="585" y="503"/>
                    </a:lnTo>
                    <a:lnTo>
                      <a:pt x="585" y="9"/>
                    </a:lnTo>
                    <a:lnTo>
                      <a:pt x="14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747"/>
                  </a:gs>
                  <a:gs pos="50000">
                    <a:srgbClr val="009999"/>
                  </a:gs>
                  <a:gs pos="100000">
                    <a:srgbClr val="004747"/>
                  </a:gs>
                </a:gsLst>
                <a:lin ang="5400000"/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210"/>
              <p:cNvSpPr/>
              <p:nvPr/>
            </p:nvSpPr>
            <p:spPr>
              <a:xfrm>
                <a:off x="4487400" y="2372040"/>
                <a:ext cx="70920" cy="70560"/>
              </a:xfrm>
              <a:prstGeom prst="ellipse">
                <a:avLst/>
              </a:prstGeom>
              <a:gradFill rotWithShape="0">
                <a:gsLst>
                  <a:gs pos="0">
                    <a:srgbClr val="004747"/>
                  </a:gs>
                  <a:gs pos="50000">
                    <a:srgbClr val="009999"/>
                  </a:gs>
                  <a:gs pos="100000">
                    <a:srgbClr val="004747"/>
                  </a:gs>
                </a:gsLst>
                <a:lin ang="5400000"/>
              </a:gra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Line 1211"/>
            <p:cNvSpPr/>
            <p:nvPr/>
          </p:nvSpPr>
          <p:spPr>
            <a:xfrm>
              <a:off x="4523400" y="2409480"/>
              <a:ext cx="0" cy="2287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1212"/>
            <p:cNvGrpSpPr/>
            <p:nvPr/>
          </p:nvGrpSpPr>
          <p:grpSpPr>
            <a:xfrm>
              <a:off x="4498920" y="2378160"/>
              <a:ext cx="1989360" cy="1217160"/>
              <a:chOff x="4498920" y="2378160"/>
              <a:chExt cx="1989360" cy="1217160"/>
            </a:xfrm>
          </p:grpSpPr>
          <p:sp>
            <p:nvSpPr>
              <p:cNvPr id="204" name="Oval 1213"/>
              <p:cNvSpPr/>
              <p:nvPr/>
            </p:nvSpPr>
            <p:spPr>
              <a:xfrm rot="1814400">
                <a:off x="4497480" y="2453760"/>
                <a:ext cx="322920" cy="82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214"/>
              <p:cNvSpPr/>
              <p:nvPr/>
            </p:nvSpPr>
            <p:spPr>
              <a:xfrm rot="1814400">
                <a:off x="4779000" y="2616480"/>
                <a:ext cx="322920" cy="82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215"/>
              <p:cNvSpPr/>
              <p:nvPr/>
            </p:nvSpPr>
            <p:spPr>
              <a:xfrm rot="1814400">
                <a:off x="5060520" y="2779560"/>
                <a:ext cx="322920" cy="82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216"/>
              <p:cNvSpPr/>
              <p:nvPr/>
            </p:nvSpPr>
            <p:spPr>
              <a:xfrm rot="1814400">
                <a:off x="5338440" y="2944080"/>
                <a:ext cx="322920" cy="82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217"/>
              <p:cNvSpPr/>
              <p:nvPr/>
            </p:nvSpPr>
            <p:spPr>
              <a:xfrm rot="1814400">
                <a:off x="5616720" y="3108600"/>
                <a:ext cx="322920" cy="82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1218"/>
              <p:cNvSpPr/>
              <p:nvPr/>
            </p:nvSpPr>
            <p:spPr>
              <a:xfrm rot="1814400">
                <a:off x="5888520" y="3273120"/>
                <a:ext cx="322920" cy="82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219"/>
              <p:cNvSpPr/>
              <p:nvPr/>
            </p:nvSpPr>
            <p:spPr>
              <a:xfrm rot="1814400">
                <a:off x="6166440" y="3436920"/>
                <a:ext cx="322920" cy="82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220"/>
            <p:cNvGrpSpPr/>
            <p:nvPr/>
          </p:nvGrpSpPr>
          <p:grpSpPr>
            <a:xfrm>
              <a:off x="2559600" y="2379600"/>
              <a:ext cx="1989000" cy="1215360"/>
              <a:chOff x="2559600" y="2379600"/>
              <a:chExt cx="1989000" cy="1215360"/>
            </a:xfrm>
          </p:grpSpPr>
          <p:sp>
            <p:nvSpPr>
              <p:cNvPr id="212" name="Oval 1221"/>
              <p:cNvSpPr/>
              <p:nvPr/>
            </p:nvSpPr>
            <p:spPr>
              <a:xfrm flipH="1" rot="19785600">
                <a:off x="4226760" y="2455200"/>
                <a:ext cx="322920" cy="82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1222"/>
              <p:cNvSpPr/>
              <p:nvPr/>
            </p:nvSpPr>
            <p:spPr>
              <a:xfrm flipH="1" rot="19785600">
                <a:off x="3945600" y="2617920"/>
                <a:ext cx="322920" cy="82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1223"/>
              <p:cNvSpPr/>
              <p:nvPr/>
            </p:nvSpPr>
            <p:spPr>
              <a:xfrm flipH="1" rot="19785600">
                <a:off x="3663720" y="2780640"/>
                <a:ext cx="322920" cy="82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1224"/>
              <p:cNvSpPr/>
              <p:nvPr/>
            </p:nvSpPr>
            <p:spPr>
              <a:xfrm flipH="1" rot="19785600">
                <a:off x="3385800" y="2945160"/>
                <a:ext cx="322920" cy="82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1225"/>
              <p:cNvSpPr/>
              <p:nvPr/>
            </p:nvSpPr>
            <p:spPr>
              <a:xfrm flipH="1" rot="19785600">
                <a:off x="3107880" y="3109320"/>
                <a:ext cx="322920" cy="82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1226"/>
              <p:cNvSpPr/>
              <p:nvPr/>
            </p:nvSpPr>
            <p:spPr>
              <a:xfrm flipH="1" rot="19785600">
                <a:off x="2836080" y="3273480"/>
                <a:ext cx="322920" cy="824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1227"/>
              <p:cNvSpPr/>
              <p:nvPr/>
            </p:nvSpPr>
            <p:spPr>
              <a:xfrm flipH="1" rot="19785600">
                <a:off x="2558160" y="3436920"/>
                <a:ext cx="322920" cy="820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Arc 1228"/>
            <p:cNvSpPr/>
            <p:nvPr/>
          </p:nvSpPr>
          <p:spPr>
            <a:xfrm flipH="1" rot="11616600">
              <a:off x="2622960" y="2501280"/>
              <a:ext cx="3762360" cy="2219040"/>
            </a:xfrm>
            <a:custGeom>
              <a:avLst/>
              <a:gdLst/>
              <a:ahLst/>
              <a:rect l="l" t="t" r="r" b="b"/>
              <a:pathLst>
                <a:path fill="none" w="36644" h="21600">
                  <a:moveTo>
                    <a:pt x="-1" y="6949"/>
                  </a:moveTo>
                  <a:cubicBezTo>
                    <a:pt x="4088" y="2519"/>
                    <a:pt x="9843" y="-1"/>
                    <a:pt x="15872" y="0"/>
                  </a:cubicBezTo>
                  <a:cubicBezTo>
                    <a:pt x="25519" y="0"/>
                    <a:pt x="33997" y="6398"/>
                    <a:pt x="36643" y="15676"/>
                  </a:cubicBezTo>
                </a:path>
                <a:path stroke="0" w="36644" h="21600">
                  <a:moveTo>
                    <a:pt x="-1" y="6949"/>
                  </a:moveTo>
                  <a:cubicBezTo>
                    <a:pt x="4088" y="2519"/>
                    <a:pt x="9843" y="-1"/>
                    <a:pt x="15872" y="0"/>
                  </a:cubicBezTo>
                  <a:cubicBezTo>
                    <a:pt x="25519" y="0"/>
                    <a:pt x="33997" y="6398"/>
                    <a:pt x="36643" y="15676"/>
                  </a:cubicBezTo>
                  <a:lnTo>
                    <a:pt x="15872" y="21600"/>
                  </a:lnTo>
                  <a:close/>
                </a:path>
              </a:pathLst>
            </a:custGeom>
            <a:noFill/>
            <a:ln w="38160">
              <a:solidFill>
                <a:srgbClr val="00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229"/>
            <p:cNvSpPr/>
            <p:nvPr/>
          </p:nvSpPr>
          <p:spPr>
            <a:xfrm rot="18245400">
              <a:off x="6296760" y="3541320"/>
              <a:ext cx="399600" cy="9972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230"/>
            <p:cNvSpPr/>
            <p:nvPr/>
          </p:nvSpPr>
          <p:spPr>
            <a:xfrm>
              <a:off x="4323600" y="4689000"/>
              <a:ext cx="401040" cy="1000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231"/>
            <p:cNvSpPr/>
            <p:nvPr/>
          </p:nvSpPr>
          <p:spPr>
            <a:xfrm flipH="1" rot="3354600">
              <a:off x="2332800" y="3534480"/>
              <a:ext cx="399600" cy="9972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rc 1232"/>
            <p:cNvSpPr/>
            <p:nvPr/>
          </p:nvSpPr>
          <p:spPr>
            <a:xfrm flipH="1" rot="11019600">
              <a:off x="4541040" y="2549520"/>
              <a:ext cx="413280" cy="432000"/>
            </a:xfrm>
            <a:custGeom>
              <a:avLst/>
              <a:gdLst/>
              <a:ahLst/>
              <a:rect l="l" t="t" r="r" b="b"/>
              <a:pathLst>
                <a:path fill="none" w="20636" h="21600">
                  <a:moveTo>
                    <a:pt x="-1" y="0"/>
                  </a:moveTo>
                  <a:cubicBezTo>
                    <a:pt x="9471" y="0"/>
                    <a:pt x="17837" y="6169"/>
                    <a:pt x="20635" y="15218"/>
                  </a:cubicBezTo>
                </a:path>
                <a:path stroke="0" w="20636" h="21600">
                  <a:moveTo>
                    <a:pt x="-1" y="0"/>
                  </a:moveTo>
                  <a:cubicBezTo>
                    <a:pt x="9471" y="0"/>
                    <a:pt x="17837" y="6169"/>
                    <a:pt x="20635" y="1521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1233"/>
          <p:cNvSpPr/>
          <p:nvPr/>
        </p:nvSpPr>
        <p:spPr>
          <a:xfrm>
            <a:off x="2273400" y="5292720"/>
            <a:ext cx="4645080" cy="1000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34"/>
          <p:cNvSpPr/>
          <p:nvPr/>
        </p:nvSpPr>
        <p:spPr>
          <a:xfrm>
            <a:off x="4570560" y="485604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.5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35"/>
          <p:cNvSpPr/>
          <p:nvPr/>
        </p:nvSpPr>
        <p:spPr>
          <a:xfrm>
            <a:off x="5397480" y="252108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239"/>
          <p:cNvSpPr/>
          <p:nvPr/>
        </p:nvSpPr>
        <p:spPr>
          <a:xfrm flipH="1">
            <a:off x="6119640" y="3583080"/>
            <a:ext cx="60984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40"/>
          <p:cNvSpPr/>
          <p:nvPr/>
        </p:nvSpPr>
        <p:spPr>
          <a:xfrm>
            <a:off x="6516720" y="3583080"/>
            <a:ext cx="0" cy="1712880"/>
          </a:xfrm>
          <a:prstGeom prst="line">
            <a:avLst/>
          </a:prstGeom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241"/>
          <p:cNvSpPr/>
          <p:nvPr/>
        </p:nvSpPr>
        <p:spPr>
          <a:xfrm flipH="1">
            <a:off x="4443480" y="3583080"/>
            <a:ext cx="158112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244"/>
          <p:cNvGrpSpPr/>
          <p:nvPr/>
        </p:nvGrpSpPr>
        <p:grpSpPr>
          <a:xfrm>
            <a:off x="4529160" y="3459240"/>
            <a:ext cx="129960" cy="129960"/>
            <a:chOff x="4529160" y="3459240"/>
            <a:chExt cx="129960" cy="129960"/>
          </a:xfrm>
        </p:grpSpPr>
        <p:sp>
          <p:nvSpPr>
            <p:cNvPr id="231" name="Line 1242"/>
            <p:cNvSpPr/>
            <p:nvPr/>
          </p:nvSpPr>
          <p:spPr>
            <a:xfrm>
              <a:off x="4529160" y="3465360"/>
              <a:ext cx="129960" cy="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43"/>
            <p:cNvSpPr/>
            <p:nvPr/>
          </p:nvSpPr>
          <p:spPr>
            <a:xfrm>
              <a:off x="4638600" y="3459240"/>
              <a:ext cx="0" cy="12996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1246"/>
          <p:cNvSpPr/>
          <p:nvPr/>
        </p:nvSpPr>
        <p:spPr>
          <a:xfrm>
            <a:off x="4630680" y="285444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6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47"/>
          <p:cNvSpPr/>
          <p:nvPr/>
        </p:nvSpPr>
        <p:spPr>
          <a:xfrm>
            <a:off x="4529160" y="4745160"/>
            <a:ext cx="0" cy="550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44"/>
          <p:cNvSpPr/>
          <p:nvPr/>
        </p:nvSpPr>
        <p:spPr>
          <a:xfrm>
            <a:off x="228600" y="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板块三：解直角三角形的应用练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533520"/>
            <a:ext cx="8839080" cy="2043720"/>
          </a:xfrm>
          <a:prstGeom prst="rect">
            <a:avLst/>
          </a:prstGeom>
          <a:solidFill>
            <a:srgbClr val="ffff99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中某小岛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周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k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范围内有暗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海轮在该岛的南偏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5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东行驶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k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到达该岛的南偏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该海轮继续向东行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有触礁的危险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确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km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2844720" y="3916440"/>
            <a:ext cx="3888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5076720" y="3197160"/>
            <a:ext cx="0" cy="2376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H="1">
            <a:off x="3276720" y="3916440"/>
            <a:ext cx="1800000" cy="10810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716360" y="35575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4716360" y="2909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2484360" y="3844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2916360" y="49179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76720" y="49975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 flipH="1">
            <a:off x="4356000" y="3916440"/>
            <a:ext cx="720720" cy="10810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4211640" y="4925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4356000" y="499752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4802040" y="5062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5076720" y="5357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7"/>
          <p:cNvSpPr/>
          <p:nvPr/>
        </p:nvSpPr>
        <p:spPr>
          <a:xfrm>
            <a:off x="3911760" y="2781360"/>
            <a:ext cx="2303280" cy="230328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8"/>
          <p:cNvSpPr/>
          <p:nvPr/>
        </p:nvSpPr>
        <p:spPr>
          <a:xfrm>
            <a:off x="4637160" y="3916440"/>
            <a:ext cx="441360" cy="1101600"/>
          </a:xfrm>
          <a:custGeom>
            <a:avLst/>
            <a:gdLst/>
            <a:ahLst/>
            <a:rect l="l" t="t" r="r" b="b"/>
            <a:pathLst>
              <a:path w="278" h="694">
                <a:moveTo>
                  <a:pt x="278" y="0"/>
                </a:moveTo>
                <a:lnTo>
                  <a:pt x="0" y="69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9"/>
          <p:cNvSpPr/>
          <p:nvPr/>
        </p:nvSpPr>
        <p:spPr>
          <a:xfrm>
            <a:off x="5076720" y="499752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0"/>
          <p:cNvSpPr/>
          <p:nvPr/>
        </p:nvSpPr>
        <p:spPr>
          <a:xfrm flipH="1">
            <a:off x="5091120" y="3916440"/>
            <a:ext cx="417600" cy="1081080"/>
          </a:xfrm>
          <a:custGeom>
            <a:avLst/>
            <a:gdLst/>
            <a:ahLst/>
            <a:rect l="l" t="t" r="r" b="b"/>
            <a:pathLst>
              <a:path w="278" h="694">
                <a:moveTo>
                  <a:pt x="278" y="0"/>
                </a:moveTo>
                <a:lnTo>
                  <a:pt x="0" y="69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4471920" y="50785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076120" y="5705640"/>
            <a:ext cx="49107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计算出该船正东方向暗礁带的宽度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543564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Object 25" descr=""/>
          <p:cNvPicPr/>
          <p:nvPr/>
        </p:nvPicPr>
        <p:blipFill>
          <a:blip r:embed="rId1"/>
          <a:stretch/>
        </p:blipFill>
        <p:spPr>
          <a:xfrm>
            <a:off x="61920" y="3610080"/>
            <a:ext cx="2505240" cy="11048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3"/>
          <p:cNvSpPr/>
          <p:nvPr/>
        </p:nvSpPr>
        <p:spPr>
          <a:xfrm>
            <a:off x="0" y="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板块三：解直角三角形的应用练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3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3049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板块四： 小结与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409680" y="1274760"/>
            <a:ext cx="87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、本节课我们回顾了锐角三角函数的哪些知识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409680" y="277164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、你学到了哪些解决数学问题的思想方法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4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190440" y="836640"/>
            <a:ext cx="81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材料一、如图，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t△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=90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=5,AC=3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出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锐角三角函数值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1749600"/>
            <a:ext cx="3019320" cy="3914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-93600" y="0"/>
            <a:ext cx="92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板块一：回顾锐角三角函数的定义并应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1249200" y="3063960"/>
            <a:ext cx="8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322280" y="4998960"/>
            <a:ext cx="8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0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7885080" y="-1609560"/>
            <a:ext cx="2158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706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回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85920" y="0"/>
            <a:ext cx="44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锐角三角函数的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90440" y="1128600"/>
            <a:ext cx="66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弦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锐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比叫做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正弦，记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ject 8" descr=""/>
          <p:cNvPicPr/>
          <p:nvPr/>
        </p:nvPicPr>
        <p:blipFill>
          <a:blip r:embed="rId2"/>
          <a:stretch/>
        </p:blipFill>
        <p:spPr>
          <a:xfrm>
            <a:off x="2600280" y="1457280"/>
            <a:ext cx="1260360" cy="795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227160" y="2224080"/>
            <a:ext cx="72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余弦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锐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比叫做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余弦，记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27160" y="3392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锐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比叫做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正切，记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12" descr=""/>
          <p:cNvPicPr/>
          <p:nvPr/>
        </p:nvPicPr>
        <p:blipFill>
          <a:blip r:embed="rId3"/>
          <a:stretch/>
        </p:blipFill>
        <p:spPr>
          <a:xfrm>
            <a:off x="2600280" y="2735280"/>
            <a:ext cx="1224000" cy="750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ject 14" descr=""/>
          <p:cNvPicPr/>
          <p:nvPr/>
        </p:nvPicPr>
        <p:blipFill>
          <a:blip r:embed="rId4"/>
          <a:stretch/>
        </p:blipFill>
        <p:spPr>
          <a:xfrm>
            <a:off x="2673360" y="3903840"/>
            <a:ext cx="1260360" cy="772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9"/>
          <p:cNvSpPr/>
          <p:nvPr/>
        </p:nvSpPr>
        <p:spPr>
          <a:xfrm>
            <a:off x="250920" y="49626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锐角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正弦、余弦、正切都叫做∠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锐角三角函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1" descr=""/>
          <p:cNvPicPr/>
          <p:nvPr/>
        </p:nvPicPr>
        <p:blipFill>
          <a:blip r:embed="rId5"/>
          <a:stretch/>
        </p:blipFill>
        <p:spPr>
          <a:xfrm>
            <a:off x="6850080" y="371520"/>
            <a:ext cx="2114640" cy="3200400"/>
          </a:xfrm>
          <a:prstGeom prst="rect">
            <a:avLst/>
          </a:prstGeom>
          <a:ln w="0">
            <a:noFill/>
          </a:ln>
        </p:spPr>
      </p:pic>
      <p:sp>
        <p:nvSpPr>
          <p:cNvPr id="104" name="矩形 1"/>
          <p:cNvSpPr/>
          <p:nvPr/>
        </p:nvSpPr>
        <p:spPr>
          <a:xfrm>
            <a:off x="3299040" y="1092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边与斜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3335400" y="2260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邻边与斜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3335400" y="3355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边与邻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1"/>
          <p:cNvSpPr/>
          <p:nvPr/>
        </p:nvSpPr>
        <p:spPr>
          <a:xfrm>
            <a:off x="0" y="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归纳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0"/>
          <p:cNvSpPr/>
          <p:nvPr/>
        </p:nvSpPr>
        <p:spPr>
          <a:xfrm>
            <a:off x="1140480" y="581040"/>
            <a:ext cx="48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t△AB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=90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941760" y="1683360"/>
            <a:ext cx="755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，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=90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已知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=30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C=8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长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已知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=60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C=    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,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长度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4916520" y="2743200"/>
            <a:ext cx="838080" cy="503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0" y="457200"/>
            <a:ext cx="92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板块一：回顾锐角三角函数的定义并应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5105520" y="3657600"/>
            <a:ext cx="2895480" cy="3035160"/>
            <a:chOff x="5105520" y="3657600"/>
            <a:chExt cx="2895480" cy="3035160"/>
          </a:xfrm>
        </p:grpSpPr>
        <p:sp>
          <p:nvSpPr>
            <p:cNvPr id="113" name="Oval 3"/>
            <p:cNvSpPr/>
            <p:nvPr/>
          </p:nvSpPr>
          <p:spPr>
            <a:xfrm>
              <a:off x="5334120" y="3657600"/>
              <a:ext cx="2361960" cy="23623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"/>
            <p:cNvSpPr/>
            <p:nvPr/>
          </p:nvSpPr>
          <p:spPr>
            <a:xfrm>
              <a:off x="5105520" y="6248520"/>
              <a:ext cx="28954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 flipV="1">
              <a:off x="6553080" y="48006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"/>
            <p:cNvSpPr/>
            <p:nvPr/>
          </p:nvSpPr>
          <p:spPr>
            <a:xfrm>
              <a:off x="6326640" y="6172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"/>
            <p:cNvSpPr/>
            <p:nvPr/>
          </p:nvSpPr>
          <p:spPr>
            <a:xfrm>
              <a:off x="6174000" y="55627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6300720" y="434340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9"/>
          <p:cNvSpPr/>
          <p:nvPr/>
        </p:nvSpPr>
        <p:spPr>
          <a:xfrm>
            <a:off x="1623240" y="990720"/>
            <a:ext cx="5808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材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一”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和同学一起到游乐场游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乐场的大型摩天轮的半径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m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旋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min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乘坐最底部的车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离地面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的观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离地面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度是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u=80849206,2671142147&amp;gp=3"/>
          <p:cNvPicPr/>
          <p:nvPr/>
        </p:nvPicPr>
        <p:blipFill>
          <a:blip r:embed="rId1"/>
          <a:stretch/>
        </p:blipFill>
        <p:spPr>
          <a:xfrm>
            <a:off x="914400" y="3581280"/>
            <a:ext cx="2895480" cy="289584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1"/>
          <p:cNvGrpSpPr/>
          <p:nvPr/>
        </p:nvGrpSpPr>
        <p:grpSpPr>
          <a:xfrm>
            <a:off x="6553080" y="4800600"/>
            <a:ext cx="1598040" cy="672840"/>
            <a:chOff x="6553080" y="4800600"/>
            <a:chExt cx="1598040" cy="672840"/>
          </a:xfrm>
        </p:grpSpPr>
        <p:sp>
          <p:nvSpPr>
            <p:cNvPr id="122" name="Line 12"/>
            <p:cNvSpPr/>
            <p:nvPr/>
          </p:nvSpPr>
          <p:spPr>
            <a:xfrm>
              <a:off x="6553080" y="4800600"/>
              <a:ext cx="1067040" cy="380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3"/>
            <p:cNvSpPr/>
            <p:nvPr/>
          </p:nvSpPr>
          <p:spPr>
            <a:xfrm>
              <a:off x="7615440" y="49528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4"/>
          <p:cNvGrpSpPr/>
          <p:nvPr/>
        </p:nvGrpSpPr>
        <p:grpSpPr>
          <a:xfrm>
            <a:off x="6167880" y="4876920"/>
            <a:ext cx="1452240" cy="520560"/>
            <a:chOff x="6167880" y="4876920"/>
            <a:chExt cx="1452240" cy="520560"/>
          </a:xfrm>
        </p:grpSpPr>
        <p:sp>
          <p:nvSpPr>
            <p:cNvPr id="125" name="Line 15"/>
            <p:cNvSpPr/>
            <p:nvPr/>
          </p:nvSpPr>
          <p:spPr>
            <a:xfrm flipH="1">
              <a:off x="6553080" y="518148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 flipH="1">
              <a:off x="6553080" y="5105520"/>
              <a:ext cx="76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 flipV="1">
              <a:off x="6629400" y="5105160"/>
              <a:ext cx="0" cy="75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8"/>
            <p:cNvSpPr/>
            <p:nvPr/>
          </p:nvSpPr>
          <p:spPr>
            <a:xfrm>
              <a:off x="6167880" y="48769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0"/>
          <p:cNvSpPr/>
          <p:nvPr/>
        </p:nvSpPr>
        <p:spPr>
          <a:xfrm>
            <a:off x="993600" y="3549600"/>
            <a:ext cx="37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摩天轮启动多长时间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离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面的高度将首次达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m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1122120" y="4800600"/>
            <a:ext cx="343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将有多长时间连续保持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离地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空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1"/>
          <p:cNvSpPr/>
          <p:nvPr/>
        </p:nvSpPr>
        <p:spPr>
          <a:xfrm>
            <a:off x="0" y="3049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板块二：解直角三角形的应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146240" y="1295280"/>
            <a:ext cx="642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摆的摆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cm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它摆动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位置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∠BAB’=11°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这时摆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较最低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升高了多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确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cm)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495680" y="333864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 flipH="1">
            <a:off x="3733920" y="3338640"/>
            <a:ext cx="761760" cy="22096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3733920" y="554832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80" y="40"/>
                  <a:pt x="160" y="80"/>
                  <a:pt x="240" y="96"/>
                </a:cubicBezTo>
                <a:cubicBezTo>
                  <a:pt x="320" y="112"/>
                  <a:pt x="400" y="104"/>
                  <a:pt x="480" y="96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4269240" y="28954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4269240" y="5638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278160" y="52578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3733920" y="5257800"/>
            <a:ext cx="1293120" cy="520560"/>
            <a:chOff x="3733920" y="5257800"/>
            <a:chExt cx="1293120" cy="520560"/>
          </a:xfrm>
        </p:grpSpPr>
        <p:grpSp>
          <p:nvGrpSpPr>
            <p:cNvPr id="140" name="Group 11"/>
            <p:cNvGrpSpPr/>
            <p:nvPr/>
          </p:nvGrpSpPr>
          <p:grpSpPr>
            <a:xfrm>
              <a:off x="3733920" y="5396040"/>
              <a:ext cx="761760" cy="152280"/>
              <a:chOff x="3733920" y="5396040"/>
              <a:chExt cx="761760" cy="152280"/>
            </a:xfrm>
          </p:grpSpPr>
          <p:sp>
            <p:nvSpPr>
              <p:cNvPr id="141" name="Line 7"/>
              <p:cNvSpPr/>
              <p:nvPr/>
            </p:nvSpPr>
            <p:spPr>
              <a:xfrm>
                <a:off x="3733920" y="5548320"/>
                <a:ext cx="761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9"/>
              <p:cNvSpPr/>
              <p:nvPr/>
            </p:nvSpPr>
            <p:spPr>
              <a:xfrm>
                <a:off x="4343400" y="539604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0"/>
              <p:cNvSpPr/>
              <p:nvPr/>
            </p:nvSpPr>
            <p:spPr>
              <a:xfrm>
                <a:off x="4343400" y="5396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15"/>
            <p:cNvSpPr/>
            <p:nvPr/>
          </p:nvSpPr>
          <p:spPr>
            <a:xfrm>
              <a:off x="4491360" y="5257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Object 18" descr=""/>
          <p:cNvPicPr/>
          <p:nvPr/>
        </p:nvPicPr>
        <p:blipFill>
          <a:blip r:embed="rId1"/>
          <a:stretch/>
        </p:blipFill>
        <p:spPr>
          <a:xfrm>
            <a:off x="436680" y="3124080"/>
            <a:ext cx="2847960" cy="54792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19" descr=""/>
          <p:cNvPicPr/>
          <p:nvPr/>
        </p:nvPicPr>
        <p:blipFill>
          <a:blip r:embed="rId2"/>
          <a:stretch/>
        </p:blipFill>
        <p:spPr>
          <a:xfrm>
            <a:off x="341280" y="3886200"/>
            <a:ext cx="2924280" cy="54756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20" descr=""/>
          <p:cNvPicPr/>
          <p:nvPr/>
        </p:nvPicPr>
        <p:blipFill>
          <a:blip r:embed="rId3"/>
          <a:stretch/>
        </p:blipFill>
        <p:spPr>
          <a:xfrm>
            <a:off x="396720" y="4648320"/>
            <a:ext cx="2927520" cy="5475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8"/>
          <p:cNvSpPr/>
          <p:nvPr/>
        </p:nvSpPr>
        <p:spPr>
          <a:xfrm>
            <a:off x="0" y="3049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板块二：解直角三角形的应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1786320" y="1722600"/>
            <a:ext cx="565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跷跷板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m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跷跷板的一端碰到地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另一端离地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5m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此时跷跷板与地面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夹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确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1°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6"/>
          <p:cNvGrpSpPr/>
          <p:nvPr/>
        </p:nvGrpSpPr>
        <p:grpSpPr>
          <a:xfrm>
            <a:off x="1295280" y="3900600"/>
            <a:ext cx="6782040" cy="2120760"/>
            <a:chOff x="1295280" y="3900600"/>
            <a:chExt cx="6782040" cy="2120760"/>
          </a:xfrm>
        </p:grpSpPr>
        <p:sp>
          <p:nvSpPr>
            <p:cNvPr id="151" name="AutoShape 7"/>
            <p:cNvSpPr/>
            <p:nvPr/>
          </p:nvSpPr>
          <p:spPr>
            <a:xfrm>
              <a:off x="4276800" y="4978440"/>
              <a:ext cx="676080" cy="584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1295280" y="5562720"/>
              <a:ext cx="67820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 flipV="1">
              <a:off x="2514600" y="4952880"/>
              <a:ext cx="2133720" cy="609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 flipV="1">
              <a:off x="4648320" y="4343040"/>
              <a:ext cx="2133360" cy="6094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 flipV="1">
              <a:off x="6781680" y="434304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2281680" y="5486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6631200" y="3900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4395600" y="44956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6625080" y="5500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Box 13"/>
          <p:cNvSpPr/>
          <p:nvPr/>
        </p:nvSpPr>
        <p:spPr>
          <a:xfrm>
            <a:off x="0" y="3049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板块二：解直角三角形的应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1554120" y="1017000"/>
            <a:ext cx="5668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材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居民小区有一朝向为正南方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居民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该居民楼的一楼是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的小区超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超市以上是居民住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该楼的前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处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盖一栋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的新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冬季正午的阳光与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线的夹角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超市以上的居民住房采光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否有影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图见黑板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若要使超市采光不受影响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楼应相距多少米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若新楼的影子恰好落在超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高的窗台处，两楼应相距多少米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0" y="3049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板块二：解直角三角形的应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9"/>
          <p:cNvSpPr/>
          <p:nvPr/>
        </p:nvSpPr>
        <p:spPr>
          <a:xfrm>
            <a:off x="606240" y="489960"/>
            <a:ext cx="74851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实践课上，小明所在小组要测量护城河的宽度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所示是护城河的一段，两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河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排大树，相邻两棵大树之间的距离均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明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测角仪在河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测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α=36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然后沿河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到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，测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72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请你根据这些数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小明他们算出河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结果保留两位有效数字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参考数据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 36°≈0.5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 36°≈0.8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n36°≈0.7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 72°≈0.9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 72°≈0.3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n72°≈3.0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"/>
          <p:cNvGrpSpPr/>
          <p:nvPr/>
        </p:nvGrpSpPr>
        <p:grpSpPr>
          <a:xfrm>
            <a:off x="609480" y="3886200"/>
            <a:ext cx="3657600" cy="2742840"/>
            <a:chOff x="609480" y="3886200"/>
            <a:chExt cx="3657600" cy="2742840"/>
          </a:xfrm>
        </p:grpSpPr>
        <p:sp>
          <p:nvSpPr>
            <p:cNvPr id="165" name="Line 28"/>
            <p:cNvSpPr/>
            <p:nvPr/>
          </p:nvSpPr>
          <p:spPr>
            <a:xfrm>
              <a:off x="1126440" y="4399200"/>
              <a:ext cx="284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7"/>
            <p:cNvSpPr/>
            <p:nvPr/>
          </p:nvSpPr>
          <p:spPr>
            <a:xfrm>
              <a:off x="771120" y="6182280"/>
              <a:ext cx="3021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6"/>
            <p:cNvSpPr/>
            <p:nvPr/>
          </p:nvSpPr>
          <p:spPr>
            <a:xfrm>
              <a:off x="1126440" y="4399200"/>
              <a:ext cx="1587960" cy="1780200"/>
            </a:xfrm>
            <a:custGeom>
              <a:avLst/>
              <a:gdLst/>
              <a:ahLst/>
              <a:rect l="l" t="t" r="r" b="b"/>
              <a:pathLst>
                <a:path w="1608" h="1402">
                  <a:moveTo>
                    <a:pt x="1608" y="0"/>
                  </a:moveTo>
                  <a:lnTo>
                    <a:pt x="0" y="14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5"/>
            <p:cNvSpPr/>
            <p:nvPr/>
          </p:nvSpPr>
          <p:spPr>
            <a:xfrm flipH="1">
              <a:off x="2904120" y="4399200"/>
              <a:ext cx="533160" cy="1782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4"/>
            <p:cNvSpPr/>
            <p:nvPr/>
          </p:nvSpPr>
          <p:spPr>
            <a:xfrm>
              <a:off x="3437640" y="4399200"/>
              <a:ext cx="0" cy="1782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21"/>
            <p:cNvGrpSpPr/>
            <p:nvPr/>
          </p:nvGrpSpPr>
          <p:grpSpPr>
            <a:xfrm>
              <a:off x="2596320" y="3886200"/>
              <a:ext cx="234720" cy="496440"/>
              <a:chOff x="2596320" y="3886200"/>
              <a:chExt cx="234720" cy="496440"/>
            </a:xfrm>
          </p:grpSpPr>
          <p:sp>
            <p:nvSpPr>
              <p:cNvPr id="171" name="Rectangle 23"/>
              <p:cNvSpPr/>
              <p:nvPr/>
            </p:nvSpPr>
            <p:spPr>
              <a:xfrm>
                <a:off x="2687040" y="4050720"/>
                <a:ext cx="44640" cy="33192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2"/>
              <p:cNvSpPr/>
              <p:nvPr/>
            </p:nvSpPr>
            <p:spPr>
              <a:xfrm>
                <a:off x="2596320" y="3886200"/>
                <a:ext cx="234720" cy="300600"/>
              </a:xfrm>
              <a:custGeom>
                <a:avLst/>
                <a:gdLst/>
                <a:ahLst/>
                <a:rect l="l" t="t" r="r" b="b"/>
                <a:pathLst>
                  <a:path w="300" h="298">
                    <a:moveTo>
                      <a:pt x="151" y="10"/>
                    </a:moveTo>
                    <a:cubicBezTo>
                      <a:pt x="162" y="17"/>
                      <a:pt x="160" y="24"/>
                      <a:pt x="172" y="28"/>
                    </a:cubicBezTo>
                    <a:cubicBezTo>
                      <a:pt x="181" y="39"/>
                      <a:pt x="196" y="73"/>
                      <a:pt x="205" y="91"/>
                    </a:cubicBezTo>
                    <a:cubicBezTo>
                      <a:pt x="214" y="109"/>
                      <a:pt x="220" y="123"/>
                      <a:pt x="229" y="139"/>
                    </a:cubicBezTo>
                    <a:cubicBezTo>
                      <a:pt x="238" y="154"/>
                      <a:pt x="252" y="174"/>
                      <a:pt x="262" y="190"/>
                    </a:cubicBezTo>
                    <a:cubicBezTo>
                      <a:pt x="272" y="206"/>
                      <a:pt x="285" y="222"/>
                      <a:pt x="289" y="235"/>
                    </a:cubicBezTo>
                    <a:cubicBezTo>
                      <a:pt x="268" y="242"/>
                      <a:pt x="300" y="258"/>
                      <a:pt x="286" y="268"/>
                    </a:cubicBezTo>
                    <a:cubicBezTo>
                      <a:pt x="280" y="281"/>
                      <a:pt x="254" y="276"/>
                      <a:pt x="244" y="286"/>
                    </a:cubicBezTo>
                    <a:cubicBezTo>
                      <a:pt x="240" y="290"/>
                      <a:pt x="216" y="294"/>
                      <a:pt x="211" y="295"/>
                    </a:cubicBezTo>
                    <a:cubicBezTo>
                      <a:pt x="190" y="293"/>
                      <a:pt x="169" y="290"/>
                      <a:pt x="148" y="289"/>
                    </a:cubicBezTo>
                    <a:cubicBezTo>
                      <a:pt x="136" y="289"/>
                      <a:pt x="112" y="298"/>
                      <a:pt x="112" y="298"/>
                    </a:cubicBezTo>
                    <a:cubicBezTo>
                      <a:pt x="82" y="292"/>
                      <a:pt x="82" y="291"/>
                      <a:pt x="61" y="277"/>
                    </a:cubicBezTo>
                    <a:cubicBezTo>
                      <a:pt x="51" y="273"/>
                      <a:pt x="32" y="287"/>
                      <a:pt x="22" y="283"/>
                    </a:cubicBezTo>
                    <a:cubicBezTo>
                      <a:pt x="12" y="279"/>
                      <a:pt x="0" y="273"/>
                      <a:pt x="4" y="256"/>
                    </a:cubicBezTo>
                    <a:cubicBezTo>
                      <a:pt x="14" y="226"/>
                      <a:pt x="15" y="199"/>
                      <a:pt x="43" y="181"/>
                    </a:cubicBezTo>
                    <a:cubicBezTo>
                      <a:pt x="46" y="154"/>
                      <a:pt x="52" y="151"/>
                      <a:pt x="67" y="130"/>
                    </a:cubicBezTo>
                    <a:cubicBezTo>
                      <a:pt x="70" y="120"/>
                      <a:pt x="68" y="111"/>
                      <a:pt x="76" y="103"/>
                    </a:cubicBezTo>
                    <a:cubicBezTo>
                      <a:pt x="86" y="73"/>
                      <a:pt x="87" y="114"/>
                      <a:pt x="91" y="76"/>
                    </a:cubicBezTo>
                    <a:cubicBezTo>
                      <a:pt x="93" y="60"/>
                      <a:pt x="108" y="34"/>
                      <a:pt x="115" y="19"/>
                    </a:cubicBezTo>
                    <a:cubicBezTo>
                      <a:pt x="122" y="20"/>
                      <a:pt x="129" y="24"/>
                      <a:pt x="136" y="22"/>
                    </a:cubicBezTo>
                    <a:cubicBezTo>
                      <a:pt x="139" y="21"/>
                      <a:pt x="137" y="15"/>
                      <a:pt x="139" y="13"/>
                    </a:cubicBezTo>
                    <a:cubicBezTo>
                      <a:pt x="152" y="0"/>
                      <a:pt x="151" y="4"/>
                      <a:pt x="151" y="10"/>
                    </a:cubicBez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8"/>
            <p:cNvGrpSpPr/>
            <p:nvPr/>
          </p:nvGrpSpPr>
          <p:grpSpPr>
            <a:xfrm>
              <a:off x="3326760" y="3886200"/>
              <a:ext cx="235080" cy="496440"/>
              <a:chOff x="3326760" y="3886200"/>
              <a:chExt cx="235080" cy="496440"/>
            </a:xfrm>
          </p:grpSpPr>
          <p:sp>
            <p:nvSpPr>
              <p:cNvPr id="174" name="Rectangle 20"/>
              <p:cNvSpPr/>
              <p:nvPr/>
            </p:nvSpPr>
            <p:spPr>
              <a:xfrm>
                <a:off x="3417480" y="4050720"/>
                <a:ext cx="44640" cy="33192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9"/>
              <p:cNvSpPr/>
              <p:nvPr/>
            </p:nvSpPr>
            <p:spPr>
              <a:xfrm>
                <a:off x="3326760" y="3886200"/>
                <a:ext cx="235080" cy="300600"/>
              </a:xfrm>
              <a:custGeom>
                <a:avLst/>
                <a:gdLst/>
                <a:ahLst/>
                <a:rect l="l" t="t" r="r" b="b"/>
                <a:pathLst>
                  <a:path w="300" h="298">
                    <a:moveTo>
                      <a:pt x="151" y="10"/>
                    </a:moveTo>
                    <a:cubicBezTo>
                      <a:pt x="162" y="17"/>
                      <a:pt x="160" y="24"/>
                      <a:pt x="172" y="28"/>
                    </a:cubicBezTo>
                    <a:cubicBezTo>
                      <a:pt x="181" y="39"/>
                      <a:pt x="196" y="73"/>
                      <a:pt x="205" y="91"/>
                    </a:cubicBezTo>
                    <a:cubicBezTo>
                      <a:pt x="214" y="109"/>
                      <a:pt x="220" y="123"/>
                      <a:pt x="229" y="139"/>
                    </a:cubicBezTo>
                    <a:cubicBezTo>
                      <a:pt x="238" y="154"/>
                      <a:pt x="252" y="174"/>
                      <a:pt x="262" y="190"/>
                    </a:cubicBezTo>
                    <a:cubicBezTo>
                      <a:pt x="272" y="206"/>
                      <a:pt x="285" y="222"/>
                      <a:pt x="289" y="235"/>
                    </a:cubicBezTo>
                    <a:cubicBezTo>
                      <a:pt x="268" y="242"/>
                      <a:pt x="300" y="258"/>
                      <a:pt x="286" y="268"/>
                    </a:cubicBezTo>
                    <a:cubicBezTo>
                      <a:pt x="280" y="281"/>
                      <a:pt x="254" y="276"/>
                      <a:pt x="244" y="286"/>
                    </a:cubicBezTo>
                    <a:cubicBezTo>
                      <a:pt x="240" y="290"/>
                      <a:pt x="216" y="294"/>
                      <a:pt x="211" y="295"/>
                    </a:cubicBezTo>
                    <a:cubicBezTo>
                      <a:pt x="190" y="293"/>
                      <a:pt x="169" y="290"/>
                      <a:pt x="148" y="289"/>
                    </a:cubicBezTo>
                    <a:cubicBezTo>
                      <a:pt x="136" y="289"/>
                      <a:pt x="112" y="298"/>
                      <a:pt x="112" y="298"/>
                    </a:cubicBezTo>
                    <a:cubicBezTo>
                      <a:pt x="82" y="292"/>
                      <a:pt x="82" y="291"/>
                      <a:pt x="61" y="277"/>
                    </a:cubicBezTo>
                    <a:cubicBezTo>
                      <a:pt x="51" y="273"/>
                      <a:pt x="32" y="287"/>
                      <a:pt x="22" y="283"/>
                    </a:cubicBezTo>
                    <a:cubicBezTo>
                      <a:pt x="12" y="279"/>
                      <a:pt x="0" y="273"/>
                      <a:pt x="4" y="256"/>
                    </a:cubicBezTo>
                    <a:cubicBezTo>
                      <a:pt x="14" y="226"/>
                      <a:pt x="15" y="199"/>
                      <a:pt x="43" y="181"/>
                    </a:cubicBezTo>
                    <a:cubicBezTo>
                      <a:pt x="46" y="154"/>
                      <a:pt x="52" y="151"/>
                      <a:pt x="67" y="130"/>
                    </a:cubicBezTo>
                    <a:cubicBezTo>
                      <a:pt x="70" y="120"/>
                      <a:pt x="68" y="111"/>
                      <a:pt x="76" y="103"/>
                    </a:cubicBezTo>
                    <a:cubicBezTo>
                      <a:pt x="86" y="73"/>
                      <a:pt x="87" y="114"/>
                      <a:pt x="91" y="76"/>
                    </a:cubicBezTo>
                    <a:cubicBezTo>
                      <a:pt x="93" y="60"/>
                      <a:pt x="108" y="34"/>
                      <a:pt x="115" y="19"/>
                    </a:cubicBezTo>
                    <a:cubicBezTo>
                      <a:pt x="122" y="20"/>
                      <a:pt x="129" y="24"/>
                      <a:pt x="136" y="22"/>
                    </a:cubicBezTo>
                    <a:cubicBezTo>
                      <a:pt x="139" y="21"/>
                      <a:pt x="137" y="15"/>
                      <a:pt x="139" y="13"/>
                    </a:cubicBezTo>
                    <a:cubicBezTo>
                      <a:pt x="152" y="0"/>
                      <a:pt x="151" y="4"/>
                      <a:pt x="151" y="10"/>
                    </a:cubicBez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15"/>
            <p:cNvGrpSpPr/>
            <p:nvPr/>
          </p:nvGrpSpPr>
          <p:grpSpPr>
            <a:xfrm>
              <a:off x="1859400" y="3891240"/>
              <a:ext cx="235080" cy="496440"/>
              <a:chOff x="1859400" y="3891240"/>
              <a:chExt cx="235080" cy="496440"/>
            </a:xfrm>
          </p:grpSpPr>
          <p:sp>
            <p:nvSpPr>
              <p:cNvPr id="177" name="Rectangle 17"/>
              <p:cNvSpPr/>
              <p:nvPr/>
            </p:nvSpPr>
            <p:spPr>
              <a:xfrm>
                <a:off x="1950120" y="4055760"/>
                <a:ext cx="44640" cy="33192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1859400" y="3891240"/>
                <a:ext cx="235080" cy="300600"/>
              </a:xfrm>
              <a:custGeom>
                <a:avLst/>
                <a:gdLst/>
                <a:ahLst/>
                <a:rect l="l" t="t" r="r" b="b"/>
                <a:pathLst>
                  <a:path w="300" h="298">
                    <a:moveTo>
                      <a:pt x="151" y="10"/>
                    </a:moveTo>
                    <a:cubicBezTo>
                      <a:pt x="162" y="17"/>
                      <a:pt x="160" y="24"/>
                      <a:pt x="172" y="28"/>
                    </a:cubicBezTo>
                    <a:cubicBezTo>
                      <a:pt x="181" y="39"/>
                      <a:pt x="196" y="73"/>
                      <a:pt x="205" y="91"/>
                    </a:cubicBezTo>
                    <a:cubicBezTo>
                      <a:pt x="214" y="109"/>
                      <a:pt x="220" y="123"/>
                      <a:pt x="229" y="139"/>
                    </a:cubicBezTo>
                    <a:cubicBezTo>
                      <a:pt x="238" y="154"/>
                      <a:pt x="252" y="174"/>
                      <a:pt x="262" y="190"/>
                    </a:cubicBezTo>
                    <a:cubicBezTo>
                      <a:pt x="272" y="206"/>
                      <a:pt x="285" y="222"/>
                      <a:pt x="289" y="235"/>
                    </a:cubicBezTo>
                    <a:cubicBezTo>
                      <a:pt x="268" y="242"/>
                      <a:pt x="300" y="258"/>
                      <a:pt x="286" y="268"/>
                    </a:cubicBezTo>
                    <a:cubicBezTo>
                      <a:pt x="280" y="281"/>
                      <a:pt x="254" y="276"/>
                      <a:pt x="244" y="286"/>
                    </a:cubicBezTo>
                    <a:cubicBezTo>
                      <a:pt x="240" y="290"/>
                      <a:pt x="216" y="294"/>
                      <a:pt x="211" y="295"/>
                    </a:cubicBezTo>
                    <a:cubicBezTo>
                      <a:pt x="190" y="293"/>
                      <a:pt x="169" y="290"/>
                      <a:pt x="148" y="289"/>
                    </a:cubicBezTo>
                    <a:cubicBezTo>
                      <a:pt x="136" y="289"/>
                      <a:pt x="112" y="298"/>
                      <a:pt x="112" y="298"/>
                    </a:cubicBezTo>
                    <a:cubicBezTo>
                      <a:pt x="82" y="292"/>
                      <a:pt x="82" y="291"/>
                      <a:pt x="61" y="277"/>
                    </a:cubicBezTo>
                    <a:cubicBezTo>
                      <a:pt x="51" y="273"/>
                      <a:pt x="32" y="287"/>
                      <a:pt x="22" y="283"/>
                    </a:cubicBezTo>
                    <a:cubicBezTo>
                      <a:pt x="12" y="279"/>
                      <a:pt x="0" y="273"/>
                      <a:pt x="4" y="256"/>
                    </a:cubicBezTo>
                    <a:cubicBezTo>
                      <a:pt x="14" y="226"/>
                      <a:pt x="15" y="199"/>
                      <a:pt x="43" y="181"/>
                    </a:cubicBezTo>
                    <a:cubicBezTo>
                      <a:pt x="46" y="154"/>
                      <a:pt x="52" y="151"/>
                      <a:pt x="67" y="130"/>
                    </a:cubicBezTo>
                    <a:cubicBezTo>
                      <a:pt x="70" y="120"/>
                      <a:pt x="68" y="111"/>
                      <a:pt x="76" y="103"/>
                    </a:cubicBezTo>
                    <a:cubicBezTo>
                      <a:pt x="86" y="73"/>
                      <a:pt x="87" y="114"/>
                      <a:pt x="91" y="76"/>
                    </a:cubicBezTo>
                    <a:cubicBezTo>
                      <a:pt x="93" y="60"/>
                      <a:pt x="108" y="34"/>
                      <a:pt x="115" y="19"/>
                    </a:cubicBezTo>
                    <a:cubicBezTo>
                      <a:pt x="122" y="20"/>
                      <a:pt x="129" y="24"/>
                      <a:pt x="136" y="22"/>
                    </a:cubicBezTo>
                    <a:cubicBezTo>
                      <a:pt x="139" y="21"/>
                      <a:pt x="137" y="15"/>
                      <a:pt x="139" y="13"/>
                    </a:cubicBezTo>
                    <a:cubicBezTo>
                      <a:pt x="152" y="0"/>
                      <a:pt x="151" y="4"/>
                      <a:pt x="151" y="10"/>
                    </a:cubicBez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14"/>
            <p:cNvSpPr/>
            <p:nvPr/>
          </p:nvSpPr>
          <p:spPr>
            <a:xfrm>
              <a:off x="964800" y="3972600"/>
              <a:ext cx="53316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3733920" y="4002840"/>
              <a:ext cx="53316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609480" y="6035040"/>
              <a:ext cx="5331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1"/>
            <p:cNvSpPr/>
            <p:nvPr/>
          </p:nvSpPr>
          <p:spPr>
            <a:xfrm>
              <a:off x="3571920" y="6035040"/>
              <a:ext cx="5331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0"/>
            <p:cNvSpPr/>
            <p:nvPr/>
          </p:nvSpPr>
          <p:spPr>
            <a:xfrm>
              <a:off x="2529000" y="4257000"/>
              <a:ext cx="53316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9"/>
            <p:cNvSpPr/>
            <p:nvPr/>
          </p:nvSpPr>
          <p:spPr>
            <a:xfrm>
              <a:off x="3322800" y="4257000"/>
              <a:ext cx="53316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925200" y="6035040"/>
              <a:ext cx="5331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2691000" y="6035040"/>
              <a:ext cx="5331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6"/>
            <p:cNvSpPr/>
            <p:nvPr/>
          </p:nvSpPr>
          <p:spPr>
            <a:xfrm>
              <a:off x="3228120" y="6024600"/>
              <a:ext cx="53316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5"/>
            <p:cNvSpPr/>
            <p:nvPr/>
          </p:nvSpPr>
          <p:spPr>
            <a:xfrm>
              <a:off x="1280520" y="5715000"/>
              <a:ext cx="53316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"/>
            <p:cNvSpPr/>
            <p:nvPr/>
          </p:nvSpPr>
          <p:spPr>
            <a:xfrm>
              <a:off x="2967480" y="5699520"/>
              <a:ext cx="53316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Times New Roman"/>
                </a:rPr>
                <a:t>β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rc 3"/>
            <p:cNvSpPr/>
            <p:nvPr/>
          </p:nvSpPr>
          <p:spPr>
            <a:xfrm rot="803400">
              <a:off x="1236960" y="5947200"/>
              <a:ext cx="177480" cy="204480"/>
            </a:xfrm>
            <a:custGeom>
              <a:avLst/>
              <a:gdLst/>
              <a:ahLst/>
              <a:rect l="l" t="t" r="r" b="b"/>
              <a:pathLst>
                <a:path fill="none" w="21600" h="19270">
                  <a:moveTo>
                    <a:pt x="9758" y="-1"/>
                  </a:moveTo>
                  <a:cubicBezTo>
                    <a:pt x="17021" y="3678"/>
                    <a:pt x="21600" y="11128"/>
                    <a:pt x="21600" y="19270"/>
                  </a:cubicBezTo>
                </a:path>
                <a:path stroke="0" w="21600" h="19270">
                  <a:moveTo>
                    <a:pt x="9758" y="-1"/>
                  </a:moveTo>
                  <a:cubicBezTo>
                    <a:pt x="17021" y="3678"/>
                    <a:pt x="21600" y="11128"/>
                    <a:pt x="21600" y="19270"/>
                  </a:cubicBezTo>
                  <a:lnTo>
                    <a:pt x="0" y="1927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rc 2"/>
            <p:cNvSpPr/>
            <p:nvPr/>
          </p:nvSpPr>
          <p:spPr>
            <a:xfrm>
              <a:off x="2904480" y="5964120"/>
              <a:ext cx="177480" cy="204480"/>
            </a:xfrm>
            <a:custGeom>
              <a:avLst/>
              <a:gdLst/>
              <a:ahLst/>
              <a:rect l="l" t="t" r="r" b="b"/>
              <a:pathLst>
                <a:path fill="none" w="21600" h="19270">
                  <a:moveTo>
                    <a:pt x="9758" y="-1"/>
                  </a:moveTo>
                  <a:cubicBezTo>
                    <a:pt x="17021" y="3678"/>
                    <a:pt x="21600" y="11128"/>
                    <a:pt x="21600" y="19270"/>
                  </a:cubicBezTo>
                </a:path>
                <a:path stroke="0" w="21600" h="19270">
                  <a:moveTo>
                    <a:pt x="9758" y="-1"/>
                  </a:moveTo>
                  <a:cubicBezTo>
                    <a:pt x="17021" y="3678"/>
                    <a:pt x="21600" y="11128"/>
                    <a:pt x="21600" y="19270"/>
                  </a:cubicBezTo>
                  <a:lnTo>
                    <a:pt x="0" y="1927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41"/>
          <p:cNvSpPr/>
          <p:nvPr/>
        </p:nvSpPr>
        <p:spPr>
          <a:xfrm>
            <a:off x="1983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6T05:59:00Z</dcterms:created>
  <dc:creator>Administrator</dc:creator>
  <dc:description/>
  <dc:language>en-US</dc:language>
  <cp:lastModifiedBy>大盗</cp:lastModifiedBy>
  <dcterms:modified xsi:type="dcterms:W3CDTF">2020-02-26T05:59:09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8632</vt:lpwstr>
  </property>
  <property fmtid="{D5CDD505-2E9C-101B-9397-08002B2CF9AE}" pid="3" name="Version">
    <vt:r8>1</vt:r8>
  </property>
</Properties>
</file>