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15F-D641-40DA-BA27-7C54C8E1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B12-31F9-46CC-91D0-2CF55D73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189-F462-4DD6-923E-F4419D5E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4B9-EE90-45D2-8519-AFCE3C41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E3E3-8BE2-4329-9807-F3932351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8626-645A-4180-AD9E-09058CEC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91B4-A1E9-4074-83F3-B4FC975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063-7502-4D7D-8FF3-07E9B3C8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C01-C483-46BA-A718-089591A9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E6FB-98A3-400B-A136-CC52C2E0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79A2-C0F0-43CB-81BD-1EA6E42E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562-BD8D-4B59-AD21-C7CB7E5D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DB4C-ECA7-42EF-9F85-88E75E4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7427-FD0D-41F4-A188-C6B8CC2B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4E9B-A290-4C3B-841B-73956F25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77BA-F6D6-4891-9AA7-F30754C2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0A3A-8AE6-459D-B5F9-E8BE0536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F5C4-A597-49C2-8197-E3873D5A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8182-D1C9-481A-8871-5A0B81F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B449-58B2-40BC-8BD4-FA9AD725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AB4D-CC86-461A-B478-0DAD23F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A87A-5BC2-4AA1-9DAF-4B7352DD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E9E-E25D-483B-B84E-CCC9F2CA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E0C6-E291-4ACD-9BAD-73C73AA6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3209-2E16-4C7C-AC9B-C75C094D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F165-FD35-4ED5-A9CD-246561F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B43B-401A-46F4-A530-E28862C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A768-8B9D-4670-ADCD-18EB0FB6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B58C-AB40-42B9-BB00-2079D9A9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83E4E-CBF4-4B15-B327-2B670BA3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39538-9909-42B8-A0D3-9266D97B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184A-27F3-40E5-B828-4150FAB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6567-8440-4FFC-AB41-5C06F51A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561-47EA-4618-BB29-8F4C66AB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2920-EDF2-4F2C-8D23-BB1A4B7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34A65-42A5-4518-AB61-F1C7BCA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20E0-58E1-458A-BA91-6DEC2E33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36C7-17CA-4F36-99D9-820C581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0A5C5-22DA-4EEE-AD23-55BED31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C87E-EE85-435A-972B-8F6367E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DB82-F7B1-4CA0-84DB-C2F1EF0F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43AC-3D5F-4FA6-89E2-6749FDBA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5514C-BDCD-4C7A-BA79-9FD95D97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107-536F-4638-BEBD-0F37E941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634-D365-49A2-976E-DB996C8D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2AD-1168-43FB-A6E5-2AD16BF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F4C-92A6-4913-BAC8-A7948238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697-3955-40C1-91E6-17E53B5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FD24-794F-4EBC-8F9B-69627B1D3B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844D-D4F1-4B15-B20E-EA48C08BAC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6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7"/>
          <p:cNvSpPr/>
          <p:nvPr/>
        </p:nvSpPr>
        <p:spPr>
          <a:xfrm flipH="1">
            <a:off x="4680" y="4513320"/>
            <a:ext cx="53215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58"/>
          <p:cNvSpPr/>
          <p:nvPr/>
        </p:nvSpPr>
        <p:spPr>
          <a:xfrm flipH="1">
            <a:off x="4320" y="5580000"/>
            <a:ext cx="42181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158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B1BC-36DE-41F5-9865-CD135CB507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7"/>
          <p:cNvSpPr/>
          <p:nvPr/>
        </p:nvSpPr>
        <p:spPr>
          <a:xfrm flipH="1">
            <a:off x="4680" y="4513320"/>
            <a:ext cx="53215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8"/>
          <p:cNvSpPr/>
          <p:nvPr/>
        </p:nvSpPr>
        <p:spPr>
          <a:xfrm flipH="1">
            <a:off x="4320" y="5580000"/>
            <a:ext cx="42181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229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30BB-1FC9-4388-9E18-19B1112959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9"/>
          <p:cNvSpPr/>
          <p:nvPr/>
        </p:nvSpPr>
        <p:spPr>
          <a:xfrm>
            <a:off x="2357280" y="317016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黑体"/>
              </a:rPr>
              <a:t>§6.1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函数（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黑体"/>
              </a:rPr>
              <a:t>1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矩形 4"/>
          <p:cNvSpPr/>
          <p:nvPr/>
        </p:nvSpPr>
        <p:spPr>
          <a:xfrm>
            <a:off x="1071720" y="1076400"/>
            <a:ext cx="700056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cfcfc"/>
                </a:solidFill>
                <a:latin typeface="黑体"/>
                <a:ea typeface="黑体"/>
              </a:rPr>
              <a:t>苏科版数学八年级上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734000" y="4292640"/>
            <a:ext cx="415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6bcb"/>
                </a:solidFill>
                <a:latin typeface="Arial"/>
                <a:ea typeface="宋体"/>
              </a:rPr>
              <a:t>上述的三个变化过程，有怎样的共同之处呢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同伴互说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7920" y="-255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二、两个变量之间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11" descr=""/>
          <p:cNvPicPr/>
          <p:nvPr/>
        </p:nvPicPr>
        <p:blipFill>
          <a:blip r:embed="rId1"/>
          <a:stretch/>
        </p:blipFill>
        <p:spPr>
          <a:xfrm>
            <a:off x="179280" y="527040"/>
            <a:ext cx="4179960" cy="3117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"/>
          <p:cNvPicPr/>
          <p:nvPr/>
        </p:nvPicPr>
        <p:blipFill>
          <a:blip r:embed="rId2"/>
          <a:stretch/>
        </p:blipFill>
        <p:spPr>
          <a:xfrm>
            <a:off x="4468680" y="534960"/>
            <a:ext cx="4135680" cy="3114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3" descr=""/>
          <p:cNvPicPr/>
          <p:nvPr/>
        </p:nvPicPr>
        <p:blipFill>
          <a:blip r:embed="rId3"/>
          <a:stretch/>
        </p:blipFill>
        <p:spPr>
          <a:xfrm>
            <a:off x="196920" y="3637080"/>
            <a:ext cx="41590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5"/>
          <p:cNvSpPr/>
          <p:nvPr/>
        </p:nvSpPr>
        <p:spPr>
          <a:xfrm>
            <a:off x="324000" y="509760"/>
            <a:ext cx="2590560" cy="92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函数的定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468360" y="1413000"/>
            <a:ext cx="8136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一个变化过程中的两个变量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果对于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每一个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都有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唯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值与它对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那么我们称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自变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16"/>
          <p:cNvSpPr/>
          <p:nvPr/>
        </p:nvSpPr>
        <p:spPr>
          <a:xfrm>
            <a:off x="2413080" y="191628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17"/>
          <p:cNvSpPr/>
          <p:nvPr/>
        </p:nvSpPr>
        <p:spPr>
          <a:xfrm>
            <a:off x="5003640" y="1916280"/>
            <a:ext cx="1729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8"/>
          <p:cNvSpPr/>
          <p:nvPr/>
        </p:nvSpPr>
        <p:spPr>
          <a:xfrm>
            <a:off x="7323120" y="1844640"/>
            <a:ext cx="720720" cy="71928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9"/>
          <p:cNvSpPr/>
          <p:nvPr/>
        </p:nvSpPr>
        <p:spPr>
          <a:xfrm>
            <a:off x="5003640" y="2492280"/>
            <a:ext cx="1152720" cy="432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2268360" y="2492280"/>
            <a:ext cx="1943280" cy="432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1843920" y="386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函数的定义中，关键词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3"/>
          <p:cNvSpPr/>
          <p:nvPr/>
        </p:nvSpPr>
        <p:spPr>
          <a:xfrm>
            <a:off x="3059280" y="1542960"/>
            <a:ext cx="2160360" cy="35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4"/>
          <p:cNvSpPr/>
          <p:nvPr/>
        </p:nvSpPr>
        <p:spPr>
          <a:xfrm>
            <a:off x="5940360" y="1557360"/>
            <a:ext cx="1440000" cy="35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三、用函数的方式描述变化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627120" y="873000"/>
            <a:ext cx="7715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这是工作人员根据水库的水位变化与水库蓄水量变化情况而制作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714240" y="1844640"/>
          <a:ext cx="7715160" cy="1463760"/>
        </p:xfrm>
        <a:graphic>
          <a:graphicData uri="http://schemas.openxmlformats.org/drawingml/2006/table">
            <a:tbl>
              <a:tblPr/>
              <a:tblGrid>
                <a:gridCol w="1203480"/>
                <a:gridCol w="1422360"/>
                <a:gridCol w="1422360"/>
                <a:gridCol w="1531800"/>
                <a:gridCol w="1422360"/>
                <a:gridCol w="71280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蓄水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30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09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18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3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Text Box 34"/>
          <p:cNvSpPr/>
          <p:nvPr/>
        </p:nvSpPr>
        <p:spPr>
          <a:xfrm>
            <a:off x="5626080" y="3494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三、用函数的方式描述变化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矩形 3"/>
          <p:cNvSpPr/>
          <p:nvPr/>
        </p:nvSpPr>
        <p:spPr>
          <a:xfrm>
            <a:off x="252360" y="3457440"/>
            <a:ext cx="89996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：在这个变化过程中有两个变量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果对于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有唯一的值与它对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那么我们称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函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4"/>
          <p:cNvSpPr/>
          <p:nvPr/>
        </p:nvSpPr>
        <p:spPr>
          <a:xfrm>
            <a:off x="1785960" y="3979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6012000" y="44496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7223040" y="3492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3"/>
          <p:cNvSpPr/>
          <p:nvPr/>
        </p:nvSpPr>
        <p:spPr>
          <a:xfrm>
            <a:off x="5416560" y="3979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3"/>
          <p:cNvSpPr/>
          <p:nvPr/>
        </p:nvSpPr>
        <p:spPr>
          <a:xfrm>
            <a:off x="4048200" y="4471920"/>
            <a:ext cx="14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642960" y="4933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reeform 3"/>
          <p:cNvSpPr/>
          <p:nvPr/>
        </p:nvSpPr>
        <p:spPr>
          <a:xfrm>
            <a:off x="1803240" y="2492280"/>
            <a:ext cx="5072400" cy="1500120"/>
          </a:xfrm>
          <a:custGeom>
            <a:avLst/>
            <a:gdLst/>
            <a:ahLst/>
            <a:rect l="l" t="t" r="r" b="b"/>
            <a:pathLst>
              <a:path w="4160" h="1376">
                <a:moveTo>
                  <a:pt x="8" y="1024"/>
                </a:moveTo>
                <a:cubicBezTo>
                  <a:pt x="16" y="1032"/>
                  <a:pt x="56" y="1120"/>
                  <a:pt x="104" y="1168"/>
                </a:cubicBezTo>
                <a:cubicBezTo>
                  <a:pt x="152" y="1216"/>
                  <a:pt x="232" y="1280"/>
                  <a:pt x="296" y="1312"/>
                </a:cubicBezTo>
                <a:cubicBezTo>
                  <a:pt x="360" y="1344"/>
                  <a:pt x="416" y="1376"/>
                  <a:pt x="488" y="1360"/>
                </a:cubicBezTo>
                <a:cubicBezTo>
                  <a:pt x="560" y="1344"/>
                  <a:pt x="640" y="1264"/>
                  <a:pt x="728" y="1216"/>
                </a:cubicBezTo>
                <a:cubicBezTo>
                  <a:pt x="816" y="1168"/>
                  <a:pt x="904" y="1144"/>
                  <a:pt x="1016" y="1072"/>
                </a:cubicBezTo>
                <a:cubicBezTo>
                  <a:pt x="1128" y="1000"/>
                  <a:pt x="1296" y="880"/>
                  <a:pt x="1400" y="784"/>
                </a:cubicBezTo>
                <a:cubicBezTo>
                  <a:pt x="1504" y="688"/>
                  <a:pt x="1544" y="576"/>
                  <a:pt x="1640" y="496"/>
                </a:cubicBezTo>
                <a:cubicBezTo>
                  <a:pt x="1736" y="416"/>
                  <a:pt x="1888" y="360"/>
                  <a:pt x="1976" y="304"/>
                </a:cubicBezTo>
                <a:cubicBezTo>
                  <a:pt x="2064" y="248"/>
                  <a:pt x="2120" y="200"/>
                  <a:pt x="2168" y="160"/>
                </a:cubicBezTo>
                <a:cubicBezTo>
                  <a:pt x="2216" y="120"/>
                  <a:pt x="2216" y="88"/>
                  <a:pt x="2264" y="64"/>
                </a:cubicBezTo>
                <a:cubicBezTo>
                  <a:pt x="2312" y="40"/>
                  <a:pt x="2392" y="0"/>
                  <a:pt x="2456" y="16"/>
                </a:cubicBezTo>
                <a:cubicBezTo>
                  <a:pt x="2520" y="32"/>
                  <a:pt x="2600" y="128"/>
                  <a:pt x="2648" y="160"/>
                </a:cubicBezTo>
                <a:cubicBezTo>
                  <a:pt x="2696" y="192"/>
                  <a:pt x="2696" y="160"/>
                  <a:pt x="2744" y="208"/>
                </a:cubicBezTo>
                <a:cubicBezTo>
                  <a:pt x="2792" y="256"/>
                  <a:pt x="2856" y="384"/>
                  <a:pt x="2936" y="448"/>
                </a:cubicBezTo>
                <a:cubicBezTo>
                  <a:pt x="3016" y="512"/>
                  <a:pt x="3112" y="504"/>
                  <a:pt x="3224" y="592"/>
                </a:cubicBezTo>
                <a:cubicBezTo>
                  <a:pt x="3336" y="680"/>
                  <a:pt x="3512" y="888"/>
                  <a:pt x="3608" y="976"/>
                </a:cubicBezTo>
                <a:cubicBezTo>
                  <a:pt x="3704" y="1064"/>
                  <a:pt x="3712" y="1056"/>
                  <a:pt x="3800" y="1120"/>
                </a:cubicBezTo>
                <a:cubicBezTo>
                  <a:pt x="3888" y="1184"/>
                  <a:pt x="4112" y="1344"/>
                  <a:pt x="4136" y="1360"/>
                </a:cubicBezTo>
                <a:cubicBezTo>
                  <a:pt x="4160" y="1376"/>
                  <a:pt x="4000" y="1256"/>
                  <a:pt x="3944" y="1216"/>
                </a:cubicBezTo>
                <a:cubicBezTo>
                  <a:pt x="3888" y="1176"/>
                  <a:pt x="3848" y="1152"/>
                  <a:pt x="3800" y="1120"/>
                </a:cubicBezTo>
                <a:cubicBezTo>
                  <a:pt x="3752" y="1088"/>
                  <a:pt x="3704" y="1064"/>
                  <a:pt x="3656" y="1024"/>
                </a:cubicBezTo>
                <a:cubicBezTo>
                  <a:pt x="3608" y="984"/>
                  <a:pt x="3552" y="920"/>
                  <a:pt x="3512" y="880"/>
                </a:cubicBezTo>
                <a:cubicBezTo>
                  <a:pt x="3472" y="840"/>
                  <a:pt x="3456" y="824"/>
                  <a:pt x="3416" y="784"/>
                </a:cubicBezTo>
                <a:cubicBezTo>
                  <a:pt x="3376" y="744"/>
                  <a:pt x="3304" y="672"/>
                  <a:pt x="3272" y="640"/>
                </a:cubicBezTo>
                <a:cubicBezTo>
                  <a:pt x="3240" y="608"/>
                  <a:pt x="3248" y="608"/>
                  <a:pt x="3224" y="592"/>
                </a:cubicBezTo>
                <a:cubicBezTo>
                  <a:pt x="3200" y="576"/>
                  <a:pt x="3160" y="560"/>
                  <a:pt x="3128" y="544"/>
                </a:cubicBezTo>
                <a:cubicBezTo>
                  <a:pt x="3096" y="528"/>
                  <a:pt x="3064" y="512"/>
                  <a:pt x="3032" y="496"/>
                </a:cubicBezTo>
                <a:cubicBezTo>
                  <a:pt x="3000" y="480"/>
                  <a:pt x="2968" y="472"/>
                  <a:pt x="2936" y="448"/>
                </a:cubicBezTo>
                <a:cubicBezTo>
                  <a:pt x="2904" y="424"/>
                  <a:pt x="2872" y="392"/>
                  <a:pt x="2840" y="352"/>
                </a:cubicBezTo>
                <a:cubicBezTo>
                  <a:pt x="2808" y="312"/>
                  <a:pt x="2776" y="240"/>
                  <a:pt x="2744" y="208"/>
                </a:cubicBezTo>
                <a:cubicBezTo>
                  <a:pt x="2712" y="176"/>
                  <a:pt x="2680" y="184"/>
                  <a:pt x="2648" y="160"/>
                </a:cubicBezTo>
                <a:cubicBezTo>
                  <a:pt x="2616" y="136"/>
                  <a:pt x="2592" y="88"/>
                  <a:pt x="2552" y="64"/>
                </a:cubicBezTo>
                <a:cubicBezTo>
                  <a:pt x="2512" y="40"/>
                  <a:pt x="2456" y="16"/>
                  <a:pt x="2408" y="16"/>
                </a:cubicBezTo>
                <a:cubicBezTo>
                  <a:pt x="2360" y="16"/>
                  <a:pt x="2312" y="32"/>
                  <a:pt x="2264" y="64"/>
                </a:cubicBezTo>
                <a:cubicBezTo>
                  <a:pt x="2216" y="96"/>
                  <a:pt x="2168" y="168"/>
                  <a:pt x="2120" y="208"/>
                </a:cubicBezTo>
                <a:cubicBezTo>
                  <a:pt x="2072" y="248"/>
                  <a:pt x="2032" y="272"/>
                  <a:pt x="1976" y="304"/>
                </a:cubicBezTo>
                <a:cubicBezTo>
                  <a:pt x="1920" y="336"/>
                  <a:pt x="1840" y="368"/>
                  <a:pt x="1784" y="400"/>
                </a:cubicBezTo>
                <a:cubicBezTo>
                  <a:pt x="1728" y="432"/>
                  <a:pt x="1680" y="464"/>
                  <a:pt x="1640" y="496"/>
                </a:cubicBezTo>
                <a:cubicBezTo>
                  <a:pt x="1600" y="528"/>
                  <a:pt x="1576" y="552"/>
                  <a:pt x="1544" y="592"/>
                </a:cubicBezTo>
                <a:cubicBezTo>
                  <a:pt x="1512" y="632"/>
                  <a:pt x="1488" y="688"/>
                  <a:pt x="1448" y="736"/>
                </a:cubicBezTo>
                <a:cubicBezTo>
                  <a:pt x="1408" y="784"/>
                  <a:pt x="1352" y="840"/>
                  <a:pt x="1304" y="880"/>
                </a:cubicBezTo>
                <a:cubicBezTo>
                  <a:pt x="1256" y="920"/>
                  <a:pt x="1224" y="936"/>
                  <a:pt x="1160" y="976"/>
                </a:cubicBezTo>
                <a:cubicBezTo>
                  <a:pt x="1096" y="1016"/>
                  <a:pt x="992" y="1080"/>
                  <a:pt x="920" y="1120"/>
                </a:cubicBezTo>
                <a:cubicBezTo>
                  <a:pt x="848" y="1160"/>
                  <a:pt x="800" y="1176"/>
                  <a:pt x="728" y="1216"/>
                </a:cubicBezTo>
                <a:cubicBezTo>
                  <a:pt x="656" y="1256"/>
                  <a:pt x="560" y="1344"/>
                  <a:pt x="488" y="1360"/>
                </a:cubicBezTo>
                <a:cubicBezTo>
                  <a:pt x="416" y="1376"/>
                  <a:pt x="344" y="1328"/>
                  <a:pt x="296" y="1312"/>
                </a:cubicBezTo>
                <a:cubicBezTo>
                  <a:pt x="248" y="1296"/>
                  <a:pt x="232" y="1288"/>
                  <a:pt x="200" y="1264"/>
                </a:cubicBezTo>
                <a:cubicBezTo>
                  <a:pt x="168" y="1240"/>
                  <a:pt x="128" y="1192"/>
                  <a:pt x="104" y="1168"/>
                </a:cubicBezTo>
                <a:cubicBezTo>
                  <a:pt x="80" y="1144"/>
                  <a:pt x="72" y="1144"/>
                  <a:pt x="56" y="1120"/>
                </a:cubicBezTo>
                <a:cubicBezTo>
                  <a:pt x="40" y="1096"/>
                  <a:pt x="0" y="1016"/>
                  <a:pt x="8" y="1024"/>
                </a:cubicBezTo>
                <a:close/>
              </a:path>
            </a:pathLst>
          </a:custGeom>
          <a:solidFill>
            <a:srgbClr val="ff6161"/>
          </a:solid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413000" y="1339920"/>
            <a:ext cx="6428880" cy="3089160"/>
            <a:chOff x="1413000" y="1339920"/>
            <a:chExt cx="6428880" cy="3089160"/>
          </a:xfrm>
        </p:grpSpPr>
        <p:sp>
          <p:nvSpPr>
            <p:cNvPr id="487" name="Text Box 5"/>
            <p:cNvSpPr/>
            <p:nvPr/>
          </p:nvSpPr>
          <p:spPr>
            <a:xfrm>
              <a:off x="7108200" y="2996640"/>
              <a:ext cx="7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间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Group 6"/>
            <p:cNvGrpSpPr/>
            <p:nvPr/>
          </p:nvGrpSpPr>
          <p:grpSpPr>
            <a:xfrm>
              <a:off x="1426320" y="3155400"/>
              <a:ext cx="5658120" cy="379080"/>
              <a:chOff x="1426320" y="3155400"/>
              <a:chExt cx="5658120" cy="37908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1426320" y="3157200"/>
                <a:ext cx="5658120" cy="55800"/>
                <a:chOff x="1426320" y="3157200"/>
                <a:chExt cx="5658120" cy="55800"/>
              </a:xfrm>
            </p:grpSpPr>
            <p:sp>
              <p:nvSpPr>
                <p:cNvPr id="490" name="Line 8"/>
                <p:cNvSpPr/>
                <p:nvPr/>
              </p:nvSpPr>
              <p:spPr>
                <a:xfrm>
                  <a:off x="1426320" y="3213000"/>
                  <a:ext cx="5658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9"/>
                <p:cNvSpPr/>
                <p:nvPr/>
              </p:nvSpPr>
              <p:spPr>
                <a:xfrm>
                  <a:off x="22266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10"/>
                <p:cNvSpPr/>
                <p:nvPr/>
              </p:nvSpPr>
              <p:spPr>
                <a:xfrm>
                  <a:off x="243828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11"/>
                <p:cNvSpPr/>
                <p:nvPr/>
              </p:nvSpPr>
              <p:spPr>
                <a:xfrm>
                  <a:off x="26424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12"/>
                <p:cNvSpPr/>
                <p:nvPr/>
              </p:nvSpPr>
              <p:spPr>
                <a:xfrm>
                  <a:off x="2860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13"/>
                <p:cNvSpPr/>
                <p:nvPr/>
              </p:nvSpPr>
              <p:spPr>
                <a:xfrm>
                  <a:off x="3064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14"/>
                <p:cNvSpPr/>
                <p:nvPr/>
              </p:nvSpPr>
              <p:spPr>
                <a:xfrm>
                  <a:off x="32760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15"/>
                <p:cNvSpPr/>
                <p:nvPr/>
              </p:nvSpPr>
              <p:spPr>
                <a:xfrm>
                  <a:off x="34801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16"/>
                <p:cNvSpPr/>
                <p:nvPr/>
              </p:nvSpPr>
              <p:spPr>
                <a:xfrm>
                  <a:off x="3695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17"/>
                <p:cNvSpPr/>
                <p:nvPr/>
              </p:nvSpPr>
              <p:spPr>
                <a:xfrm>
                  <a:off x="3899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18"/>
                <p:cNvSpPr/>
                <p:nvPr/>
              </p:nvSpPr>
              <p:spPr>
                <a:xfrm>
                  <a:off x="41108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19"/>
                <p:cNvSpPr/>
                <p:nvPr/>
              </p:nvSpPr>
              <p:spPr>
                <a:xfrm>
                  <a:off x="43149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20"/>
                <p:cNvSpPr/>
                <p:nvPr/>
              </p:nvSpPr>
              <p:spPr>
                <a:xfrm>
                  <a:off x="45324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21"/>
                <p:cNvSpPr/>
                <p:nvPr/>
              </p:nvSpPr>
              <p:spPr>
                <a:xfrm>
                  <a:off x="47365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22"/>
                <p:cNvSpPr/>
                <p:nvPr/>
              </p:nvSpPr>
              <p:spPr>
                <a:xfrm>
                  <a:off x="4948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23"/>
                <p:cNvSpPr/>
                <p:nvPr/>
              </p:nvSpPr>
              <p:spPr>
                <a:xfrm>
                  <a:off x="5152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24"/>
                <p:cNvSpPr/>
                <p:nvPr/>
              </p:nvSpPr>
              <p:spPr>
                <a:xfrm>
                  <a:off x="5371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Line 25"/>
                <p:cNvSpPr/>
                <p:nvPr/>
              </p:nvSpPr>
              <p:spPr>
                <a:xfrm>
                  <a:off x="5575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Line 26"/>
                <p:cNvSpPr/>
                <p:nvPr/>
              </p:nvSpPr>
              <p:spPr>
                <a:xfrm>
                  <a:off x="57906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27"/>
                <p:cNvSpPr/>
                <p:nvPr/>
              </p:nvSpPr>
              <p:spPr>
                <a:xfrm>
                  <a:off x="59947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28"/>
                <p:cNvSpPr/>
                <p:nvPr/>
              </p:nvSpPr>
              <p:spPr>
                <a:xfrm>
                  <a:off x="6206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29"/>
                <p:cNvSpPr/>
                <p:nvPr/>
              </p:nvSpPr>
              <p:spPr>
                <a:xfrm>
                  <a:off x="6410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30"/>
                <p:cNvSpPr/>
                <p:nvPr/>
              </p:nvSpPr>
              <p:spPr>
                <a:xfrm>
                  <a:off x="662796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31"/>
                <p:cNvSpPr/>
                <p:nvPr/>
              </p:nvSpPr>
              <p:spPr>
                <a:xfrm>
                  <a:off x="683208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32"/>
                <p:cNvSpPr/>
                <p:nvPr/>
              </p:nvSpPr>
              <p:spPr>
                <a:xfrm>
                  <a:off x="15948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34"/>
                <p:cNvSpPr/>
                <p:nvPr/>
              </p:nvSpPr>
              <p:spPr>
                <a:xfrm>
                  <a:off x="201024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35"/>
              <p:cNvSpPr/>
              <p:nvPr/>
            </p:nvSpPr>
            <p:spPr>
              <a:xfrm>
                <a:off x="3338280" y="316620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36"/>
              <p:cNvSpPr/>
              <p:nvPr/>
            </p:nvSpPr>
            <p:spPr>
              <a:xfrm>
                <a:off x="3674160" y="315720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37"/>
              <p:cNvSpPr/>
              <p:nvPr/>
            </p:nvSpPr>
            <p:spPr>
              <a:xfrm>
                <a:off x="2062080" y="3157200"/>
                <a:ext cx="1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38"/>
              <p:cNvSpPr/>
              <p:nvPr/>
            </p:nvSpPr>
            <p:spPr>
              <a:xfrm>
                <a:off x="2481120" y="31662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Text Box 39"/>
              <p:cNvSpPr/>
              <p:nvPr/>
            </p:nvSpPr>
            <p:spPr>
              <a:xfrm>
                <a:off x="2898000" y="31662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Text Box 40"/>
              <p:cNvSpPr/>
              <p:nvPr/>
            </p:nvSpPr>
            <p:spPr>
              <a:xfrm>
                <a:off x="407736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Text Box 41"/>
              <p:cNvSpPr/>
              <p:nvPr/>
            </p:nvSpPr>
            <p:spPr>
              <a:xfrm>
                <a:off x="449532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Text Box 42"/>
              <p:cNvSpPr/>
              <p:nvPr/>
            </p:nvSpPr>
            <p:spPr>
              <a:xfrm>
                <a:off x="4920120" y="3157200"/>
                <a:ext cx="4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43"/>
              <p:cNvSpPr/>
              <p:nvPr/>
            </p:nvSpPr>
            <p:spPr>
              <a:xfrm>
                <a:off x="534780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44"/>
              <p:cNvSpPr/>
              <p:nvPr/>
            </p:nvSpPr>
            <p:spPr>
              <a:xfrm>
                <a:off x="5801760" y="315612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Text Box 45"/>
              <p:cNvSpPr/>
              <p:nvPr/>
            </p:nvSpPr>
            <p:spPr>
              <a:xfrm>
                <a:off x="6204960" y="3166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Text Box 46"/>
              <p:cNvSpPr/>
              <p:nvPr/>
            </p:nvSpPr>
            <p:spPr>
              <a:xfrm>
                <a:off x="6609600" y="3166200"/>
                <a:ext cx="45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Text Box 47"/>
              <p:cNvSpPr/>
              <p:nvPr/>
            </p:nvSpPr>
            <p:spPr>
              <a:xfrm>
                <a:off x="1483920" y="31554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Text Box 48"/>
            <p:cNvSpPr/>
            <p:nvPr/>
          </p:nvSpPr>
          <p:spPr>
            <a:xfrm>
              <a:off x="1847160" y="1339920"/>
              <a:ext cx="9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温度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en-US" sz="1800" spc="-1" strike="noStrike">
                  <a:solidFill>
                    <a:srgbClr val="141402"/>
                  </a:solidFill>
                  <a:latin typeface="Symbol"/>
                  <a:ea typeface="Symbol"/>
                </a:rPr>
                <a:t>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49"/>
            <p:cNvGrpSpPr/>
            <p:nvPr/>
          </p:nvGrpSpPr>
          <p:grpSpPr>
            <a:xfrm>
              <a:off x="1413000" y="1411560"/>
              <a:ext cx="441360" cy="3017520"/>
              <a:chOff x="1413000" y="1411560"/>
              <a:chExt cx="441360" cy="3017520"/>
            </a:xfrm>
          </p:grpSpPr>
          <p:grpSp>
            <p:nvGrpSpPr>
              <p:cNvPr id="531" name="Group 50"/>
              <p:cNvGrpSpPr/>
              <p:nvPr/>
            </p:nvGrpSpPr>
            <p:grpSpPr>
              <a:xfrm>
                <a:off x="1785240" y="1411560"/>
                <a:ext cx="68400" cy="3017520"/>
                <a:chOff x="1785240" y="1411560"/>
                <a:chExt cx="68400" cy="3017520"/>
              </a:xfrm>
            </p:grpSpPr>
            <p:sp>
              <p:nvSpPr>
                <p:cNvPr id="532" name="Line 51"/>
                <p:cNvSpPr/>
                <p:nvPr/>
              </p:nvSpPr>
              <p:spPr>
                <a:xfrm flipV="1">
                  <a:off x="1792440" y="1411560"/>
                  <a:ext cx="0" cy="30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52"/>
                <p:cNvSpPr/>
                <p:nvPr/>
              </p:nvSpPr>
              <p:spPr>
                <a:xfrm>
                  <a:off x="1792440" y="41540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53"/>
                <p:cNvSpPr/>
                <p:nvPr/>
              </p:nvSpPr>
              <p:spPr>
                <a:xfrm>
                  <a:off x="1798560" y="39711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Line 54"/>
                <p:cNvSpPr/>
                <p:nvPr/>
              </p:nvSpPr>
              <p:spPr>
                <a:xfrm>
                  <a:off x="1792440" y="37764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55"/>
                <p:cNvSpPr/>
                <p:nvPr/>
              </p:nvSpPr>
              <p:spPr>
                <a:xfrm>
                  <a:off x="1798560" y="35935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56"/>
                <p:cNvSpPr/>
                <p:nvPr/>
              </p:nvSpPr>
              <p:spPr>
                <a:xfrm>
                  <a:off x="1785240" y="339660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Line 58"/>
                <p:cNvSpPr/>
                <p:nvPr/>
              </p:nvSpPr>
              <p:spPr>
                <a:xfrm>
                  <a:off x="1792440" y="3025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Line 59"/>
                <p:cNvSpPr/>
                <p:nvPr/>
              </p:nvSpPr>
              <p:spPr>
                <a:xfrm>
                  <a:off x="1798560" y="2842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Line 60"/>
                <p:cNvSpPr/>
                <p:nvPr/>
              </p:nvSpPr>
              <p:spPr>
                <a:xfrm>
                  <a:off x="1792440" y="26503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61"/>
                <p:cNvSpPr/>
                <p:nvPr/>
              </p:nvSpPr>
              <p:spPr>
                <a:xfrm>
                  <a:off x="1798560" y="2467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62"/>
                <p:cNvSpPr/>
                <p:nvPr/>
              </p:nvSpPr>
              <p:spPr>
                <a:xfrm>
                  <a:off x="1792440" y="227808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63"/>
                <p:cNvSpPr/>
                <p:nvPr/>
              </p:nvSpPr>
              <p:spPr>
                <a:xfrm>
                  <a:off x="1798560" y="20952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Line 64"/>
                <p:cNvSpPr/>
                <p:nvPr/>
              </p:nvSpPr>
              <p:spPr>
                <a:xfrm>
                  <a:off x="1792440" y="1900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Line 65"/>
                <p:cNvSpPr/>
                <p:nvPr/>
              </p:nvSpPr>
              <p:spPr>
                <a:xfrm>
                  <a:off x="1798560" y="1717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Text Box 66"/>
              <p:cNvSpPr/>
              <p:nvPr/>
            </p:nvSpPr>
            <p:spPr>
              <a:xfrm>
                <a:off x="1484280" y="265968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Text Box 67"/>
              <p:cNvSpPr/>
              <p:nvPr/>
            </p:nvSpPr>
            <p:spPr>
              <a:xfrm>
                <a:off x="1484280" y="2271240"/>
                <a:ext cx="2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Text Box 68"/>
              <p:cNvSpPr/>
              <p:nvPr/>
            </p:nvSpPr>
            <p:spPr>
              <a:xfrm>
                <a:off x="1484280" y="19134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Text Box 69"/>
              <p:cNvSpPr/>
              <p:nvPr/>
            </p:nvSpPr>
            <p:spPr>
              <a:xfrm>
                <a:off x="1484280" y="1515960"/>
                <a:ext cx="1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70"/>
              <p:cNvSpPr/>
              <p:nvPr/>
            </p:nvSpPr>
            <p:spPr>
              <a:xfrm>
                <a:off x="1413000" y="3413880"/>
                <a:ext cx="42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71"/>
              <p:cNvSpPr/>
              <p:nvPr/>
            </p:nvSpPr>
            <p:spPr>
              <a:xfrm>
                <a:off x="1413000" y="377064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Text Box 73"/>
          <p:cNvSpPr/>
          <p:nvPr/>
        </p:nvSpPr>
        <p:spPr>
          <a:xfrm>
            <a:off x="453960" y="476280"/>
            <a:ext cx="8143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下图是气温自动记录仪记录的某地一天的气温变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曲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75"/>
          <p:cNvSpPr/>
          <p:nvPr/>
        </p:nvSpPr>
        <p:spPr>
          <a:xfrm>
            <a:off x="1758960" y="35686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76"/>
          <p:cNvSpPr/>
          <p:nvPr/>
        </p:nvSpPr>
        <p:spPr>
          <a:xfrm>
            <a:off x="1974960" y="378936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77"/>
          <p:cNvSpPr/>
          <p:nvPr/>
        </p:nvSpPr>
        <p:spPr>
          <a:xfrm>
            <a:off x="2604960" y="3794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78"/>
          <p:cNvSpPr/>
          <p:nvPr/>
        </p:nvSpPr>
        <p:spPr>
          <a:xfrm>
            <a:off x="234000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79"/>
          <p:cNvSpPr/>
          <p:nvPr/>
        </p:nvSpPr>
        <p:spPr>
          <a:xfrm>
            <a:off x="3025800" y="359424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80"/>
          <p:cNvSpPr/>
          <p:nvPr/>
        </p:nvSpPr>
        <p:spPr>
          <a:xfrm>
            <a:off x="3325680" y="34290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81"/>
          <p:cNvSpPr/>
          <p:nvPr/>
        </p:nvSpPr>
        <p:spPr>
          <a:xfrm>
            <a:off x="3635280" y="3141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82"/>
          <p:cNvSpPr/>
          <p:nvPr/>
        </p:nvSpPr>
        <p:spPr>
          <a:xfrm>
            <a:off x="4695840" y="2489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83"/>
          <p:cNvSpPr/>
          <p:nvPr/>
        </p:nvSpPr>
        <p:spPr>
          <a:xfrm>
            <a:off x="4902120" y="256536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84"/>
          <p:cNvSpPr/>
          <p:nvPr/>
        </p:nvSpPr>
        <p:spPr>
          <a:xfrm>
            <a:off x="4237200" y="277020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85"/>
          <p:cNvSpPr/>
          <p:nvPr/>
        </p:nvSpPr>
        <p:spPr>
          <a:xfrm>
            <a:off x="5322960" y="292428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86"/>
          <p:cNvSpPr/>
          <p:nvPr/>
        </p:nvSpPr>
        <p:spPr>
          <a:xfrm>
            <a:off x="5518080" y="29973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87"/>
          <p:cNvSpPr/>
          <p:nvPr/>
        </p:nvSpPr>
        <p:spPr>
          <a:xfrm>
            <a:off x="5935680" y="33066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88"/>
          <p:cNvSpPr/>
          <p:nvPr/>
        </p:nvSpPr>
        <p:spPr>
          <a:xfrm>
            <a:off x="6356520" y="364500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89"/>
          <p:cNvSpPr/>
          <p:nvPr/>
        </p:nvSpPr>
        <p:spPr>
          <a:xfrm>
            <a:off x="678492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三、用函数的方式描述变化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矩形 110"/>
          <p:cNvSpPr/>
          <p:nvPr/>
        </p:nvSpPr>
        <p:spPr>
          <a:xfrm>
            <a:off x="233280" y="4451400"/>
            <a:ext cx="900108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：在这个变化过程中有两个变量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果对于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有唯一的值与它对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那么我们称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函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矩形 111"/>
          <p:cNvSpPr/>
          <p:nvPr/>
        </p:nvSpPr>
        <p:spPr>
          <a:xfrm>
            <a:off x="5954040" y="44514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矩形 112"/>
          <p:cNvSpPr/>
          <p:nvPr/>
        </p:nvSpPr>
        <p:spPr>
          <a:xfrm>
            <a:off x="7743240" y="44798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矩形 113"/>
          <p:cNvSpPr/>
          <p:nvPr/>
        </p:nvSpPr>
        <p:spPr>
          <a:xfrm>
            <a:off x="2091960" y="4941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矩形 114"/>
          <p:cNvSpPr/>
          <p:nvPr/>
        </p:nvSpPr>
        <p:spPr>
          <a:xfrm>
            <a:off x="5811480" y="4941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矩形 115"/>
          <p:cNvSpPr/>
          <p:nvPr/>
        </p:nvSpPr>
        <p:spPr>
          <a:xfrm>
            <a:off x="4563720" y="53942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矩形 116"/>
          <p:cNvSpPr/>
          <p:nvPr/>
        </p:nvSpPr>
        <p:spPr>
          <a:xfrm>
            <a:off x="6597000" y="54021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矩形 117"/>
          <p:cNvSpPr/>
          <p:nvPr/>
        </p:nvSpPr>
        <p:spPr>
          <a:xfrm>
            <a:off x="875880" y="59500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979640" y="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00"/>
          <p:cNvSpPr/>
          <p:nvPr/>
        </p:nvSpPr>
        <p:spPr>
          <a:xfrm>
            <a:off x="179280" y="620640"/>
            <a:ext cx="7993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如图，用火柴棒搭小鱼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小鱼条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火柴棒根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7" descr=""/>
          <p:cNvPicPr/>
          <p:nvPr/>
        </p:nvPicPr>
        <p:blipFill>
          <a:blip r:embed="rId1"/>
          <a:stretch/>
        </p:blipFill>
        <p:spPr>
          <a:xfrm>
            <a:off x="558720" y="1557360"/>
            <a:ext cx="1656000" cy="1322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2"/>
          <a:stretch/>
        </p:blipFill>
        <p:spPr>
          <a:xfrm>
            <a:off x="2406600" y="1558800"/>
            <a:ext cx="2594160" cy="13208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3"/>
          <a:stretch/>
        </p:blipFill>
        <p:spPr>
          <a:xfrm>
            <a:off x="5192640" y="1569960"/>
            <a:ext cx="3475080" cy="13208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三、用函数的方式描述变化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矩形 27"/>
          <p:cNvSpPr/>
          <p:nvPr/>
        </p:nvSpPr>
        <p:spPr>
          <a:xfrm>
            <a:off x="177840" y="3716280"/>
            <a:ext cx="89996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：在这个变化过程中有两个变量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果对于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有唯一的值与它对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那么我们称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函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矩形 28"/>
          <p:cNvSpPr/>
          <p:nvPr/>
        </p:nvSpPr>
        <p:spPr>
          <a:xfrm>
            <a:off x="7496640" y="36878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矩形 29"/>
          <p:cNvSpPr/>
          <p:nvPr/>
        </p:nvSpPr>
        <p:spPr>
          <a:xfrm>
            <a:off x="5708880" y="36878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矩形 30"/>
          <p:cNvSpPr/>
          <p:nvPr/>
        </p:nvSpPr>
        <p:spPr>
          <a:xfrm>
            <a:off x="1964520" y="41511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矩形 35"/>
          <p:cNvSpPr/>
          <p:nvPr/>
        </p:nvSpPr>
        <p:spPr>
          <a:xfrm>
            <a:off x="5463360" y="41814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矩形 36"/>
          <p:cNvSpPr/>
          <p:nvPr/>
        </p:nvSpPr>
        <p:spPr>
          <a:xfrm>
            <a:off x="4186800" y="46418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矩形 37"/>
          <p:cNvSpPr/>
          <p:nvPr/>
        </p:nvSpPr>
        <p:spPr>
          <a:xfrm>
            <a:off x="6285600" y="46544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矩形 38"/>
          <p:cNvSpPr/>
          <p:nvPr/>
        </p:nvSpPr>
        <p:spPr>
          <a:xfrm>
            <a:off x="750240" y="51166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4"/>
          <p:cNvSpPr/>
          <p:nvPr/>
        </p:nvSpPr>
        <p:spPr>
          <a:xfrm>
            <a:off x="449280" y="29624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长方形的宽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长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441360" y="24620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长方形的宽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长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428760" y="1962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长方形的宽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长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5319720" y="1928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5319720" y="24289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4734000" y="29289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0-a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461880" y="39751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你还能发现其它的函数关系吗？请说一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109440" y="132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一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0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绳子围成一个长方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WordArt 249"/>
          <p:cNvSpPr txBox="1"/>
          <p:nvPr/>
        </p:nvSpPr>
        <p:spPr>
          <a:xfrm>
            <a:off x="500040" y="357120"/>
            <a:ext cx="2214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活动一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447840" y="34718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方形的长是宽的函数吗？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051109landscape11"/>
          <p:cNvPicPr/>
          <p:nvPr/>
        </p:nvPicPr>
        <p:blipFill>
          <a:blip r:embed="rId1"/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20050620103923158"/>
          <p:cNvPicPr/>
          <p:nvPr/>
        </p:nvPicPr>
        <p:blipFill>
          <a:blip r:embed="rId2"/>
          <a:stretch/>
        </p:blipFill>
        <p:spPr>
          <a:xfrm>
            <a:off x="1763640" y="2590920"/>
            <a:ext cx="4724640" cy="42670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5"/>
          <p:cNvSpPr/>
          <p:nvPr/>
        </p:nvSpPr>
        <p:spPr>
          <a:xfrm>
            <a:off x="1571760" y="1071720"/>
            <a:ext cx="64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1900"/>
                </a:solidFill>
                <a:latin typeface="黑体"/>
                <a:ea typeface="黑体"/>
              </a:rPr>
              <a:t>当小鱼跳动时</a:t>
            </a:r>
            <a:r>
              <a:rPr b="0" lang="en-US" sz="2800" spc="-1" strike="noStrike">
                <a:solidFill>
                  <a:srgbClr val="6619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661900"/>
                </a:solidFill>
                <a:latin typeface="黑体"/>
                <a:ea typeface="黑体"/>
              </a:rPr>
              <a:t>请观察水面上的变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WordArt 249"/>
          <p:cNvSpPr txBox="1"/>
          <p:nvPr/>
        </p:nvSpPr>
        <p:spPr>
          <a:xfrm>
            <a:off x="500040" y="357120"/>
            <a:ext cx="2214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活动二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051109landscape11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6" name="Oval 3"/>
          <p:cNvSpPr/>
          <p:nvPr/>
        </p:nvSpPr>
        <p:spPr>
          <a:xfrm>
            <a:off x="4140360" y="2662200"/>
            <a:ext cx="1008000" cy="1008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"/>
          <p:cNvSpPr/>
          <p:nvPr/>
        </p:nvSpPr>
        <p:spPr>
          <a:xfrm>
            <a:off x="3564000" y="2158920"/>
            <a:ext cx="2089080" cy="20890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5"/>
          <p:cNvSpPr/>
          <p:nvPr/>
        </p:nvSpPr>
        <p:spPr>
          <a:xfrm>
            <a:off x="3059280" y="1628640"/>
            <a:ext cx="3097080" cy="3097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6"/>
          <p:cNvSpPr/>
          <p:nvPr/>
        </p:nvSpPr>
        <p:spPr>
          <a:xfrm>
            <a:off x="2111400" y="692280"/>
            <a:ext cx="5040360" cy="5040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643280" y="2421000"/>
            <a:ext cx="237672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4643280" y="2708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4643280" y="2492280"/>
            <a:ext cx="720720" cy="649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0"/>
          <p:cNvSpPr/>
          <p:nvPr/>
        </p:nvSpPr>
        <p:spPr>
          <a:xfrm flipV="1">
            <a:off x="4643280" y="234900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11"/>
          <p:cNvSpPr/>
          <p:nvPr/>
        </p:nvSpPr>
        <p:spPr>
          <a:xfrm>
            <a:off x="4572000" y="3068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142920" y="6093000"/>
            <a:ext cx="92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fcfc"/>
                </a:solidFill>
                <a:latin typeface="黑体"/>
                <a:ea typeface="黑体"/>
              </a:rPr>
              <a:t>小鱼跳跃激起的波纹可以看作是一个不断向外扩展的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15"/>
          <p:cNvSpPr/>
          <p:nvPr/>
        </p:nvSpPr>
        <p:spPr>
          <a:xfrm>
            <a:off x="214200" y="150012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个变化的过程中，有哪些变量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7215120" y="21430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请你选择其中的两个变量，说一说它们之间的函数关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17"/>
          <p:cNvSpPr/>
          <p:nvPr/>
        </p:nvSpPr>
        <p:spPr>
          <a:xfrm>
            <a:off x="0" y="321480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半径、直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周长、面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WordArt 249"/>
          <p:cNvSpPr txBox="1"/>
          <p:nvPr/>
        </p:nvSpPr>
        <p:spPr>
          <a:xfrm>
            <a:off x="500040" y="357120"/>
            <a:ext cx="2214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生活     数学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0" name="左右箭头 6"/>
          <p:cNvSpPr/>
          <p:nvPr/>
        </p:nvSpPr>
        <p:spPr>
          <a:xfrm>
            <a:off x="1355760" y="411120"/>
            <a:ext cx="507960" cy="34128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fdf5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"/>
                            </p:stCondLst>
                            <p:childTnLst>
                              <p:par>
                                <p:cTn id="584" dur="indefinite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1"/>
                            </p:stCondLst>
                            <p:childTnLst>
                              <p:par>
                                <p:cTn id="588" dur="indefinite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501"/>
                            </p:stCondLst>
                            <p:childTnLst>
                              <p:par>
                                <p:cTn id="594" dur="indefinite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01"/>
                            </p:stCondLst>
                            <p:childTnLst>
                              <p:par>
                                <p:cTn id="598" dur="indefinite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501"/>
                            </p:stCondLst>
                            <p:childTnLst>
                              <p:par>
                                <p:cTn id="604" dur="indefinite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501"/>
                            </p:stCondLst>
                            <p:childTnLst>
                              <p:par>
                                <p:cTn id="608" dur="indefinite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1"/>
                            </p:stCondLst>
                            <p:childTnLst>
                              <p:par>
                                <p:cTn id="614" dur="indefinite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501"/>
                            </p:stCondLst>
                            <p:childTnLst>
                              <p:par>
                                <p:cTn id="618" dur="indefinite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16"/>
          <p:cNvSpPr/>
          <p:nvPr/>
        </p:nvSpPr>
        <p:spPr>
          <a:xfrm>
            <a:off x="1714680" y="5248440"/>
            <a:ext cx="575928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函数：研究变化规律的数学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7"/>
          <p:cNvSpPr/>
          <p:nvPr/>
        </p:nvSpPr>
        <p:spPr>
          <a:xfrm>
            <a:off x="4594320" y="452772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1714680" y="3471840"/>
            <a:ext cx="1079280" cy="947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生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4017960" y="3471840"/>
            <a:ext cx="107964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数学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45"/>
          <p:cNvSpPr/>
          <p:nvPr/>
        </p:nvSpPr>
        <p:spPr>
          <a:xfrm>
            <a:off x="6323040" y="3471840"/>
            <a:ext cx="107964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研究现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46"/>
          <p:cNvGrpSpPr/>
          <p:nvPr/>
        </p:nvGrpSpPr>
        <p:grpSpPr>
          <a:xfrm>
            <a:off x="2938320" y="3471840"/>
            <a:ext cx="1008000" cy="503280"/>
            <a:chOff x="2938320" y="3471840"/>
            <a:chExt cx="1008000" cy="503280"/>
          </a:xfrm>
        </p:grpSpPr>
        <p:sp>
          <p:nvSpPr>
            <p:cNvPr id="627" name="Line 47"/>
            <p:cNvSpPr/>
            <p:nvPr/>
          </p:nvSpPr>
          <p:spPr>
            <a:xfrm>
              <a:off x="2938320" y="397512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48"/>
            <p:cNvSpPr/>
            <p:nvPr/>
          </p:nvSpPr>
          <p:spPr>
            <a:xfrm>
              <a:off x="3118680" y="347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建构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49"/>
          <p:cNvGrpSpPr/>
          <p:nvPr/>
        </p:nvGrpSpPr>
        <p:grpSpPr>
          <a:xfrm>
            <a:off x="5184720" y="3517920"/>
            <a:ext cx="1008000" cy="459720"/>
            <a:chOff x="5184720" y="3517920"/>
            <a:chExt cx="1008000" cy="459720"/>
          </a:xfrm>
        </p:grpSpPr>
        <p:sp>
          <p:nvSpPr>
            <p:cNvPr id="630" name="Line 50"/>
            <p:cNvSpPr/>
            <p:nvPr/>
          </p:nvSpPr>
          <p:spPr>
            <a:xfrm>
              <a:off x="5184720" y="396072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51"/>
            <p:cNvSpPr/>
            <p:nvPr/>
          </p:nvSpPr>
          <p:spPr>
            <a:xfrm>
              <a:off x="5393520" y="3517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应用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Rectangle 3"/>
          <p:cNvSpPr/>
          <p:nvPr/>
        </p:nvSpPr>
        <p:spPr>
          <a:xfrm>
            <a:off x="343080" y="1341360"/>
            <a:ext cx="79740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今天我们学习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常量与变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概念，并了解了两个变量之间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函数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6600" y="28908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四、课堂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27640" y="2997000"/>
            <a:ext cx="2735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谢谢</a:t>
            </a:r>
            <a:r>
              <a:rPr b="1" lang="en-US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!</a:t>
            </a:r>
            <a:endParaRPr b="1" lang="en-US" sz="8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539640" y="692280"/>
            <a:ext cx="4969080" cy="360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00">
              <a:lnSpc>
                <a:spcPct val="15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fcfc"/>
                </a:solidFill>
                <a:latin typeface="黑体"/>
                <a:ea typeface="黑体"/>
              </a:rPr>
              <a:t>时间是一个常量，但对勤奋者来说，却是一个“变量”，我们应当在有限的时间内做出伟大的事业！</a:t>
            </a:r>
            <a:r>
              <a:rPr b="0" lang="en-US" sz="2800" spc="-1" strike="noStrike">
                <a:solidFill>
                  <a:srgbClr val="fcfcfc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cfcfc"/>
                </a:solidFill>
                <a:latin typeface="黑体"/>
                <a:ea typeface="黑体"/>
              </a:rPr>
              <a:t>俄国历史学家 雷巴柯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5"/>
          <p:cNvSpPr/>
          <p:nvPr/>
        </p:nvSpPr>
        <p:spPr>
          <a:xfrm>
            <a:off x="826920" y="436572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：在加油过程中，哪些量没有变化？哪些量不断变化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0" y="98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一、认识不变的量和变化的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加油.wmv" descr=""/>
          <p:cNvPicPr/>
          <p:nvPr/>
        </p:nvPicPr>
        <p:blipFill>
          <a:blip r:embed="rId1"/>
          <a:stretch/>
        </p:blipFill>
        <p:spPr>
          <a:xfrm>
            <a:off x="1498680" y="981000"/>
            <a:ext cx="5715000" cy="3214800"/>
          </a:xfrm>
          <a:prstGeom prst="rect">
            <a:avLst/>
          </a:prstGeom>
          <a:ln w="0">
            <a:noFill/>
          </a:ln>
        </p:spPr>
      </p:pic>
      <p:sp>
        <p:nvSpPr>
          <p:cNvPr id="281" name="矩形 5"/>
          <p:cNvSpPr/>
          <p:nvPr/>
        </p:nvSpPr>
        <p:spPr>
          <a:xfrm>
            <a:off x="1978200" y="5373720"/>
            <a:ext cx="45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答：不变的量：单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变化的量：金额和油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图片 9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358040" cy="2047680"/>
          </a:xfrm>
          <a:prstGeom prst="rect">
            <a:avLst/>
          </a:prstGeom>
          <a:ln w="0">
            <a:noFill/>
          </a:ln>
        </p:spPr>
      </p:pic>
      <p:sp>
        <p:nvSpPr>
          <p:cNvPr id="283" name="矩形 8"/>
          <p:cNvSpPr/>
          <p:nvPr/>
        </p:nvSpPr>
        <p:spPr>
          <a:xfrm>
            <a:off x="-61920" y="78264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背景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列动车从常州驶向南京，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:1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:2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时段，动车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的速度匀速行驶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6940440" y="41623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南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81200" y="414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1792440" y="440676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1792440" y="455148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25" descr="和谐号"/>
          <p:cNvPicPr/>
          <p:nvPr/>
        </p:nvPicPr>
        <p:blipFill>
          <a:blip r:embed="rId2"/>
          <a:stretch/>
        </p:blipFill>
        <p:spPr>
          <a:xfrm>
            <a:off x="2894040" y="3933720"/>
            <a:ext cx="1079640" cy="39708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5"/>
          <p:cNvGrpSpPr/>
          <p:nvPr/>
        </p:nvGrpSpPr>
        <p:grpSpPr>
          <a:xfrm>
            <a:off x="2395800" y="4330800"/>
            <a:ext cx="3327120" cy="725040"/>
            <a:chOff x="2395800" y="4330800"/>
            <a:chExt cx="3327120" cy="725040"/>
          </a:xfrm>
        </p:grpSpPr>
        <p:sp>
          <p:nvSpPr>
            <p:cNvPr id="290" name="Line 10"/>
            <p:cNvSpPr/>
            <p:nvPr/>
          </p:nvSpPr>
          <p:spPr>
            <a:xfrm>
              <a:off x="5213160" y="4332240"/>
              <a:ext cx="0" cy="287280"/>
            </a:xfrm>
            <a:prstGeom prst="line">
              <a:avLst/>
            </a:prstGeom>
            <a:ln w="381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2909880" y="4330800"/>
              <a:ext cx="0" cy="287280"/>
            </a:xfrm>
            <a:prstGeom prst="line">
              <a:avLst/>
            </a:prstGeom>
            <a:ln w="381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2395800" y="4535280"/>
              <a:ext cx="10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6:17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4710240" y="4519440"/>
              <a:ext cx="10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6:2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矩形 19"/>
          <p:cNvSpPr/>
          <p:nvPr/>
        </p:nvSpPr>
        <p:spPr>
          <a:xfrm>
            <a:off x="900000" y="4888080"/>
            <a:ext cx="74581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这个变化过程中，有哪些量？哪些是变化的量？哪些是不变的量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矩形 5"/>
          <p:cNvSpPr/>
          <p:nvPr/>
        </p:nvSpPr>
        <p:spPr>
          <a:xfrm>
            <a:off x="1389240" y="5869080"/>
            <a:ext cx="695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答：不变的量：速度、</a:t>
            </a: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S</a:t>
            </a:r>
            <a:r>
              <a:rPr b="1" lang="zh-CN" sz="1600" spc="-1" strike="noStrike">
                <a:solidFill>
                  <a:srgbClr val="0070c0"/>
                </a:solidFill>
                <a:latin typeface="黑体"/>
                <a:ea typeface="黑体"/>
              </a:rPr>
              <a:t>常州到南京</a:t>
            </a: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变化的量：时间、</a:t>
            </a: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S</a:t>
            </a:r>
            <a:r>
              <a:rPr b="1" lang="zh-CN" sz="1600" spc="-1" strike="noStrike">
                <a:solidFill>
                  <a:srgbClr val="0070c0"/>
                </a:solidFill>
                <a:latin typeface="黑体"/>
                <a:ea typeface="黑体"/>
              </a:rPr>
              <a:t>动车到常州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S</a:t>
            </a:r>
            <a:r>
              <a:rPr b="1" lang="zh-CN" sz="1800" spc="-1" strike="noStrike">
                <a:solidFill>
                  <a:srgbClr val="0070c0"/>
                </a:solidFill>
                <a:latin typeface="黑体"/>
                <a:ea typeface="黑体"/>
              </a:rPr>
              <a:t>动车到南京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0.25313 1.48148E-006 E">
                                      <p:cBhvr>
                                        <p:cTn id="18" dur="5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0"/>
          <p:cNvSpPr/>
          <p:nvPr/>
        </p:nvSpPr>
        <p:spPr>
          <a:xfrm>
            <a:off x="1500120" y="3063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值保持不变的量叫做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1332000" y="3778200"/>
            <a:ext cx="58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取不同数值的量叫做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5"/>
          <p:cNvSpPr/>
          <p:nvPr/>
        </p:nvSpPr>
        <p:spPr>
          <a:xfrm>
            <a:off x="1517760" y="2349360"/>
            <a:ext cx="57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某一变化过程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WordArt 249"/>
          <p:cNvSpPr txBox="1"/>
          <p:nvPr/>
        </p:nvSpPr>
        <p:spPr>
          <a:xfrm>
            <a:off x="393840" y="1397160"/>
            <a:ext cx="22143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阅读概念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0" y="1508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一、认识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常量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和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变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640" y="691920"/>
            <a:ext cx="849636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请你指出下列各式的常量和变量</a:t>
            </a:r>
            <a:endParaRPr b="1" lang="en-US" sz="37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4000" y="1628640"/>
            <a:ext cx="854064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、求余角的计算公式为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y=90</a:t>
            </a:r>
            <a:r>
              <a:rPr b="1" i="1" lang="en-US" sz="37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- x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、圆周长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和半径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的关系式为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2πr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、矩形的长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一定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，宽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面积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s= a b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0" y="1508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一、认识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常量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和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变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1619280" y="2185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常量：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9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；变量：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1619280" y="33084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常量：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2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π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；变量：圆周长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半径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1619280" y="4653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常量：长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；变量：面积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</a:t>
            </a:r>
            <a:r>
              <a:rPr b="1" i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宽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b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3" descr="水库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5"/>
          <p:cNvSpPr/>
          <p:nvPr/>
        </p:nvSpPr>
        <p:spPr>
          <a:xfrm>
            <a:off x="422280" y="1260360"/>
            <a:ext cx="536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909"/>
                </a:solidFill>
                <a:latin typeface="黑体"/>
                <a:ea typeface="黑体"/>
              </a:rPr>
              <a:t>水库水位的及时测量和报告对防洪抗洪起到非常重要的作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0" y="3697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二、两个变量之间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3360" y="855720"/>
            <a:ext cx="7715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这是工作人员根据水库的水位变化与水库蓄水量变化情况而制作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14240" y="1844640"/>
          <a:ext cx="7715160" cy="1463760"/>
        </p:xfrm>
        <a:graphic>
          <a:graphicData uri="http://schemas.openxmlformats.org/drawingml/2006/table">
            <a:tbl>
              <a:tblPr/>
              <a:tblGrid>
                <a:gridCol w="1203480"/>
                <a:gridCol w="1422360"/>
                <a:gridCol w="1422360"/>
                <a:gridCol w="1531800"/>
                <a:gridCol w="1422360"/>
                <a:gridCol w="71280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蓄水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30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09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18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3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Text Box 30"/>
          <p:cNvSpPr/>
          <p:nvPr/>
        </p:nvSpPr>
        <p:spPr>
          <a:xfrm>
            <a:off x="714240" y="3429000"/>
            <a:ext cx="8429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这一变化过程中，有几个变量？分别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714240" y="4357800"/>
            <a:ext cx="94028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这一变化过程中，两个变量之间有什么关系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小组交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3"/>
          <p:cNvSpPr/>
          <p:nvPr/>
        </p:nvSpPr>
        <p:spPr>
          <a:xfrm>
            <a:off x="3584520" y="5832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4"/>
          <p:cNvSpPr/>
          <p:nvPr/>
        </p:nvSpPr>
        <p:spPr>
          <a:xfrm>
            <a:off x="1128600" y="58053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5"/>
          <p:cNvSpPr/>
          <p:nvPr/>
        </p:nvSpPr>
        <p:spPr>
          <a:xfrm>
            <a:off x="755640" y="53434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2771640" y="5283360"/>
            <a:ext cx="12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组合 1"/>
          <p:cNvGrpSpPr/>
          <p:nvPr/>
        </p:nvGrpSpPr>
        <p:grpSpPr>
          <a:xfrm>
            <a:off x="817560" y="5343480"/>
            <a:ext cx="8683560" cy="1396080"/>
            <a:chOff x="817560" y="5343480"/>
            <a:chExt cx="8683560" cy="1396080"/>
          </a:xfrm>
        </p:grpSpPr>
        <p:sp>
          <p:nvSpPr>
            <p:cNvPr id="319" name="Text Box 80"/>
            <p:cNvSpPr/>
            <p:nvPr/>
          </p:nvSpPr>
          <p:spPr>
            <a:xfrm>
              <a:off x="817560" y="5812920"/>
              <a:ext cx="632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当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确定时</a:t>
              </a:r>
              <a:r>
                <a:rPr b="0" lang="en-US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, </a:t>
              </a:r>
              <a:r>
                <a:rPr b="0" lang="en-US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也随着确定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32"/>
            <p:cNvSpPr/>
            <p:nvPr/>
          </p:nvSpPr>
          <p:spPr>
            <a:xfrm>
              <a:off x="857160" y="5343480"/>
              <a:ext cx="55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随着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变化而变化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5"/>
            <p:cNvSpPr/>
            <p:nvPr/>
          </p:nvSpPr>
          <p:spPr>
            <a:xfrm>
              <a:off x="817560" y="6279840"/>
              <a:ext cx="86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对于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每一个值，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都有唯一的值与它对应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67"/>
          <p:cNvSpPr/>
          <p:nvPr/>
        </p:nvSpPr>
        <p:spPr>
          <a:xfrm>
            <a:off x="852480" y="628020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8"/>
          <p:cNvSpPr/>
          <p:nvPr/>
        </p:nvSpPr>
        <p:spPr>
          <a:xfrm>
            <a:off x="3708360" y="6280200"/>
            <a:ext cx="27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下箭头 20"/>
          <p:cNvSpPr/>
          <p:nvPr/>
        </p:nvSpPr>
        <p:spPr>
          <a:xfrm>
            <a:off x="3905280" y="2421000"/>
            <a:ext cx="285840" cy="3571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下箭头 21"/>
          <p:cNvSpPr/>
          <p:nvPr/>
        </p:nvSpPr>
        <p:spPr>
          <a:xfrm>
            <a:off x="2476440" y="2421000"/>
            <a:ext cx="285840" cy="35712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下箭头 22"/>
          <p:cNvSpPr/>
          <p:nvPr/>
        </p:nvSpPr>
        <p:spPr>
          <a:xfrm>
            <a:off x="5418000" y="2421000"/>
            <a:ext cx="285840" cy="3571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下箭头 23"/>
          <p:cNvSpPr/>
          <p:nvPr/>
        </p:nvSpPr>
        <p:spPr>
          <a:xfrm>
            <a:off x="6883560" y="2421000"/>
            <a:ext cx="285480" cy="35712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-66600" y="2761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务二、两个变量之间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1258920" y="3909960"/>
            <a:ext cx="70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答：有两个变量，分别是水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h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蓄水量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reeform 3"/>
          <p:cNvSpPr/>
          <p:nvPr/>
        </p:nvSpPr>
        <p:spPr>
          <a:xfrm>
            <a:off x="1803240" y="2492280"/>
            <a:ext cx="5072400" cy="1500120"/>
          </a:xfrm>
          <a:custGeom>
            <a:avLst/>
            <a:gdLst/>
            <a:ahLst/>
            <a:rect l="l" t="t" r="r" b="b"/>
            <a:pathLst>
              <a:path w="4160" h="1376">
                <a:moveTo>
                  <a:pt x="8" y="1024"/>
                </a:moveTo>
                <a:cubicBezTo>
                  <a:pt x="16" y="1032"/>
                  <a:pt x="56" y="1120"/>
                  <a:pt x="104" y="1168"/>
                </a:cubicBezTo>
                <a:cubicBezTo>
                  <a:pt x="152" y="1216"/>
                  <a:pt x="232" y="1280"/>
                  <a:pt x="296" y="1312"/>
                </a:cubicBezTo>
                <a:cubicBezTo>
                  <a:pt x="360" y="1344"/>
                  <a:pt x="416" y="1376"/>
                  <a:pt x="488" y="1360"/>
                </a:cubicBezTo>
                <a:cubicBezTo>
                  <a:pt x="560" y="1344"/>
                  <a:pt x="640" y="1264"/>
                  <a:pt x="728" y="1216"/>
                </a:cubicBezTo>
                <a:cubicBezTo>
                  <a:pt x="816" y="1168"/>
                  <a:pt x="904" y="1144"/>
                  <a:pt x="1016" y="1072"/>
                </a:cubicBezTo>
                <a:cubicBezTo>
                  <a:pt x="1128" y="1000"/>
                  <a:pt x="1296" y="880"/>
                  <a:pt x="1400" y="784"/>
                </a:cubicBezTo>
                <a:cubicBezTo>
                  <a:pt x="1504" y="688"/>
                  <a:pt x="1544" y="576"/>
                  <a:pt x="1640" y="496"/>
                </a:cubicBezTo>
                <a:cubicBezTo>
                  <a:pt x="1736" y="416"/>
                  <a:pt x="1888" y="360"/>
                  <a:pt x="1976" y="304"/>
                </a:cubicBezTo>
                <a:cubicBezTo>
                  <a:pt x="2064" y="248"/>
                  <a:pt x="2120" y="200"/>
                  <a:pt x="2168" y="160"/>
                </a:cubicBezTo>
                <a:cubicBezTo>
                  <a:pt x="2216" y="120"/>
                  <a:pt x="2216" y="88"/>
                  <a:pt x="2264" y="64"/>
                </a:cubicBezTo>
                <a:cubicBezTo>
                  <a:pt x="2312" y="40"/>
                  <a:pt x="2392" y="0"/>
                  <a:pt x="2456" y="16"/>
                </a:cubicBezTo>
                <a:cubicBezTo>
                  <a:pt x="2520" y="32"/>
                  <a:pt x="2600" y="128"/>
                  <a:pt x="2648" y="160"/>
                </a:cubicBezTo>
                <a:cubicBezTo>
                  <a:pt x="2696" y="192"/>
                  <a:pt x="2696" y="160"/>
                  <a:pt x="2744" y="208"/>
                </a:cubicBezTo>
                <a:cubicBezTo>
                  <a:pt x="2792" y="256"/>
                  <a:pt x="2856" y="384"/>
                  <a:pt x="2936" y="448"/>
                </a:cubicBezTo>
                <a:cubicBezTo>
                  <a:pt x="3016" y="512"/>
                  <a:pt x="3112" y="504"/>
                  <a:pt x="3224" y="592"/>
                </a:cubicBezTo>
                <a:cubicBezTo>
                  <a:pt x="3336" y="680"/>
                  <a:pt x="3512" y="888"/>
                  <a:pt x="3608" y="976"/>
                </a:cubicBezTo>
                <a:cubicBezTo>
                  <a:pt x="3704" y="1064"/>
                  <a:pt x="3712" y="1056"/>
                  <a:pt x="3800" y="1120"/>
                </a:cubicBezTo>
                <a:cubicBezTo>
                  <a:pt x="3888" y="1184"/>
                  <a:pt x="4112" y="1344"/>
                  <a:pt x="4136" y="1360"/>
                </a:cubicBezTo>
                <a:cubicBezTo>
                  <a:pt x="4160" y="1376"/>
                  <a:pt x="4000" y="1256"/>
                  <a:pt x="3944" y="1216"/>
                </a:cubicBezTo>
                <a:cubicBezTo>
                  <a:pt x="3888" y="1176"/>
                  <a:pt x="3848" y="1152"/>
                  <a:pt x="3800" y="1120"/>
                </a:cubicBezTo>
                <a:cubicBezTo>
                  <a:pt x="3752" y="1088"/>
                  <a:pt x="3704" y="1064"/>
                  <a:pt x="3656" y="1024"/>
                </a:cubicBezTo>
                <a:cubicBezTo>
                  <a:pt x="3608" y="984"/>
                  <a:pt x="3552" y="920"/>
                  <a:pt x="3512" y="880"/>
                </a:cubicBezTo>
                <a:cubicBezTo>
                  <a:pt x="3472" y="840"/>
                  <a:pt x="3456" y="824"/>
                  <a:pt x="3416" y="784"/>
                </a:cubicBezTo>
                <a:cubicBezTo>
                  <a:pt x="3376" y="744"/>
                  <a:pt x="3304" y="672"/>
                  <a:pt x="3272" y="640"/>
                </a:cubicBezTo>
                <a:cubicBezTo>
                  <a:pt x="3240" y="608"/>
                  <a:pt x="3248" y="608"/>
                  <a:pt x="3224" y="592"/>
                </a:cubicBezTo>
                <a:cubicBezTo>
                  <a:pt x="3200" y="576"/>
                  <a:pt x="3160" y="560"/>
                  <a:pt x="3128" y="544"/>
                </a:cubicBezTo>
                <a:cubicBezTo>
                  <a:pt x="3096" y="528"/>
                  <a:pt x="3064" y="512"/>
                  <a:pt x="3032" y="496"/>
                </a:cubicBezTo>
                <a:cubicBezTo>
                  <a:pt x="3000" y="480"/>
                  <a:pt x="2968" y="472"/>
                  <a:pt x="2936" y="448"/>
                </a:cubicBezTo>
                <a:cubicBezTo>
                  <a:pt x="2904" y="424"/>
                  <a:pt x="2872" y="392"/>
                  <a:pt x="2840" y="352"/>
                </a:cubicBezTo>
                <a:cubicBezTo>
                  <a:pt x="2808" y="312"/>
                  <a:pt x="2776" y="240"/>
                  <a:pt x="2744" y="208"/>
                </a:cubicBezTo>
                <a:cubicBezTo>
                  <a:pt x="2712" y="176"/>
                  <a:pt x="2680" y="184"/>
                  <a:pt x="2648" y="160"/>
                </a:cubicBezTo>
                <a:cubicBezTo>
                  <a:pt x="2616" y="136"/>
                  <a:pt x="2592" y="88"/>
                  <a:pt x="2552" y="64"/>
                </a:cubicBezTo>
                <a:cubicBezTo>
                  <a:pt x="2512" y="40"/>
                  <a:pt x="2456" y="16"/>
                  <a:pt x="2408" y="16"/>
                </a:cubicBezTo>
                <a:cubicBezTo>
                  <a:pt x="2360" y="16"/>
                  <a:pt x="2312" y="32"/>
                  <a:pt x="2264" y="64"/>
                </a:cubicBezTo>
                <a:cubicBezTo>
                  <a:pt x="2216" y="96"/>
                  <a:pt x="2168" y="168"/>
                  <a:pt x="2120" y="208"/>
                </a:cubicBezTo>
                <a:cubicBezTo>
                  <a:pt x="2072" y="248"/>
                  <a:pt x="2032" y="272"/>
                  <a:pt x="1976" y="304"/>
                </a:cubicBezTo>
                <a:cubicBezTo>
                  <a:pt x="1920" y="336"/>
                  <a:pt x="1840" y="368"/>
                  <a:pt x="1784" y="400"/>
                </a:cubicBezTo>
                <a:cubicBezTo>
                  <a:pt x="1728" y="432"/>
                  <a:pt x="1680" y="464"/>
                  <a:pt x="1640" y="496"/>
                </a:cubicBezTo>
                <a:cubicBezTo>
                  <a:pt x="1600" y="528"/>
                  <a:pt x="1576" y="552"/>
                  <a:pt x="1544" y="592"/>
                </a:cubicBezTo>
                <a:cubicBezTo>
                  <a:pt x="1512" y="632"/>
                  <a:pt x="1488" y="688"/>
                  <a:pt x="1448" y="736"/>
                </a:cubicBezTo>
                <a:cubicBezTo>
                  <a:pt x="1408" y="784"/>
                  <a:pt x="1352" y="840"/>
                  <a:pt x="1304" y="880"/>
                </a:cubicBezTo>
                <a:cubicBezTo>
                  <a:pt x="1256" y="920"/>
                  <a:pt x="1224" y="936"/>
                  <a:pt x="1160" y="976"/>
                </a:cubicBezTo>
                <a:cubicBezTo>
                  <a:pt x="1096" y="1016"/>
                  <a:pt x="992" y="1080"/>
                  <a:pt x="920" y="1120"/>
                </a:cubicBezTo>
                <a:cubicBezTo>
                  <a:pt x="848" y="1160"/>
                  <a:pt x="800" y="1176"/>
                  <a:pt x="728" y="1216"/>
                </a:cubicBezTo>
                <a:cubicBezTo>
                  <a:pt x="656" y="1256"/>
                  <a:pt x="560" y="1344"/>
                  <a:pt x="488" y="1360"/>
                </a:cubicBezTo>
                <a:cubicBezTo>
                  <a:pt x="416" y="1376"/>
                  <a:pt x="344" y="1328"/>
                  <a:pt x="296" y="1312"/>
                </a:cubicBezTo>
                <a:cubicBezTo>
                  <a:pt x="248" y="1296"/>
                  <a:pt x="232" y="1288"/>
                  <a:pt x="200" y="1264"/>
                </a:cubicBezTo>
                <a:cubicBezTo>
                  <a:pt x="168" y="1240"/>
                  <a:pt x="128" y="1192"/>
                  <a:pt x="104" y="1168"/>
                </a:cubicBezTo>
                <a:cubicBezTo>
                  <a:pt x="80" y="1144"/>
                  <a:pt x="72" y="1144"/>
                  <a:pt x="56" y="1120"/>
                </a:cubicBezTo>
                <a:cubicBezTo>
                  <a:pt x="40" y="1096"/>
                  <a:pt x="0" y="1016"/>
                  <a:pt x="8" y="1024"/>
                </a:cubicBezTo>
                <a:close/>
              </a:path>
            </a:pathLst>
          </a:custGeom>
          <a:solidFill>
            <a:srgbClr val="ff6161"/>
          </a:solid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413000" y="1339920"/>
            <a:ext cx="6428880" cy="3089160"/>
            <a:chOff x="1413000" y="1339920"/>
            <a:chExt cx="6428880" cy="3089160"/>
          </a:xfrm>
        </p:grpSpPr>
        <p:sp>
          <p:nvSpPr>
            <p:cNvPr id="332" name="Text Box 5"/>
            <p:cNvSpPr/>
            <p:nvPr/>
          </p:nvSpPr>
          <p:spPr>
            <a:xfrm>
              <a:off x="7108200" y="2996640"/>
              <a:ext cx="7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间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Group 6"/>
            <p:cNvGrpSpPr/>
            <p:nvPr/>
          </p:nvGrpSpPr>
          <p:grpSpPr>
            <a:xfrm>
              <a:off x="1426320" y="3155400"/>
              <a:ext cx="5658120" cy="379080"/>
              <a:chOff x="1426320" y="3155400"/>
              <a:chExt cx="5658120" cy="379080"/>
            </a:xfrm>
          </p:grpSpPr>
          <p:grpSp>
            <p:nvGrpSpPr>
              <p:cNvPr id="334" name="Group 7"/>
              <p:cNvGrpSpPr/>
              <p:nvPr/>
            </p:nvGrpSpPr>
            <p:grpSpPr>
              <a:xfrm>
                <a:off x="1426320" y="3157200"/>
                <a:ext cx="5658120" cy="55800"/>
                <a:chOff x="1426320" y="3157200"/>
                <a:chExt cx="5658120" cy="55800"/>
              </a:xfrm>
            </p:grpSpPr>
            <p:sp>
              <p:nvSpPr>
                <p:cNvPr id="335" name="Line 8"/>
                <p:cNvSpPr/>
                <p:nvPr/>
              </p:nvSpPr>
              <p:spPr>
                <a:xfrm>
                  <a:off x="1426320" y="3213000"/>
                  <a:ext cx="5658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9"/>
                <p:cNvSpPr/>
                <p:nvPr/>
              </p:nvSpPr>
              <p:spPr>
                <a:xfrm>
                  <a:off x="22266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Line 10"/>
                <p:cNvSpPr/>
                <p:nvPr/>
              </p:nvSpPr>
              <p:spPr>
                <a:xfrm>
                  <a:off x="243828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11"/>
                <p:cNvSpPr/>
                <p:nvPr/>
              </p:nvSpPr>
              <p:spPr>
                <a:xfrm>
                  <a:off x="26424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Line 12"/>
                <p:cNvSpPr/>
                <p:nvPr/>
              </p:nvSpPr>
              <p:spPr>
                <a:xfrm>
                  <a:off x="2860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13"/>
                <p:cNvSpPr/>
                <p:nvPr/>
              </p:nvSpPr>
              <p:spPr>
                <a:xfrm>
                  <a:off x="3064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14"/>
                <p:cNvSpPr/>
                <p:nvPr/>
              </p:nvSpPr>
              <p:spPr>
                <a:xfrm>
                  <a:off x="32760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15"/>
                <p:cNvSpPr/>
                <p:nvPr/>
              </p:nvSpPr>
              <p:spPr>
                <a:xfrm>
                  <a:off x="34801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16"/>
                <p:cNvSpPr/>
                <p:nvPr/>
              </p:nvSpPr>
              <p:spPr>
                <a:xfrm>
                  <a:off x="3695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17"/>
                <p:cNvSpPr/>
                <p:nvPr/>
              </p:nvSpPr>
              <p:spPr>
                <a:xfrm>
                  <a:off x="3899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18"/>
                <p:cNvSpPr/>
                <p:nvPr/>
              </p:nvSpPr>
              <p:spPr>
                <a:xfrm>
                  <a:off x="41108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19"/>
                <p:cNvSpPr/>
                <p:nvPr/>
              </p:nvSpPr>
              <p:spPr>
                <a:xfrm>
                  <a:off x="43149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Line 20"/>
                <p:cNvSpPr/>
                <p:nvPr/>
              </p:nvSpPr>
              <p:spPr>
                <a:xfrm>
                  <a:off x="45324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21"/>
                <p:cNvSpPr/>
                <p:nvPr/>
              </p:nvSpPr>
              <p:spPr>
                <a:xfrm>
                  <a:off x="47365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Line 22"/>
                <p:cNvSpPr/>
                <p:nvPr/>
              </p:nvSpPr>
              <p:spPr>
                <a:xfrm>
                  <a:off x="4948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Line 23"/>
                <p:cNvSpPr/>
                <p:nvPr/>
              </p:nvSpPr>
              <p:spPr>
                <a:xfrm>
                  <a:off x="5152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24"/>
                <p:cNvSpPr/>
                <p:nvPr/>
              </p:nvSpPr>
              <p:spPr>
                <a:xfrm>
                  <a:off x="5371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Line 25"/>
                <p:cNvSpPr/>
                <p:nvPr/>
              </p:nvSpPr>
              <p:spPr>
                <a:xfrm>
                  <a:off x="5575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26"/>
                <p:cNvSpPr/>
                <p:nvPr/>
              </p:nvSpPr>
              <p:spPr>
                <a:xfrm>
                  <a:off x="57906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27"/>
                <p:cNvSpPr/>
                <p:nvPr/>
              </p:nvSpPr>
              <p:spPr>
                <a:xfrm>
                  <a:off x="59947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28"/>
                <p:cNvSpPr/>
                <p:nvPr/>
              </p:nvSpPr>
              <p:spPr>
                <a:xfrm>
                  <a:off x="6206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Line 29"/>
                <p:cNvSpPr/>
                <p:nvPr/>
              </p:nvSpPr>
              <p:spPr>
                <a:xfrm>
                  <a:off x="6410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30"/>
                <p:cNvSpPr/>
                <p:nvPr/>
              </p:nvSpPr>
              <p:spPr>
                <a:xfrm>
                  <a:off x="662796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31"/>
                <p:cNvSpPr/>
                <p:nvPr/>
              </p:nvSpPr>
              <p:spPr>
                <a:xfrm>
                  <a:off x="683208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32"/>
                <p:cNvSpPr/>
                <p:nvPr/>
              </p:nvSpPr>
              <p:spPr>
                <a:xfrm>
                  <a:off x="15948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4"/>
                <p:cNvSpPr/>
                <p:nvPr/>
              </p:nvSpPr>
              <p:spPr>
                <a:xfrm>
                  <a:off x="201024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Text Box 35"/>
              <p:cNvSpPr/>
              <p:nvPr/>
            </p:nvSpPr>
            <p:spPr>
              <a:xfrm>
                <a:off x="3338280" y="316620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Text Box 36"/>
              <p:cNvSpPr/>
              <p:nvPr/>
            </p:nvSpPr>
            <p:spPr>
              <a:xfrm>
                <a:off x="3674160" y="315720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Text Box 37"/>
              <p:cNvSpPr/>
              <p:nvPr/>
            </p:nvSpPr>
            <p:spPr>
              <a:xfrm>
                <a:off x="2062080" y="3157200"/>
                <a:ext cx="1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Text Box 38"/>
              <p:cNvSpPr/>
              <p:nvPr/>
            </p:nvSpPr>
            <p:spPr>
              <a:xfrm>
                <a:off x="2481120" y="31662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39"/>
              <p:cNvSpPr/>
              <p:nvPr/>
            </p:nvSpPr>
            <p:spPr>
              <a:xfrm>
                <a:off x="2898000" y="31662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Text Box 40"/>
              <p:cNvSpPr/>
              <p:nvPr/>
            </p:nvSpPr>
            <p:spPr>
              <a:xfrm>
                <a:off x="407736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41"/>
              <p:cNvSpPr/>
              <p:nvPr/>
            </p:nvSpPr>
            <p:spPr>
              <a:xfrm>
                <a:off x="449532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42"/>
              <p:cNvSpPr/>
              <p:nvPr/>
            </p:nvSpPr>
            <p:spPr>
              <a:xfrm>
                <a:off x="4920120" y="3157200"/>
                <a:ext cx="4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Text Box 43"/>
              <p:cNvSpPr/>
              <p:nvPr/>
            </p:nvSpPr>
            <p:spPr>
              <a:xfrm>
                <a:off x="534780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Text Box 44"/>
              <p:cNvSpPr/>
              <p:nvPr/>
            </p:nvSpPr>
            <p:spPr>
              <a:xfrm>
                <a:off x="5801760" y="315612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45"/>
              <p:cNvSpPr/>
              <p:nvPr/>
            </p:nvSpPr>
            <p:spPr>
              <a:xfrm>
                <a:off x="6204960" y="3166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46"/>
              <p:cNvSpPr/>
              <p:nvPr/>
            </p:nvSpPr>
            <p:spPr>
              <a:xfrm>
                <a:off x="6609600" y="3166200"/>
                <a:ext cx="45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Text Box 47"/>
              <p:cNvSpPr/>
              <p:nvPr/>
            </p:nvSpPr>
            <p:spPr>
              <a:xfrm>
                <a:off x="1483920" y="31554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Text Box 48"/>
            <p:cNvSpPr/>
            <p:nvPr/>
          </p:nvSpPr>
          <p:spPr>
            <a:xfrm>
              <a:off x="1847160" y="1339920"/>
              <a:ext cx="9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温度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en-US" sz="1800" spc="-1" strike="noStrike">
                  <a:solidFill>
                    <a:srgbClr val="141402"/>
                  </a:solidFill>
                  <a:latin typeface="Symbol"/>
                  <a:ea typeface="Symbol"/>
                </a:rPr>
                <a:t>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49"/>
            <p:cNvGrpSpPr/>
            <p:nvPr/>
          </p:nvGrpSpPr>
          <p:grpSpPr>
            <a:xfrm>
              <a:off x="1413000" y="1411560"/>
              <a:ext cx="441360" cy="3017520"/>
              <a:chOff x="1413000" y="1411560"/>
              <a:chExt cx="441360" cy="3017520"/>
            </a:xfrm>
          </p:grpSpPr>
          <p:grpSp>
            <p:nvGrpSpPr>
              <p:cNvPr id="376" name="Group 50"/>
              <p:cNvGrpSpPr/>
              <p:nvPr/>
            </p:nvGrpSpPr>
            <p:grpSpPr>
              <a:xfrm>
                <a:off x="1785240" y="1411560"/>
                <a:ext cx="68400" cy="3017520"/>
                <a:chOff x="1785240" y="1411560"/>
                <a:chExt cx="68400" cy="3017520"/>
              </a:xfrm>
            </p:grpSpPr>
            <p:sp>
              <p:nvSpPr>
                <p:cNvPr id="377" name="Line 51"/>
                <p:cNvSpPr/>
                <p:nvPr/>
              </p:nvSpPr>
              <p:spPr>
                <a:xfrm flipV="1">
                  <a:off x="1792440" y="1411560"/>
                  <a:ext cx="0" cy="30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Line 52"/>
                <p:cNvSpPr/>
                <p:nvPr/>
              </p:nvSpPr>
              <p:spPr>
                <a:xfrm>
                  <a:off x="1792440" y="41540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Line 53"/>
                <p:cNvSpPr/>
                <p:nvPr/>
              </p:nvSpPr>
              <p:spPr>
                <a:xfrm>
                  <a:off x="1798560" y="39711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Line 54"/>
                <p:cNvSpPr/>
                <p:nvPr/>
              </p:nvSpPr>
              <p:spPr>
                <a:xfrm>
                  <a:off x="1792440" y="37764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Line 55"/>
                <p:cNvSpPr/>
                <p:nvPr/>
              </p:nvSpPr>
              <p:spPr>
                <a:xfrm>
                  <a:off x="1798560" y="35935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56"/>
                <p:cNvSpPr/>
                <p:nvPr/>
              </p:nvSpPr>
              <p:spPr>
                <a:xfrm>
                  <a:off x="1785240" y="339660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58"/>
                <p:cNvSpPr/>
                <p:nvPr/>
              </p:nvSpPr>
              <p:spPr>
                <a:xfrm>
                  <a:off x="1792440" y="3025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Line 59"/>
                <p:cNvSpPr/>
                <p:nvPr/>
              </p:nvSpPr>
              <p:spPr>
                <a:xfrm>
                  <a:off x="1798560" y="2842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60"/>
                <p:cNvSpPr/>
                <p:nvPr/>
              </p:nvSpPr>
              <p:spPr>
                <a:xfrm>
                  <a:off x="1792440" y="26503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61"/>
                <p:cNvSpPr/>
                <p:nvPr/>
              </p:nvSpPr>
              <p:spPr>
                <a:xfrm>
                  <a:off x="1798560" y="2467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Line 62"/>
                <p:cNvSpPr/>
                <p:nvPr/>
              </p:nvSpPr>
              <p:spPr>
                <a:xfrm>
                  <a:off x="1792440" y="227808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63"/>
                <p:cNvSpPr/>
                <p:nvPr/>
              </p:nvSpPr>
              <p:spPr>
                <a:xfrm>
                  <a:off x="1798560" y="20952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64"/>
                <p:cNvSpPr/>
                <p:nvPr/>
              </p:nvSpPr>
              <p:spPr>
                <a:xfrm>
                  <a:off x="1792440" y="1900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Line 65"/>
                <p:cNvSpPr/>
                <p:nvPr/>
              </p:nvSpPr>
              <p:spPr>
                <a:xfrm>
                  <a:off x="1798560" y="1717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Text Box 66"/>
              <p:cNvSpPr/>
              <p:nvPr/>
            </p:nvSpPr>
            <p:spPr>
              <a:xfrm>
                <a:off x="1484280" y="265968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Text Box 67"/>
              <p:cNvSpPr/>
              <p:nvPr/>
            </p:nvSpPr>
            <p:spPr>
              <a:xfrm>
                <a:off x="1484280" y="2271240"/>
                <a:ext cx="2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68"/>
              <p:cNvSpPr/>
              <p:nvPr/>
            </p:nvSpPr>
            <p:spPr>
              <a:xfrm>
                <a:off x="1484280" y="19134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69"/>
              <p:cNvSpPr/>
              <p:nvPr/>
            </p:nvSpPr>
            <p:spPr>
              <a:xfrm>
                <a:off x="1484280" y="1515960"/>
                <a:ext cx="1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Text Box 70"/>
              <p:cNvSpPr/>
              <p:nvPr/>
            </p:nvSpPr>
            <p:spPr>
              <a:xfrm>
                <a:off x="1413000" y="3413880"/>
                <a:ext cx="42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Text Box 71"/>
              <p:cNvSpPr/>
              <p:nvPr/>
            </p:nvSpPr>
            <p:spPr>
              <a:xfrm>
                <a:off x="1413000" y="377064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" name="Text Box 73"/>
          <p:cNvSpPr/>
          <p:nvPr/>
        </p:nvSpPr>
        <p:spPr>
          <a:xfrm>
            <a:off x="324000" y="476280"/>
            <a:ext cx="8143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下图是气温自动记录仪记录的某地一天的气温变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曲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75"/>
          <p:cNvSpPr/>
          <p:nvPr/>
        </p:nvSpPr>
        <p:spPr>
          <a:xfrm>
            <a:off x="1758960" y="35686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76"/>
          <p:cNvSpPr/>
          <p:nvPr/>
        </p:nvSpPr>
        <p:spPr>
          <a:xfrm>
            <a:off x="1974960" y="378936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77"/>
          <p:cNvSpPr/>
          <p:nvPr/>
        </p:nvSpPr>
        <p:spPr>
          <a:xfrm>
            <a:off x="2604960" y="3794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78"/>
          <p:cNvSpPr/>
          <p:nvPr/>
        </p:nvSpPr>
        <p:spPr>
          <a:xfrm>
            <a:off x="234000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79"/>
          <p:cNvSpPr/>
          <p:nvPr/>
        </p:nvSpPr>
        <p:spPr>
          <a:xfrm>
            <a:off x="3025800" y="359424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80"/>
          <p:cNvSpPr/>
          <p:nvPr/>
        </p:nvSpPr>
        <p:spPr>
          <a:xfrm>
            <a:off x="3325680" y="34290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81"/>
          <p:cNvSpPr/>
          <p:nvPr/>
        </p:nvSpPr>
        <p:spPr>
          <a:xfrm>
            <a:off x="3635280" y="3141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82"/>
          <p:cNvSpPr/>
          <p:nvPr/>
        </p:nvSpPr>
        <p:spPr>
          <a:xfrm>
            <a:off x="4695840" y="2489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3"/>
          <p:cNvSpPr/>
          <p:nvPr/>
        </p:nvSpPr>
        <p:spPr>
          <a:xfrm>
            <a:off x="4902120" y="256536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84"/>
          <p:cNvSpPr/>
          <p:nvPr/>
        </p:nvSpPr>
        <p:spPr>
          <a:xfrm>
            <a:off x="4237200" y="277020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85"/>
          <p:cNvSpPr/>
          <p:nvPr/>
        </p:nvSpPr>
        <p:spPr>
          <a:xfrm>
            <a:off x="5322960" y="292428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86"/>
          <p:cNvSpPr/>
          <p:nvPr/>
        </p:nvSpPr>
        <p:spPr>
          <a:xfrm>
            <a:off x="5518080" y="29973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87"/>
          <p:cNvSpPr/>
          <p:nvPr/>
        </p:nvSpPr>
        <p:spPr>
          <a:xfrm>
            <a:off x="5935680" y="33066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88"/>
          <p:cNvSpPr/>
          <p:nvPr/>
        </p:nvSpPr>
        <p:spPr>
          <a:xfrm>
            <a:off x="6356520" y="364500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89"/>
          <p:cNvSpPr/>
          <p:nvPr/>
        </p:nvSpPr>
        <p:spPr>
          <a:xfrm>
            <a:off x="678492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92"/>
          <p:cNvSpPr/>
          <p:nvPr/>
        </p:nvSpPr>
        <p:spPr>
          <a:xfrm>
            <a:off x="1831680" y="3606480"/>
            <a:ext cx="1257840" cy="21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93"/>
          <p:cNvSpPr/>
          <p:nvPr/>
        </p:nvSpPr>
        <p:spPr>
          <a:xfrm flipH="1">
            <a:off x="3064320" y="3246120"/>
            <a:ext cx="8640" cy="361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94"/>
          <p:cNvSpPr/>
          <p:nvPr/>
        </p:nvSpPr>
        <p:spPr>
          <a:xfrm>
            <a:off x="1792080" y="2480040"/>
            <a:ext cx="2964600" cy="230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5"/>
          <p:cNvSpPr/>
          <p:nvPr/>
        </p:nvSpPr>
        <p:spPr>
          <a:xfrm flipH="1">
            <a:off x="4741200" y="2555640"/>
            <a:ext cx="2880" cy="6912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96"/>
          <p:cNvSpPr/>
          <p:nvPr/>
        </p:nvSpPr>
        <p:spPr>
          <a:xfrm>
            <a:off x="6831720" y="3234600"/>
            <a:ext cx="5040" cy="6822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7"/>
          <p:cNvSpPr/>
          <p:nvPr/>
        </p:nvSpPr>
        <p:spPr>
          <a:xfrm>
            <a:off x="1792080" y="3978000"/>
            <a:ext cx="5063040" cy="46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112"/>
          <p:cNvSpPr/>
          <p:nvPr/>
        </p:nvSpPr>
        <p:spPr>
          <a:xfrm>
            <a:off x="5261040" y="1273320"/>
            <a:ext cx="3000240" cy="1439640"/>
          </a:xfrm>
          <a:prstGeom prst="wedgeEllipseCallout">
            <a:avLst>
              <a:gd name="adj1" fmla="val -40101"/>
              <a:gd name="adj2" fmla="val 72157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任意给出这天中的某一时刻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，你能说出这一时刻的气温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吗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85"/>
          <p:cNvSpPr/>
          <p:nvPr/>
        </p:nvSpPr>
        <p:spPr>
          <a:xfrm>
            <a:off x="396720" y="422100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在这一变化过程中，有几个变量？分别是什么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05"/>
          <p:cNvSpPr/>
          <p:nvPr/>
        </p:nvSpPr>
        <p:spPr>
          <a:xfrm>
            <a:off x="395280" y="486900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在这一变化过程中，两个变量之间有什么关系？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同伴交流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组合 99"/>
          <p:cNvGrpSpPr/>
          <p:nvPr/>
        </p:nvGrpSpPr>
        <p:grpSpPr>
          <a:xfrm>
            <a:off x="611280" y="5157720"/>
            <a:ext cx="8683560" cy="1426680"/>
            <a:chOff x="611280" y="5157720"/>
            <a:chExt cx="8683560" cy="1426680"/>
          </a:xfrm>
        </p:grpSpPr>
        <p:sp>
          <p:nvSpPr>
            <p:cNvPr id="423" name="Text Box 80"/>
            <p:cNvSpPr/>
            <p:nvPr/>
          </p:nvSpPr>
          <p:spPr>
            <a:xfrm>
              <a:off x="611280" y="5657760"/>
              <a:ext cx="632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当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确定时</a:t>
              </a:r>
              <a:r>
                <a:rPr b="0" lang="en-US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, </a:t>
              </a:r>
              <a:r>
                <a:rPr b="0" lang="en-US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也随着确定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650880" y="5157720"/>
              <a:ext cx="55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随着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变化而变化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65"/>
            <p:cNvSpPr/>
            <p:nvPr/>
          </p:nvSpPr>
          <p:spPr>
            <a:xfrm>
              <a:off x="611280" y="6124680"/>
              <a:ext cx="86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对于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每一个值，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</a:t>
              </a:r>
              <a:r>
                <a:rPr b="0" lang="en-US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都有唯一的值与它对应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矩形 2"/>
          <p:cNvSpPr/>
          <p:nvPr/>
        </p:nvSpPr>
        <p:spPr>
          <a:xfrm>
            <a:off x="2950560" y="51562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矩形 103"/>
          <p:cNvSpPr/>
          <p:nvPr/>
        </p:nvSpPr>
        <p:spPr>
          <a:xfrm>
            <a:off x="1159920" y="5157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矩形 104"/>
          <p:cNvSpPr/>
          <p:nvPr/>
        </p:nvSpPr>
        <p:spPr>
          <a:xfrm>
            <a:off x="3754080" y="5657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矩形 105"/>
          <p:cNvSpPr/>
          <p:nvPr/>
        </p:nvSpPr>
        <p:spPr>
          <a:xfrm>
            <a:off x="4530240" y="61070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矩形 106"/>
          <p:cNvSpPr/>
          <p:nvPr/>
        </p:nvSpPr>
        <p:spPr>
          <a:xfrm>
            <a:off x="1339200" y="56545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矩形 107"/>
          <p:cNvSpPr/>
          <p:nvPr/>
        </p:nvSpPr>
        <p:spPr>
          <a:xfrm>
            <a:off x="1428120" y="6114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108"/>
          <p:cNvSpPr/>
          <p:nvPr/>
        </p:nvSpPr>
        <p:spPr>
          <a:xfrm>
            <a:off x="941400" y="4581360"/>
            <a:ext cx="70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答：有两个变量，分别是时间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t</a:t>
            </a: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和温度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T</a:t>
            </a: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979640" y="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0"/>
          <p:cNvSpPr/>
          <p:nvPr/>
        </p:nvSpPr>
        <p:spPr>
          <a:xfrm>
            <a:off x="179280" y="620640"/>
            <a:ext cx="7993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如图，用火柴棒搭小鱼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小鱼条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火柴棒根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7" descr=""/>
          <p:cNvPicPr/>
          <p:nvPr/>
        </p:nvPicPr>
        <p:blipFill>
          <a:blip r:embed="rId1"/>
          <a:stretch/>
        </p:blipFill>
        <p:spPr>
          <a:xfrm>
            <a:off x="1157400" y="1498680"/>
            <a:ext cx="1112760" cy="88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"/>
          <p:cNvPicPr/>
          <p:nvPr/>
        </p:nvPicPr>
        <p:blipFill>
          <a:blip r:embed="rId2"/>
          <a:stretch/>
        </p:blipFill>
        <p:spPr>
          <a:xfrm>
            <a:off x="3083040" y="1500120"/>
            <a:ext cx="1743120" cy="8874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5640480" y="1488960"/>
            <a:ext cx="2360520" cy="8985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85"/>
          <p:cNvSpPr/>
          <p:nvPr/>
        </p:nvSpPr>
        <p:spPr>
          <a:xfrm>
            <a:off x="90360" y="382752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在这一变化过程中，有几个变量？分别是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5"/>
          <p:cNvSpPr/>
          <p:nvPr/>
        </p:nvSpPr>
        <p:spPr>
          <a:xfrm>
            <a:off x="108000" y="46148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在这一变化过程中，两个变量之间有什么关系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组合 14"/>
          <p:cNvGrpSpPr/>
          <p:nvPr/>
        </p:nvGrpSpPr>
        <p:grpSpPr>
          <a:xfrm>
            <a:off x="458640" y="5075280"/>
            <a:ext cx="8683920" cy="1426680"/>
            <a:chOff x="458640" y="5075280"/>
            <a:chExt cx="8683920" cy="1426680"/>
          </a:xfrm>
        </p:grpSpPr>
        <p:sp>
          <p:nvSpPr>
            <p:cNvPr id="441" name="Text Box 80"/>
            <p:cNvSpPr/>
            <p:nvPr/>
          </p:nvSpPr>
          <p:spPr>
            <a:xfrm>
              <a:off x="458640" y="5575320"/>
              <a:ext cx="699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当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确定时</a:t>
              </a:r>
              <a:r>
                <a:rPr b="0" lang="en-US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, </a:t>
              </a:r>
              <a:r>
                <a:rPr b="0" lang="en-US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也随着确定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32"/>
            <p:cNvSpPr/>
            <p:nvPr/>
          </p:nvSpPr>
          <p:spPr>
            <a:xfrm>
              <a:off x="498240" y="5075280"/>
              <a:ext cx="59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随着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变化而变化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65"/>
            <p:cNvSpPr/>
            <p:nvPr/>
          </p:nvSpPr>
          <p:spPr>
            <a:xfrm>
              <a:off x="458640" y="6042240"/>
              <a:ext cx="86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对于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每一个值，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都有唯一的值与它对应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矩形 1"/>
          <p:cNvSpPr/>
          <p:nvPr/>
        </p:nvSpPr>
        <p:spPr>
          <a:xfrm>
            <a:off x="761760" y="5008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矩形 19"/>
          <p:cNvSpPr/>
          <p:nvPr/>
        </p:nvSpPr>
        <p:spPr>
          <a:xfrm>
            <a:off x="3716280" y="55371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矩形 20"/>
          <p:cNvSpPr/>
          <p:nvPr/>
        </p:nvSpPr>
        <p:spPr>
          <a:xfrm>
            <a:off x="4267080" y="59990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矩形 22"/>
          <p:cNvSpPr/>
          <p:nvPr/>
        </p:nvSpPr>
        <p:spPr>
          <a:xfrm>
            <a:off x="3079080" y="50086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矩形 23"/>
          <p:cNvSpPr/>
          <p:nvPr/>
        </p:nvSpPr>
        <p:spPr>
          <a:xfrm>
            <a:off x="1081800" y="54705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矩形 24"/>
          <p:cNvSpPr/>
          <p:nvPr/>
        </p:nvSpPr>
        <p:spPr>
          <a:xfrm>
            <a:off x="1239120" y="59990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25"/>
          <p:cNvSpPr/>
          <p:nvPr/>
        </p:nvSpPr>
        <p:spPr>
          <a:xfrm>
            <a:off x="627120" y="4214880"/>
            <a:ext cx="70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答：有两个变量，分别是小鱼条数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n</a:t>
            </a: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和火柴棒根数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58640" y="2387520"/>
          <a:ext cx="7867800" cy="1401840"/>
        </p:xfrm>
        <a:graphic>
          <a:graphicData uri="http://schemas.openxmlformats.org/drawingml/2006/table">
            <a:tbl>
              <a:tblPr/>
              <a:tblGrid>
                <a:gridCol w="1143000"/>
                <a:gridCol w="952560"/>
                <a:gridCol w="934920"/>
                <a:gridCol w="903240"/>
                <a:gridCol w="984240"/>
                <a:gridCol w="982800"/>
                <a:gridCol w="982800"/>
                <a:gridCol w="98424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鱼的条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火柴棒的根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文本框 3"/>
          <p:cNvSpPr/>
          <p:nvPr/>
        </p:nvSpPr>
        <p:spPr>
          <a:xfrm>
            <a:off x="1940040" y="32288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文本框 4"/>
          <p:cNvSpPr/>
          <p:nvPr/>
        </p:nvSpPr>
        <p:spPr>
          <a:xfrm>
            <a:off x="2738520" y="3230640"/>
            <a:ext cx="5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文本框 5"/>
          <p:cNvSpPr/>
          <p:nvPr/>
        </p:nvSpPr>
        <p:spPr>
          <a:xfrm>
            <a:off x="3749760" y="322884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文本框 6"/>
          <p:cNvSpPr/>
          <p:nvPr/>
        </p:nvSpPr>
        <p:spPr>
          <a:xfrm>
            <a:off x="4641840" y="323064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文本框 7"/>
          <p:cNvSpPr/>
          <p:nvPr/>
        </p:nvSpPr>
        <p:spPr>
          <a:xfrm>
            <a:off x="6554880" y="323064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文本框 8"/>
          <p:cNvSpPr/>
          <p:nvPr/>
        </p:nvSpPr>
        <p:spPr>
          <a:xfrm>
            <a:off x="7472520" y="3225960"/>
            <a:ext cx="9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n+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14:04:15Z</dcterms:created>
  <dc:creator>Microsoft Office 用户</dc:creator>
  <dc:description/>
  <dc:language>en-US</dc:language>
  <cp:lastModifiedBy>椛落、莫相离~</cp:lastModifiedBy>
  <dcterms:modified xsi:type="dcterms:W3CDTF">2019-11-27T04:04:11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