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BF4-D44B-4855-BEEC-240BC71B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8F5-4052-49D7-9C58-65FBEF6F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ABB-1646-47EA-AD3B-3FF7CCAC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C56-F414-4F45-863B-7F10C8E6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50F-8DC7-4855-A385-FE2771F3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095-63B3-4960-90FA-BADD37D3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0AF-CFE5-4495-89E4-5825E742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183-8E13-4CC2-B178-FCCBB623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D0D-ED8C-47AB-A2B5-49A37A44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1D1-1661-40F5-9719-A0DCFADE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AB2-7A86-4CB6-8C41-7DA413CF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705-38EA-41F1-B7EA-5A075AA2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7403-365B-49FB-B7D4-7409D5993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sty\My Documents\My Pictures\2008116155214851_2.jpg"/>
          <p:cNvPicPr/>
          <p:nvPr/>
        </p:nvPicPr>
        <p:blipFill>
          <a:blip r:embed="rId1"/>
          <a:stretch/>
        </p:blipFill>
        <p:spPr>
          <a:xfrm>
            <a:off x="0" y="2857680"/>
            <a:ext cx="4248000" cy="422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285840" y="214200"/>
            <a:ext cx="9102960" cy="35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Arial"/>
              </a:rPr>
              <a:t>一元一次不等式（组）</a:t>
            </a: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的字母取值范围的确定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0" y="47520"/>
            <a:ext cx="92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板块二、根据不等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解集确定字母取值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642960" y="1785960"/>
            <a:ext cx="7715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关于不等式组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解集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 &lt; a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则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解集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 &lt; b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则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57120" y="857160"/>
            <a:ext cx="32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结论探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5500800" y="2711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≤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5572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≥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对象 22"/>
          <p:cNvGraphicFramePr/>
          <p:nvPr/>
        </p:nvGraphicFramePr>
        <p:xfrm>
          <a:off x="5000760" y="1471680"/>
          <a:ext cx="11998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对象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1471680"/>
                    <a:ext cx="11998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0" y="47520"/>
            <a:ext cx="92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板块二、根据不等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解集确定字母取值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428760" y="1081800"/>
            <a:ext cx="871524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主反馈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关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不等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+1)x&gt;2a+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解集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&lt; 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取值范围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357120" y="342900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于不等式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不等式组有解，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取值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不等式组无解，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取值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不等式组的解集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&lt;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取值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对象 9"/>
          <p:cNvGraphicFramePr/>
          <p:nvPr/>
        </p:nvGraphicFramePr>
        <p:xfrm>
          <a:off x="3071880" y="3143160"/>
          <a:ext cx="151776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对象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3143160"/>
                    <a:ext cx="15177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0" y="47520"/>
            <a:ext cx="928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板块三、根据不等式（组）的整数解情况确定字母的取值范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57120" y="857160"/>
            <a:ext cx="32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结论探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71680" y="15717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关于不等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≤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214200" y="2357280"/>
            <a:ext cx="9858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不等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正整数解，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取值范围是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214200" y="2928960"/>
            <a:ext cx="9858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不等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≤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正整数解，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取值范围是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571680" y="357660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关于不等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214200" y="4414680"/>
            <a:ext cx="9858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不等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负整数解，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取值范围是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200" y="5000760"/>
            <a:ext cx="9858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不等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负整数解，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取值范围是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7929720" y="238608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7929720" y="295740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8001000" y="44578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8001000" y="507204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0" y="47520"/>
            <a:ext cx="928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板块三、根据不等式（组）的整数解情况确定字母的取值范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642960" y="1643040"/>
            <a:ext cx="514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关于不等式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57120" y="857160"/>
            <a:ext cx="32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结论探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对象 19"/>
          <p:cNvGraphicFramePr/>
          <p:nvPr/>
        </p:nvGraphicFramePr>
        <p:xfrm>
          <a:off x="4857840" y="1428840"/>
          <a:ext cx="128592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对象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1428840"/>
                    <a:ext cx="128592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Box 8"/>
          <p:cNvSpPr/>
          <p:nvPr/>
        </p:nvSpPr>
        <p:spPr>
          <a:xfrm>
            <a:off x="1643040" y="291636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整数解，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取值范围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642960" y="3922560"/>
            <a:ext cx="514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关于不等式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对象 20"/>
          <p:cNvGraphicFramePr/>
          <p:nvPr/>
        </p:nvGraphicFramePr>
        <p:xfrm>
          <a:off x="4786200" y="357192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对象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357192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Box 12"/>
          <p:cNvSpPr/>
          <p:nvPr/>
        </p:nvSpPr>
        <p:spPr>
          <a:xfrm>
            <a:off x="1643040" y="513072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整数解，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取值范围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7429680" y="285768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7429680" y="507204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0" y="47520"/>
            <a:ext cx="928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板块三、根据不等式（组）的整数解情况确定字母的取值范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428760" y="1009800"/>
            <a:ext cx="87152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主反馈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不等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正整数解有且只有两个，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取值范围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00040" y="335772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不等式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整数解只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取值范围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对象 22"/>
          <p:cNvGraphicFramePr/>
          <p:nvPr/>
        </p:nvGraphicFramePr>
        <p:xfrm>
          <a:off x="3214800" y="2857680"/>
          <a:ext cx="1785960" cy="14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对象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4800" y="2857680"/>
                    <a:ext cx="178596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Box 8"/>
          <p:cNvSpPr/>
          <p:nvPr/>
        </p:nvSpPr>
        <p:spPr>
          <a:xfrm>
            <a:off x="428760" y="492912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不等式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恰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整数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取值范围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对象 23"/>
          <p:cNvGraphicFramePr/>
          <p:nvPr/>
        </p:nvGraphicFramePr>
        <p:xfrm>
          <a:off x="3784680" y="4643280"/>
          <a:ext cx="1644480" cy="121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对象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643280"/>
                    <a:ext cx="164448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324000" y="765000"/>
            <a:ext cx="83516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法总结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把已知或能算出的解表示在数轴上</a:t>
            </a: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 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让带字母的解在数轴上移动</a:t>
            </a: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观察何时满足题目要求</a:t>
            </a: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尤其注意临界点能否取到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547640" y="1844640"/>
            <a:ext cx="496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感悟与收获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87280" y="328464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谈谈你这节课的收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4932360" y="4797360"/>
            <a:ext cx="3492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学而时习之不亦乐乎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428760" y="650520"/>
            <a:ext cx="871524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不等式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=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，不等式组的解集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=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，不等式组的解集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=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，不等式组的解集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任意实数，写出不等式组的解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对象 25"/>
          <p:cNvGraphicFramePr/>
          <p:nvPr/>
        </p:nvGraphicFramePr>
        <p:xfrm>
          <a:off x="3429000" y="500040"/>
          <a:ext cx="2071800" cy="22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对象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500040"/>
                    <a:ext cx="207180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对象 26"/>
          <p:cNvGraphicFramePr/>
          <p:nvPr/>
        </p:nvGraphicFramePr>
        <p:xfrm>
          <a:off x="2428920" y="2643120"/>
          <a:ext cx="444600" cy="9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对象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2643120"/>
                    <a:ext cx="4446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0" y="47520"/>
            <a:ext cx="92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板块一、根据方程（组）的解的情况确定字母的取值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500040" y="1143000"/>
            <a:ext cx="885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方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 = k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4400" spc="-1" strike="noStrike">
                <a:solidFill>
                  <a:srgbClr val="00b050"/>
                </a:solidFill>
                <a:latin typeface="Arial"/>
              </a:rPr>
              <a:t>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则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取值范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857160" y="251604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负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857160" y="250020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正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47520"/>
            <a:ext cx="92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板块一、根据方程（组）的解的情况确定字母的取值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428760" y="1644120"/>
            <a:ext cx="8715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已知二元一次方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x+y=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值是非负数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取值范围是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357200" y="335772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≤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143000" y="471492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5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≤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0" y="47520"/>
            <a:ext cx="92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板块一、根据方程（组）的解的情况确定字母的取值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28760" y="1072440"/>
            <a:ext cx="8715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主反馈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方程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解满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&gt;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&gt;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取值范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对象 3"/>
          <p:cNvGraphicFramePr/>
          <p:nvPr/>
        </p:nvGraphicFramePr>
        <p:xfrm>
          <a:off x="5715000" y="1743120"/>
          <a:ext cx="3071880" cy="13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对象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743120"/>
                    <a:ext cx="307188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0" y="47520"/>
            <a:ext cx="92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板块一、根据方程（组）的解的情况确定字母的取值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428760" y="733680"/>
            <a:ext cx="8715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主反馈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方程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解满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&gt;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取值范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8"/>
              <p:cNvSpPr txBox="1"/>
              <p:nvPr/>
            </p:nvSpPr>
            <p:spPr>
              <a:xfrm>
                <a:off x="5643720" y="1857240"/>
                <a:ext cx="26906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0" y="47520"/>
            <a:ext cx="92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板块一、根据方程（组）的解的情况确定字母的取值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内容占位符 2"/>
          <p:cNvSpPr/>
          <p:nvPr/>
        </p:nvSpPr>
        <p:spPr>
          <a:xfrm>
            <a:off x="0" y="1285920"/>
            <a:ext cx="964404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方法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一般先把字母看做常数，求出方程（组）的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然后根据解的情况代入，并解关于字母的不等式（组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有的时候可以利用方程组中两个方程相加（减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拼凑出条件中方程（组）解的关系，直接代入条件，解关于字母的不等式（组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椭圆形标注 17"/>
          <p:cNvSpPr/>
          <p:nvPr/>
        </p:nvSpPr>
        <p:spPr>
          <a:xfrm>
            <a:off x="1500120" y="5000760"/>
            <a:ext cx="5715000" cy="1643040"/>
          </a:xfrm>
          <a:prstGeom prst="wedgeEllipseCallout">
            <a:avLst>
              <a:gd name="adj1" fmla="val 4819"/>
              <a:gd name="adj2" fmla="val -66472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47520"/>
            <a:ext cx="92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板块二、根据不等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解集确定字母取值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357120" y="857160"/>
            <a:ext cx="32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结论探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642960" y="178596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关于不等式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若解集为 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则有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若解集为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则有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对象 4"/>
          <p:cNvGraphicFramePr/>
          <p:nvPr/>
        </p:nvGraphicFramePr>
        <p:xfrm>
          <a:off x="4214880" y="1643040"/>
          <a:ext cx="43545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对象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4880" y="1643040"/>
                    <a:ext cx="43545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对象 5"/>
          <p:cNvGraphicFramePr/>
          <p:nvPr/>
        </p:nvGraphicFramePr>
        <p:xfrm>
          <a:off x="2666880" y="2714760"/>
          <a:ext cx="97632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对象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714760"/>
                    <a:ext cx="9763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对象 6"/>
          <p:cNvGraphicFramePr/>
          <p:nvPr/>
        </p:nvGraphicFramePr>
        <p:xfrm>
          <a:off x="2643120" y="3786120"/>
          <a:ext cx="1046160" cy="10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对象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3786120"/>
                    <a:ext cx="10461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Box 14"/>
          <p:cNvSpPr/>
          <p:nvPr/>
        </p:nvSpPr>
        <p:spPr>
          <a:xfrm>
            <a:off x="5929200" y="27860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&g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5929200" y="3714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&l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1785960" y="549756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利用不等式的基本性质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0" y="47520"/>
            <a:ext cx="92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板块二、根据不等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解集确定字母取值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642960" y="178596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关于不等式组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若不等式组</a:t>
            </a:r>
            <a:r>
              <a:rPr b="0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有解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则有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若不等式组</a:t>
            </a:r>
            <a:r>
              <a:rPr b="0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无解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则有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57120" y="857160"/>
            <a:ext cx="32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结论探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对象 7"/>
          <p:cNvGraphicFramePr/>
          <p:nvPr/>
        </p:nvGraphicFramePr>
        <p:xfrm>
          <a:off x="4786200" y="1428840"/>
          <a:ext cx="114804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对象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1428840"/>
                    <a:ext cx="114804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Box 8"/>
          <p:cNvSpPr/>
          <p:nvPr/>
        </p:nvSpPr>
        <p:spPr>
          <a:xfrm>
            <a:off x="5500800" y="2643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5643720" y="3782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≥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0" y="47520"/>
            <a:ext cx="92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板块二、根据不等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解集确定字母取值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642960" y="1785960"/>
            <a:ext cx="7715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关于不等式组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解集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 &gt; a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则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解集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 &gt; b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则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57120" y="857160"/>
            <a:ext cx="32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结论探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对象 24"/>
          <p:cNvGraphicFramePr/>
          <p:nvPr/>
        </p:nvGraphicFramePr>
        <p:xfrm>
          <a:off x="4929120" y="1571760"/>
          <a:ext cx="136692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对象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9120" y="1571760"/>
                    <a:ext cx="136692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12"/>
          <p:cNvSpPr/>
          <p:nvPr/>
        </p:nvSpPr>
        <p:spPr>
          <a:xfrm>
            <a:off x="5500800" y="2711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≥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550080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≤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4:08:41Z</dcterms:created>
  <dc:creator/>
  <dc:description/>
  <dc:language>en-US</dc:language>
  <cp:lastModifiedBy>Sky123.Org</cp:lastModifiedBy>
  <dcterms:modified xsi:type="dcterms:W3CDTF">2017-05-23T07:59:49Z</dcterms:modified>
  <cp:revision>108</cp:revision>
  <dc:subject/>
  <dc:title>含字母系数的 一元一次不等式组</dc:title>
</cp:coreProperties>
</file>