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media/image7.png" ContentType="image/png"/>
  <Override PartName="/ppt/media/image4.png" ContentType="image/png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DEC-BCCF-42B5-8E37-B7137F53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35BB-4F69-4D4F-ABA3-EF3405C6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974-CA7E-4555-97FD-F6D6B3AD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B52-D41F-4805-AF43-1932BAFC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639A-C37F-43CC-BC83-12C0A13AA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CC3C-98FA-4DAA-8888-FEBF6033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DFD-5DA7-4D67-AAC6-DE58C31D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640-F4FA-4C1F-B396-A7C510A1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FCA-3BDA-4F6E-915B-1C97ABAB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A164-AD51-41C0-8988-795B6088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470D-FC1B-4319-A2D2-62114DDA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00F0-7C0F-4B6B-B7CA-F6939216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8B34-A7A2-400C-9500-3F5C93C42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BJ_051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151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238120" y="853920"/>
            <a:ext cx="4707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华文行楷"/>
              </a:rPr>
              <a:t>抛物线及其标准方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A5_031"/>
          <p:cNvPicPr/>
          <p:nvPr/>
        </p:nvPicPr>
        <p:blipFill>
          <a:blip r:embed="rId2"/>
          <a:stretch/>
        </p:blipFill>
        <p:spPr>
          <a:xfrm>
            <a:off x="3429000" y="5638680"/>
            <a:ext cx="1246320" cy="93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2_007"/>
          <p:cNvPicPr/>
          <p:nvPr/>
        </p:nvPicPr>
        <p:blipFill>
          <a:blip r:embed="rId3"/>
          <a:stretch/>
        </p:blipFill>
        <p:spPr>
          <a:xfrm>
            <a:off x="7924680" y="380880"/>
            <a:ext cx="800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extBox 7" descr=""/>
          <p:cNvPicPr/>
          <p:nvPr/>
        </p:nvPicPr>
        <p:blipFill>
          <a:blip r:embed="rId1"/>
          <a:stretch/>
        </p:blipFill>
        <p:spPr>
          <a:xfrm>
            <a:off x="990720" y="457200"/>
            <a:ext cx="6858000" cy="64620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1143000" y="160020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【问题】用软件画图，如图，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定点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不经过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定直线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任意一点，过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线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垂直平分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拖动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观察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轨迹。你能发现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满足的几何条件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65" descr=""/>
          <p:cNvPicPr/>
          <p:nvPr/>
        </p:nvPicPr>
        <p:blipFill>
          <a:blip r:embed="rId2"/>
          <a:stretch/>
        </p:blipFill>
        <p:spPr>
          <a:xfrm>
            <a:off x="1676520" y="3429000"/>
            <a:ext cx="527040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1676520" y="1828800"/>
            <a:ext cx="60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【定义辨析】若点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上，动点的轨迹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0" y="1295280"/>
            <a:ext cx="769608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平面内与一个定点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和一条定直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l(F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不在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l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上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的距离相等的点的轨迹叫做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抛物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定点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叫做抛物线的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焦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定直线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l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叫做抛物线的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准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90200" y="414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一、定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38"/>
          <p:cNvGrpSpPr/>
          <p:nvPr/>
        </p:nvGrpSpPr>
        <p:grpSpPr>
          <a:xfrm>
            <a:off x="7088760" y="1971720"/>
            <a:ext cx="1828800" cy="3286080"/>
            <a:chOff x="7088760" y="1971720"/>
            <a:chExt cx="1828800" cy="3286080"/>
          </a:xfrm>
        </p:grpSpPr>
        <p:grpSp>
          <p:nvGrpSpPr>
            <p:cNvPr id="52" name="Group 37"/>
            <p:cNvGrpSpPr/>
            <p:nvPr/>
          </p:nvGrpSpPr>
          <p:grpSpPr>
            <a:xfrm>
              <a:off x="7088760" y="1971720"/>
              <a:ext cx="1828800" cy="3286080"/>
              <a:chOff x="7088760" y="1971720"/>
              <a:chExt cx="1828800" cy="3286080"/>
            </a:xfrm>
          </p:grpSpPr>
          <p:sp>
            <p:nvSpPr>
              <p:cNvPr id="53" name="Line 12"/>
              <p:cNvSpPr/>
              <p:nvPr/>
            </p:nvSpPr>
            <p:spPr>
              <a:xfrm>
                <a:off x="7543800" y="2590920"/>
                <a:ext cx="0" cy="2666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13"/>
              <p:cNvSpPr/>
              <p:nvPr/>
            </p:nvSpPr>
            <p:spPr>
              <a:xfrm>
                <a:off x="8044200" y="3244680"/>
                <a:ext cx="45972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cc0000"/>
                    </a:solidFill>
                    <a:latin typeface="Arial"/>
                  </a:rPr>
                  <a:t>·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14"/>
              <p:cNvSpPr/>
              <p:nvPr/>
            </p:nvSpPr>
            <p:spPr>
              <a:xfrm>
                <a:off x="7955280" y="2558880"/>
                <a:ext cx="45972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333399"/>
                    </a:solidFill>
                    <a:latin typeface="Arial"/>
                  </a:rPr>
                  <a:t>·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5"/>
              <p:cNvSpPr/>
              <p:nvPr/>
            </p:nvSpPr>
            <p:spPr>
              <a:xfrm flipH="1">
                <a:off x="7543440" y="31240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6"/>
              <p:cNvSpPr/>
              <p:nvPr/>
            </p:nvSpPr>
            <p:spPr>
              <a:xfrm>
                <a:off x="8229600" y="3124080"/>
                <a:ext cx="75960" cy="685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17"/>
              <p:cNvSpPr/>
              <p:nvPr/>
            </p:nvSpPr>
            <p:spPr>
              <a:xfrm>
                <a:off x="8520480" y="36482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 Box 18"/>
              <p:cNvSpPr/>
              <p:nvPr/>
            </p:nvSpPr>
            <p:spPr>
              <a:xfrm>
                <a:off x="7974720" y="266688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 Box 19"/>
              <p:cNvSpPr/>
              <p:nvPr/>
            </p:nvSpPr>
            <p:spPr>
              <a:xfrm>
                <a:off x="7376760" y="1971720"/>
                <a:ext cx="27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20"/>
              <p:cNvSpPr/>
              <p:nvPr/>
            </p:nvSpPr>
            <p:spPr>
              <a:xfrm>
                <a:off x="7088760" y="283356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Line 32"/>
            <p:cNvSpPr/>
            <p:nvPr/>
          </p:nvSpPr>
          <p:spPr>
            <a:xfrm>
              <a:off x="7543800" y="2971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36"/>
            <p:cNvSpPr/>
            <p:nvPr/>
          </p:nvSpPr>
          <p:spPr>
            <a:xfrm>
              <a:off x="7696080" y="297180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785600" y="34920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二、建立方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2"/>
          <p:cNvGrpSpPr/>
          <p:nvPr/>
        </p:nvGrpSpPr>
        <p:grpSpPr>
          <a:xfrm>
            <a:off x="5793480" y="1233360"/>
            <a:ext cx="1692720" cy="3795840"/>
            <a:chOff x="5793480" y="1233360"/>
            <a:chExt cx="1692720" cy="3795840"/>
          </a:xfrm>
        </p:grpSpPr>
        <p:sp>
          <p:nvSpPr>
            <p:cNvPr id="66" name="Line 5"/>
            <p:cNvSpPr/>
            <p:nvPr/>
          </p:nvSpPr>
          <p:spPr>
            <a:xfrm>
              <a:off x="6172560" y="1689120"/>
              <a:ext cx="0" cy="33400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6"/>
            <p:cNvSpPr/>
            <p:nvPr/>
          </p:nvSpPr>
          <p:spPr>
            <a:xfrm>
              <a:off x="6812640" y="2637000"/>
              <a:ext cx="459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cc0000"/>
                  </a:solidFill>
                  <a:latin typeface="Arial"/>
                </a:rPr>
                <a:t>·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7"/>
            <p:cNvSpPr/>
            <p:nvPr/>
          </p:nvSpPr>
          <p:spPr>
            <a:xfrm>
              <a:off x="6749280" y="1752480"/>
              <a:ext cx="4597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333399"/>
                  </a:solidFill>
                  <a:latin typeface="Arial"/>
                </a:rPr>
                <a:t>·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8"/>
            <p:cNvSpPr/>
            <p:nvPr/>
          </p:nvSpPr>
          <p:spPr>
            <a:xfrm flipH="1">
              <a:off x="6192720" y="2357280"/>
              <a:ext cx="7412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6934320" y="2286000"/>
              <a:ext cx="92160" cy="8589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0"/>
            <p:cNvSpPr/>
            <p:nvPr/>
          </p:nvSpPr>
          <p:spPr>
            <a:xfrm>
              <a:off x="7089120" y="31384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>
              <a:off x="6766920" y="18288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2"/>
            <p:cNvSpPr/>
            <p:nvPr/>
          </p:nvSpPr>
          <p:spPr>
            <a:xfrm>
              <a:off x="6129720" y="1233360"/>
              <a:ext cx="259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3"/>
            <p:cNvSpPr/>
            <p:nvPr/>
          </p:nvSpPr>
          <p:spPr>
            <a:xfrm>
              <a:off x="5793480" y="19940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27"/>
          <p:cNvSpPr/>
          <p:nvPr/>
        </p:nvSpPr>
        <p:spPr>
          <a:xfrm>
            <a:off x="741240" y="5184720"/>
            <a:ext cx="623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如何建立直角坐标系，得到的方程比较简捷美观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28"/>
          <p:cNvGrpSpPr/>
          <p:nvPr/>
        </p:nvGrpSpPr>
        <p:grpSpPr>
          <a:xfrm>
            <a:off x="957240" y="1371600"/>
            <a:ext cx="3538440" cy="2336760"/>
            <a:chOff x="957240" y="1371600"/>
            <a:chExt cx="3538440" cy="2336760"/>
          </a:xfrm>
        </p:grpSpPr>
        <p:pic>
          <p:nvPicPr>
            <p:cNvPr id="77" name="Picture 29" descr="fistslam"/>
            <p:cNvPicPr/>
            <p:nvPr/>
          </p:nvPicPr>
          <p:blipFill>
            <a:blip r:embed="rId1"/>
            <a:stretch/>
          </p:blipFill>
          <p:spPr>
            <a:xfrm>
              <a:off x="957240" y="1371600"/>
              <a:ext cx="2819520" cy="23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30"/>
            <p:cNvSpPr/>
            <p:nvPr/>
          </p:nvSpPr>
          <p:spPr>
            <a:xfrm>
              <a:off x="3766680" y="2205360"/>
              <a:ext cx="72900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方正舒体"/>
                </a:rPr>
                <a:t>想一想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17" descr=""/>
          <p:cNvPicPr/>
          <p:nvPr/>
        </p:nvPicPr>
        <p:blipFill>
          <a:blip r:embed="rId1"/>
          <a:stretch/>
        </p:blipFill>
        <p:spPr>
          <a:xfrm>
            <a:off x="1523880" y="76320"/>
            <a:ext cx="6782040" cy="655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762120" y="1752480"/>
            <a:ext cx="79246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根据上表中抛物线的标准方程的不同形式与图形，焦点坐标，准线方程对应关系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如何判断抛物线的焦点位置，开口方向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76320" y="85248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隶书"/>
              </a:rPr>
              <a:t>讨论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028"/>
          <p:cNvSpPr/>
          <p:nvPr/>
        </p:nvSpPr>
        <p:spPr>
          <a:xfrm>
            <a:off x="324000" y="692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项的字母定轴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焦点所在的轴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24000" y="220500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一次项系数的符号定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向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(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开口方向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929880" y="469800"/>
            <a:ext cx="17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彩云"/>
                <a:ea typeface="华文彩云"/>
              </a:rPr>
              <a:t>小  结  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27T13:50:58Z</dcterms:created>
  <dc:creator>Administrator</dc:creator>
  <dc:description/>
  <dc:language>en-US</dc:language>
  <cp:lastModifiedBy>Administrator</cp:lastModifiedBy>
  <dcterms:modified xsi:type="dcterms:W3CDTF">2019-11-28T01:13:22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208</vt:lpwstr>
  </property>
  <property fmtid="{D5CDD505-2E9C-101B-9397-08002B2CF9AE}" pid="3" name="Version">
    <vt:r8>1</vt:r8>
  </property>
</Properties>
</file>