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D5E6-5583-45BF-9227-F05CD0FD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2283-9141-42AA-AC3D-AF87D85A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75BE-6E82-4716-95C7-62BA9B84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EB1-9127-4BF2-900F-D2D2FFF0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7305-FDD9-4002-96F6-99FF5CFF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3A0A-E7AB-4D63-B7B8-A20ABA18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9230-E161-438F-85E2-5CC92601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2AD8-EF3C-4C99-9812-BB6B0C02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718B-CE35-44F5-8524-7256EDB2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BD19-48EF-4779-981E-E012EA49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0AC5-3390-4AB1-93F1-BDD9065F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78F-4CF5-41E6-ABB0-EBF74702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A27B-4AFE-42DA-8FDB-124FC5A9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4391-E4DE-4B3B-940C-7B30292A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D44F-A2BB-4CC2-B0F7-AD005CCC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2C83-2364-494A-B8DF-A71E20E9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18D5-B9C2-45CB-B0D0-FBD6A758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7F8-7889-4408-BF65-9371DFB5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635-D9BE-4CFB-9A57-19190063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F4B-1471-471E-8832-7D90381E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AA8-F45E-4E61-9534-A9DEE98F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9B3-2914-4A7C-A382-513E37E5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771-DBB9-4F91-97C3-DE37D745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8CFB-1D88-4935-B30A-F43FC028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266A-2B88-4E41-B5E4-4E3AD2C12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41F3-9E35-4C4E-A610-8BF320048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XCEL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专题复习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武进区洛阳高级中学信息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19.12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基本操作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文本与数据的输入：导入外部数据（“数据”菜单）；学号的输入（单元格格式设定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行与列的操作：插入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列；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列互换；行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列宽的设置（最合适的行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列宽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工作表的操作：插入、删除、重命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单元格格式的设定：数字类型；单元格的合并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对齐方式（合并且居中）；边框与底纹的设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操作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函数计算与公式计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达式的计算（公式计算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必须先输入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再输入相应的公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函数计算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求和函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(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求平均函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最大值函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(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最小值函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先定位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选择相应的函数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选择计算区域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确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操作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数据处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条件格式：“格式”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条件格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条件的设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排序：“数据”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排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数据区域的选择；有无数据清单；关键字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筛选：“数据”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动筛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类汇总：“数据”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分类汇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先排序，后汇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注：分类的字段、汇总方式、汇总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操作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图表处理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4857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一步：选择合适的图表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柱形图：注重大小的比较；折线图：注重变化趋势的描述；饼图：注重各自所占比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二步：数据区域的选定（可在插入图表前选定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连续区域的选定要借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r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三步：参数的设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标题、图例、数据标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第四步：图表放置的位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对象插入；作为新工作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操作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五、课堂小结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节课我们着重复习了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基本操作、数据处理以及数据的图形化表示，要求能够掌握公式与函数的计算、排序、筛选、条件格式等数据处理操作，能够根据给出的数据制作出相应的图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筛选和分类汇总操作以及数据的图形化表示有一定的难度，需要通过一定的练习加以训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六、综合练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大家运行考试客户端程序，登录进行练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2514600" y="2057400"/>
            <a:ext cx="4419720" cy="20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12-02T07:06:5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