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D5E-3B93-4008-8E9D-3A2462D3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4F7-35DB-4408-999F-3BEC036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61865-4876-4F8F-8592-5F3DE5D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6259B-28E4-4082-AA6E-6E6D498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5E468-A469-4D86-B4FB-6872B82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569F5-6033-435C-86DB-3B73E28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BEE79-19A1-4DBF-9DF7-3F449AC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458E7-2AD2-4536-A0F2-E5735DC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A2A4-6714-42B8-9694-50A2E9C4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1B10-E75B-467D-843A-E52DAC6A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33936-9293-4FBA-96E5-FB4B3DFF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909-C981-432D-A1FC-1F83820F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EDF-C1C2-4188-9EBC-9968BD3D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EBEC-5085-4AAF-9429-929C7F7A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014B-0182-40A9-82BB-12ABB30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0E06-B29A-44C3-BC74-20984FA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EF67-ABBE-47D5-82CC-0960269F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9F4F-0479-46B1-AB60-126085D4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FBE6-07C7-40DC-8EF6-18B6DD23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8BF4-C841-4607-AC9F-03E417F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61D-FA89-4498-A8B2-54470B6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B67-3450-4881-A48D-118C945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EC8-A8B4-45B5-AAAA-C907723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05F4-A067-4127-B08F-7009FDD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C34-BC24-4A07-BC8D-D9A46CB9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426B-70BC-4466-89A7-8CDBCD78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0282-16B6-43BE-A3BE-4DDEDEB6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2372-E8B0-4026-8504-0D8D41F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CC58-685A-4F6C-B48F-E8209A0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75A2-02EB-4706-96A0-B0DEE8F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8C70-E044-48EF-ABC8-79321ABA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2F0-0BCF-4120-97B2-68D4BE9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C7FA-127E-4CCE-89C0-EFB3B2D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6F3F-9949-4E1E-AB46-D4C401B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9E75-777D-4B55-A3AE-17F01AB2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1C1C-7442-41CD-8734-8FA2908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1640-75BA-4911-AB79-A3DC071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4CC3-C756-4A49-A67D-08D0F58E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C49D-5C7D-4DC5-B2FD-DBC0689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BDFC-A6F5-4671-AFD9-8C158384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91F6-C680-4846-944B-59D791B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630D-D74F-48D2-ACFB-0552038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3FC-F88C-4ACF-B3E6-AA163A0C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5F02-0408-4B50-8ECE-C08D911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6E5F-A64B-4B2B-AA5E-7ED31FD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11E4-B350-4965-85A9-87963857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5494-9E4D-41D3-8F2B-E0AA847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F3AA-B137-424D-B2F2-C6F38E0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2A24-7845-4C2D-970E-36436E2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757E-95BF-49AC-9AB7-4D850F5D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E5BF-F48B-4F4D-81A2-8DB9A62D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FC3D-AE88-4506-B99A-D99AC575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47E50-6E52-48AF-AA34-C87FA40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32A-7515-4B62-9176-27B65B0B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5E9D-D779-4CA1-B8C4-7F0EB324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9608-5715-4EF3-8529-64B4990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343C-1900-4060-B4A7-7DE6B10D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6EB8-97C7-47F8-B031-DF89297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37ED-50DA-4967-A522-B162844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5D8C-05E8-4E3F-85D8-234D8FD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D2E0-578E-40FC-87D4-62DBB3B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D104-FF61-4671-8A2A-C379318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0BBF-B3C3-4A9D-86C9-3841026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6B09-D4AA-42CD-972D-AB8D77E9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2A6-6D26-4C1A-B763-B4467FAC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031B-B727-46D5-AAE2-7DC6E1B1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DC75E-2BA9-4383-8778-9022AD3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21D7-9021-4B4B-A6EF-6219318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2101-977D-4BF5-88AC-80EC2F85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1290-0914-43D2-BAF7-4132A24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7AF0-6BDE-4419-87C9-BBF6C7C9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44DD-EC7A-4FAB-93EA-10546D11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545E-4066-43FF-9746-2173484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C0AE-FBD0-468A-957D-4CFB208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9AA0-532B-4E10-B299-D86DF43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487-76EB-4D8A-A809-9933B54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CB02-F554-4C05-B5AB-1A30CB8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2DC2B-3C45-4539-A5CC-3792CE7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855F-0F50-4E33-836D-F5F31EC6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3818-7D17-445E-B227-E64B6406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8D6F-1963-407C-811C-5D204BB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A5DB9-7B81-439B-A3A1-29BB1CA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2453-5CE8-4B03-AB32-F6A4A0D3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6640-B6B2-4FDD-8434-6E3BBAB6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AF2E0-5136-45C0-93B3-24112F0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4386-E872-4177-B451-AB52BB6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1E6-0079-4D96-A3FE-332193A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1EC1-51A8-4B65-9C39-21A04E3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564C-EC2D-48A6-AB98-EB81AABB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D0AE-2A87-4E18-A63B-755EEF6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5ACD-138D-478D-AC69-BA908D2F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967C-723B-4D45-BC07-FCBF41A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59AF-9824-4ACC-A380-EDD15AFE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4CE5-41AE-470D-B4B1-89FDF64F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CD1F-E5BC-4871-BCA0-F77C4A1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E4DA-500E-4CEF-8515-00FD3833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4499-B08A-4919-BC3D-0FB73DC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407-53D7-4542-9117-6FD580D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6C4B-422F-48B9-B07D-C5C8FF1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0F78E-D11F-456A-9922-11E0A72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A29BB-765A-4D45-B325-1C4D2E7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7F63-3D1D-4F15-A7FF-CC83E48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9890-4EC0-47AE-97E8-D6D69CB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74A0-B2D4-48F1-B862-61006619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E487D-27C8-460C-855D-75BF2F3C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A80F0-8BBE-4A4F-976F-485EA127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EB79E-5173-4D44-BCA1-6B7AB05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4F24C-9703-4249-B701-4EF3CEEF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B88-BD8C-43BB-A534-5B86CB0EC667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B03B-D8AC-4BF8-85BF-414ACB3F400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324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"/>
          <p:cNvPicPr/>
          <p:nvPr/>
        </p:nvPicPr>
        <p:blipFill>
          <a:blip r:embed="rId3"/>
          <a:stretch/>
        </p:blipFill>
        <p:spPr>
          <a:xfrm>
            <a:off x="2760840" y="1012680"/>
            <a:ext cx="3622320" cy="4830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图片包含 浅色&#10;&#10;已生成高可信度的说明"/>
          <p:cNvPicPr/>
          <p:nvPr/>
        </p:nvPicPr>
        <p:blipFill>
          <a:blip r:embed="rId4"/>
          <a:stretch/>
        </p:blipFill>
        <p:spPr>
          <a:xfrm>
            <a:off x="5310360" y="4381560"/>
            <a:ext cx="407880" cy="5666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5"/>
          <a:stretch/>
        </p:blipFill>
        <p:spPr>
          <a:xfrm rot="21398400">
            <a:off x="2916360" y="1428480"/>
            <a:ext cx="798480" cy="132876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9"/>
          <p:cNvSpPr/>
          <p:nvPr/>
        </p:nvSpPr>
        <p:spPr>
          <a:xfrm>
            <a:off x="4027320" y="1887480"/>
            <a:ext cx="0" cy="459000"/>
          </a:xfrm>
          <a:prstGeom prst="line">
            <a:avLst/>
          </a:prstGeom>
          <a:ln w="6480">
            <a:solidFill>
              <a:srgbClr val="f8e9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AE84-F1FC-448C-B91D-D45CEE165568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AF1-BD5A-4EF2-9CE0-F180758BAAB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963-41D3-4EE0-B4A9-C42027A90173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ED2-F3F2-4D12-BF10-AEF3571FCB4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300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8" descr=""/>
          <p:cNvPicPr/>
          <p:nvPr/>
        </p:nvPicPr>
        <p:blipFill>
          <a:blip r:embed="rId3"/>
          <a:stretch/>
        </p:blipFill>
        <p:spPr>
          <a:xfrm rot="16200000">
            <a:off x="2252520" y="2790360"/>
            <a:ext cx="1901880" cy="30002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" descr=""/>
          <p:cNvPicPr/>
          <p:nvPr/>
        </p:nvPicPr>
        <p:blipFill>
          <a:blip r:embed="rId4"/>
          <a:stretch/>
        </p:blipFill>
        <p:spPr>
          <a:xfrm rot="7766400">
            <a:off x="3996720" y="1584000"/>
            <a:ext cx="2859120" cy="3481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7" descr=""/>
          <p:cNvPicPr/>
          <p:nvPr/>
        </p:nvPicPr>
        <p:blipFill>
          <a:blip r:embed="rId5"/>
          <a:stretch/>
        </p:blipFill>
        <p:spPr>
          <a:xfrm>
            <a:off x="3206880" y="1608120"/>
            <a:ext cx="2730240" cy="3640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1C3-F99A-453E-80B9-D4F776CE5E96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C25-B76C-43EF-BD0A-65F322F0FA6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8395-F3C8-4953-B668-8331592176BD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E88-AF91-4D85-8E80-0AD0271ADE6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80E-E4AA-4790-BFB6-53011F5ADDD8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293-8B00-4686-B50F-1C77556B892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5A5B-2ECE-4084-ADE3-6D112281CF34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53B9-11B9-4FC1-AC15-A28672B5803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D508-51AC-4A95-97BD-069117C625F5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BF5-1F70-4D2F-8E0A-F17F4629793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300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4402c"/>
          </a:solidFill>
          <a:ln w="12600">
            <a:solidFill>
              <a:srgbClr val="3b2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5" descr=""/>
          <p:cNvPicPr/>
          <p:nvPr/>
        </p:nvPicPr>
        <p:blipFill>
          <a:blip r:embed="rId3"/>
          <a:stretch/>
        </p:blipFill>
        <p:spPr>
          <a:xfrm>
            <a:off x="2760840" y="1012680"/>
            <a:ext cx="3622320" cy="48308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6" descr="图片包含 浅色&#10;&#10;已生成高可信度的说明"/>
          <p:cNvPicPr/>
          <p:nvPr/>
        </p:nvPicPr>
        <p:blipFill>
          <a:blip r:embed="rId4"/>
          <a:stretch/>
        </p:blipFill>
        <p:spPr>
          <a:xfrm>
            <a:off x="4425840" y="4727520"/>
            <a:ext cx="408240" cy="56664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7" descr=""/>
          <p:cNvPicPr/>
          <p:nvPr/>
        </p:nvPicPr>
        <p:blipFill>
          <a:blip r:embed="rId5"/>
          <a:stretch/>
        </p:blipFill>
        <p:spPr>
          <a:xfrm rot="21398400">
            <a:off x="2967120" y="1044360"/>
            <a:ext cx="796680" cy="13287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2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34272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indent="685800">
              <a:lnSpc>
                <a:spcPct val="120000"/>
              </a:lnSpc>
              <a:spcAft>
                <a:spcPts val="1001"/>
              </a:spcAft>
              <a:buClr>
                <a:srgbClr val="030022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SzPct val="25000"/>
              <a:buFont typeface="Arial"/>
              <a:buChar char="_x0007_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329-6E74-46CC-AF16-0F9A94BAD4BD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A40-E7FB-4F57-A05A-656731F7E7E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402c"/>
                </a:solidFill>
                <a:latin typeface="Arial"/>
                <a:ea typeface="宋体"/>
              </a:rPr>
              <a:t>唱古诗 ，    </a:t>
            </a:r>
            <a:br>
              <a:rPr sz="4400"/>
            </a:br>
            <a:r>
              <a:rPr b="1" lang="zh-CN" sz="4400" spc="-1" strike="noStrike">
                <a:solidFill>
                  <a:srgbClr val="54402c"/>
                </a:solidFill>
                <a:latin typeface="Arial"/>
                <a:ea typeface="宋体"/>
              </a:rPr>
              <a:t>颂经典</a:t>
            </a:r>
            <a:endParaRPr b="1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373560"/>
            <a:ext cx="64008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402c"/>
                </a:solidFill>
                <a:latin typeface="Arial"/>
                <a:ea typeface="宋体"/>
              </a:rPr>
              <a:t>二年级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402c"/>
                </a:solidFill>
                <a:latin typeface="Arial"/>
                <a:ea typeface="宋体"/>
              </a:rPr>
              <a:t>古诗新唱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92" name="内容占位符 3" descr=""/>
          <p:cNvPicPr/>
          <p:nvPr/>
        </p:nvPicPr>
        <p:blipFill>
          <a:blip r:embed="rId1"/>
          <a:stretch/>
        </p:blipFill>
        <p:spPr>
          <a:xfrm>
            <a:off x="38160" y="-11160"/>
            <a:ext cx="9067680" cy="688032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5" descr=""/>
          <p:cNvPicPr/>
          <p:nvPr/>
        </p:nvPicPr>
        <p:blipFill>
          <a:blip r:embed="rId2"/>
          <a:stretch/>
        </p:blipFill>
        <p:spPr>
          <a:xfrm>
            <a:off x="685800" y="527040"/>
            <a:ext cx="3505320" cy="5365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6"/>
          <p:cNvSpPr/>
          <p:nvPr/>
        </p:nvSpPr>
        <p:spPr>
          <a:xfrm>
            <a:off x="4356000" y="835200"/>
            <a:ext cx="4321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儿垂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作者：胡令能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蓬头稚子学垂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侧坐莓苔草映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路人借问遥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怕得鱼惊不应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96" name="内容占位符 3" descr=""/>
          <p:cNvPicPr/>
          <p:nvPr/>
        </p:nvPicPr>
        <p:blipFill>
          <a:blip r:embed="rId1"/>
          <a:stretch/>
        </p:blipFill>
        <p:spPr>
          <a:xfrm>
            <a:off x="98280" y="-11160"/>
            <a:ext cx="9068040" cy="688032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" descr=""/>
          <p:cNvPicPr/>
          <p:nvPr/>
        </p:nvPicPr>
        <p:blipFill>
          <a:blip r:embed="rId2"/>
          <a:stretch/>
        </p:blipFill>
        <p:spPr>
          <a:xfrm>
            <a:off x="98280" y="-11160"/>
            <a:ext cx="9014040" cy="687852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6"/>
          <p:cNvSpPr/>
          <p:nvPr/>
        </p:nvSpPr>
        <p:spPr>
          <a:xfrm>
            <a:off x="4356000" y="835200"/>
            <a:ext cx="4321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绝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唐 杜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两个黄鹂鸣翠柳， 一行白鹭上青天。 窗含西岭千秋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门泊东吴万里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图片 4" descr=""/>
          <p:cNvPicPr/>
          <p:nvPr/>
        </p:nvPicPr>
        <p:blipFill>
          <a:blip r:embed="rId3"/>
          <a:stretch/>
        </p:blipFill>
        <p:spPr>
          <a:xfrm>
            <a:off x="171360" y="442800"/>
            <a:ext cx="4048200" cy="6019920"/>
          </a:xfrm>
          <a:prstGeom prst="rect">
            <a:avLst/>
          </a:prstGeom>
          <a:ln w="0">
            <a:noFill/>
          </a:ln>
        </p:spPr>
      </p:pic>
      <p:pic>
        <p:nvPicPr>
          <p:cNvPr id="400" name="绝句" descr=""/>
          <p:cNvPicPr/>
          <p:nvPr/>
        </p:nvPicPr>
        <p:blipFill>
          <a:blip r:embed="rId4"/>
          <a:stretch/>
        </p:blipFill>
        <p:spPr>
          <a:xfrm>
            <a:off x="8058240" y="58435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0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02" name="内容占位符 3" descr=""/>
          <p:cNvPicPr/>
          <p:nvPr/>
        </p:nvPicPr>
        <p:blipFill>
          <a:blip r:embed="rId1"/>
          <a:stretch/>
        </p:blipFill>
        <p:spPr>
          <a:xfrm>
            <a:off x="98280" y="-11160"/>
            <a:ext cx="9068040" cy="688032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6"/>
          <p:cNvSpPr/>
          <p:nvPr/>
        </p:nvSpPr>
        <p:spPr>
          <a:xfrm>
            <a:off x="4130640" y="442800"/>
            <a:ext cx="48830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忆江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江南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【唐】白居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江南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景旧曾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日出江花红胜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春来江水绿如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能不忆江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2" descr=""/>
          <p:cNvPicPr/>
          <p:nvPr/>
        </p:nvPicPr>
        <p:blipFill>
          <a:blip r:embed="rId2"/>
          <a:stretch/>
        </p:blipFill>
        <p:spPr>
          <a:xfrm>
            <a:off x="501480" y="297000"/>
            <a:ext cx="3695760" cy="5916600"/>
          </a:xfrm>
          <a:prstGeom prst="rect">
            <a:avLst/>
          </a:prstGeom>
          <a:ln w="0">
            <a:noFill/>
          </a:ln>
        </p:spPr>
      </p:pic>
      <p:pic>
        <p:nvPicPr>
          <p:cNvPr id="405" name="皇家唱诗班 - 忆江南" descr=""/>
          <p:cNvPicPr/>
          <p:nvPr/>
        </p:nvPicPr>
        <p:blipFill>
          <a:blip r:embed="rId3"/>
          <a:stretch/>
        </p:blipFill>
        <p:spPr>
          <a:xfrm>
            <a:off x="8023320" y="595008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017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07" name="内容占位符 3" descr=""/>
          <p:cNvPicPr/>
          <p:nvPr/>
        </p:nvPicPr>
        <p:blipFill>
          <a:blip r:embed="rId1"/>
          <a:stretch/>
        </p:blipFill>
        <p:spPr>
          <a:xfrm>
            <a:off x="98280" y="-11160"/>
            <a:ext cx="9068040" cy="68803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2" descr=""/>
          <p:cNvPicPr/>
          <p:nvPr/>
        </p:nvPicPr>
        <p:blipFill>
          <a:blip r:embed="rId2"/>
          <a:stretch/>
        </p:blipFill>
        <p:spPr>
          <a:xfrm>
            <a:off x="98280" y="-11160"/>
            <a:ext cx="9014040" cy="687852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6"/>
          <p:cNvSpPr/>
          <p:nvPr/>
        </p:nvSpPr>
        <p:spPr>
          <a:xfrm>
            <a:off x="4356000" y="835200"/>
            <a:ext cx="4321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村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清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高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长莺飞二月天，   拂堤杨柳醉春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儿童散学归来早，忙趁东风放纸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4" descr=""/>
          <p:cNvPicPr/>
          <p:nvPr/>
        </p:nvPicPr>
        <p:blipFill>
          <a:blip r:embed="rId3"/>
          <a:stretch/>
        </p:blipFill>
        <p:spPr>
          <a:xfrm>
            <a:off x="501480" y="442800"/>
            <a:ext cx="3878280" cy="5781960"/>
          </a:xfrm>
          <a:prstGeom prst="rect">
            <a:avLst/>
          </a:prstGeom>
          <a:ln w="0">
            <a:noFill/>
          </a:ln>
        </p:spPr>
      </p:pic>
      <p:pic>
        <p:nvPicPr>
          <p:cNvPr id="411" name="儿歌 - 村居 [mqms2]" descr=""/>
          <p:cNvPicPr/>
          <p:nvPr/>
        </p:nvPicPr>
        <p:blipFill>
          <a:blip r:embed="rId4"/>
          <a:stretch/>
        </p:blipFill>
        <p:spPr>
          <a:xfrm>
            <a:off x="8058240" y="58435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1818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文本框 13"/>
          <p:cNvSpPr/>
          <p:nvPr/>
        </p:nvSpPr>
        <p:spPr>
          <a:xfrm>
            <a:off x="6437160" y="3236760"/>
            <a:ext cx="15051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谢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内容占位符 4" descr=""/>
          <p:cNvPicPr/>
          <p:nvPr/>
        </p:nvPicPr>
        <p:blipFill>
          <a:blip r:embed="rId1"/>
          <a:srcRect l="6482" t="0" r="5541" b="-755"/>
          <a:stretch/>
        </p:blipFill>
        <p:spPr>
          <a:xfrm>
            <a:off x="561960" y="34920"/>
            <a:ext cx="4896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02:05:47Z</dcterms:created>
  <dc:creator>6ban-2</dc:creator>
  <dc:description/>
  <dc:language>en-US</dc:language>
  <cp:lastModifiedBy>Administrator</cp:lastModifiedBy>
  <dcterms:modified xsi:type="dcterms:W3CDTF">2019-04-26T04:36:34Z</dcterms:modified>
  <cp:revision>5</cp:revision>
  <dc:subject/>
  <dc:title>唱古诗 ，     颂经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