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67D-E847-4B5C-A5DA-8300D97C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FF5-ABCF-433F-A34D-68883B1A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808-164F-4642-AA14-4848CD59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55B-F6A8-4090-9684-D7641065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3936-9DAB-4D53-9DD7-74110E3B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089C-5719-4202-870B-163D3042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27AA-61FC-4271-88C3-6442E490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1141-59B3-436A-8EBD-30AEF3C6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B92E-9699-4B68-9BE6-8A1AFABC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ED7A-E8D1-4370-8D4A-557FA640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D201-7A39-463E-B975-27AB8DCB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614-A6C7-488B-A1C7-CB402346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BCBF-1727-44CE-AE3D-3F9DC555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15B6-4B01-492F-AD55-388EC168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283D-85D7-4D16-AC91-86CE1FC6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EE77-DC75-4EEB-A34F-C5D8F7CE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20D7-A908-48BA-AD7F-A184601C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B17-F583-4F22-9CD1-216A8521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7AA-9B72-4A13-A9D0-B662483F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7B7-A949-4AD5-ABD7-946F9C97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AA3-4AE0-473C-B281-A3686175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1FF-CC5F-4451-AAE2-E5CDAC9A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3028-3161-4F2A-BBDE-C08F7FF0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8AD-C52C-48B1-B0D9-79BB8A29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5FD2-04A4-4D74-B673-87C7A8573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B8AA-2589-4DD5-8B66-E97772539DE6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xc707002"/>
          <p:cNvPicPr/>
          <p:nvPr/>
        </p:nvPicPr>
        <p:blipFill>
          <a:blip r:embed="rId1"/>
          <a:stretch/>
        </p:blipFill>
        <p:spPr>
          <a:xfrm>
            <a:off x="755640" y="189000"/>
            <a:ext cx="5400720" cy="6480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6804000" y="1341360"/>
            <a:ext cx="17287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663300"/>
                </a:solidFill>
                <a:latin typeface="宋体"/>
              </a:rPr>
              <a:t>三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6633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663300"/>
                </a:solidFill>
                <a:latin typeface="宋体"/>
              </a:rPr>
              <a:t>顾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6633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663300"/>
                </a:solidFill>
                <a:latin typeface="宋体"/>
              </a:rPr>
              <a:t>茅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6633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663300"/>
                </a:solidFill>
                <a:latin typeface="宋体"/>
              </a:rPr>
              <a:t>庐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66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9-12-31T18:40:56Z</dcterms:created>
  <dc:creator>APOLLO [TEL6306068]</dc:creator>
  <dc:description/>
  <dc:language>en-US</dc:language>
  <cp:lastModifiedBy>xbany</cp:lastModifiedBy>
  <dcterms:modified xsi:type="dcterms:W3CDTF">2019-04-26T06:12:26Z</dcterms:modified>
  <cp:revision>102</cp:revision>
  <dc:subject/>
  <dc:title>幻灯片 1</dc:title>
</cp:coreProperties>
</file>