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6.jpeg" ContentType="image/jpeg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54FB-5564-4F92-8961-BD2ECFBB484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B720-553A-4619-8AF2-91E5DF8361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怎样消除烦恼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正确认识和评价自己、全面看待自己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接受自己、认识自己的独特、转变观念、积极心态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改变自己、克服不足、提高自制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发展自己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敞开心扉、大胆求助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积极参加集体活动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、生理保健、心理调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3C65-CCFC-41B7-9E36-88562FBCA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D4C5-0FEE-4DE8-9735-26EACEF3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F26-BD2A-49C7-96B3-3BD0818D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A54-A0E7-4C05-879C-7B11CF12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9948-9104-44C6-9CBD-9AB2CB07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56DD-DEA4-4D5A-BFE7-E0743516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C622-3AB1-4967-AE1D-FB8AB74D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9647-6423-4F4E-BE82-E20657F3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3610-BAAB-4999-B5A2-5DFFAA8F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AA77-2382-4B49-AC01-C691EFB8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64E2-E09F-417C-9CC3-66E89E5D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87A4-3110-4827-BC01-8C83F68E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1EE9-865E-434C-8C47-FAF1B8E3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1280-A8C5-42F8-BFEE-8F8A55A2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BC59-0D09-4DB0-A27A-12F41040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CA32A-DF45-4779-9EE4-48BAAC5E7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D641-E30A-41A4-AF56-3C2E7420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7A10-4315-477B-A741-0A258099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C5E6-04F5-4E09-A900-BB1FFCF1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4DF84-62D2-42E1-BC0F-34DBB09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01EA9-1AC5-4180-9D0E-2713162A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9526F-CC00-4F8C-A7F8-868E7F24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194-A7B4-4385-86B5-53C5205E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6EDA-EF58-4C4F-964D-0F240047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DA944-8DED-437F-A763-6259CEDD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3D26-08CA-4922-ABE7-C2E1D162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96EA-160A-4C7E-BFD1-B73EEE23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EB5D4-5A00-4967-A81A-43E49297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6D03-1159-40D2-B6ED-A7A1024B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5906E-EFEA-4A45-BD4D-92E46029D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2A2-7290-46B1-A93B-00ABC70C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A80-E57E-4D46-A60B-E61629F5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713-D426-4A83-992C-6D02CAA8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94B-8F28-417B-A27D-CE9DFED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680-2A61-4943-9D1B-0DE15D23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B57-1096-4B5F-9313-8FC637C2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56DC-A29F-4A2C-91D9-6DEDF78B5AD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ACED-01B8-4379-83FC-90A9DF3900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315D8-4285-4FC8-817B-D360A4F4F6E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WordArt 2" descr=""/>
          <p:cNvPicPr/>
          <p:nvPr/>
        </p:nvPicPr>
        <p:blipFill>
          <a:blip r:embed="rId1"/>
          <a:stretch/>
        </p:blipFill>
        <p:spPr>
          <a:xfrm>
            <a:off x="-274680" y="981000"/>
            <a:ext cx="8028000" cy="2255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风车之国"/>
          <p:cNvPicPr/>
          <p:nvPr/>
        </p:nvPicPr>
        <p:blipFill>
          <a:blip r:embed="rId2"/>
          <a:stretch/>
        </p:blipFill>
        <p:spPr>
          <a:xfrm>
            <a:off x="0" y="3657600"/>
            <a:ext cx="914400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小小少年.mp3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7621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216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33520" y="456840"/>
            <a:ext cx="8076960" cy="5257800"/>
          </a:xfrm>
          <a:prstGeom prst="rect">
            <a:avLst/>
          </a:prstGeom>
          <a:solidFill>
            <a:srgbClr val="ffe085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消除烦恼的建议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、正确认识和评价自己、全面看待自己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、认识自己的独特，愉快接受自己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、改变自己、克服不足、提高自制力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、 转变观念、保持积极心态、发展自己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、敞开心扉、大胆求助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、积极参加集体活动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3100" spc="-1" strike="noStrike">
                <a:solidFill>
                  <a:srgbClr val="000000"/>
                </a:solidFill>
                <a:latin typeface="宋体"/>
              </a:rPr>
              <a:t>、生理保健、心理调节</a:t>
            </a: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………</a:t>
            </a:r>
            <a:r>
              <a:rPr b="0" lang="en-US" sz="3100" spc="-1" strike="noStrike">
                <a:solidFill>
                  <a:srgbClr val="000000"/>
                </a:solidFill>
                <a:latin typeface="宋体"/>
              </a:rPr>
              <a:t>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600200" y="608796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Arial"/>
              </a:rPr>
              <a:t>书上笔记：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P29\P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99136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33"/>
                </a:solidFill>
                <a:latin typeface="Garamond"/>
              </a:rPr>
              <a:t>说说你本堂课的学习收获。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标题 1"/>
          <p:cNvSpPr/>
          <p:nvPr/>
        </p:nvSpPr>
        <p:spPr>
          <a:xfrm>
            <a:off x="380880" y="228600"/>
            <a:ext cx="2971800" cy="1057320"/>
          </a:xfrm>
          <a:prstGeom prst="rect">
            <a:avLst/>
          </a:prstGeom>
          <a:solidFill>
            <a:srgbClr val="a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857240"/>
            <a:ext cx="8229600" cy="31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1" lang="zh-CN" sz="3000" spc="-1" strike="noStrike">
                <a:solidFill>
                  <a:srgbClr val="c00000"/>
                </a:solidFill>
                <a:latin typeface="Arial"/>
              </a:rPr>
              <a:t>我们每个人都像一朵花一样，开放着。用一种属于自己的方式，无论开的如何，那方式是最适合我的，我们所要寻找的，就是自己最自然的本性，让自己做最适合的自己，让内心里的自己自然绽放最美丽的花朵</a:t>
            </a:r>
            <a:r>
              <a:rPr b="1" lang="en-US" sz="3000" spc="-1" strike="noStrike">
                <a:solidFill>
                  <a:srgbClr val="c00000"/>
                </a:solidFill>
                <a:latin typeface="Arial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十字形 3"/>
          <p:cNvSpPr/>
          <p:nvPr/>
        </p:nvSpPr>
        <p:spPr>
          <a:xfrm>
            <a:off x="8358120" y="428760"/>
            <a:ext cx="357120" cy="357120"/>
          </a:xfrm>
          <a:prstGeom prst="plus">
            <a:avLst>
              <a:gd name="adj" fmla="val 25000"/>
            </a:avLst>
          </a:prstGeom>
          <a:solidFill>
            <a:srgbClr val="3b812f"/>
          </a:solidFill>
          <a:ln w="25560">
            <a:solidFill>
              <a:srgbClr val="aa1e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标题 1"/>
          <p:cNvSpPr/>
          <p:nvPr/>
        </p:nvSpPr>
        <p:spPr>
          <a:xfrm>
            <a:off x="533520" y="228600"/>
            <a:ext cx="2966760" cy="1057320"/>
          </a:xfrm>
          <a:prstGeom prst="rect">
            <a:avLst/>
          </a:prstGeom>
          <a:solidFill>
            <a:srgbClr val="a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教师寄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02.花絮轻撒.mp3" descr=""/>
          <p:cNvPicPr/>
          <p:nvPr/>
        </p:nvPicPr>
        <p:blipFill>
          <a:blip r:embed="rId1"/>
          <a:stretch/>
        </p:blipFill>
        <p:spPr>
          <a:xfrm>
            <a:off x="8429760" y="6072120"/>
            <a:ext cx="4284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662172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f.hiphotos.baidu.com/zhidao/wh%3D450%2C600/sign=4b676aa77ad98d1076810435140f9438/503d269759ee3d6d30417b9045166d224e4adee2.jpg"/>
          <p:cNvPicPr/>
          <p:nvPr/>
        </p:nvPicPr>
        <p:blipFill>
          <a:blip r:embed="rId1"/>
          <a:stretch/>
        </p:blipFill>
        <p:spPr>
          <a:xfrm>
            <a:off x="990720" y="304920"/>
            <a:ext cx="7086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3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3200400" y="167652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  成长不烦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158920" y="304812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消除烦恼   悦纳自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20574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进入青春期的你，都遇到了哪些烦恼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可以从生理、心理、学业、交往等多方面阐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标题 1"/>
          <p:cNvSpPr/>
          <p:nvPr/>
        </p:nvSpPr>
        <p:spPr>
          <a:xfrm>
            <a:off x="609480" y="228600"/>
            <a:ext cx="2971800" cy="914400"/>
          </a:xfrm>
          <a:prstGeom prst="rect">
            <a:avLst/>
          </a:prstGeom>
          <a:solidFill>
            <a:srgbClr val="a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华文彩云"/>
                <a:ea typeface="华文彩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全盘扫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内容占位符 3"/>
          <p:cNvGraphicFramePr/>
          <p:nvPr/>
        </p:nvGraphicFramePr>
        <p:xfrm>
          <a:off x="457200" y="762120"/>
          <a:ext cx="8329680" cy="485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内容占位符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832968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Box 14"/>
          <p:cNvSpPr/>
          <p:nvPr/>
        </p:nvSpPr>
        <p:spPr>
          <a:xfrm>
            <a:off x="990720" y="5715000"/>
            <a:ext cx="7143480" cy="825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你的烦恼不是个别现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838080" y="1143000"/>
            <a:ext cx="7572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4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a40000"/>
                </a:solidFill>
                <a:latin typeface="Arial"/>
              </a:rPr>
              <a:t>烦恼是在自我成长和完善过程中产生的矛盾。所以接受烦恼的存在，正确认识烦恼，会让我们的前进更有动力，方向更为明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457200" y="1219320"/>
            <a:ext cx="838188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小宇进入初中后变得特别敏感，由于他个头矮小，学习成绩又不理想，总觉得同学们都瞧不起他。每次小组讨论他都不敢发言，害怕受到同学的嘲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有一次，老师上课叫他回答问题，小宇一时走神没听清，支支吾吾答不上来。同学王璞笑道：老师，人家想心事呢。惹来同学一阵哄笑</a:t>
            </a:r>
            <a:r>
              <a:rPr b="1" lang="en-US" sz="28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积压了许久的小宇顿时爆发，拿起书朝王璞砸了过去，课堂一下子陷入混乱</a:t>
            </a:r>
            <a:r>
              <a:rPr b="1" lang="en-US" sz="28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……</a:t>
            </a:r>
            <a:r>
              <a:rPr b="1" lang="zh-CN" sz="28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事后小宇懊恼不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方正启体简体"/>
                <a:ea typeface="方正启体简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914400" y="49528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十字星 7">
            <a:hlinkClick r:id="rId1" action="ppaction://hlinksldjump"/>
          </p:cNvPr>
          <p:cNvSpPr/>
          <p:nvPr/>
        </p:nvSpPr>
        <p:spPr>
          <a:xfrm>
            <a:off x="8001000" y="0"/>
            <a:ext cx="914400" cy="990720"/>
          </a:xfrm>
          <a:custGeom>
            <a:avLst/>
            <a:gdLst>
              <a:gd name="textAreaLeft" fmla="*/ 376560 w 914400"/>
              <a:gd name="textAreaRight" fmla="*/ 537840 w 914400"/>
              <a:gd name="textAreaTop" fmla="*/ 408240 h 990720"/>
              <a:gd name="textAreaBottom" fmla="*/ 5824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/>
          <p:cNvSpPr/>
          <p:nvPr/>
        </p:nvSpPr>
        <p:spPr>
          <a:xfrm>
            <a:off x="1066680" y="4952880"/>
            <a:ext cx="76964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请你帮助小宇分析他产生烦恼的</a:t>
            </a:r>
            <a:r>
              <a:rPr b="1" lang="zh-CN" sz="3000" spc="-1" strike="noStrike">
                <a:solidFill>
                  <a:srgbClr val="ffc000"/>
                </a:solidFill>
                <a:latin typeface="Arial"/>
                <a:ea typeface="黑体"/>
              </a:rPr>
              <a:t>原因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有哪些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这个烦恼会给他带来哪些</a:t>
            </a:r>
            <a:r>
              <a:rPr b="1" lang="zh-CN" sz="3000" spc="-1" strike="noStrike">
                <a:solidFill>
                  <a:srgbClr val="ffc000"/>
                </a:solidFill>
                <a:latin typeface="Arial"/>
                <a:ea typeface="黑体"/>
              </a:rPr>
              <a:t>困扰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标题 1"/>
          <p:cNvSpPr/>
          <p:nvPr/>
        </p:nvSpPr>
        <p:spPr>
          <a:xfrm>
            <a:off x="533520" y="228600"/>
            <a:ext cx="2971800" cy="914400"/>
          </a:xfrm>
          <a:prstGeom prst="rect">
            <a:avLst/>
          </a:prstGeom>
          <a:solidFill>
            <a:srgbClr val="a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华文彩云"/>
                <a:ea typeface="华文彩云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后台解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358128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黑体"/>
                <a:ea typeface="黑体"/>
              </a:rPr>
              <a:t>小结提升：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218960"/>
            <a:ext cx="8229600" cy="4530600"/>
          </a:xfrm>
          <a:prstGeom prst="rect">
            <a:avLst/>
          </a:prstGeom>
          <a:solidFill>
            <a:srgbClr val="f2f2f2">
              <a:alpha val="7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原因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生理、心理的变化，随着自我意识的增强，青春期的少年变得经常注视自己和别人对自己的评价；不能正确的认识和评价自己，只看到自己的缺点和不足，没有看到自己的优点；不能够正确面对自己的缺陷，容易冲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不良影响有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丧失信心，变得孤僻起来；影响学业和身心健康发展；影响到她的人际关系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6"/>
          <p:cNvSpPr/>
          <p:nvPr/>
        </p:nvSpPr>
        <p:spPr>
          <a:xfrm>
            <a:off x="609480" y="1523880"/>
            <a:ext cx="820908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汉仪秀英体简"/>
                <a:ea typeface="汉仪秀英体简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汉仪秀英体简"/>
                <a:ea typeface="汉仪秀英体简"/>
              </a:rPr>
              <a:t>选择本组最想解决的烦恼</a:t>
            </a:r>
            <a:r>
              <a:rPr b="1" lang="zh-CN" sz="3200" spc="-1" strike="noStrike">
                <a:solidFill>
                  <a:srgbClr val="000000"/>
                </a:solidFill>
                <a:latin typeface="汉仪秀英体简"/>
                <a:ea typeface="汉仪秀英体简"/>
              </a:rPr>
              <a:t>，充分运用所学知识和生活经验，提出本组消除烦恼的最佳途径。（</a:t>
            </a:r>
            <a:r>
              <a:rPr b="1" lang="zh-CN" sz="3200" spc="-1" strike="noStrike">
                <a:solidFill>
                  <a:srgbClr val="ff0000"/>
                </a:solidFill>
                <a:latin typeface="汉仪秀英体简"/>
                <a:ea typeface="汉仪秀英体简"/>
              </a:rPr>
              <a:t>要有具体的方法和措施</a:t>
            </a:r>
            <a:r>
              <a:rPr b="1" lang="zh-CN" sz="3200" spc="-1" strike="noStrike">
                <a:solidFill>
                  <a:srgbClr val="000000"/>
                </a:solidFill>
                <a:latin typeface="汉仪秀英体简"/>
                <a:ea typeface="汉仪秀英体简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汉仪秀英体简"/>
                <a:ea typeface="汉仪秀英体简"/>
              </a:rPr>
              <a:t>要求：</a:t>
            </a:r>
            <a:r>
              <a:rPr b="1" lang="zh-CN" sz="3200" spc="-1" strike="noStrike">
                <a:solidFill>
                  <a:srgbClr val="000000"/>
                </a:solidFill>
                <a:latin typeface="汉仪秀英体简"/>
                <a:ea typeface="汉仪秀英体简"/>
              </a:rPr>
              <a:t>小组合作，先在小组内讨论，并</a:t>
            </a:r>
            <a:r>
              <a:rPr b="1" lang="zh-CN" sz="3200" spc="-1" strike="noStrike">
                <a:solidFill>
                  <a:srgbClr val="ff0000"/>
                </a:solidFill>
                <a:latin typeface="汉仪秀英体简"/>
                <a:ea typeface="汉仪秀英体简"/>
              </a:rPr>
              <a:t>记录要点</a:t>
            </a:r>
            <a:r>
              <a:rPr b="1" lang="zh-CN" sz="3200" spc="-1" strike="noStrike">
                <a:solidFill>
                  <a:srgbClr val="000000"/>
                </a:solidFill>
                <a:latin typeface="汉仪秀英体简"/>
                <a:ea typeface="汉仪秀英体简"/>
              </a:rPr>
              <a:t>，然后在全班展示交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标题 1"/>
          <p:cNvSpPr/>
          <p:nvPr/>
        </p:nvSpPr>
        <p:spPr>
          <a:xfrm>
            <a:off x="533520" y="228600"/>
            <a:ext cx="2971800" cy="914400"/>
          </a:xfrm>
          <a:prstGeom prst="rect">
            <a:avLst/>
          </a:prstGeom>
          <a:solidFill>
            <a:srgbClr val="a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华文彩云"/>
                <a:ea typeface="华文彩云"/>
              </a:rPr>
              <a:t> </a:t>
            </a:r>
            <a:r>
              <a:rPr b="1" lang="zh-CN" sz="4200" spc="-1" strike="noStrike">
                <a:solidFill>
                  <a:srgbClr val="ffffff"/>
                </a:solidFill>
                <a:latin typeface="华文彩云"/>
                <a:ea typeface="华文彩云"/>
              </a:rPr>
              <a:t>系统修复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6-03-16T13:27:22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