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DD6-65BF-49DB-B469-F5CEB371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EC3-A562-4CED-A120-095AA8AE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F64ED-555B-4F38-B0BC-26AC7223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5F342-84C5-4B42-A2EE-2DC261DB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316F8-FC2C-4708-A808-5F6953C0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260FA-3279-4BD4-8580-0914580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09B81-F544-4011-91E2-88206F9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EF377-321D-4395-A522-F5A3127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C8CA8-7A07-4F2D-BBA6-C4F9354E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591F7-E5F6-4E5D-9D00-5E1CEF04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4BD2-69A8-47D1-9744-AB445225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C7F93-2028-45DE-8566-A2606F3E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ABD-412B-45DB-BA67-A9D1451A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AA761-FE24-4EF4-9920-03DDA207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35641-8B69-402C-B31D-FFEC138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30D5C-AB9E-4BF7-AB5D-0E349113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D539C-2204-493D-ABE3-EFAD0CB7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4ABB8-F4B2-479F-9C49-DB2529C4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42653-C369-4263-B5AA-4C39BB9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EAE83-7C37-49F6-836F-A3E42DE6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32BB1-0359-4D32-8747-F2C29CC1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4EB30-F38B-44AA-BA27-B89EC0F1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E9FAF-659D-4BA0-B867-9B322A82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B87-4E5F-42BD-AA3D-786FF932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48013-761B-4BF1-A91B-DA216444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9D5F2-487E-4040-9D9F-DC1C9A82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41A1F-52B8-43CA-9C3F-E68B4B89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886A4-F7C2-4F1A-ADA2-B11C5796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A7133-B97C-4F5B-BCC6-873F4547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3383A-E4A1-49F5-B32E-14457755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4A898-4973-4C0C-867D-797BB528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F3551-B48C-415E-8620-8936FBD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27B75-6B51-42AB-AF09-7EC09CB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37812-6BAF-43D0-ABA1-0D95AC6E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E399-CBAF-44C1-A694-4A8090D6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02EF0-2CA6-4902-8475-E05A10C7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7771C-6693-4B8C-B665-D896ED2F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28284-A808-4DEC-A2C6-F30B0878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EA576-6AC7-42EB-85BA-A37E91CA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99339-B757-4BDA-B829-B9B3123C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A6777-20FC-4583-B8C9-001A40D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B36A6-E2DC-4785-A5B5-6852D613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390CF-6AC7-427B-A3DC-992B862B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D50BA-EA01-41EC-B989-F6E09975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BBC87-C6D9-45C9-8839-EC2ADA5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9425-BD7C-4BCA-A591-02FE249E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6274F-EEEA-42CC-9595-0F0ECCFA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F3D0A-2234-40B1-A912-1B1AA58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1F698-5792-4A64-99A4-0DC133A5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0E81B-3720-4EAE-94BB-905A3E07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27F37-E829-47B7-AE4F-162C1417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E5520-D989-4165-AA14-AB549A20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3EFCA-A5E3-48D1-A7BD-1C98DD6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91E61-97D1-4D59-8B80-F3381F36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B05B0-8CA6-4F8C-8E10-66D1117E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1BF33-E71A-4C69-A775-0CDD2267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EDE1-6270-4C77-BBEB-765B2F29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1761B-B450-437D-B7D6-A0DFBC36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5246C-487F-4CBA-A1FC-1258DF95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BE0D9-83B7-41BA-9B98-2FE08CA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4FF58-0769-420E-9AE5-A404626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44D0A-2CBF-4812-A36B-34136C3D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ADFAC-BFAD-47EC-AEDD-E0BAA1CF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BFF04-6E64-4438-A1A2-2E9831A2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2EFFD-B0BD-48D5-B8DF-EF190252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6E56A-4BA3-402B-B6AE-0D4A5E12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F1098-A70E-4355-A7CF-F1719158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A370-99F9-4108-886A-69AFD8D5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E5243-A831-421F-9164-6E866DC2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A6918-0266-43CA-A362-9645BC2C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391C1-CA2D-499B-9948-5ADB579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AC7E8-4AA7-4083-B785-380CDD7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CDF21-0C6C-469F-9FA7-13B3BBA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8E6EB-A859-49E9-8CF4-9500851E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1229D-CBEB-488C-80C4-2273FF9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B7FEF-EDD4-4AA4-ABEC-CAC6CE8D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B29FA-AC72-4A21-A259-50F9FACC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D8CF-5C2E-4418-8FD9-CC715E85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F7A9-565C-4092-A64A-548BE979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936B-36C2-4F50-A451-E1F30DF2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75B-647F-4713-B7E8-348B8B98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224F-DDE7-41E1-875A-9A6A8255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615D-EED8-41E5-BB94-FD691B55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C5AF-85ED-4132-8F55-CDFDB106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EB02-B30C-44FF-82E1-819604FA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6DF6-E6A9-4116-8106-11F9B6CD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9AAB-FAC5-4F52-BE00-6EB3F9CE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5752-D28E-49DF-B815-D2A82D73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B719-004F-4535-A17E-F4AAEA1C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007E-61DE-45B5-810B-8E949BEF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A5CE-5DA6-42D0-BBA4-4928D8C4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201-337D-4F84-A739-ABE89C15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48C3-70E9-44A5-B8D8-38594FE7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1BF6-5795-4890-BCC2-9585BC4A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2CAA-6359-4933-A5DF-3C6848A7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A091D-BF18-4F85-879A-2C18934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03A0-D679-4EC7-98A1-B9C61022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3E1F-3FB0-41DB-82F7-82221F97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741E-88BD-41DF-B9D2-7151543F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8E81-6AE1-4319-B527-F7116353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099A-B95E-4C40-B27F-B6082E51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56A8-6061-4F2D-BEBE-3DA2E7C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A8C-EF49-47CA-914D-9463EE6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4C8E4-657D-474B-9DC8-83C9A5A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077F-2114-4F23-9462-1A93246F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EC0B-8D66-4AC6-9B3A-54AF4D12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1772-58EC-4F70-B1FE-00F35D09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04DA-C779-4F43-9995-3A20C66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00EF-356D-4349-A855-6ADD4136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7779-B368-42CE-8A4A-0753E099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A5E1-B41A-4F4E-B30F-A0ED7760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D2D97-8B12-43E5-A559-0CECB422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9236-16E1-41AD-A076-6C9D7020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70F-311F-421C-8D02-03DB1CC2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B2D05-83E7-43C9-93B0-F6322C8A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DB461-F3EB-4CC1-8FEC-ABD87F9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4DF3-51DE-4CE2-86DC-C3B08F1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9A72D-E1CA-440B-BF00-AE03C7DD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1454B-4BF4-47A7-825B-89362483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AC56-9C48-4B5A-BA6F-EE0682D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D1C9-4A10-4CF5-8501-AFE37BC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F2C5B-F790-4239-AD15-4CF27E2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298FD-C352-4D09-9464-3BE73355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DA16-4446-4927-9006-62D98666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C66-97CD-4C92-BD1C-9ACDC2B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A559-5009-4C0C-B667-181D857C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1498-50A8-4E1D-9A82-E3917FB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07935-A15D-484B-A2C5-00FC6E3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1C290-845B-4FB9-9996-4B64A224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B4E1E-85AB-4C56-93C0-6F18E0C1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DC5AD-4FCC-489F-9695-A37FA74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2DF7-D8FC-4929-9B45-8085ED3D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9C7E-D152-4397-B62B-45E25990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3C3FA-A7CF-43A3-A236-9C6DCC6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2648-7177-4507-BAE5-7983BD18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CAA-89A2-4E28-BF9E-EBA1ACFD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3C585-91F4-42F2-8903-25ED1728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EFAF0-D779-4EF1-84AB-8542F80B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E3C6-D8AF-466B-8748-02B90495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8CE6-D123-4AB4-8DC7-8841C583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BCA6E-74E8-41C8-8355-292E63BA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A707E-5940-4C1A-A6AD-8CB3BB94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6DD70-0EA1-4634-AF76-06BF0A5C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1EC4D-845A-4DEF-9779-BD2946D0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F87FE-FEA1-48DB-A6BE-91DDAC6B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444FD-1A48-4F73-BE42-966DA853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1AE-A7F8-4255-9E47-05843AC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4978D-0C3E-47B0-B761-5226EDC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0B2F5-8C92-4150-BD56-A602799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59BE-46FC-4B9F-982A-D99B205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48DD5-26B6-4A47-BEA6-E0B720CB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C8E04-AB9B-4342-B9B8-9550939D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176B3-89BE-4325-A332-777EFDAB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C622B-9DD5-427A-8385-2377EFB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219AB-D67A-4E32-A7CA-BD04AD04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74E09-FFCE-4536-90B5-60D324DE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489D5-3517-4F3C-9F37-86FFA97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0C1-D63C-4C69-949C-A402037C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9040" y="3106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0422D-601D-4313-988C-F1DE9AC1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774E3-62BA-49FB-8F58-5B07DD4E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8C9A4-3A3D-497C-9E2C-B97FCD4E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53B8B-A9DA-4519-BAEB-10CAE15C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9040" y="3825720"/>
            <a:ext cx="82915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86459-4CAE-40D3-944D-31C174C8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7760" y="110484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1904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7760" y="3825720"/>
            <a:ext cx="40460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D01A2-B16E-40F8-A4F6-81DF6678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2272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6400" y="110484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1904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2272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6400" y="3825720"/>
            <a:ext cx="26697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BF00A-653E-4F5A-B6E6-325685A7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07DD5-FA34-481A-86DA-9825A5BA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4AFD4-9304-4886-A35E-484E542A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A2518-D27E-4208-B46B-41F9B391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263520"/>
            <a:ext cx="9144000" cy="801720"/>
          </a:xfrm>
          <a:prstGeom prst="rect">
            <a:avLst/>
          </a:prstGeom>
          <a:solidFill>
            <a:srgbClr val="c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pic>
        <p:nvPicPr>
          <p:cNvPr id="1" name="Picture 2" descr="C:\Anton\research\projects 2002\open tools\application phase\story\opent tools table.jpg"/>
          <p:cNvPicPr/>
          <p:nvPr/>
        </p:nvPicPr>
        <p:blipFill>
          <a:blip r:embed="rId2"/>
          <a:srcRect l="0" t="2220" r="0" b="3335"/>
          <a:stretch/>
        </p:blipFill>
        <p:spPr>
          <a:xfrm>
            <a:off x="5297400" y="4132440"/>
            <a:ext cx="3846600" cy="2725560"/>
          </a:xfrm>
          <a:prstGeom prst="rect">
            <a:avLst/>
          </a:prstGeom>
          <a:ln w="0">
            <a:noFill/>
          </a:ln>
        </p:spPr>
      </p:pic>
      <p:sp>
        <p:nvSpPr>
          <p:cNvPr id="2" name="矩形 8"/>
          <p:cNvSpPr/>
          <p:nvPr/>
        </p:nvSpPr>
        <p:spPr>
          <a:xfrm>
            <a:off x="5288040" y="4122720"/>
            <a:ext cx="3855960" cy="2735280"/>
          </a:xfrm>
          <a:prstGeom prst="rect">
            <a:avLst/>
          </a:prstGeom>
          <a:solidFill>
            <a:srgbClr val="ffffff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21BF-89A2-413B-9177-D38FE55B4D0B}" type="datetime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754-B094-4EF2-BC8D-0590B4618289}" type="slidenum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4A59-C4FB-415B-8F84-B5B87A1A6A69}" type="datetime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C912-8C19-43D0-971D-E7A1DE4BE26D}" type="slidenum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直接连接符 7"/>
          <p:cNvSpPr/>
          <p:nvPr/>
        </p:nvSpPr>
        <p:spPr>
          <a:xfrm flipH="1">
            <a:off x="915840" y="1247760"/>
            <a:ext cx="7312320" cy="0"/>
          </a:xfrm>
          <a:prstGeom prst="line">
            <a:avLst/>
          </a:prstGeom>
          <a:ln w="19080">
            <a:solidFill>
              <a:srgbClr val="e9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355F-F881-4C66-8BBF-2801BE424FA3}" type="datetime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FD3-F8A5-4EC9-9FF5-6997E8C18969}" type="slidenum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组合 2"/>
          <p:cNvGrpSpPr/>
          <p:nvPr/>
        </p:nvGrpSpPr>
        <p:grpSpPr>
          <a:xfrm>
            <a:off x="2007360" y="1559880"/>
            <a:ext cx="5124240" cy="3799440"/>
            <a:chOff x="2007360" y="1559880"/>
            <a:chExt cx="5124240" cy="3799440"/>
          </a:xfrm>
        </p:grpSpPr>
        <p:sp>
          <p:nvSpPr>
            <p:cNvPr id="478" name="矩形 8"/>
            <p:cNvSpPr/>
            <p:nvPr/>
          </p:nvSpPr>
          <p:spPr>
            <a:xfrm rot="517800">
              <a:off x="2327760" y="4408560"/>
              <a:ext cx="3777120" cy="671040"/>
            </a:xfrm>
            <a:prstGeom prst="rect">
              <a:avLst/>
            </a:prstGeom>
            <a:solidFill>
              <a:srgbClr val="75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479" name="矩形 9"/>
            <p:cNvSpPr/>
            <p:nvPr/>
          </p:nvSpPr>
          <p:spPr>
            <a:xfrm rot="21396600">
              <a:off x="3330360" y="3915000"/>
              <a:ext cx="3784320" cy="671040"/>
            </a:xfrm>
            <a:prstGeom prst="rect">
              <a:avLst/>
            </a:prstGeom>
            <a:solidFill>
              <a:srgbClr val="75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480" name="矩形 10"/>
            <p:cNvSpPr/>
            <p:nvPr/>
          </p:nvSpPr>
          <p:spPr>
            <a:xfrm rot="225000">
              <a:off x="2121840" y="2989440"/>
              <a:ext cx="4894200" cy="820080"/>
            </a:xfrm>
            <a:prstGeom prst="rect">
              <a:avLst/>
            </a:prstGeom>
            <a:solidFill>
              <a:srgbClr val="75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481" name="矩形 11"/>
            <p:cNvSpPr/>
            <p:nvPr/>
          </p:nvSpPr>
          <p:spPr>
            <a:xfrm rot="21196800">
              <a:off x="2681280" y="1926360"/>
              <a:ext cx="3775320" cy="818280"/>
            </a:xfrm>
            <a:prstGeom prst="rect">
              <a:avLst/>
            </a:prstGeom>
            <a:solidFill>
              <a:srgbClr val="75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482" name="矩形 12"/>
            <p:cNvSpPr/>
            <p:nvPr/>
          </p:nvSpPr>
          <p:spPr>
            <a:xfrm rot="225000">
              <a:off x="2028960" y="2874600"/>
              <a:ext cx="4896000" cy="818280"/>
            </a:xfrm>
            <a:prstGeom prst="rect">
              <a:avLst/>
            </a:prstGeom>
            <a:solidFill>
              <a:srgbClr val="e9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483" name="矩形 13"/>
            <p:cNvSpPr/>
            <p:nvPr/>
          </p:nvSpPr>
          <p:spPr>
            <a:xfrm rot="21396600">
              <a:off x="3237120" y="3800160"/>
              <a:ext cx="3784320" cy="671040"/>
            </a:xfrm>
            <a:prstGeom prst="rect">
              <a:avLst/>
            </a:prstGeom>
            <a:solidFill>
              <a:srgbClr val="e92100"/>
            </a:solidFill>
            <a:ln w="0">
              <a:noFill/>
            </a:ln>
            <a:effectLst>
              <a:outerShdw dist="12727" dir="189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484" name="矩形 14"/>
            <p:cNvSpPr/>
            <p:nvPr/>
          </p:nvSpPr>
          <p:spPr>
            <a:xfrm rot="517800">
              <a:off x="2256480" y="4328280"/>
              <a:ext cx="3778920" cy="669240"/>
            </a:xfrm>
            <a:prstGeom prst="rect">
              <a:avLst/>
            </a:prstGeom>
            <a:solidFill>
              <a:srgbClr val="e92100"/>
            </a:solidFill>
            <a:ln w="0">
              <a:noFill/>
            </a:ln>
            <a:effectLst>
              <a:outerShdw dist="12600" dir="162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485" name="矩形 15"/>
            <p:cNvSpPr/>
            <p:nvPr/>
          </p:nvSpPr>
          <p:spPr>
            <a:xfrm rot="21196800">
              <a:off x="2583000" y="1778040"/>
              <a:ext cx="3777120" cy="820080"/>
            </a:xfrm>
            <a:prstGeom prst="rect">
              <a:avLst/>
            </a:prstGeom>
            <a:solidFill>
              <a:srgbClr val="e92100"/>
            </a:solidFill>
            <a:ln w="0">
              <a:noFill/>
            </a:ln>
            <a:effectLst>
              <a:outerShdw dist="12727" dir="81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CF5F-673F-4C90-B385-F192A07F12BC}" type="datetime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2ED-200F-4A03-8A33-910395076A47}" type="slidenum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C:\Anton\research\projects 2002\open tools\application phase\story\opent tools table.jpg"/>
          <p:cNvPicPr/>
          <p:nvPr/>
        </p:nvPicPr>
        <p:blipFill>
          <a:blip r:embed="rId2"/>
          <a:srcRect l="0" t="2220" r="0" b="3335"/>
          <a:stretch/>
        </p:blipFill>
        <p:spPr>
          <a:xfrm>
            <a:off x="5297400" y="4132440"/>
            <a:ext cx="3846600" cy="2725560"/>
          </a:xfrm>
          <a:prstGeom prst="rect">
            <a:avLst/>
          </a:prstGeom>
          <a:ln w="0">
            <a:noFill/>
          </a:ln>
        </p:spPr>
      </p:pic>
      <p:sp>
        <p:nvSpPr>
          <p:cNvPr id="528" name="矩形 7"/>
          <p:cNvSpPr/>
          <p:nvPr/>
        </p:nvSpPr>
        <p:spPr>
          <a:xfrm>
            <a:off x="5288040" y="4122720"/>
            <a:ext cx="3855960" cy="2735280"/>
          </a:xfrm>
          <a:prstGeom prst="rect">
            <a:avLst/>
          </a:prstGeom>
          <a:solidFill>
            <a:srgbClr val="ffffff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E310-2A55-4EA9-999D-ECFD40FCF730}" type="datetime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7AAB-2126-4C3E-BCD1-BC7A82C63107}" type="slidenum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9"/>
          <p:cNvSpPr/>
          <p:nvPr/>
        </p:nvSpPr>
        <p:spPr>
          <a:xfrm>
            <a:off x="0" y="263520"/>
            <a:ext cx="9144000" cy="801720"/>
          </a:xfrm>
          <a:prstGeom prst="rect">
            <a:avLst/>
          </a:prstGeom>
          <a:solidFill>
            <a:srgbClr val="c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pic>
        <p:nvPicPr>
          <p:cNvPr id="571" name="Picture 2" descr="C:\Anton\research\projects 2002\open tools\application phase\story\opent tools table.jpg"/>
          <p:cNvPicPr/>
          <p:nvPr/>
        </p:nvPicPr>
        <p:blipFill>
          <a:blip r:embed="rId2"/>
          <a:srcRect l="0" t="2220" r="0" b="3335"/>
          <a:stretch/>
        </p:blipFill>
        <p:spPr>
          <a:xfrm>
            <a:off x="5297400" y="4132440"/>
            <a:ext cx="3846600" cy="2725560"/>
          </a:xfrm>
          <a:prstGeom prst="rect">
            <a:avLst/>
          </a:prstGeom>
          <a:ln w="0">
            <a:noFill/>
          </a:ln>
        </p:spPr>
      </p:pic>
      <p:sp>
        <p:nvSpPr>
          <p:cNvPr id="572" name="矩形 8"/>
          <p:cNvSpPr/>
          <p:nvPr/>
        </p:nvSpPr>
        <p:spPr>
          <a:xfrm>
            <a:off x="5288040" y="4122720"/>
            <a:ext cx="3855960" cy="2735280"/>
          </a:xfrm>
          <a:prstGeom prst="rect">
            <a:avLst/>
          </a:prstGeom>
          <a:solidFill>
            <a:srgbClr val="ffffff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4366-0962-4C3A-AE91-D4BE76FC25CC}" type="datetime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EFBF-77E8-451C-85AA-E69866ED66F8}" type="slidenum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0" y="263520"/>
            <a:ext cx="9144000" cy="801720"/>
          </a:xfrm>
          <a:prstGeom prst="rect">
            <a:avLst/>
          </a:prstGeom>
          <a:solidFill>
            <a:srgbClr val="c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pic>
        <p:nvPicPr>
          <p:cNvPr id="45" name="Picture 2" descr="C:\Anton\research\projects 2002\open tools\application phase\story\opent tools table.jpg"/>
          <p:cNvPicPr/>
          <p:nvPr/>
        </p:nvPicPr>
        <p:blipFill>
          <a:blip r:embed="rId2"/>
          <a:srcRect l="0" t="2220" r="0" b="3335"/>
          <a:stretch/>
        </p:blipFill>
        <p:spPr>
          <a:xfrm>
            <a:off x="5297400" y="4132440"/>
            <a:ext cx="3846600" cy="2725560"/>
          </a:xfrm>
          <a:prstGeom prst="rect">
            <a:avLst/>
          </a:prstGeom>
          <a:ln w="0">
            <a:noFill/>
          </a:ln>
        </p:spPr>
      </p:pic>
      <p:sp>
        <p:nvSpPr>
          <p:cNvPr id="46" name="矩形 8"/>
          <p:cNvSpPr/>
          <p:nvPr/>
        </p:nvSpPr>
        <p:spPr>
          <a:xfrm>
            <a:off x="5288040" y="4122720"/>
            <a:ext cx="3855960" cy="2735280"/>
          </a:xfrm>
          <a:prstGeom prst="rect">
            <a:avLst/>
          </a:prstGeom>
          <a:solidFill>
            <a:srgbClr val="ffffff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1293-6AC1-40BC-A7F0-048808986C9C}" type="datetime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E743-1354-4DCF-BB36-A71B9DF57CF4}" type="slidenum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Anton\research\projects 2002\open tools\application phase\story\opent tools table.jpg"/>
          <p:cNvPicPr/>
          <p:nvPr/>
        </p:nvPicPr>
        <p:blipFill>
          <a:blip r:embed="rId2"/>
          <a:srcRect l="0" t="2220" r="29622" b="3335"/>
          <a:stretch/>
        </p:blipFill>
        <p:spPr>
          <a:xfrm>
            <a:off x="2700360" y="380880"/>
            <a:ext cx="6435720" cy="647712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0" y="1557360"/>
            <a:ext cx="9144000" cy="2857320"/>
          </a:xfrm>
          <a:prstGeom prst="rect">
            <a:avLst/>
          </a:prstGeom>
          <a:solidFill>
            <a:srgbClr val="c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680B-BF92-4B3E-A159-07F5A8A513DF}" type="datetime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59DD-BB35-4CFC-8592-13ACEBA0022E}" type="slidenum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F16-D679-4906-A7F1-3EBF1D4639FB}" type="datetime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D07A-1088-4CA2-AE73-0119F8806329}" type="slidenum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7"/>
          <p:cNvSpPr/>
          <p:nvPr/>
        </p:nvSpPr>
        <p:spPr>
          <a:xfrm flipH="1">
            <a:off x="915840" y="1247760"/>
            <a:ext cx="7312320" cy="0"/>
          </a:xfrm>
          <a:prstGeom prst="line">
            <a:avLst/>
          </a:prstGeom>
          <a:ln w="19080">
            <a:solidFill>
              <a:srgbClr val="e9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E17D-AF5C-4C2C-BE67-03226F6D7E8A}" type="datetime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6584-19E7-4972-BED7-04BE58F167F3}" type="slidenum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"/>
          <p:cNvGrpSpPr/>
          <p:nvPr/>
        </p:nvGrpSpPr>
        <p:grpSpPr>
          <a:xfrm>
            <a:off x="2007360" y="1559880"/>
            <a:ext cx="5124240" cy="3799440"/>
            <a:chOff x="2007360" y="1559880"/>
            <a:chExt cx="5124240" cy="3799440"/>
          </a:xfrm>
        </p:grpSpPr>
        <p:sp>
          <p:nvSpPr>
            <p:cNvPr id="215" name="矩形 8"/>
            <p:cNvSpPr/>
            <p:nvPr/>
          </p:nvSpPr>
          <p:spPr>
            <a:xfrm rot="517800">
              <a:off x="2327760" y="4408560"/>
              <a:ext cx="3777120" cy="671040"/>
            </a:xfrm>
            <a:prstGeom prst="rect">
              <a:avLst/>
            </a:prstGeom>
            <a:solidFill>
              <a:srgbClr val="75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216" name="矩形 9"/>
            <p:cNvSpPr/>
            <p:nvPr/>
          </p:nvSpPr>
          <p:spPr>
            <a:xfrm rot="21396600">
              <a:off x="3330360" y="3915000"/>
              <a:ext cx="3784320" cy="671040"/>
            </a:xfrm>
            <a:prstGeom prst="rect">
              <a:avLst/>
            </a:prstGeom>
            <a:solidFill>
              <a:srgbClr val="75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217" name="矩形 10"/>
            <p:cNvSpPr/>
            <p:nvPr/>
          </p:nvSpPr>
          <p:spPr>
            <a:xfrm rot="225000">
              <a:off x="2121840" y="2989440"/>
              <a:ext cx="4894200" cy="820080"/>
            </a:xfrm>
            <a:prstGeom prst="rect">
              <a:avLst/>
            </a:prstGeom>
            <a:solidFill>
              <a:srgbClr val="75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218" name="矩形 11"/>
            <p:cNvSpPr/>
            <p:nvPr/>
          </p:nvSpPr>
          <p:spPr>
            <a:xfrm rot="21196800">
              <a:off x="2681280" y="1926360"/>
              <a:ext cx="3775320" cy="818280"/>
            </a:xfrm>
            <a:prstGeom prst="rect">
              <a:avLst/>
            </a:prstGeom>
            <a:solidFill>
              <a:srgbClr val="75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219" name="矩形 12"/>
            <p:cNvSpPr/>
            <p:nvPr/>
          </p:nvSpPr>
          <p:spPr>
            <a:xfrm rot="225000">
              <a:off x="2028960" y="2874600"/>
              <a:ext cx="4896000" cy="818280"/>
            </a:xfrm>
            <a:prstGeom prst="rect">
              <a:avLst/>
            </a:prstGeom>
            <a:solidFill>
              <a:srgbClr val="e9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220" name="矩形 13"/>
            <p:cNvSpPr/>
            <p:nvPr/>
          </p:nvSpPr>
          <p:spPr>
            <a:xfrm rot="21396600">
              <a:off x="3237120" y="3800160"/>
              <a:ext cx="3784320" cy="671040"/>
            </a:xfrm>
            <a:prstGeom prst="rect">
              <a:avLst/>
            </a:prstGeom>
            <a:solidFill>
              <a:srgbClr val="e92100"/>
            </a:solidFill>
            <a:ln w="0">
              <a:noFill/>
            </a:ln>
            <a:effectLst>
              <a:outerShdw dist="12727" dir="189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221" name="矩形 14"/>
            <p:cNvSpPr/>
            <p:nvPr/>
          </p:nvSpPr>
          <p:spPr>
            <a:xfrm rot="517800">
              <a:off x="2256480" y="4328280"/>
              <a:ext cx="3778920" cy="669240"/>
            </a:xfrm>
            <a:prstGeom prst="rect">
              <a:avLst/>
            </a:prstGeom>
            <a:solidFill>
              <a:srgbClr val="e92100"/>
            </a:solidFill>
            <a:ln w="0">
              <a:noFill/>
            </a:ln>
            <a:effectLst>
              <a:outerShdw dist="12600" dir="162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  <p:sp>
          <p:nvSpPr>
            <p:cNvPr id="222" name="矩形 15"/>
            <p:cNvSpPr/>
            <p:nvPr/>
          </p:nvSpPr>
          <p:spPr>
            <a:xfrm rot="21196800">
              <a:off x="2583000" y="1778040"/>
              <a:ext cx="3777120" cy="820080"/>
            </a:xfrm>
            <a:prstGeom prst="rect">
              <a:avLst/>
            </a:prstGeom>
            <a:solidFill>
              <a:srgbClr val="e92100"/>
            </a:solidFill>
            <a:ln w="0">
              <a:noFill/>
            </a:ln>
            <a:effectLst>
              <a:outerShdw dist="12727" dir="81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6464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237-D786-4DBF-9BE1-9E960A02A0C5}" type="datetime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44AB-8225-42A7-92F2-9EABF1E5664C}" type="slidenum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Anton\research\projects 2002\open tools\application phase\story\opent tools table.jpg"/>
          <p:cNvPicPr/>
          <p:nvPr/>
        </p:nvPicPr>
        <p:blipFill>
          <a:blip r:embed="rId2"/>
          <a:srcRect l="0" t="2220" r="0" b="3335"/>
          <a:stretch/>
        </p:blipFill>
        <p:spPr>
          <a:xfrm>
            <a:off x="5297400" y="4132440"/>
            <a:ext cx="3846600" cy="2725560"/>
          </a:xfrm>
          <a:prstGeom prst="rect">
            <a:avLst/>
          </a:prstGeom>
          <a:ln w="0">
            <a:noFill/>
          </a:ln>
        </p:spPr>
      </p:pic>
      <p:sp>
        <p:nvSpPr>
          <p:cNvPr id="265" name="矩形 7"/>
          <p:cNvSpPr/>
          <p:nvPr/>
        </p:nvSpPr>
        <p:spPr>
          <a:xfrm>
            <a:off x="5288040" y="4122720"/>
            <a:ext cx="3855960" cy="2735280"/>
          </a:xfrm>
          <a:prstGeom prst="rect">
            <a:avLst/>
          </a:prstGeom>
          <a:solidFill>
            <a:srgbClr val="ffffff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2EC-4F7E-4D23-A4C3-3B3AD312952A}" type="datetime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897A-8B5C-49BB-8F83-71AB692BAE24}" type="slidenum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9"/>
          <p:cNvSpPr/>
          <p:nvPr/>
        </p:nvSpPr>
        <p:spPr>
          <a:xfrm>
            <a:off x="0" y="263520"/>
            <a:ext cx="9144000" cy="801720"/>
          </a:xfrm>
          <a:prstGeom prst="rect">
            <a:avLst/>
          </a:prstGeom>
          <a:solidFill>
            <a:srgbClr val="c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pic>
        <p:nvPicPr>
          <p:cNvPr id="308" name="Picture 2" descr="C:\Anton\research\projects 2002\open tools\application phase\story\opent tools table.jpg"/>
          <p:cNvPicPr/>
          <p:nvPr/>
        </p:nvPicPr>
        <p:blipFill>
          <a:blip r:embed="rId2"/>
          <a:srcRect l="0" t="2220" r="0" b="3335"/>
          <a:stretch/>
        </p:blipFill>
        <p:spPr>
          <a:xfrm>
            <a:off x="5297400" y="4132440"/>
            <a:ext cx="3846600" cy="2725560"/>
          </a:xfrm>
          <a:prstGeom prst="rect">
            <a:avLst/>
          </a:prstGeom>
          <a:ln w="0">
            <a:noFill/>
          </a:ln>
        </p:spPr>
      </p:pic>
      <p:sp>
        <p:nvSpPr>
          <p:cNvPr id="309" name="矩形 8"/>
          <p:cNvSpPr/>
          <p:nvPr/>
        </p:nvSpPr>
        <p:spPr>
          <a:xfrm>
            <a:off x="5288040" y="4122720"/>
            <a:ext cx="3855960" cy="2735280"/>
          </a:xfrm>
          <a:prstGeom prst="rect">
            <a:avLst/>
          </a:prstGeom>
          <a:solidFill>
            <a:srgbClr val="ffffff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197B-82F8-41EF-9473-773760FDEB79}" type="datetime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462-3FE6-45D0-845E-BAE411213450}" type="slidenum">
              <a:rPr b="0" lang="zh-CN" sz="1200" spc="-1" strike="noStrike">
                <a:solidFill>
                  <a:srgbClr val="a1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C:\Anton\research\projects 2002\open tools\application phase\story\opent tools table.jpg"/>
          <p:cNvPicPr/>
          <p:nvPr/>
        </p:nvPicPr>
        <p:blipFill>
          <a:blip r:embed="rId2"/>
          <a:srcRect l="0" t="2220" r="29622" b="3335"/>
          <a:stretch/>
        </p:blipFill>
        <p:spPr>
          <a:xfrm>
            <a:off x="2700360" y="380880"/>
            <a:ext cx="6435720" cy="6477120"/>
          </a:xfrm>
          <a:prstGeom prst="rect">
            <a:avLst/>
          </a:prstGeom>
          <a:ln w="0">
            <a:noFill/>
          </a:ln>
        </p:spPr>
      </p:pic>
      <p:sp>
        <p:nvSpPr>
          <p:cNvPr id="352" name="矩形 8"/>
          <p:cNvSpPr/>
          <p:nvPr/>
        </p:nvSpPr>
        <p:spPr>
          <a:xfrm>
            <a:off x="0" y="1557360"/>
            <a:ext cx="9144000" cy="2857320"/>
          </a:xfrm>
          <a:prstGeom prst="rect">
            <a:avLst/>
          </a:prstGeom>
          <a:solidFill>
            <a:srgbClr val="c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1" marL="345960" indent="56844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2" marL="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3" marL="1371600" indent="-4572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4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35323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5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  <a:p>
            <a:pPr lvl="6" marL="1828800" indent="-914400" algn="just">
              <a:lnSpc>
                <a:spcPct val="130000"/>
              </a:lnSpc>
              <a:spcBef>
                <a:spcPts val="1800"/>
              </a:spcBef>
              <a:buClr>
                <a:srgbClr val="6964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21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e92100"/>
              </a:solidFill>
              <a:latin typeface="黑体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ADFC-46D7-41F7-A593-C8DE61FDED15}" type="datetime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19f9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F0B-1690-4655-8393-6935B11944DC}" type="slidenum">
              <a:rPr b="0" lang="zh-CN" sz="1200" spc="-1" strike="noStrike">
                <a:solidFill>
                  <a:srgbClr val="a19f9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宋体"/>
              </a:rPr>
              <a:t>四年级知识抢答</a:t>
            </a:r>
            <a:endParaRPr b="0" lang="en-US" sz="6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二氧化碳气体在很冷时会变成固体，它叫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干冰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铁道上的铁轨为什么都是一段一段的，并且还要留有缝隙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防止铁轨热胀冷缩后变形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696464"/>
                </a:solidFill>
                <a:latin typeface="黑体"/>
              </a:rPr>
              <a:t>铁在广口瓶上放一个略大于广口瓶口径的去掉外壳的熟鸡蛋，将广口瓶放入冰水中后，鸡蛋落入瓶中。请解释这一现象。</a:t>
            </a:r>
            <a:endParaRPr b="0" lang="en-US" sz="43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9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696464"/>
                </a:solidFill>
                <a:latin typeface="黑体"/>
              </a:rPr>
              <a:t>答案：瓶内气体受冷收缩。瓶内气压变小。</a:t>
            </a:r>
            <a:endParaRPr b="0" lang="en-US" sz="43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8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太阳能热水器内如果装满了水，水被晒热后，会从回水管中排出一些水，这是为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8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水变热后体积膨胀了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水结冰时的温度是多少华氏度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</a:t>
            </a: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32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华氏度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太阳能管子一般都做成黑色的，为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黑色吸热好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中午太阳下，沙滩的温度和海水的温度比，哪个高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沙滩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中夏天，自行车车胎的气要打的满一点还是少一点？为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少一点。多了会爆胎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7560" y="3696480"/>
            <a:ext cx="57625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7560" y="2126880"/>
            <a:ext cx="5762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ffff"/>
                </a:solidFill>
                <a:latin typeface="黑体"/>
              </a:rPr>
              <a:t>下半场</a:t>
            </a:r>
            <a:endParaRPr b="0" lang="en-US" sz="13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冬天，架电线应把它架得松点还是紧一点？为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紧一点。夏天会热胀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19040" y="1217160"/>
            <a:ext cx="85694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一</a:t>
            </a:r>
            <a:r>
              <a:rPr b="1" lang="en-US" sz="2800" spc="-1" strike="noStrike">
                <a:solidFill>
                  <a:srgbClr val="696464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分上半场（</a:t>
            </a:r>
            <a:r>
              <a:rPr b="1" lang="en-US" sz="2800" spc="-1" strike="noStrike">
                <a:solidFill>
                  <a:srgbClr val="696464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题）、下半场（</a:t>
            </a:r>
            <a:r>
              <a:rPr b="1" lang="en-US" sz="2800" spc="-1" strike="noStrike">
                <a:solidFill>
                  <a:srgbClr val="696464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）题，共</a:t>
            </a:r>
            <a:r>
              <a:rPr b="1" lang="en-US" sz="2800" spc="-1" strike="noStrike">
                <a:solidFill>
                  <a:srgbClr val="696464"/>
                </a:solidFill>
                <a:latin typeface="黑体"/>
              </a:rPr>
              <a:t>30</a:t>
            </a:r>
            <a:r>
              <a:rPr b="1" lang="zh-CN" sz="2000" spc="-1" strike="noStrike">
                <a:solidFill>
                  <a:srgbClr val="696464"/>
                </a:solidFill>
                <a:latin typeface="黑体"/>
              </a:rPr>
              <a:t>题。</a:t>
            </a:r>
            <a:endParaRPr b="0" lang="en-US" sz="2000" spc="-1" strike="noStrike">
              <a:solidFill>
                <a:srgbClr val="e92100"/>
              </a:solidFill>
              <a:latin typeface="黑体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二</a:t>
            </a:r>
            <a:r>
              <a:rPr b="1" lang="en-US" sz="2800" spc="-1" strike="noStrike">
                <a:solidFill>
                  <a:srgbClr val="696464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抢到答题权并答对得</a:t>
            </a:r>
            <a:r>
              <a:rPr b="1" lang="en-US" sz="2800" spc="-1" strike="noStrike">
                <a:solidFill>
                  <a:srgbClr val="696464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分，抢到但答错此题不得分，并且倒扣</a:t>
            </a:r>
            <a:r>
              <a:rPr b="1" lang="en-US" sz="2800" spc="-1" strike="noStrike">
                <a:solidFill>
                  <a:srgbClr val="696464"/>
                </a:solidFill>
                <a:latin typeface="黑体"/>
              </a:rPr>
              <a:t>10</a:t>
            </a:r>
            <a:r>
              <a:rPr b="1" lang="zh-CN" sz="2000" spc="-1" strike="noStrike">
                <a:solidFill>
                  <a:srgbClr val="696464"/>
                </a:solidFill>
                <a:latin typeface="黑体"/>
              </a:rPr>
              <a:t>分，公布正确答案。</a:t>
            </a:r>
            <a:endParaRPr b="0" lang="en-US" sz="2000" spc="-1" strike="noStrike">
              <a:solidFill>
                <a:srgbClr val="e92100"/>
              </a:solidFill>
              <a:latin typeface="黑体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三</a:t>
            </a:r>
            <a:r>
              <a:rPr b="1" lang="en-US" sz="2800" spc="-1" strike="noStrike">
                <a:solidFill>
                  <a:srgbClr val="696464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696464"/>
                </a:solidFill>
                <a:latin typeface="黑体"/>
              </a:rPr>
              <a:t>上半场结束，选出得分最高的前三个班级进入下半场抢答。</a:t>
            </a:r>
            <a:endParaRPr b="0" lang="en-US" sz="2800" spc="-1" strike="noStrike">
              <a:solidFill>
                <a:srgbClr val="e92100"/>
              </a:solidFill>
              <a:latin typeface="黑体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特别提醒：必须等老师读完题说开始抢答再开始，提前抢答者扣十分</a:t>
            </a:r>
            <a:endParaRPr b="0" lang="en-US" sz="2800" spc="-1" strike="noStrike">
              <a:solidFill>
                <a:srgbClr val="e92100"/>
              </a:solidFill>
              <a:latin typeface="黑体"/>
            </a:endParaRPr>
          </a:p>
        </p:txBody>
      </p:sp>
      <p:pic>
        <p:nvPicPr>
          <p:cNvPr id="617" name="标题 1" descr=""/>
          <p:cNvPicPr/>
          <p:nvPr/>
        </p:nvPicPr>
        <p:blipFill>
          <a:blip r:embed="rId1"/>
          <a:stretch/>
        </p:blipFill>
        <p:spPr>
          <a:xfrm>
            <a:off x="419040" y="228600"/>
            <a:ext cx="8291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我们说话是由身体的哪个部位发出来的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声带振动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“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伏罂而听</a:t>
            </a: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”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这个成语是运用了什么科学道理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固体传声效果好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说说耳的构造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耳廓</a:t>
            </a: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——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外耳道</a:t>
            </a: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——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鼓膜</a:t>
            </a: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——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听小骨</a:t>
            </a: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——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耳蜗</a:t>
            </a: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——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听神经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耳朵里哪个部位是产生振动的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鼓膜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学校的彩旗飘向东南方向，此时吹什么风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西北风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你能说出六大主要营养成分是什么吗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碳水化合物、蛋白质、脂肪、维生素、矿物质、水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检验淀粉我们用什么东西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碘酒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有两块玻璃，一块涂成白色，一块涂成黑色，放在阳光下照一会儿，用手摸一摸，哪块温度高？为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黑色吸热好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一只盛满水的玻璃杯，把杯子里面的水全部倒掉后，什么进入了杯子里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空气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生活中的哪些地方利用了压缩空气？（至少回答</a:t>
            </a:r>
            <a:r>
              <a:rPr b="0" lang="en-US" sz="4800" spc="-1" strike="noStrike">
                <a:solidFill>
                  <a:srgbClr val="696464"/>
                </a:solidFill>
                <a:latin typeface="黑体"/>
              </a:rPr>
              <a:t>3</a:t>
            </a: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个）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给气球打气，气垫船，注射器应用，汽车门开关的控制等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空气中能支持燃烧的气体是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氧气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用冰块冷却食物，食物应放在冰块的哪一方？为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下方，因为冷空气往下运动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在医院里急救病人时要使用呼吸机，呼吸机中的气体应该是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氧气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9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绿色植物进行光合作用时，作为原料的一种气体是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二氧化碳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你能说出空气的主要成分是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氮气、氧气、二氧化碳、水蒸气等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冬天装暖气片，应装在房间的上方还是下方？为什么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下方。热空气向上流动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8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从冰箱里拿出来的冷瓶壁上一会儿出现了很多细密的小水珠。你知道小水珠是怎么来的吗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8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空气中的水蒸气遇冷凝结成的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开水在变冷时有一定的规律，你知道是什么规律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降温先快后慢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热是可以传递的，在固体中它以什么方式来传递的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传导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酒精灯的火焰可以分成几个部分？加热物体时一般把它放在哪部分加热？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两部分。外焰加热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3106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题目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19040" y="1104840"/>
            <a:ext cx="82915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要把湿衣服快速晒干，可以怎么做？（至少给出两种方案）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  <a:p>
            <a:pPr marL="357120" indent="-271440" algn="just">
              <a:lnSpc>
                <a:spcPct val="130000"/>
              </a:lnSpc>
              <a:spcBef>
                <a:spcPts val="1800"/>
              </a:spcBef>
              <a:buClr>
                <a:srgbClr val="e92100"/>
              </a:buClr>
              <a:buSzPct val="9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96464"/>
                </a:solidFill>
                <a:latin typeface="黑体"/>
              </a:rPr>
              <a:t>答案：把湿衣服展开、挂在有阳光的地方、挂在通风处。</a:t>
            </a:r>
            <a:endParaRPr b="0" lang="en-US" sz="4800" spc="-1" strike="noStrike">
              <a:solidFill>
                <a:srgbClr val="e921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6T03:18:05Z</dcterms:created>
  <dc:creator>Administrator</dc:creator>
  <dc:description/>
  <dc:language>en-US</dc:language>
  <cp:lastModifiedBy>1411803670</cp:lastModifiedBy>
  <dcterms:modified xsi:type="dcterms:W3CDTF">2017-12-13T02:15:42Z</dcterms:modified>
  <cp:revision>5</cp:revision>
  <dc:subject/>
  <dc:title>四年级知识抢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