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6CA2-B606-4571-BC5C-5F9E2C53F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190E-8C87-4202-85BA-70C36ABE9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DBA2-4758-497A-9092-5A75FD8B4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AC32-8F1B-45DB-8520-59800B458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601A-B413-4756-AA74-0F7D96A8C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E294-B45E-4C7E-8768-023EBEEC5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6293-2ECE-430E-874F-7AF4552A7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1EB5-2BC0-4528-A3B3-DABBDA4B2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7C8E-F842-4853-BFA0-BF577E246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6A88-CA03-462B-9015-CAFA061C9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1C4F-1955-479B-8151-736626FF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3F7D-7782-4FBF-B522-69750576C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EC1E0-BC9A-4C91-A75F-A02C4DA43B2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常州市中小学、幼儿园推荐申报教师专业技术资格人员信息表操作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1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692360" y="4292640"/>
            <a:ext cx="712944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打开“常州市中小学、幼儿园推荐申报教师专业技术资格人员信息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xls”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从“所在学校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处开始粘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899640" y="2565360"/>
            <a:ext cx="2303640" cy="19432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0" t="0" r="0" b="16391"/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476360" y="4292640"/>
            <a:ext cx="712944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在 “附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常州市中小学、幼儿园推荐申报教师专业技术资格人员信息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xls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按要求填写其他部分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16720" y="2563920"/>
            <a:ext cx="2376360" cy="16570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1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职称多元评价报名工作仍采用从”江苏省中小学教职工信息管理系统” 导出数据方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随着教育信息化发展，越来越多的教育人事工作将依托”江苏省中小学教职工信息管理系统”的数据在网上开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教职工信息管理系统中数据的准确性、完整性和及时性将越来越影响工作质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工作要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各校使用“江苏省中小学教职工信息管理系统”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ttp://jste.net.cn/uids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导出所有自主申报职称人员信息，并按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1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常州市中小学、幼儿园推荐申报教师专业技术资格人员信息表 》样式进行编辑、排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打开江苏省中小学教职工信息管理系统，使用学校信息库管理员账号登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7632720" cy="4680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319120" y="6093000"/>
            <a:ext cx="484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网址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ttp://jste.net.cn/uid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9280" y="4221000"/>
            <a:ext cx="1079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35280" y="522936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登录后，点击“教职工信息浏览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1115640" y="4797360"/>
            <a:ext cx="576360" cy="6494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619280" y="292428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将每页改为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00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00720" y="3860640"/>
            <a:ext cx="576000" cy="2592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411280" y="314172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勾选学校择优推荐的申报人员信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050560" y="5084640"/>
            <a:ext cx="792360" cy="1368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11280" y="443700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点击“导出选中的教师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76360" y="1268280"/>
            <a:ext cx="287280" cy="51134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35280" y="2133720"/>
            <a:ext cx="518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选择所有红框内的字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5516640"/>
            <a:ext cx="518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点击“导出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067280" y="6021360"/>
            <a:ext cx="576000" cy="5032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042920" y="4653000"/>
            <a:ext cx="712944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右击“文件下载”，选择“目标另存为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500720" y="2420640"/>
            <a:ext cx="1511280" cy="2160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11280" y="4724280"/>
            <a:ext cx="7129440" cy="136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打开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另存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后，从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行开始选中所有数据，并复制它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1116000" y="2060280"/>
            <a:ext cx="3384720" cy="2663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4T07:47:16Z</dcterms:created>
  <dc:creator>水虎远</dc:creator>
  <dc:description/>
  <dc:language>en-US</dc:language>
  <cp:lastModifiedBy>Administrator</cp:lastModifiedBy>
  <dcterms:modified xsi:type="dcterms:W3CDTF">2019-06-24T07:21:56Z</dcterms:modified>
  <cp:revision>31</cp:revision>
  <dc:subject/>
  <dc:title>幻灯片 1</dc:title>
</cp:coreProperties>
</file>