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503-E002-4A6F-968C-C21F4257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F8F5-9409-4AA1-ABF6-E0B8DFBA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EED2-3A5E-4390-94D8-55731261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4BD-04EA-48C0-8E6C-529D22D0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68F-0402-40DA-8FDF-F9578193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113-EE9E-4326-873C-88238EE9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061-F72B-4ED8-A7D2-737331E9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DAE-A21C-4451-8BEF-0A9E79CF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EA0F-C352-449C-BBC0-D8EAD903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B9B-E4D9-421C-A350-D0E6723A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96DB-1CEE-4D83-8115-17062B0D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6DB-5196-461E-AFAE-3159EE88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E539-1ED8-471D-8795-90B9B56455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522360" y="412920"/>
            <a:ext cx="438120" cy="474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90504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5"/>
          <p:cNvSpPr/>
          <p:nvPr/>
        </p:nvSpPr>
        <p:spPr>
          <a:xfrm>
            <a:off x="646200" y="835200"/>
            <a:ext cx="422280" cy="474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6"/>
          <p:cNvSpPr/>
          <p:nvPr/>
        </p:nvSpPr>
        <p:spPr>
          <a:xfrm>
            <a:off x="10159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3184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8"/>
          <p:cNvSpPr/>
          <p:nvPr/>
        </p:nvSpPr>
        <p:spPr>
          <a:xfrm>
            <a:off x="536400" y="1035000"/>
            <a:ext cx="8226720" cy="46080"/>
          </a:xfrm>
          <a:prstGeom prst="rect">
            <a:avLst/>
          </a:prstGeom>
          <a:gradFill rotWithShape="0">
            <a:gsLst>
              <a:gs pos="0">
                <a:srgbClr val="000058"/>
              </a:gs>
              <a:gs pos="100000">
                <a:srgbClr val="fdd7e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9"/>
          <p:cNvSpPr/>
          <p:nvPr/>
        </p:nvSpPr>
        <p:spPr>
          <a:xfrm>
            <a:off x="885960" y="304920"/>
            <a:ext cx="31680" cy="10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1357200" y="2962440"/>
            <a:ext cx="6572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华文隶书"/>
                <a:ea typeface="华文隶书"/>
              </a:rPr>
              <a:t>12.3</a:t>
            </a:r>
            <a:r>
              <a:rPr b="1" lang="en-US" sz="4800" spc="-1" strike="noStrike">
                <a:solidFill>
                  <a:srgbClr val="0000cc"/>
                </a:solidFill>
                <a:latin typeface="华文隶书"/>
                <a:ea typeface="华文隶书"/>
              </a:rPr>
              <a:t>   </a:t>
            </a:r>
            <a:r>
              <a:rPr b="1" lang="zh-CN" sz="4800" spc="-1" strike="noStrike">
                <a:solidFill>
                  <a:srgbClr val="0000cc"/>
                </a:solidFill>
                <a:latin typeface="华文隶书"/>
                <a:ea typeface="华文隶书"/>
              </a:rPr>
              <a:t>互逆命题（</a:t>
            </a:r>
            <a:r>
              <a:rPr b="1" lang="en-US" sz="4800" spc="-1" strike="noStrike">
                <a:solidFill>
                  <a:srgbClr val="0000cc"/>
                </a:solidFill>
                <a:latin typeface="华文隶书"/>
                <a:ea typeface="华文隶书"/>
              </a:rPr>
              <a:t>2</a:t>
            </a:r>
            <a:r>
              <a:rPr b="1" lang="zh-CN" sz="4800" spc="-1" strike="noStrike">
                <a:solidFill>
                  <a:srgbClr val="0000cc"/>
                </a:solidFill>
                <a:latin typeface="华文隶书"/>
                <a:ea typeface="华文隶书"/>
              </a:rPr>
              <a:t>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5"/>
          <p:cNvSpPr/>
          <p:nvPr/>
        </p:nvSpPr>
        <p:spPr>
          <a:xfrm>
            <a:off x="928800" y="2371680"/>
            <a:ext cx="74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本节课你学到什么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3348000" y="285840"/>
            <a:ext cx="2087640" cy="718920"/>
          </a:xfrm>
          <a:prstGeom prst="rect">
            <a:avLst/>
          </a:prstGeom>
          <a:solidFill>
            <a:srgbClr val="2f2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收  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活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18600" y="1417320"/>
            <a:ext cx="813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能说出两个命题：它们不仅是互逆命题，而且都是真命题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4099"/>
          <p:cNvSpPr/>
          <p:nvPr/>
        </p:nvSpPr>
        <p:spPr>
          <a:xfrm>
            <a:off x="949320" y="3106800"/>
            <a:ext cx="54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两直线平行，同位角相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矩形 4100"/>
          <p:cNvSpPr/>
          <p:nvPr/>
        </p:nvSpPr>
        <p:spPr>
          <a:xfrm>
            <a:off x="561960" y="411804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同位角相等，两直线平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26560" y="1483920"/>
            <a:ext cx="7705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已知：如图直线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b∥a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∥a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求证：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b∥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证明：作直线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的截线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因为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b∥a(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所以 ∠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=∠1(                           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因为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∥a (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所以∠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=∠1(                       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所以∠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=∠3(     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所以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b∥c(                      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372360" y="3933720"/>
            <a:ext cx="2771640" cy="266868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5123"/>
          <p:cNvSpPr/>
          <p:nvPr/>
        </p:nvSpPr>
        <p:spPr>
          <a:xfrm>
            <a:off x="2824200" y="33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矩形 5124"/>
          <p:cNvSpPr/>
          <p:nvPr/>
        </p:nvSpPr>
        <p:spPr>
          <a:xfrm>
            <a:off x="2771640" y="3141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已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矩形 5125"/>
          <p:cNvSpPr/>
          <p:nvPr/>
        </p:nvSpPr>
        <p:spPr>
          <a:xfrm>
            <a:off x="3492360" y="3716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两直线平行，同位角相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矩形 5126"/>
          <p:cNvSpPr/>
          <p:nvPr/>
        </p:nvSpPr>
        <p:spPr>
          <a:xfrm>
            <a:off x="2771640" y="4221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已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矩形 5127"/>
          <p:cNvSpPr/>
          <p:nvPr/>
        </p:nvSpPr>
        <p:spPr>
          <a:xfrm>
            <a:off x="3203640" y="4724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两直线平行，同位角相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矩形 5128"/>
          <p:cNvSpPr/>
          <p:nvPr/>
        </p:nvSpPr>
        <p:spPr>
          <a:xfrm>
            <a:off x="3492360" y="5229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等量代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矩形 5129"/>
          <p:cNvSpPr/>
          <p:nvPr/>
        </p:nvSpPr>
        <p:spPr>
          <a:xfrm>
            <a:off x="2124000" y="580536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同位角相等，两直线平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文本框 5130"/>
          <p:cNvSpPr/>
          <p:nvPr/>
        </p:nvSpPr>
        <p:spPr>
          <a:xfrm>
            <a:off x="3447720" y="404640"/>
            <a:ext cx="22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证明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行于同一条直线的两条直线平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00000" y="1557000"/>
            <a:ext cx="7777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证明：直角三角形的两个锐角互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1640" y="404640"/>
            <a:ext cx="1942920" cy="5623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例题精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6200" y="43920"/>
            <a:ext cx="361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试一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7640" y="1196640"/>
            <a:ext cx="934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命题“直角三角形的两个锐角互余”的逆命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逆命题是真命题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7171"/>
          <p:cNvSpPr/>
          <p:nvPr/>
        </p:nvSpPr>
        <p:spPr>
          <a:xfrm>
            <a:off x="2336040" y="29257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两个角互余的三角形是直角三角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7172"/>
          <p:cNvSpPr/>
          <p:nvPr/>
        </p:nvSpPr>
        <p:spPr>
          <a:xfrm>
            <a:off x="3028320" y="5302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真命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5280" y="162828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∥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角之间存在怎样的关系？用证明你的结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内容占位符 9219" descr=""/>
          <p:cNvPicPr/>
          <p:nvPr/>
        </p:nvPicPr>
        <p:blipFill>
          <a:blip r:embed="rId1"/>
          <a:stretch/>
        </p:blipFill>
        <p:spPr>
          <a:xfrm>
            <a:off x="3276720" y="3357720"/>
            <a:ext cx="2671560" cy="267156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9220"/>
          <p:cNvSpPr/>
          <p:nvPr/>
        </p:nvSpPr>
        <p:spPr>
          <a:xfrm>
            <a:off x="905760" y="6165720"/>
            <a:ext cx="40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+∠A+∠C=360°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直接连接符 9221"/>
          <p:cNvSpPr/>
          <p:nvPr/>
        </p:nvSpPr>
        <p:spPr>
          <a:xfrm flipV="1">
            <a:off x="3561120" y="4411800"/>
            <a:ext cx="2504520" cy="370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9222"/>
          <p:cNvSpPr/>
          <p:nvPr/>
        </p:nvSpPr>
        <p:spPr>
          <a:xfrm rot="60000">
            <a:off x="6156720" y="414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80720" y="1628280"/>
            <a:ext cx="896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果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向右移，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∥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此时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角之间存在怎样的关系？并证明你的结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内容占位符 10242" descr=""/>
          <p:cNvPicPr/>
          <p:nvPr/>
        </p:nvPicPr>
        <p:blipFill>
          <a:blip r:embed="rId1"/>
          <a:stretch/>
        </p:blipFill>
        <p:spPr>
          <a:xfrm>
            <a:off x="5292720" y="2781360"/>
            <a:ext cx="2676600" cy="350208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10243"/>
          <p:cNvSpPr/>
          <p:nvPr/>
        </p:nvSpPr>
        <p:spPr>
          <a:xfrm>
            <a:off x="1588680" y="2565360"/>
            <a:ext cx="27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=∠A+∠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10244"/>
          <p:cNvSpPr/>
          <p:nvPr/>
        </p:nvSpPr>
        <p:spPr>
          <a:xfrm>
            <a:off x="1170720" y="3502080"/>
            <a:ext cx="304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延长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P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到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相交于点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∵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B‖C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∴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=∠AE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∵∠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=∠AEC+∠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∴∠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=∠A+∠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组合 10245"/>
          <p:cNvGrpSpPr/>
          <p:nvPr/>
        </p:nvGrpSpPr>
        <p:grpSpPr>
          <a:xfrm>
            <a:off x="6156360" y="4222800"/>
            <a:ext cx="888120" cy="1588320"/>
            <a:chOff x="6156360" y="4222800"/>
            <a:chExt cx="888120" cy="1588320"/>
          </a:xfrm>
        </p:grpSpPr>
        <p:sp>
          <p:nvSpPr>
            <p:cNvPr id="78" name="直接连接符 10246"/>
            <p:cNvSpPr/>
            <p:nvPr/>
          </p:nvSpPr>
          <p:spPr>
            <a:xfrm>
              <a:off x="6156360" y="4222800"/>
              <a:ext cx="503280" cy="10069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文本框 10247"/>
            <p:cNvSpPr/>
            <p:nvPr/>
          </p:nvSpPr>
          <p:spPr>
            <a:xfrm>
              <a:off x="6592320" y="5229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E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83026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果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点移到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位置，此时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角之间存在怎样的关系？并证明你的结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图片 13315" descr=""/>
          <p:cNvPicPr/>
          <p:nvPr/>
        </p:nvPicPr>
        <p:blipFill>
          <a:blip r:embed="rId1"/>
          <a:stretch/>
        </p:blipFill>
        <p:spPr>
          <a:xfrm>
            <a:off x="611280" y="3500280"/>
            <a:ext cx="2133360" cy="21243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3316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2352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拓展与延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证明：同角的余角相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09:27:42Z</dcterms:created>
  <dc:creator>成安东</dc:creator>
  <dc:description/>
  <cp:keywords/>
  <dc:language>en-US</dc:language>
  <cp:lastModifiedBy>微软用户</cp:lastModifiedBy>
  <dcterms:modified xsi:type="dcterms:W3CDTF">2019-05-27T08:14:24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96</vt:lpwstr>
  </property>
  <property fmtid="{D5CDD505-2E9C-101B-9397-08002B2CF9AE}" pid="3" name="_TemplateID">
    <vt:lpwstr>TC011587662052</vt:lpwstr>
  </property>
</Properties>
</file>