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688-B981-4740-9BC5-4EF274DD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245-EDF1-419E-A2FA-3813BA33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BFD-AACD-4534-9B2D-B160A4FB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07F-98FE-4EC3-B397-526663C7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9507-7022-4B46-96F2-D28D05DA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F4E4-C6F9-45A2-B5BF-DA4464D5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CB11-38FA-4ADE-A737-6A75723B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EF65-8B40-4F37-AABE-683BDE5B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1BCA-5907-443F-88DE-504CB92A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4E46-D40A-4910-8712-23975976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61C0-0170-4A3C-AECB-C68F2C3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2C0-D939-429A-BB0E-04E185D5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96F0-3C0D-4B8B-883D-53EA6F07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B653-7BA4-43FB-A412-B1FE6613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08F9-DDFE-48A6-981D-5F342845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2F8D-A89A-4353-A436-7B4C5A62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D860-ECCF-477A-9967-6CD8C392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E80-3730-4DA9-998F-7BB59A0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C8F-E091-40D8-ADD7-4576592A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5EC-354A-47AC-939E-042AE4A6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20A-3EEE-4CEB-A454-BB701C4D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D28-94AE-492D-9E73-FF745421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E6B-1F47-4C68-AE89-2BF0DE4E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D61-05AC-4259-B405-23A582F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15E4-54B6-4490-9F1F-379700920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6DA5-EB34-4850-B15B-2C243F72EF2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7848720" cy="5670720"/>
            <a:chOff x="0" y="0"/>
            <a:chExt cx="7848720" cy="5670720"/>
          </a:xfrm>
        </p:grpSpPr>
        <p:sp>
          <p:nvSpPr>
            <p:cNvPr id="83" name="Text Box 3"/>
            <p:cNvSpPr/>
            <p:nvPr/>
          </p:nvSpPr>
          <p:spPr>
            <a:xfrm>
              <a:off x="1524240" y="5029200"/>
              <a:ext cx="5029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0" y="0"/>
              <a:ext cx="6248520" cy="1199880"/>
              <a:chOff x="0" y="0"/>
              <a:chExt cx="6248520" cy="11998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0" y="0"/>
                <a:ext cx="6248520" cy="1199880"/>
                <a:chOff x="0" y="0"/>
                <a:chExt cx="6248520" cy="1199880"/>
              </a:xfrm>
            </p:grpSpPr>
            <p:sp>
              <p:nvSpPr>
                <p:cNvPr id="86" name="Text Box 6"/>
                <p:cNvSpPr/>
                <p:nvPr/>
              </p:nvSpPr>
              <p:spPr>
                <a:xfrm>
                  <a:off x="838080" y="685800"/>
                  <a:ext cx="5410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993300"/>
                      </a:solidFill>
                      <a:latin typeface="Times New Roman"/>
                    </a:rPr>
                    <a:t>义务教育课程标准苏科版实验教科书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" name="Text Box 7"/>
                <p:cNvSpPr/>
                <p:nvPr/>
              </p:nvSpPr>
              <p:spPr>
                <a:xfrm>
                  <a:off x="2209680" y="152280"/>
                  <a:ext cx="274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993300"/>
                      </a:solidFill>
                      <a:latin typeface="Times New Roman"/>
                    </a:rPr>
                    <a:t>七年级       下   册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" name="WordArt 8"/>
                <p:cNvSpPr txBox="1"/>
                <p:nvPr/>
              </p:nvSpPr>
              <p:spPr>
                <a:xfrm>
                  <a:off x="76320" y="75960"/>
                  <a:ext cx="838080" cy="1086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5400" spc="1" strike="noStrike">
                      <a:ln cap="sq" w="9360">
                        <a:solidFill>
                          <a:srgbClr val="993300"/>
                        </a:solidFill>
                        <a:miter/>
                      </a:ln>
                      <a:solidFill>
                        <a:srgbClr val="993300"/>
                      </a:solidFill>
                      <a:effectLst>
                        <a:outerShdw dist="53966" dir="2700000" blurRad="0" rotWithShape="0">
                          <a:srgbClr val="9999ff"/>
                        </a:outerShdw>
                      </a:effectLst>
                      <a:latin typeface="宋体"/>
                    </a:rPr>
                    <a:t>数</a:t>
                  </a:r>
                  <a:endParaRPr b="0" lang="en-US" sz="5400" spc="1" strike="noStrike">
                    <a:ln cap="sq" w="9360">
                      <a:solidFill>
                        <a:srgbClr val="993300"/>
                      </a:solidFill>
                      <a:miter/>
                    </a:ln>
                    <a:solidFill>
                      <a:srgbClr val="993300"/>
                    </a:soli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宋体"/>
                    <a:ea typeface="宋体"/>
                  </a:endParaRPr>
                </a:p>
              </p:txBody>
            </p:sp>
            <p:sp>
              <p:nvSpPr>
                <p:cNvPr id="89" name="WordArt 9"/>
                <p:cNvSpPr txBox="1"/>
                <p:nvPr/>
              </p:nvSpPr>
              <p:spPr>
                <a:xfrm>
                  <a:off x="990720" y="0"/>
                  <a:ext cx="533160" cy="609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cap="sq" w="9360">
                        <a:solidFill>
                          <a:srgbClr val="993300"/>
                        </a:solidFill>
                        <a:miter/>
                      </a:ln>
                      <a:solidFill>
                        <a:srgbClr val="993300"/>
                      </a:solidFill>
                      <a:effectLst>
                        <a:outerShdw dist="53966" dir="2700000" blurRad="0" rotWithShape="0">
                          <a:srgbClr val="9999ff"/>
                        </a:outerShdw>
                      </a:effectLst>
                      <a:latin typeface="宋体"/>
                    </a:rPr>
                    <a:t>学</a:t>
                  </a:r>
                  <a:endParaRPr b="0" lang="en-US" sz="1800" spc="1" strike="noStrike">
                    <a:ln cap="sq" w="9360">
                      <a:solidFill>
                        <a:srgbClr val="993300"/>
                      </a:solidFill>
                      <a:miter/>
                    </a:ln>
                    <a:solidFill>
                      <a:srgbClr val="993300"/>
                    </a:soli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宋体"/>
                    <a:ea typeface="宋体"/>
                  </a:endParaRPr>
                </a:p>
              </p:txBody>
            </p:sp>
            <p:sp>
              <p:nvSpPr>
                <p:cNvPr id="90" name="Rectangle 10"/>
                <p:cNvSpPr/>
                <p:nvPr/>
              </p:nvSpPr>
              <p:spPr>
                <a:xfrm>
                  <a:off x="0" y="0"/>
                  <a:ext cx="914400" cy="1199880"/>
                </a:xfrm>
                <a:prstGeom prst="rect">
                  <a:avLst/>
                </a:prstGeom>
                <a:noFill/>
                <a:ln cap="sq" w="1260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Rectangle 11"/>
              <p:cNvSpPr/>
              <p:nvPr/>
            </p:nvSpPr>
            <p:spPr>
              <a:xfrm>
                <a:off x="914400" y="609480"/>
                <a:ext cx="5105520" cy="590400"/>
              </a:xfrm>
              <a:prstGeom prst="rect">
                <a:avLst/>
              </a:prstGeom>
              <a:noFill/>
              <a:ln cap="sq"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92" name="Text Box 12"/>
            <p:cNvSpPr/>
            <p:nvPr/>
          </p:nvSpPr>
          <p:spPr>
            <a:xfrm>
              <a:off x="685800" y="1371600"/>
              <a:ext cx="7162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93" name="WordArt 13" descr=""/>
          <p:cNvPicPr/>
          <p:nvPr/>
        </p:nvPicPr>
        <p:blipFill>
          <a:blip r:embed="rId1"/>
          <a:stretch/>
        </p:blipFill>
        <p:spPr>
          <a:xfrm>
            <a:off x="1316160" y="2193840"/>
            <a:ext cx="65167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文本框 3"/>
          <p:cNvSpPr/>
          <p:nvPr/>
        </p:nvSpPr>
        <p:spPr>
          <a:xfrm>
            <a:off x="453960" y="428760"/>
            <a:ext cx="8429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下列叙述中正确的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角形的外角等于两个内角的和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角形每一个内角都只有一个外角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角形的外角等于与它不相邻的两个内角和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角形的外角大于内角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文本框 4"/>
          <p:cNvSpPr/>
          <p:nvPr/>
        </p:nvSpPr>
        <p:spPr>
          <a:xfrm>
            <a:off x="6896160" y="4287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58"/>
          <p:cNvSpPr txBox="1"/>
          <p:nvPr/>
        </p:nvSpPr>
        <p:spPr>
          <a:xfrm>
            <a:off x="439560" y="93600"/>
            <a:ext cx="18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合作探究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222120" y="631800"/>
            <a:ext cx="8533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探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+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+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+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+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+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度数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2" name="图片 1728" descr=""/>
          <p:cNvPicPr/>
          <p:nvPr/>
        </p:nvPicPr>
        <p:blipFill>
          <a:blip r:embed="rId1"/>
          <a:stretch/>
        </p:blipFill>
        <p:spPr>
          <a:xfrm>
            <a:off x="3936960" y="2360520"/>
            <a:ext cx="4013280" cy="4078440"/>
          </a:xfrm>
          <a:prstGeom prst="rect">
            <a:avLst/>
          </a:prstGeom>
          <a:ln w="0">
            <a:noFill/>
          </a:ln>
        </p:spPr>
      </p:pic>
      <p:sp>
        <p:nvSpPr>
          <p:cNvPr id="283" name="文本框 3"/>
          <p:cNvSpPr/>
          <p:nvPr/>
        </p:nvSpPr>
        <p:spPr>
          <a:xfrm>
            <a:off x="1768320" y="153036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6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50920" y="1307880"/>
            <a:ext cx="8496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角平分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延  长线上一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∠EAC=∠B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∠ADE=∠DA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4788000" y="2492280"/>
            <a:ext cx="3600360" cy="2521080"/>
            <a:chOff x="4788000" y="2492280"/>
            <a:chExt cx="3600360" cy="2521080"/>
          </a:xfrm>
        </p:grpSpPr>
        <p:sp>
          <p:nvSpPr>
            <p:cNvPr id="286" name="AutoShape 4"/>
            <p:cNvSpPr/>
            <p:nvPr/>
          </p:nvSpPr>
          <p:spPr>
            <a:xfrm>
              <a:off x="4788000" y="2492280"/>
              <a:ext cx="3600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7" name="Text Box 5"/>
            <p:cNvSpPr/>
            <p:nvPr/>
          </p:nvSpPr>
          <p:spPr>
            <a:xfrm>
              <a:off x="6550200" y="4581720"/>
              <a:ext cx="3038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5852880" y="4581720"/>
              <a:ext cx="3038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8084160" y="4423680"/>
              <a:ext cx="3042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4788000" y="4437720"/>
              <a:ext cx="3042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1" name="Text Box 9"/>
            <p:cNvSpPr/>
            <p:nvPr/>
          </p:nvSpPr>
          <p:spPr>
            <a:xfrm>
              <a:off x="6917760" y="2492280"/>
              <a:ext cx="3038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 flipH="1">
              <a:off x="5092200" y="2779920"/>
              <a:ext cx="2130480" cy="18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223040" y="2779920"/>
              <a:ext cx="911880" cy="18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5092200" y="4650840"/>
              <a:ext cx="30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 flipH="1">
              <a:off x="6765480" y="2779920"/>
              <a:ext cx="457200" cy="18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 flipH="1">
              <a:off x="6004440" y="2779920"/>
              <a:ext cx="1217880" cy="18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97" name="Rectangle 15"/>
          <p:cNvSpPr/>
          <p:nvPr/>
        </p:nvSpPr>
        <p:spPr>
          <a:xfrm>
            <a:off x="0" y="2886120"/>
            <a:ext cx="2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98" name="Group 22"/>
          <p:cNvGrpSpPr/>
          <p:nvPr/>
        </p:nvGrpSpPr>
        <p:grpSpPr>
          <a:xfrm>
            <a:off x="5254560" y="260280"/>
            <a:ext cx="3889440" cy="1008000"/>
            <a:chOff x="5254560" y="260280"/>
            <a:chExt cx="3889440" cy="1008000"/>
          </a:xfrm>
        </p:grpSpPr>
        <p:sp>
          <p:nvSpPr>
            <p:cNvPr id="299" name="AutoShape 23"/>
            <p:cNvSpPr/>
            <p:nvPr/>
          </p:nvSpPr>
          <p:spPr>
            <a:xfrm>
              <a:off x="5254560" y="260280"/>
              <a:ext cx="3889440" cy="1008000"/>
            </a:xfrm>
            <a:prstGeom prst="irregularSeal2">
              <a:avLst/>
            </a:prstGeom>
            <a:solidFill>
              <a:srgbClr val="ffff00">
                <a:alpha val="61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0" name="Text Box 24"/>
            <p:cNvSpPr/>
            <p:nvPr/>
          </p:nvSpPr>
          <p:spPr>
            <a:xfrm>
              <a:off x="5759280" y="47592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我是最棒的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!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01" name="Group 29"/>
          <p:cNvGrpSpPr/>
          <p:nvPr/>
        </p:nvGrpSpPr>
        <p:grpSpPr>
          <a:xfrm>
            <a:off x="0" y="2852640"/>
            <a:ext cx="7135920" cy="711000"/>
            <a:chOff x="0" y="2852640"/>
            <a:chExt cx="7135920" cy="711000"/>
          </a:xfrm>
        </p:grpSpPr>
        <p:sp>
          <p:nvSpPr>
            <p:cNvPr id="302" name="Rectangle 30"/>
            <p:cNvSpPr/>
            <p:nvPr/>
          </p:nvSpPr>
          <p:spPr>
            <a:xfrm>
              <a:off x="0" y="28526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3" name="Arc 31"/>
            <p:cNvSpPr/>
            <p:nvPr/>
          </p:nvSpPr>
          <p:spPr>
            <a:xfrm flipH="1" flipV="1">
              <a:off x="6803280" y="3108240"/>
              <a:ext cx="14436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4" name="Arc 32"/>
            <p:cNvSpPr/>
            <p:nvPr/>
          </p:nvSpPr>
          <p:spPr>
            <a:xfrm flipH="1" flipV="1">
              <a:off x="6948360" y="3209040"/>
              <a:ext cx="144720" cy="71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5" name="Text Box 33"/>
            <p:cNvSpPr/>
            <p:nvPr/>
          </p:nvSpPr>
          <p:spPr>
            <a:xfrm>
              <a:off x="6630840" y="3065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6" name="Text Box 34"/>
            <p:cNvSpPr/>
            <p:nvPr/>
          </p:nvSpPr>
          <p:spPr>
            <a:xfrm>
              <a:off x="6775560" y="319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07" name="WordArt 35"/>
          <p:cNvSpPr txBox="1"/>
          <p:nvPr/>
        </p:nvSpPr>
        <p:spPr>
          <a:xfrm>
            <a:off x="539640" y="189000"/>
            <a:ext cx="2519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实战演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08" name="组合 29"/>
          <p:cNvGrpSpPr/>
          <p:nvPr/>
        </p:nvGrpSpPr>
        <p:grpSpPr>
          <a:xfrm>
            <a:off x="5364000" y="3141720"/>
            <a:ext cx="2016360" cy="1511280"/>
            <a:chOff x="5364000" y="3141720"/>
            <a:chExt cx="2016360" cy="1511280"/>
          </a:xfrm>
        </p:grpSpPr>
        <p:sp>
          <p:nvSpPr>
            <p:cNvPr id="309" name="Arc 36"/>
            <p:cNvSpPr/>
            <p:nvPr/>
          </p:nvSpPr>
          <p:spPr>
            <a:xfrm flipV="1">
              <a:off x="7112160" y="3141720"/>
              <a:ext cx="268200" cy="71280"/>
            </a:xfrm>
            <a:custGeom>
              <a:avLst/>
              <a:gdLst/>
              <a:ahLst/>
              <a:rect l="l" t="t" r="r" b="b"/>
              <a:pathLst>
                <a:path fill="none" w="26873" h="21600">
                  <a:moveTo>
                    <a:pt x="-1" y="653"/>
                  </a:moveTo>
                  <a:cubicBezTo>
                    <a:pt x="1723" y="219"/>
                    <a:pt x="3495" y="-1"/>
                    <a:pt x="5273" y="0"/>
                  </a:cubicBezTo>
                  <a:cubicBezTo>
                    <a:pt x="17202" y="0"/>
                    <a:pt x="26873" y="9670"/>
                    <a:pt x="26873" y="21600"/>
                  </a:cubicBezTo>
                </a:path>
                <a:path stroke="0" w="26873" h="21600">
                  <a:moveTo>
                    <a:pt x="-1" y="653"/>
                  </a:moveTo>
                  <a:cubicBezTo>
                    <a:pt x="1723" y="219"/>
                    <a:pt x="3495" y="-1"/>
                    <a:pt x="5273" y="0"/>
                  </a:cubicBezTo>
                  <a:cubicBezTo>
                    <a:pt x="17202" y="0"/>
                    <a:pt x="26873" y="9670"/>
                    <a:pt x="26873" y="21600"/>
                  </a:cubicBezTo>
                  <a:lnTo>
                    <a:pt x="5273" y="21600"/>
                  </a:lnTo>
                  <a:lnTo>
                    <a:pt x="-1" y="653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0" name="Arc 37"/>
            <p:cNvSpPr/>
            <p:nvPr/>
          </p:nvSpPr>
          <p:spPr>
            <a:xfrm>
              <a:off x="5364000" y="4437360"/>
              <a:ext cx="71280" cy="215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11" name="文本框 14365"/>
          <p:cNvSpPr/>
          <p:nvPr/>
        </p:nvSpPr>
        <p:spPr>
          <a:xfrm>
            <a:off x="53964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顺推（由条件探索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文本框 14366"/>
          <p:cNvSpPr/>
          <p:nvPr/>
        </p:nvSpPr>
        <p:spPr>
          <a:xfrm>
            <a:off x="501480" y="429264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逆探（由结论探索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文本框 14367"/>
          <p:cNvSpPr/>
          <p:nvPr/>
        </p:nvSpPr>
        <p:spPr>
          <a:xfrm>
            <a:off x="468360" y="494172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综合法（两方面逼近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G:\说  理\复件 说理1\200811230263756381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Oval 2"/>
          <p:cNvSpPr/>
          <p:nvPr/>
        </p:nvSpPr>
        <p:spPr>
          <a:xfrm>
            <a:off x="324000" y="1413000"/>
            <a:ext cx="1368360" cy="7189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 flipH="1" rot="930000">
            <a:off x="5083920" y="1998720"/>
            <a:ext cx="648000" cy="79200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1015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Freeform 4"/>
          <p:cNvSpPr/>
          <p:nvPr/>
        </p:nvSpPr>
        <p:spPr>
          <a:xfrm flipH="1">
            <a:off x="4643280" y="1197000"/>
            <a:ext cx="649440" cy="1368360"/>
          </a:xfrm>
          <a:custGeom>
            <a:avLst/>
            <a:gdLst/>
            <a:ahLst/>
            <a:rect l="l" t="t" r="r" b="b"/>
            <a:pathLst>
              <a:path w="317" h="408">
                <a:moveTo>
                  <a:pt x="0" y="0"/>
                </a:moveTo>
                <a:cubicBezTo>
                  <a:pt x="87" y="56"/>
                  <a:pt x="174" y="113"/>
                  <a:pt x="227" y="181"/>
                </a:cubicBezTo>
                <a:cubicBezTo>
                  <a:pt x="280" y="249"/>
                  <a:pt x="302" y="370"/>
                  <a:pt x="317" y="408"/>
                </a:cubicBezTo>
              </a:path>
            </a:pathLst>
          </a:custGeom>
          <a:noFill/>
          <a:ln w="1015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Freeform 5"/>
          <p:cNvSpPr/>
          <p:nvPr/>
        </p:nvSpPr>
        <p:spPr>
          <a:xfrm>
            <a:off x="3564000" y="1125360"/>
            <a:ext cx="792000" cy="1440000"/>
          </a:xfrm>
          <a:custGeom>
            <a:avLst/>
            <a:gdLst/>
            <a:ahLst/>
            <a:rect l="l" t="t" r="r" b="b"/>
            <a:pathLst>
              <a:path w="317" h="408">
                <a:moveTo>
                  <a:pt x="0" y="0"/>
                </a:moveTo>
                <a:cubicBezTo>
                  <a:pt x="87" y="56"/>
                  <a:pt x="174" y="113"/>
                  <a:pt x="227" y="181"/>
                </a:cubicBezTo>
                <a:cubicBezTo>
                  <a:pt x="280" y="249"/>
                  <a:pt x="302" y="370"/>
                  <a:pt x="317" y="408"/>
                </a:cubicBezTo>
              </a:path>
            </a:pathLst>
          </a:custGeom>
          <a:noFill/>
          <a:ln w="1015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Freeform 6"/>
          <p:cNvSpPr/>
          <p:nvPr/>
        </p:nvSpPr>
        <p:spPr>
          <a:xfrm rot="20593800">
            <a:off x="3348000" y="2133720"/>
            <a:ext cx="708120" cy="60948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1015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Freeform 7"/>
          <p:cNvSpPr/>
          <p:nvPr/>
        </p:nvSpPr>
        <p:spPr>
          <a:xfrm flipV="1" rot="5182800">
            <a:off x="1419120" y="1761480"/>
            <a:ext cx="336600" cy="657360"/>
          </a:xfrm>
          <a:custGeom>
            <a:avLst/>
            <a:gdLst/>
            <a:ahLst/>
            <a:rect l="l" t="t" r="r" b="b"/>
            <a:pathLst>
              <a:path w="317" h="408">
                <a:moveTo>
                  <a:pt x="0" y="0"/>
                </a:moveTo>
                <a:cubicBezTo>
                  <a:pt x="87" y="56"/>
                  <a:pt x="174" y="113"/>
                  <a:pt x="227" y="181"/>
                </a:cubicBezTo>
                <a:cubicBezTo>
                  <a:pt x="280" y="249"/>
                  <a:pt x="302" y="370"/>
                  <a:pt x="317" y="408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Freeform 8"/>
          <p:cNvSpPr/>
          <p:nvPr/>
        </p:nvSpPr>
        <p:spPr>
          <a:xfrm flipH="1" rot="12205200">
            <a:off x="7307280" y="1484280"/>
            <a:ext cx="335160" cy="403200"/>
          </a:xfrm>
          <a:custGeom>
            <a:avLst/>
            <a:gdLst/>
            <a:ahLst/>
            <a:rect l="l" t="t" r="r" b="b"/>
            <a:pathLst>
              <a:path w="317" h="408">
                <a:moveTo>
                  <a:pt x="0" y="0"/>
                </a:moveTo>
                <a:cubicBezTo>
                  <a:pt x="87" y="56"/>
                  <a:pt x="174" y="113"/>
                  <a:pt x="227" y="181"/>
                </a:cubicBezTo>
                <a:cubicBezTo>
                  <a:pt x="280" y="249"/>
                  <a:pt x="302" y="370"/>
                  <a:pt x="317" y="408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Freeform 9"/>
          <p:cNvSpPr/>
          <p:nvPr/>
        </p:nvSpPr>
        <p:spPr>
          <a:xfrm flipH="1" rot="12476400">
            <a:off x="2230920" y="3131640"/>
            <a:ext cx="534960" cy="574920"/>
          </a:xfrm>
          <a:custGeom>
            <a:avLst/>
            <a:gdLst/>
            <a:ahLst/>
            <a:rect l="l" t="t" r="r" b="b"/>
            <a:pathLst>
              <a:path w="317" h="408">
                <a:moveTo>
                  <a:pt x="0" y="0"/>
                </a:moveTo>
                <a:cubicBezTo>
                  <a:pt x="87" y="56"/>
                  <a:pt x="174" y="113"/>
                  <a:pt x="227" y="181"/>
                </a:cubicBezTo>
                <a:cubicBezTo>
                  <a:pt x="280" y="249"/>
                  <a:pt x="302" y="370"/>
                  <a:pt x="317" y="408"/>
                </a:cubicBezTo>
              </a:path>
            </a:pathLst>
          </a:custGeom>
          <a:noFill/>
          <a:ln w="1015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Freeform 10"/>
          <p:cNvSpPr/>
          <p:nvPr/>
        </p:nvSpPr>
        <p:spPr>
          <a:xfrm flipH="1" rot="4196400">
            <a:off x="2522520" y="849960"/>
            <a:ext cx="363240" cy="573480"/>
          </a:xfrm>
          <a:custGeom>
            <a:avLst/>
            <a:gdLst/>
            <a:ahLst/>
            <a:rect l="l" t="t" r="r" b="b"/>
            <a:pathLst>
              <a:path w="317" h="408">
                <a:moveTo>
                  <a:pt x="0" y="0"/>
                </a:moveTo>
                <a:cubicBezTo>
                  <a:pt x="87" y="56"/>
                  <a:pt x="174" y="113"/>
                  <a:pt x="227" y="181"/>
                </a:cubicBezTo>
                <a:cubicBezTo>
                  <a:pt x="280" y="249"/>
                  <a:pt x="302" y="370"/>
                  <a:pt x="317" y="408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Freeform 11"/>
          <p:cNvSpPr/>
          <p:nvPr/>
        </p:nvSpPr>
        <p:spPr>
          <a:xfrm rot="4675800">
            <a:off x="6369120" y="563400"/>
            <a:ext cx="215640" cy="790560"/>
          </a:xfrm>
          <a:custGeom>
            <a:avLst/>
            <a:gdLst/>
            <a:ahLst/>
            <a:rect l="l" t="t" r="r" b="b"/>
            <a:pathLst>
              <a:path w="317" h="408">
                <a:moveTo>
                  <a:pt x="0" y="0"/>
                </a:moveTo>
                <a:cubicBezTo>
                  <a:pt x="87" y="56"/>
                  <a:pt x="174" y="113"/>
                  <a:pt x="227" y="181"/>
                </a:cubicBezTo>
                <a:cubicBezTo>
                  <a:pt x="280" y="249"/>
                  <a:pt x="302" y="370"/>
                  <a:pt x="317" y="408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Freeform 12"/>
          <p:cNvSpPr/>
          <p:nvPr/>
        </p:nvSpPr>
        <p:spPr>
          <a:xfrm rot="7854000">
            <a:off x="6300720" y="3357360"/>
            <a:ext cx="431640" cy="432000"/>
          </a:xfrm>
          <a:custGeom>
            <a:avLst/>
            <a:gdLst/>
            <a:ahLst/>
            <a:rect l="l" t="t" r="r" b="b"/>
            <a:pathLst>
              <a:path w="317" h="408">
                <a:moveTo>
                  <a:pt x="0" y="0"/>
                </a:moveTo>
                <a:cubicBezTo>
                  <a:pt x="87" y="56"/>
                  <a:pt x="174" y="113"/>
                  <a:pt x="227" y="181"/>
                </a:cubicBezTo>
                <a:cubicBezTo>
                  <a:pt x="280" y="249"/>
                  <a:pt x="302" y="370"/>
                  <a:pt x="317" y="408"/>
                </a:cubicBezTo>
              </a:path>
            </a:pathLst>
          </a:custGeom>
          <a:noFill/>
          <a:ln w="1015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6367320"/>
          <a:ext cx="9144000" cy="517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知识树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0033cc"/>
                    </a:solidFill>
                  </a:tcPr>
                </a:tc>
              </a:tr>
            </a:tbl>
          </a:graphicData>
        </a:graphic>
      </p:graphicFrame>
      <p:sp>
        <p:nvSpPr>
          <p:cNvPr id="327" name="Freeform 19"/>
          <p:cNvSpPr/>
          <p:nvPr/>
        </p:nvSpPr>
        <p:spPr>
          <a:xfrm flipH="1">
            <a:off x="4833360" y="4400640"/>
            <a:ext cx="16956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1015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Freeform 20"/>
          <p:cNvSpPr/>
          <p:nvPr/>
        </p:nvSpPr>
        <p:spPr>
          <a:xfrm>
            <a:off x="3924360" y="4400640"/>
            <a:ext cx="171360" cy="1981080"/>
          </a:xfrm>
          <a:custGeom>
            <a:avLst/>
            <a:gdLst/>
            <a:ahLst/>
            <a:rect l="l" t="t" r="r" b="b"/>
            <a:pathLst>
              <a:path w="159" h="1225">
                <a:moveTo>
                  <a:pt x="136" y="0"/>
                </a:moveTo>
                <a:cubicBezTo>
                  <a:pt x="147" y="283"/>
                  <a:pt x="159" y="567"/>
                  <a:pt x="136" y="771"/>
                </a:cubicBezTo>
                <a:cubicBezTo>
                  <a:pt x="113" y="975"/>
                  <a:pt x="56" y="1100"/>
                  <a:pt x="0" y="1225"/>
                </a:cubicBezTo>
              </a:path>
            </a:pathLst>
          </a:custGeom>
          <a:noFill/>
          <a:ln w="1015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Line 21"/>
          <p:cNvSpPr/>
          <p:nvPr/>
        </p:nvSpPr>
        <p:spPr>
          <a:xfrm flipH="1" flipV="1">
            <a:off x="4500360" y="3284280"/>
            <a:ext cx="4680" cy="1019160"/>
          </a:xfrm>
          <a:prstGeom prst="line">
            <a:avLst/>
          </a:prstGeom>
          <a:ln w="152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Freeform 22"/>
          <p:cNvSpPr/>
          <p:nvPr/>
        </p:nvSpPr>
        <p:spPr>
          <a:xfrm rot="585600">
            <a:off x="3633480" y="3714480"/>
            <a:ext cx="509400" cy="55728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1522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Oval 23"/>
          <p:cNvSpPr/>
          <p:nvPr/>
        </p:nvSpPr>
        <p:spPr>
          <a:xfrm>
            <a:off x="2484360" y="3068640"/>
            <a:ext cx="1511280" cy="8478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Oval 24"/>
          <p:cNvSpPr/>
          <p:nvPr/>
        </p:nvSpPr>
        <p:spPr>
          <a:xfrm>
            <a:off x="3635280" y="2492280"/>
            <a:ext cx="1800360" cy="79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Oval 25"/>
          <p:cNvSpPr/>
          <p:nvPr/>
        </p:nvSpPr>
        <p:spPr>
          <a:xfrm rot="454200">
            <a:off x="4859280" y="259920"/>
            <a:ext cx="1584360" cy="1008000"/>
          </a:xfrm>
          <a:prstGeom prst="ellipse">
            <a:avLst/>
          </a:prstGeom>
          <a:solidFill>
            <a:srgbClr val="cc99ff"/>
          </a:solidFill>
          <a:ln w="22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Oval 26"/>
          <p:cNvSpPr/>
          <p:nvPr/>
        </p:nvSpPr>
        <p:spPr>
          <a:xfrm rot="21480000">
            <a:off x="2842920" y="549360"/>
            <a:ext cx="1728720" cy="863640"/>
          </a:xfrm>
          <a:prstGeom prst="ellipse">
            <a:avLst/>
          </a:prstGeom>
          <a:solidFill>
            <a:srgbClr val="cc99ff"/>
          </a:solidFill>
          <a:ln w="22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Oval 27"/>
          <p:cNvSpPr/>
          <p:nvPr/>
        </p:nvSpPr>
        <p:spPr>
          <a:xfrm rot="566400">
            <a:off x="539280" y="2852640"/>
            <a:ext cx="1660680" cy="892440"/>
          </a:xfrm>
          <a:prstGeom prst="ellipse">
            <a:avLst/>
          </a:prstGeom>
          <a:solidFill>
            <a:srgbClr val="cc99ff"/>
          </a:solidFill>
          <a:ln w="22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Freeform 28"/>
          <p:cNvSpPr/>
          <p:nvPr/>
        </p:nvSpPr>
        <p:spPr>
          <a:xfrm flipH="1" rot="297000">
            <a:off x="4828320" y="3709800"/>
            <a:ext cx="490680" cy="635040"/>
          </a:xfrm>
          <a:custGeom>
            <a:avLst/>
            <a:gdLst/>
            <a:ahLst/>
            <a:rect l="l" t="t" r="r" b="b"/>
            <a:pathLst>
              <a:path w="499" h="431">
                <a:moveTo>
                  <a:pt x="0" y="23"/>
                </a:moveTo>
                <a:cubicBezTo>
                  <a:pt x="140" y="11"/>
                  <a:pt x="280" y="0"/>
                  <a:pt x="363" y="68"/>
                </a:cubicBezTo>
                <a:cubicBezTo>
                  <a:pt x="446" y="136"/>
                  <a:pt x="472" y="283"/>
                  <a:pt x="499" y="431"/>
                </a:cubicBezTo>
              </a:path>
            </a:pathLst>
          </a:custGeom>
          <a:noFill/>
          <a:ln w="1522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 flipH="1">
            <a:off x="5076000" y="3213000"/>
            <a:ext cx="1366920" cy="8636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 flipH="1">
            <a:off x="5796000" y="1628640"/>
            <a:ext cx="2016000" cy="1152720"/>
          </a:xfrm>
          <a:prstGeom prst="ellipse">
            <a:avLst/>
          </a:prstGeom>
          <a:solidFill>
            <a:srgbClr val="cc99ff"/>
          </a:solidFill>
          <a:ln w="22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 flipH="1" rot="20782200">
            <a:off x="6804000" y="2852280"/>
            <a:ext cx="1908360" cy="944640"/>
          </a:xfrm>
          <a:prstGeom prst="ellipse">
            <a:avLst/>
          </a:prstGeom>
          <a:solidFill>
            <a:srgbClr val="cc99ff"/>
          </a:solidFill>
          <a:ln w="22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Oval 32"/>
          <p:cNvSpPr/>
          <p:nvPr/>
        </p:nvSpPr>
        <p:spPr>
          <a:xfrm rot="186600">
            <a:off x="6659280" y="476280"/>
            <a:ext cx="151128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1403280" y="404640"/>
            <a:ext cx="1368360" cy="71928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 flipH="1">
            <a:off x="7595640" y="1125360"/>
            <a:ext cx="1439640" cy="79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Text Box 35"/>
          <p:cNvSpPr/>
          <p:nvPr/>
        </p:nvSpPr>
        <p:spPr>
          <a:xfrm>
            <a:off x="4014360" y="4292640"/>
            <a:ext cx="729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三角形的内角和定理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Text Box 36"/>
          <p:cNvSpPr/>
          <p:nvPr/>
        </p:nvSpPr>
        <p:spPr>
          <a:xfrm>
            <a:off x="5003640" y="3429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推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556000" y="3141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化角的方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Text Box 38"/>
          <p:cNvSpPr/>
          <p:nvPr/>
        </p:nvSpPr>
        <p:spPr>
          <a:xfrm>
            <a:off x="611280" y="306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化思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3851280" y="249228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的证明方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 Box 40"/>
          <p:cNvSpPr/>
          <p:nvPr/>
        </p:nvSpPr>
        <p:spPr>
          <a:xfrm>
            <a:off x="5867280" y="184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线的作法、作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738036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42"/>
          <p:cNvSpPr/>
          <p:nvPr/>
        </p:nvSpPr>
        <p:spPr>
          <a:xfrm>
            <a:off x="788508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43"/>
          <p:cNvSpPr/>
          <p:nvPr/>
        </p:nvSpPr>
        <p:spPr>
          <a:xfrm>
            <a:off x="3276720" y="765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Text Box 44"/>
          <p:cNvSpPr/>
          <p:nvPr/>
        </p:nvSpPr>
        <p:spPr>
          <a:xfrm>
            <a:off x="6877080" y="62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Text Box 45"/>
          <p:cNvSpPr/>
          <p:nvPr/>
        </p:nvSpPr>
        <p:spPr>
          <a:xfrm>
            <a:off x="5148360" y="54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Text Box 46"/>
          <p:cNvSpPr/>
          <p:nvPr/>
        </p:nvSpPr>
        <p:spPr>
          <a:xfrm>
            <a:off x="1692360" y="62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Text Box 47"/>
          <p:cNvSpPr/>
          <p:nvPr/>
        </p:nvSpPr>
        <p:spPr>
          <a:xfrm>
            <a:off x="611280" y="148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Oval 48"/>
          <p:cNvSpPr/>
          <p:nvPr/>
        </p:nvSpPr>
        <p:spPr>
          <a:xfrm flipH="1">
            <a:off x="1692360" y="1773360"/>
            <a:ext cx="1727280" cy="1000080"/>
          </a:xfrm>
          <a:prstGeom prst="ellipse">
            <a:avLst/>
          </a:prstGeom>
          <a:solidFill>
            <a:srgbClr val="cc99ff"/>
          </a:solidFill>
          <a:ln w="22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Text Box 49"/>
          <p:cNvSpPr/>
          <p:nvPr/>
        </p:nvSpPr>
        <p:spPr>
          <a:xfrm>
            <a:off x="2195640" y="20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200812150203954626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3"/>
          <p:cNvSpPr/>
          <p:nvPr/>
        </p:nvSpPr>
        <p:spPr>
          <a:xfrm>
            <a:off x="1906560" y="257976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相信你能行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611280" y="18396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04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零件的形状如图所示，按规定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李叔叔量得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D=142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就断定这个零件不合格，你能说出其中的理由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04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61" name="Group 7"/>
          <p:cNvGrpSpPr/>
          <p:nvPr/>
        </p:nvGrpSpPr>
        <p:grpSpPr>
          <a:xfrm>
            <a:off x="539640" y="-171360"/>
            <a:ext cx="6095880" cy="1514520"/>
            <a:chOff x="539640" y="-171360"/>
            <a:chExt cx="6095880" cy="1514520"/>
          </a:xfrm>
        </p:grpSpPr>
        <p:grpSp>
          <p:nvGrpSpPr>
            <p:cNvPr id="362" name="Group 8"/>
            <p:cNvGrpSpPr/>
            <p:nvPr/>
          </p:nvGrpSpPr>
          <p:grpSpPr>
            <a:xfrm>
              <a:off x="539640" y="209520"/>
              <a:ext cx="3505320" cy="781200"/>
              <a:chOff x="539640" y="209520"/>
              <a:chExt cx="3505320" cy="781200"/>
            </a:xfrm>
          </p:grpSpPr>
          <p:sp>
            <p:nvSpPr>
              <p:cNvPr id="363" name="Rectangle 9"/>
              <p:cNvSpPr/>
              <p:nvPr/>
            </p:nvSpPr>
            <p:spPr>
              <a:xfrm>
                <a:off x="539640" y="40932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学 以 致 用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4" name="Rectangle 10"/>
              <p:cNvSpPr/>
              <p:nvPr/>
            </p:nvSpPr>
            <p:spPr>
              <a:xfrm>
                <a:off x="3357720" y="20952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pic>
          <p:nvPicPr>
            <p:cNvPr id="365" name="Picture 11" descr="678"/>
            <p:cNvPicPr/>
            <p:nvPr/>
          </p:nvPicPr>
          <p:blipFill>
            <a:blip r:embed="rId1"/>
            <a:stretch/>
          </p:blipFill>
          <p:spPr>
            <a:xfrm>
              <a:off x="4197240" y="-17136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2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51444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50"/>
          <p:cNvGrpSpPr/>
          <p:nvPr/>
        </p:nvGrpSpPr>
        <p:grpSpPr>
          <a:xfrm>
            <a:off x="5724360" y="3284640"/>
            <a:ext cx="2552760" cy="2635200"/>
            <a:chOff x="5724360" y="3284640"/>
            <a:chExt cx="2552760" cy="2635200"/>
          </a:xfrm>
        </p:grpSpPr>
        <p:sp>
          <p:nvSpPr>
            <p:cNvPr id="368" name="Text Box 51"/>
            <p:cNvSpPr/>
            <p:nvPr/>
          </p:nvSpPr>
          <p:spPr>
            <a:xfrm>
              <a:off x="7235640" y="52149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°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9" name="Text Box 52"/>
            <p:cNvSpPr/>
            <p:nvPr/>
          </p:nvSpPr>
          <p:spPr>
            <a:xfrm>
              <a:off x="6126120" y="3932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0" name="AutoShape 53"/>
            <p:cNvSpPr/>
            <p:nvPr/>
          </p:nvSpPr>
          <p:spPr>
            <a:xfrm>
              <a:off x="5724360" y="3284640"/>
              <a:ext cx="255276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1" name="Text Box 54"/>
            <p:cNvSpPr/>
            <p:nvPr/>
          </p:nvSpPr>
          <p:spPr>
            <a:xfrm>
              <a:off x="5994360" y="3389400"/>
              <a:ext cx="339480" cy="59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Text Box 55"/>
            <p:cNvSpPr/>
            <p:nvPr/>
          </p:nvSpPr>
          <p:spPr>
            <a:xfrm>
              <a:off x="7014960" y="4726080"/>
              <a:ext cx="33984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Text Box 56"/>
            <p:cNvSpPr/>
            <p:nvPr/>
          </p:nvSpPr>
          <p:spPr>
            <a:xfrm>
              <a:off x="7837200" y="5329080"/>
              <a:ext cx="3398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5868720" y="5300640"/>
              <a:ext cx="34128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>
              <a:off x="6235560" y="3727440"/>
              <a:ext cx="0" cy="17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6235560" y="5497560"/>
              <a:ext cx="170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Line 60"/>
            <p:cNvSpPr/>
            <p:nvPr/>
          </p:nvSpPr>
          <p:spPr>
            <a:xfrm>
              <a:off x="6229080" y="3716280"/>
              <a:ext cx="86364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>
              <a:off x="7086600" y="5054400"/>
              <a:ext cx="850680" cy="4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9" name="Text Box 62"/>
            <p:cNvSpPr/>
            <p:nvPr/>
          </p:nvSpPr>
          <p:spPr>
            <a:xfrm>
              <a:off x="7119720" y="47815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42°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80" name="AutoShape 63"/>
          <p:cNvSpPr/>
          <p:nvPr/>
        </p:nvSpPr>
        <p:spPr>
          <a:xfrm>
            <a:off x="7956720" y="616572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AutoShape 64"/>
          <p:cNvSpPr/>
          <p:nvPr/>
        </p:nvSpPr>
        <p:spPr>
          <a:xfrm>
            <a:off x="853272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3794"/>
                </a:moveTo>
                <a:lnTo>
                  <a:pt x="20533" y="10800"/>
                </a:lnTo>
                <a:lnTo>
                  <a:pt x="6521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3"/>
          <p:cNvGrpSpPr/>
          <p:nvPr/>
        </p:nvGrpSpPr>
        <p:grpSpPr>
          <a:xfrm>
            <a:off x="5724360" y="3284640"/>
            <a:ext cx="2552760" cy="2635200"/>
            <a:chOff x="5724360" y="3284640"/>
            <a:chExt cx="2552760" cy="2635200"/>
          </a:xfrm>
        </p:grpSpPr>
        <p:sp>
          <p:nvSpPr>
            <p:cNvPr id="383" name="Text Box 24"/>
            <p:cNvSpPr/>
            <p:nvPr/>
          </p:nvSpPr>
          <p:spPr>
            <a:xfrm>
              <a:off x="7235640" y="52149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°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4" name="Text Box 25"/>
            <p:cNvSpPr/>
            <p:nvPr/>
          </p:nvSpPr>
          <p:spPr>
            <a:xfrm>
              <a:off x="6126120" y="3932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AutoShape 26"/>
            <p:cNvSpPr/>
            <p:nvPr/>
          </p:nvSpPr>
          <p:spPr>
            <a:xfrm>
              <a:off x="5724360" y="3284640"/>
              <a:ext cx="255276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6" name="Text Box 27"/>
            <p:cNvSpPr/>
            <p:nvPr/>
          </p:nvSpPr>
          <p:spPr>
            <a:xfrm>
              <a:off x="5994360" y="3389400"/>
              <a:ext cx="339480" cy="59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7" name="Text Box 28"/>
            <p:cNvSpPr/>
            <p:nvPr/>
          </p:nvSpPr>
          <p:spPr>
            <a:xfrm>
              <a:off x="7014960" y="4726080"/>
              <a:ext cx="33984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7837200" y="5329080"/>
              <a:ext cx="3398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5868720" y="5300640"/>
              <a:ext cx="34128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0" name="Line 31"/>
            <p:cNvSpPr/>
            <p:nvPr/>
          </p:nvSpPr>
          <p:spPr>
            <a:xfrm>
              <a:off x="6235560" y="3727440"/>
              <a:ext cx="0" cy="17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Line 32"/>
            <p:cNvSpPr/>
            <p:nvPr/>
          </p:nvSpPr>
          <p:spPr>
            <a:xfrm>
              <a:off x="6235560" y="5497560"/>
              <a:ext cx="170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2" name="Line 33"/>
            <p:cNvSpPr/>
            <p:nvPr/>
          </p:nvSpPr>
          <p:spPr>
            <a:xfrm>
              <a:off x="6229080" y="3716280"/>
              <a:ext cx="86364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3" name="Line 34"/>
            <p:cNvSpPr/>
            <p:nvPr/>
          </p:nvSpPr>
          <p:spPr>
            <a:xfrm>
              <a:off x="7086600" y="5054400"/>
              <a:ext cx="850680" cy="4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Text Box 35"/>
            <p:cNvSpPr/>
            <p:nvPr/>
          </p:nvSpPr>
          <p:spPr>
            <a:xfrm>
              <a:off x="7119720" y="47815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42°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95" name="Rectangle 12"/>
          <p:cNvSpPr/>
          <p:nvPr/>
        </p:nvSpPr>
        <p:spPr>
          <a:xfrm>
            <a:off x="611280" y="18396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04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零件的形状如图所示，按规定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李叔叔量得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D=142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就断定这个零件不合格，你能说出其中的理由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04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96" name="Group 13"/>
          <p:cNvGrpSpPr/>
          <p:nvPr/>
        </p:nvGrpSpPr>
        <p:grpSpPr>
          <a:xfrm>
            <a:off x="539640" y="-171360"/>
            <a:ext cx="6095880" cy="1514520"/>
            <a:chOff x="539640" y="-171360"/>
            <a:chExt cx="6095880" cy="1514520"/>
          </a:xfrm>
        </p:grpSpPr>
        <p:grpSp>
          <p:nvGrpSpPr>
            <p:cNvPr id="397" name="Group 14"/>
            <p:cNvGrpSpPr/>
            <p:nvPr/>
          </p:nvGrpSpPr>
          <p:grpSpPr>
            <a:xfrm>
              <a:off x="539640" y="209520"/>
              <a:ext cx="3505320" cy="781200"/>
              <a:chOff x="539640" y="209520"/>
              <a:chExt cx="3505320" cy="781200"/>
            </a:xfrm>
          </p:grpSpPr>
          <p:sp>
            <p:nvSpPr>
              <p:cNvPr id="398" name="Rectangle 15"/>
              <p:cNvSpPr/>
              <p:nvPr/>
            </p:nvSpPr>
            <p:spPr>
              <a:xfrm>
                <a:off x="539640" y="40932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学 以 致 用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9" name="Rectangle 16"/>
              <p:cNvSpPr/>
              <p:nvPr/>
            </p:nvSpPr>
            <p:spPr>
              <a:xfrm>
                <a:off x="3357720" y="20952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pic>
          <p:nvPicPr>
            <p:cNvPr id="400" name="Picture 17" descr="678"/>
            <p:cNvPicPr/>
            <p:nvPr/>
          </p:nvPicPr>
          <p:blipFill>
            <a:blip r:embed="rId1"/>
            <a:stretch/>
          </p:blipFill>
          <p:spPr>
            <a:xfrm>
              <a:off x="4197240" y="-17136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1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51444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Line 22"/>
          <p:cNvSpPr/>
          <p:nvPr/>
        </p:nvSpPr>
        <p:spPr>
          <a:xfrm>
            <a:off x="6227640" y="3716280"/>
            <a:ext cx="1729080" cy="1800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AutoShape 36"/>
          <p:cNvSpPr/>
          <p:nvPr/>
        </p:nvSpPr>
        <p:spPr>
          <a:xfrm>
            <a:off x="8317080" y="616572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9"/>
          <p:cNvGrpSpPr/>
          <p:nvPr/>
        </p:nvGrpSpPr>
        <p:grpSpPr>
          <a:xfrm>
            <a:off x="5724360" y="3284640"/>
            <a:ext cx="2552760" cy="2635200"/>
            <a:chOff x="5724360" y="3284640"/>
            <a:chExt cx="2552760" cy="2635200"/>
          </a:xfrm>
        </p:grpSpPr>
        <p:sp>
          <p:nvSpPr>
            <p:cNvPr id="405" name="Text Box 30"/>
            <p:cNvSpPr/>
            <p:nvPr/>
          </p:nvSpPr>
          <p:spPr>
            <a:xfrm>
              <a:off x="7235640" y="52149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°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6126120" y="3932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AutoShape 32"/>
            <p:cNvSpPr/>
            <p:nvPr/>
          </p:nvSpPr>
          <p:spPr>
            <a:xfrm>
              <a:off x="5724360" y="3284640"/>
              <a:ext cx="2552760" cy="26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5994360" y="3389400"/>
              <a:ext cx="339480" cy="59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Text Box 34"/>
            <p:cNvSpPr/>
            <p:nvPr/>
          </p:nvSpPr>
          <p:spPr>
            <a:xfrm>
              <a:off x="7014960" y="4726080"/>
              <a:ext cx="33984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Text Box 35"/>
            <p:cNvSpPr/>
            <p:nvPr/>
          </p:nvSpPr>
          <p:spPr>
            <a:xfrm>
              <a:off x="7837200" y="5329080"/>
              <a:ext cx="3398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Text Box 36"/>
            <p:cNvSpPr/>
            <p:nvPr/>
          </p:nvSpPr>
          <p:spPr>
            <a:xfrm>
              <a:off x="5868720" y="5300640"/>
              <a:ext cx="34128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Line 37"/>
            <p:cNvSpPr/>
            <p:nvPr/>
          </p:nvSpPr>
          <p:spPr>
            <a:xfrm>
              <a:off x="6235560" y="3727440"/>
              <a:ext cx="0" cy="17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Line 38"/>
            <p:cNvSpPr/>
            <p:nvPr/>
          </p:nvSpPr>
          <p:spPr>
            <a:xfrm>
              <a:off x="6235560" y="5497560"/>
              <a:ext cx="170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Line 39"/>
            <p:cNvSpPr/>
            <p:nvPr/>
          </p:nvSpPr>
          <p:spPr>
            <a:xfrm>
              <a:off x="6229080" y="3716280"/>
              <a:ext cx="86364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Line 40"/>
            <p:cNvSpPr/>
            <p:nvPr/>
          </p:nvSpPr>
          <p:spPr>
            <a:xfrm>
              <a:off x="7086600" y="5054400"/>
              <a:ext cx="850680" cy="4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7119720" y="47815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42°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17" name="Rectangle 12"/>
          <p:cNvSpPr/>
          <p:nvPr/>
        </p:nvSpPr>
        <p:spPr>
          <a:xfrm>
            <a:off x="611280" y="18396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04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零件的形状如图所示，按规定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等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李叔叔量得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D=142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就断定这个零件不合格，你能说出其中的理由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04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8" name="Group 13"/>
          <p:cNvGrpSpPr/>
          <p:nvPr/>
        </p:nvGrpSpPr>
        <p:grpSpPr>
          <a:xfrm>
            <a:off x="539640" y="-171360"/>
            <a:ext cx="6095880" cy="1514520"/>
            <a:chOff x="539640" y="-171360"/>
            <a:chExt cx="6095880" cy="1514520"/>
          </a:xfrm>
        </p:grpSpPr>
        <p:grpSp>
          <p:nvGrpSpPr>
            <p:cNvPr id="419" name="Group 14"/>
            <p:cNvGrpSpPr/>
            <p:nvPr/>
          </p:nvGrpSpPr>
          <p:grpSpPr>
            <a:xfrm>
              <a:off x="539640" y="209520"/>
              <a:ext cx="3505320" cy="781200"/>
              <a:chOff x="539640" y="209520"/>
              <a:chExt cx="3505320" cy="781200"/>
            </a:xfrm>
          </p:grpSpPr>
          <p:sp>
            <p:nvSpPr>
              <p:cNvPr id="420" name="Rectangle 15"/>
              <p:cNvSpPr/>
              <p:nvPr/>
            </p:nvSpPr>
            <p:spPr>
              <a:xfrm>
                <a:off x="539640" y="40932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学 以 致 用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21" name="Rectangle 16"/>
              <p:cNvSpPr/>
              <p:nvPr/>
            </p:nvSpPr>
            <p:spPr>
              <a:xfrm>
                <a:off x="3357720" y="20952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pic>
          <p:nvPicPr>
            <p:cNvPr id="422" name="Picture 17" descr="678"/>
            <p:cNvPicPr/>
            <p:nvPr/>
          </p:nvPicPr>
          <p:blipFill>
            <a:blip r:embed="rId1"/>
            <a:stretch/>
          </p:blipFill>
          <p:spPr>
            <a:xfrm>
              <a:off x="4197240" y="-17136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51444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Group 27"/>
          <p:cNvGrpSpPr/>
          <p:nvPr/>
        </p:nvGrpSpPr>
        <p:grpSpPr>
          <a:xfrm>
            <a:off x="5867280" y="4365720"/>
            <a:ext cx="1209600" cy="705600"/>
            <a:chOff x="5867280" y="4365720"/>
            <a:chExt cx="1209600" cy="705600"/>
          </a:xfrm>
        </p:grpSpPr>
        <p:sp>
          <p:nvSpPr>
            <p:cNvPr id="425" name="Line 25"/>
            <p:cNvSpPr/>
            <p:nvPr/>
          </p:nvSpPr>
          <p:spPr>
            <a:xfrm flipH="1" flipV="1">
              <a:off x="6213240" y="4638240"/>
              <a:ext cx="863640" cy="433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Text Box 26"/>
            <p:cNvSpPr/>
            <p:nvPr/>
          </p:nvSpPr>
          <p:spPr>
            <a:xfrm>
              <a:off x="5867280" y="4365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27" name="AutoShape 28"/>
          <p:cNvSpPr/>
          <p:nvPr/>
        </p:nvSpPr>
        <p:spPr>
          <a:xfrm>
            <a:off x="7667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468360" y="1268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在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DE∥BC,∠A=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∠C=7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∠ADE=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5580000" y="2708280"/>
            <a:ext cx="2438280" cy="2148840"/>
            <a:chOff x="5580000" y="2708280"/>
            <a:chExt cx="2438280" cy="2148840"/>
          </a:xfrm>
        </p:grpSpPr>
        <p:sp>
          <p:nvSpPr>
            <p:cNvPr id="430" name="Text Box 8"/>
            <p:cNvSpPr/>
            <p:nvPr/>
          </p:nvSpPr>
          <p:spPr>
            <a:xfrm>
              <a:off x="6265800" y="364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Text Box 9"/>
            <p:cNvSpPr/>
            <p:nvPr/>
          </p:nvSpPr>
          <p:spPr>
            <a:xfrm flipH="1">
              <a:off x="7561080" y="4488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Text Box 10"/>
            <p:cNvSpPr/>
            <p:nvPr/>
          </p:nvSpPr>
          <p:spPr>
            <a:xfrm>
              <a:off x="5580000" y="4488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Text Box 11"/>
            <p:cNvSpPr/>
            <p:nvPr/>
          </p:nvSpPr>
          <p:spPr>
            <a:xfrm>
              <a:off x="7027920" y="2708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Line 12"/>
            <p:cNvSpPr/>
            <p:nvPr/>
          </p:nvSpPr>
          <p:spPr>
            <a:xfrm>
              <a:off x="5884920" y="4770000"/>
              <a:ext cx="1752480" cy="0"/>
            </a:xfrm>
            <a:prstGeom prst="line">
              <a:avLst/>
            </a:prstGeom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Line 13"/>
            <p:cNvSpPr/>
            <p:nvPr/>
          </p:nvSpPr>
          <p:spPr>
            <a:xfrm flipH="1">
              <a:off x="5884920" y="3082680"/>
              <a:ext cx="1371600" cy="1686960"/>
            </a:xfrm>
            <a:prstGeom prst="line">
              <a:avLst/>
            </a:prstGeom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>
              <a:off x="7256520" y="3082680"/>
              <a:ext cx="380880" cy="1686960"/>
            </a:xfrm>
            <a:prstGeom prst="line">
              <a:avLst/>
            </a:prstGeom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7" name="Line 15"/>
            <p:cNvSpPr/>
            <p:nvPr/>
          </p:nvSpPr>
          <p:spPr>
            <a:xfrm>
              <a:off x="6570720" y="3926160"/>
              <a:ext cx="838080" cy="0"/>
            </a:xfrm>
            <a:prstGeom prst="line">
              <a:avLst/>
            </a:prstGeom>
            <a:ln cap="sq"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8" name="Text Box 16"/>
            <p:cNvSpPr/>
            <p:nvPr/>
          </p:nvSpPr>
          <p:spPr>
            <a:xfrm>
              <a:off x="7332480" y="364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39" name="Group 17"/>
          <p:cNvGrpSpPr/>
          <p:nvPr/>
        </p:nvGrpSpPr>
        <p:grpSpPr>
          <a:xfrm>
            <a:off x="179280" y="-243000"/>
            <a:ext cx="6095880" cy="1649520"/>
            <a:chOff x="179280" y="-243000"/>
            <a:chExt cx="6095880" cy="1649520"/>
          </a:xfrm>
        </p:grpSpPr>
        <p:grpSp>
          <p:nvGrpSpPr>
            <p:cNvPr id="440" name="Group 18"/>
            <p:cNvGrpSpPr/>
            <p:nvPr/>
          </p:nvGrpSpPr>
          <p:grpSpPr>
            <a:xfrm>
              <a:off x="179280" y="137880"/>
              <a:ext cx="3505320" cy="1268640"/>
              <a:chOff x="179280" y="137880"/>
              <a:chExt cx="3505320" cy="1268640"/>
            </a:xfrm>
          </p:grpSpPr>
          <p:sp>
            <p:nvSpPr>
              <p:cNvPr id="441" name="Rectangle 19"/>
              <p:cNvSpPr/>
              <p:nvPr/>
            </p:nvSpPr>
            <p:spPr>
              <a:xfrm>
                <a:off x="179280" y="337680"/>
                <a:ext cx="3505320" cy="1068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 堂 练 习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2" name="Rectangle 20"/>
              <p:cNvSpPr/>
              <p:nvPr/>
            </p:nvSpPr>
            <p:spPr>
              <a:xfrm>
                <a:off x="2997360" y="13788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pic>
          <p:nvPicPr>
            <p:cNvPr id="443" name="Picture 21" descr="678"/>
            <p:cNvPicPr/>
            <p:nvPr/>
          </p:nvPicPr>
          <p:blipFill>
            <a:blip r:embed="rId1"/>
            <a:stretch/>
          </p:blipFill>
          <p:spPr>
            <a:xfrm>
              <a:off x="3836880" y="-243000"/>
              <a:ext cx="243828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22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79280" y="44280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Group 3"/>
          <p:cNvGrpSpPr/>
          <p:nvPr/>
        </p:nvGrpSpPr>
        <p:grpSpPr>
          <a:xfrm>
            <a:off x="5254560" y="333360"/>
            <a:ext cx="3889440" cy="1008000"/>
            <a:chOff x="5254560" y="333360"/>
            <a:chExt cx="3889440" cy="1008000"/>
          </a:xfrm>
        </p:grpSpPr>
        <p:sp>
          <p:nvSpPr>
            <p:cNvPr id="446" name="AutoShape 4"/>
            <p:cNvSpPr/>
            <p:nvPr/>
          </p:nvSpPr>
          <p:spPr>
            <a:xfrm>
              <a:off x="5254560" y="333360"/>
              <a:ext cx="3889440" cy="1008000"/>
            </a:xfrm>
            <a:prstGeom prst="irregularSeal2">
              <a:avLst/>
            </a:prstGeom>
            <a:solidFill>
              <a:srgbClr val="ffff00">
                <a:alpha val="61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Text Box 5"/>
            <p:cNvSpPr/>
            <p:nvPr/>
          </p:nvSpPr>
          <p:spPr>
            <a:xfrm>
              <a:off x="5759280" y="54900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我是最棒的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!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3"/>
          <p:cNvGrpSpPr/>
          <p:nvPr/>
        </p:nvGrpSpPr>
        <p:grpSpPr>
          <a:xfrm>
            <a:off x="0" y="1557360"/>
            <a:ext cx="2916360" cy="1452600"/>
            <a:chOff x="0" y="1557360"/>
            <a:chExt cx="2916360" cy="1452600"/>
          </a:xfrm>
        </p:grpSpPr>
        <p:graphicFrame>
          <p:nvGraphicFramePr>
            <p:cNvPr id="95" name="Object 4"/>
            <p:cNvGraphicFramePr/>
            <p:nvPr/>
          </p:nvGraphicFramePr>
          <p:xfrm>
            <a:off x="0" y="1557360"/>
            <a:ext cx="2916360" cy="145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557360"/>
                      <a:ext cx="2916360" cy="14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296280" y="1557360"/>
            <a:ext cx="1991520" cy="1420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6280" y="1557360"/>
                      <a:ext cx="1991520" cy="14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" name="Rectangle 6"/>
          <p:cNvSpPr/>
          <p:nvPr/>
        </p:nvSpPr>
        <p:spPr>
          <a:xfrm>
            <a:off x="0" y="33019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内角三兄弟           之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397240" y="549360"/>
            <a:ext cx="649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个直角三角形里住着三个内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三兄弟非常团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是有一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二突然不高兴，发起脾气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指着老大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凭什么度数最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也要和你一样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”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行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大说：“这是不可能的，否则，我们这个家就再也围不起来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”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？” 老二很纳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179280" y="260280"/>
            <a:ext cx="25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情境创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朗读数学.wav" descr=""/>
          <p:cNvPicPr/>
          <p:nvPr/>
        </p:nvPicPr>
        <p:blipFill>
          <a:blip r:embed="rId5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54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09680" y="1674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命题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:</a:t>
            </a:r>
            <a:r>
              <a:rPr b="1" lang="zh-CN" sz="4000" spc="-1" strike="noStrike">
                <a:solidFill>
                  <a:srgbClr val="0033cc"/>
                </a:solidFill>
                <a:latin typeface="Comic Sans MS"/>
              </a:rPr>
              <a:t>三角形三个内角的和等于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180°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029200" y="10954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800600" y="990720"/>
            <a:ext cx="3124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1476360" y="3284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量一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1504800" y="4005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拼一拼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8" name="Group 45"/>
          <p:cNvGrpSpPr/>
          <p:nvPr/>
        </p:nvGrpSpPr>
        <p:grpSpPr>
          <a:xfrm>
            <a:off x="755640" y="2421000"/>
            <a:ext cx="7416720" cy="4101480"/>
            <a:chOff x="755640" y="2421000"/>
            <a:chExt cx="7416720" cy="4101480"/>
          </a:xfrm>
        </p:grpSpPr>
        <p:grpSp>
          <p:nvGrpSpPr>
            <p:cNvPr id="109" name="Group 40"/>
            <p:cNvGrpSpPr/>
            <p:nvPr/>
          </p:nvGrpSpPr>
          <p:grpSpPr>
            <a:xfrm>
              <a:off x="755640" y="2421000"/>
              <a:ext cx="7416720" cy="4101480"/>
              <a:chOff x="755640" y="2421000"/>
              <a:chExt cx="7416720" cy="4101480"/>
            </a:xfrm>
          </p:grpSpPr>
          <p:sp>
            <p:nvSpPr>
              <p:cNvPr id="110" name="Text Box 41"/>
              <p:cNvSpPr/>
              <p:nvPr/>
            </p:nvSpPr>
            <p:spPr>
              <a:xfrm>
                <a:off x="755640" y="2421000"/>
                <a:ext cx="6913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</a:rPr>
                  <a:t>你能验证这个命题吗？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" name="AutoShape 42"/>
              <p:cNvSpPr/>
              <p:nvPr/>
            </p:nvSpPr>
            <p:spPr>
              <a:xfrm>
                <a:off x="1979640" y="5084640"/>
                <a:ext cx="3825720" cy="1150560"/>
              </a:xfrm>
              <a:prstGeom prst="cloudCallout">
                <a:avLst>
                  <a:gd name="adj1" fmla="val 22199"/>
                  <a:gd name="adj2" fmla="val -165449"/>
                </a:avLst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pic>
            <p:nvPicPr>
              <p:cNvPr id="112" name="Picture 43" descr="ee30[1]"/>
              <p:cNvPicPr/>
              <p:nvPr/>
            </p:nvPicPr>
            <p:blipFill>
              <a:blip r:embed="rId1"/>
              <a:stretch/>
            </p:blipFill>
            <p:spPr>
              <a:xfrm>
                <a:off x="6168960" y="4939920"/>
                <a:ext cx="2003400" cy="158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WordArt 44"/>
            <p:cNvSpPr txBox="1"/>
            <p:nvPr/>
          </p:nvSpPr>
          <p:spPr>
            <a:xfrm>
              <a:off x="2411280" y="5156280"/>
              <a:ext cx="27352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试一试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14" name="WordArt 48"/>
          <p:cNvSpPr txBox="1"/>
          <p:nvPr/>
        </p:nvSpPr>
        <p:spPr>
          <a:xfrm>
            <a:off x="755640" y="390600"/>
            <a:ext cx="273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猜想验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未命名2"/>
          <p:cNvPicPr/>
          <p:nvPr/>
        </p:nvPicPr>
        <p:blipFill>
          <a:blip r:embed="rId1"/>
          <a:stretch/>
        </p:blipFill>
        <p:spPr>
          <a:xfrm>
            <a:off x="812880" y="1411200"/>
            <a:ext cx="300996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Freeform 22"/>
          <p:cNvSpPr/>
          <p:nvPr/>
        </p:nvSpPr>
        <p:spPr>
          <a:xfrm>
            <a:off x="1293840" y="141120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812880" y="227664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531800" y="112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95440" y="3067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548160" y="30672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1" name="Group 44"/>
          <p:cNvGrpSpPr/>
          <p:nvPr/>
        </p:nvGrpSpPr>
        <p:grpSpPr>
          <a:xfrm>
            <a:off x="812880" y="3990960"/>
            <a:ext cx="2952720" cy="1711080"/>
            <a:chOff x="812880" y="3990960"/>
            <a:chExt cx="2952720" cy="1711080"/>
          </a:xfrm>
        </p:grpSpPr>
        <p:pic>
          <p:nvPicPr>
            <p:cNvPr id="122" name="Picture 41" descr="未命名"/>
            <p:cNvPicPr/>
            <p:nvPr/>
          </p:nvPicPr>
          <p:blipFill>
            <a:blip r:embed="rId2"/>
            <a:stretch/>
          </p:blipFill>
          <p:spPr>
            <a:xfrm>
              <a:off x="812880" y="3990960"/>
              <a:ext cx="2952720" cy="17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Freeform 25"/>
            <p:cNvSpPr/>
            <p:nvPr/>
          </p:nvSpPr>
          <p:spPr>
            <a:xfrm>
              <a:off x="812880" y="4854600"/>
              <a:ext cx="1251000" cy="833400"/>
            </a:xfrm>
            <a:custGeom>
              <a:avLst/>
              <a:gdLst/>
              <a:ahLst/>
              <a:rect l="l" t="t" r="r" b="b"/>
              <a:pathLst>
                <a:path w="4724" h="3148">
                  <a:moveTo>
                    <a:pt x="2309" y="663"/>
                  </a:moveTo>
                  <a:lnTo>
                    <a:pt x="1758" y="0"/>
                  </a:lnTo>
                  <a:lnTo>
                    <a:pt x="0" y="3148"/>
                  </a:lnTo>
                  <a:lnTo>
                    <a:pt x="4542" y="3148"/>
                  </a:lnTo>
                  <a:lnTo>
                    <a:pt x="4322" y="2457"/>
                  </a:lnTo>
                  <a:lnTo>
                    <a:pt x="4724" y="1982"/>
                  </a:lnTo>
                  <a:lnTo>
                    <a:pt x="4248" y="1579"/>
                  </a:lnTo>
                  <a:lnTo>
                    <a:pt x="4651" y="736"/>
                  </a:lnTo>
                  <a:lnTo>
                    <a:pt x="4102" y="371"/>
                  </a:lnTo>
                  <a:lnTo>
                    <a:pt x="3699" y="773"/>
                  </a:lnTo>
                  <a:lnTo>
                    <a:pt x="2821" y="297"/>
                  </a:lnTo>
                  <a:lnTo>
                    <a:pt x="2309" y="663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Freeform 26"/>
            <p:cNvSpPr/>
            <p:nvPr/>
          </p:nvSpPr>
          <p:spPr>
            <a:xfrm>
              <a:off x="1922400" y="4854600"/>
              <a:ext cx="1800360" cy="833400"/>
            </a:xfrm>
            <a:custGeom>
              <a:avLst/>
              <a:gdLst/>
              <a:ahLst/>
              <a:rect l="l" t="t" r="r" b="b"/>
              <a:pathLst>
                <a:path w="6802" h="3149">
                  <a:moveTo>
                    <a:pt x="2252" y="481"/>
                  </a:moveTo>
                  <a:lnTo>
                    <a:pt x="1977" y="225"/>
                  </a:lnTo>
                  <a:lnTo>
                    <a:pt x="1538" y="664"/>
                  </a:lnTo>
                  <a:lnTo>
                    <a:pt x="989" y="298"/>
                  </a:lnTo>
                  <a:lnTo>
                    <a:pt x="403" y="737"/>
                  </a:lnTo>
                  <a:lnTo>
                    <a:pt x="0" y="1580"/>
                  </a:lnTo>
                  <a:lnTo>
                    <a:pt x="476" y="1983"/>
                  </a:lnTo>
                  <a:lnTo>
                    <a:pt x="74" y="2458"/>
                  </a:lnTo>
                  <a:lnTo>
                    <a:pt x="294" y="3149"/>
                  </a:lnTo>
                  <a:lnTo>
                    <a:pt x="6802" y="3149"/>
                  </a:lnTo>
                  <a:lnTo>
                    <a:pt x="3033" y="0"/>
                  </a:lnTo>
                  <a:lnTo>
                    <a:pt x="2252" y="481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5" name="Text Box 48"/>
          <p:cNvSpPr/>
          <p:nvPr/>
        </p:nvSpPr>
        <p:spPr>
          <a:xfrm>
            <a:off x="1476360" y="37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539640" y="566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37368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8" name="Group 57"/>
          <p:cNvGrpSpPr/>
          <p:nvPr/>
        </p:nvGrpSpPr>
        <p:grpSpPr>
          <a:xfrm>
            <a:off x="2770560" y="1916280"/>
            <a:ext cx="1801440" cy="1183320"/>
            <a:chOff x="2770560" y="1916280"/>
            <a:chExt cx="1801440" cy="1183320"/>
          </a:xfrm>
        </p:grpSpPr>
        <p:grpSp>
          <p:nvGrpSpPr>
            <p:cNvPr id="129" name="Group 53"/>
            <p:cNvGrpSpPr/>
            <p:nvPr/>
          </p:nvGrpSpPr>
          <p:grpSpPr>
            <a:xfrm>
              <a:off x="2770560" y="2059200"/>
              <a:ext cx="1464120" cy="1040400"/>
              <a:chOff x="2770560" y="2059200"/>
              <a:chExt cx="1464120" cy="1040400"/>
            </a:xfrm>
          </p:grpSpPr>
          <p:sp>
            <p:nvSpPr>
              <p:cNvPr id="130" name="Freeform 22"/>
              <p:cNvSpPr/>
              <p:nvPr/>
            </p:nvSpPr>
            <p:spPr>
              <a:xfrm rot="10806000">
                <a:off x="2771280" y="2060280"/>
                <a:ext cx="1462320" cy="1037880"/>
              </a:xfrm>
              <a:custGeom>
                <a:avLst/>
                <a:gdLst/>
                <a:ahLst/>
                <a:rect l="l" t="t" r="r" b="b"/>
                <a:pathLst>
                  <a:path w="5523" h="3922">
                    <a:moveTo>
                      <a:pt x="0" y="3149"/>
                    </a:moveTo>
                    <a:lnTo>
                      <a:pt x="551" y="3812"/>
                    </a:lnTo>
                    <a:lnTo>
                      <a:pt x="1063" y="3446"/>
                    </a:lnTo>
                    <a:lnTo>
                      <a:pt x="1941" y="3922"/>
                    </a:lnTo>
                    <a:lnTo>
                      <a:pt x="2344" y="3520"/>
                    </a:lnTo>
                    <a:lnTo>
                      <a:pt x="2893" y="3885"/>
                    </a:lnTo>
                    <a:lnTo>
                      <a:pt x="3479" y="3446"/>
                    </a:lnTo>
                    <a:lnTo>
                      <a:pt x="4028" y="3812"/>
                    </a:lnTo>
                    <a:lnTo>
                      <a:pt x="4467" y="3373"/>
                    </a:lnTo>
                    <a:lnTo>
                      <a:pt x="4742" y="3629"/>
                    </a:lnTo>
                    <a:lnTo>
                      <a:pt x="5523" y="3148"/>
                    </a:lnTo>
                    <a:lnTo>
                      <a:pt x="1755" y="0"/>
                    </a:lnTo>
                    <a:lnTo>
                      <a:pt x="0" y="31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1" name="Text Box 55"/>
              <p:cNvSpPr/>
              <p:nvPr/>
            </p:nvSpPr>
            <p:spPr>
              <a:xfrm>
                <a:off x="3564000" y="2565360"/>
                <a:ext cx="2872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32" name="Text Box 56"/>
            <p:cNvSpPr/>
            <p:nvPr/>
          </p:nvSpPr>
          <p:spPr>
            <a:xfrm>
              <a:off x="4284720" y="19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3" name="Group 62"/>
          <p:cNvGrpSpPr/>
          <p:nvPr/>
        </p:nvGrpSpPr>
        <p:grpSpPr>
          <a:xfrm>
            <a:off x="3765600" y="2276640"/>
            <a:ext cx="1584000" cy="1130040"/>
            <a:chOff x="3765600" y="2276640"/>
            <a:chExt cx="1584000" cy="1130040"/>
          </a:xfrm>
        </p:grpSpPr>
        <p:grpSp>
          <p:nvGrpSpPr>
            <p:cNvPr id="134" name="Group 58"/>
            <p:cNvGrpSpPr/>
            <p:nvPr/>
          </p:nvGrpSpPr>
          <p:grpSpPr>
            <a:xfrm>
              <a:off x="3765600" y="2276640"/>
              <a:ext cx="1250640" cy="849240"/>
              <a:chOff x="3765600" y="2276640"/>
              <a:chExt cx="1250640" cy="849240"/>
            </a:xfrm>
          </p:grpSpPr>
          <p:sp>
            <p:nvSpPr>
              <p:cNvPr id="135" name="Freeform 23"/>
              <p:cNvSpPr/>
              <p:nvPr/>
            </p:nvSpPr>
            <p:spPr>
              <a:xfrm>
                <a:off x="3765600" y="2276640"/>
                <a:ext cx="1250640" cy="833400"/>
              </a:xfrm>
              <a:custGeom>
                <a:avLst/>
                <a:gdLst/>
                <a:ahLst/>
                <a:rect l="l" t="t" r="r" b="b"/>
                <a:pathLst>
                  <a:path w="4724" h="3148">
                    <a:moveTo>
                      <a:pt x="2309" y="663"/>
                    </a:moveTo>
                    <a:lnTo>
                      <a:pt x="1758" y="0"/>
                    </a:lnTo>
                    <a:lnTo>
                      <a:pt x="0" y="3148"/>
                    </a:lnTo>
                    <a:lnTo>
                      <a:pt x="4542" y="3148"/>
                    </a:lnTo>
                    <a:lnTo>
                      <a:pt x="4322" y="2457"/>
                    </a:lnTo>
                    <a:lnTo>
                      <a:pt x="4724" y="1982"/>
                    </a:lnTo>
                    <a:lnTo>
                      <a:pt x="4248" y="1579"/>
                    </a:lnTo>
                    <a:lnTo>
                      <a:pt x="4651" y="736"/>
                    </a:lnTo>
                    <a:lnTo>
                      <a:pt x="4102" y="371"/>
                    </a:lnTo>
                    <a:lnTo>
                      <a:pt x="3699" y="773"/>
                    </a:lnTo>
                    <a:lnTo>
                      <a:pt x="2821" y="297"/>
                    </a:lnTo>
                    <a:lnTo>
                      <a:pt x="2309" y="663"/>
                    </a:lnTo>
                    <a:close/>
                  </a:path>
                </a:pathLst>
              </a:custGeom>
              <a:solidFill>
                <a:srgbClr val="ccff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" name="Text Box 60"/>
              <p:cNvSpPr/>
              <p:nvPr/>
            </p:nvSpPr>
            <p:spPr>
              <a:xfrm>
                <a:off x="3931920" y="2759040"/>
                <a:ext cx="183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37" name="Text Box 61"/>
            <p:cNvSpPr/>
            <p:nvPr/>
          </p:nvSpPr>
          <p:spPr>
            <a:xfrm>
              <a:off x="4989240" y="3038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8" name="Group 70"/>
          <p:cNvGrpSpPr/>
          <p:nvPr/>
        </p:nvGrpSpPr>
        <p:grpSpPr>
          <a:xfrm>
            <a:off x="2698920" y="4581360"/>
            <a:ext cx="1828800" cy="1110600"/>
            <a:chOff x="2698920" y="4581360"/>
            <a:chExt cx="1828800" cy="1110600"/>
          </a:xfrm>
        </p:grpSpPr>
        <p:grpSp>
          <p:nvGrpSpPr>
            <p:cNvPr id="139" name="Group 66"/>
            <p:cNvGrpSpPr/>
            <p:nvPr/>
          </p:nvGrpSpPr>
          <p:grpSpPr>
            <a:xfrm>
              <a:off x="2698920" y="4651560"/>
              <a:ext cx="1463760" cy="1040400"/>
              <a:chOff x="2698920" y="4651560"/>
              <a:chExt cx="1463760" cy="1040400"/>
            </a:xfrm>
          </p:grpSpPr>
          <p:sp>
            <p:nvSpPr>
              <p:cNvPr id="140" name="Freeform 22"/>
              <p:cNvSpPr/>
              <p:nvPr/>
            </p:nvSpPr>
            <p:spPr>
              <a:xfrm rot="10806000">
                <a:off x="2699640" y="4652640"/>
                <a:ext cx="1461960" cy="1037880"/>
              </a:xfrm>
              <a:custGeom>
                <a:avLst/>
                <a:gdLst/>
                <a:ahLst/>
                <a:rect l="l" t="t" r="r" b="b"/>
                <a:pathLst>
                  <a:path w="5523" h="3922">
                    <a:moveTo>
                      <a:pt x="0" y="3149"/>
                    </a:moveTo>
                    <a:lnTo>
                      <a:pt x="551" y="3812"/>
                    </a:lnTo>
                    <a:lnTo>
                      <a:pt x="1063" y="3446"/>
                    </a:lnTo>
                    <a:lnTo>
                      <a:pt x="1941" y="3922"/>
                    </a:lnTo>
                    <a:lnTo>
                      <a:pt x="2344" y="3520"/>
                    </a:lnTo>
                    <a:lnTo>
                      <a:pt x="2893" y="3885"/>
                    </a:lnTo>
                    <a:lnTo>
                      <a:pt x="3479" y="3446"/>
                    </a:lnTo>
                    <a:lnTo>
                      <a:pt x="4028" y="3812"/>
                    </a:lnTo>
                    <a:lnTo>
                      <a:pt x="4467" y="3373"/>
                    </a:lnTo>
                    <a:lnTo>
                      <a:pt x="4742" y="3629"/>
                    </a:lnTo>
                    <a:lnTo>
                      <a:pt x="5523" y="3148"/>
                    </a:lnTo>
                    <a:lnTo>
                      <a:pt x="1755" y="0"/>
                    </a:lnTo>
                    <a:lnTo>
                      <a:pt x="0" y="31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1" name="Text Box 68"/>
              <p:cNvSpPr/>
              <p:nvPr/>
            </p:nvSpPr>
            <p:spPr>
              <a:xfrm>
                <a:off x="3492360" y="5157720"/>
                <a:ext cx="2869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42" name="Text Box 69"/>
            <p:cNvSpPr/>
            <p:nvPr/>
          </p:nvSpPr>
          <p:spPr>
            <a:xfrm>
              <a:off x="4168800" y="4581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3" name="Group 76"/>
          <p:cNvGrpSpPr/>
          <p:nvPr/>
        </p:nvGrpSpPr>
        <p:grpSpPr>
          <a:xfrm>
            <a:off x="2441160" y="5661000"/>
            <a:ext cx="1251000" cy="971640"/>
            <a:chOff x="2441160" y="5661000"/>
            <a:chExt cx="1251000" cy="971640"/>
          </a:xfrm>
        </p:grpSpPr>
        <p:sp>
          <p:nvSpPr>
            <p:cNvPr id="144" name="Freeform 25"/>
            <p:cNvSpPr/>
            <p:nvPr/>
          </p:nvSpPr>
          <p:spPr>
            <a:xfrm rot="10800000">
              <a:off x="2441160" y="5687640"/>
              <a:ext cx="1251000" cy="833400"/>
            </a:xfrm>
            <a:custGeom>
              <a:avLst/>
              <a:gdLst/>
              <a:ahLst/>
              <a:rect l="l" t="t" r="r" b="b"/>
              <a:pathLst>
                <a:path w="4724" h="3148">
                  <a:moveTo>
                    <a:pt x="2309" y="663"/>
                  </a:moveTo>
                  <a:lnTo>
                    <a:pt x="1758" y="0"/>
                  </a:lnTo>
                  <a:lnTo>
                    <a:pt x="0" y="3148"/>
                  </a:lnTo>
                  <a:lnTo>
                    <a:pt x="4542" y="3148"/>
                  </a:lnTo>
                  <a:lnTo>
                    <a:pt x="4322" y="2457"/>
                  </a:lnTo>
                  <a:lnTo>
                    <a:pt x="4724" y="1982"/>
                  </a:lnTo>
                  <a:lnTo>
                    <a:pt x="4248" y="1579"/>
                  </a:lnTo>
                  <a:lnTo>
                    <a:pt x="4651" y="736"/>
                  </a:lnTo>
                  <a:lnTo>
                    <a:pt x="4102" y="371"/>
                  </a:lnTo>
                  <a:lnTo>
                    <a:pt x="3699" y="773"/>
                  </a:lnTo>
                  <a:lnTo>
                    <a:pt x="2821" y="297"/>
                  </a:lnTo>
                  <a:lnTo>
                    <a:pt x="2309" y="663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Text Box 74"/>
            <p:cNvSpPr/>
            <p:nvPr/>
          </p:nvSpPr>
          <p:spPr>
            <a:xfrm>
              <a:off x="3317760" y="5661000"/>
              <a:ext cx="308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Text Box 75"/>
            <p:cNvSpPr/>
            <p:nvPr/>
          </p:nvSpPr>
          <p:spPr>
            <a:xfrm>
              <a:off x="3305160" y="6264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" name="Group 79"/>
          <p:cNvGrpSpPr/>
          <p:nvPr/>
        </p:nvGrpSpPr>
        <p:grpSpPr>
          <a:xfrm>
            <a:off x="5076720" y="3357720"/>
            <a:ext cx="3588840" cy="2384640"/>
            <a:chOff x="5076720" y="3357720"/>
            <a:chExt cx="3588840" cy="2384640"/>
          </a:xfrm>
        </p:grpSpPr>
        <p:grpSp>
          <p:nvGrpSpPr>
            <p:cNvPr id="148" name="Group 27"/>
            <p:cNvGrpSpPr/>
            <p:nvPr/>
          </p:nvGrpSpPr>
          <p:grpSpPr>
            <a:xfrm>
              <a:off x="5726160" y="3716640"/>
              <a:ext cx="2663280" cy="1728000"/>
              <a:chOff x="5726160" y="3716640"/>
              <a:chExt cx="2663280" cy="1728000"/>
            </a:xfrm>
          </p:grpSpPr>
          <p:grpSp>
            <p:nvGrpSpPr>
              <p:cNvPr id="149" name="Group 28"/>
              <p:cNvGrpSpPr/>
              <p:nvPr/>
            </p:nvGrpSpPr>
            <p:grpSpPr>
              <a:xfrm>
                <a:off x="5726160" y="3716640"/>
                <a:ext cx="2649240" cy="1728000"/>
                <a:chOff x="5726160" y="3716640"/>
                <a:chExt cx="2649240" cy="1728000"/>
              </a:xfrm>
            </p:grpSpPr>
            <p:sp>
              <p:nvSpPr>
                <p:cNvPr id="150" name="Freeform 29"/>
                <p:cNvSpPr/>
                <p:nvPr/>
              </p:nvSpPr>
              <p:spPr>
                <a:xfrm>
                  <a:off x="6148080" y="3716640"/>
                  <a:ext cx="1332000" cy="1069200"/>
                </a:xfrm>
                <a:custGeom>
                  <a:avLst/>
                  <a:gdLst/>
                  <a:ahLst/>
                  <a:rect l="l" t="t" r="r" b="b"/>
                  <a:pathLst>
                    <a:path w="5523" h="3922">
                      <a:moveTo>
                        <a:pt x="0" y="3149"/>
                      </a:moveTo>
                      <a:lnTo>
                        <a:pt x="551" y="3812"/>
                      </a:lnTo>
                      <a:lnTo>
                        <a:pt x="1063" y="3446"/>
                      </a:lnTo>
                      <a:lnTo>
                        <a:pt x="1941" y="3922"/>
                      </a:lnTo>
                      <a:lnTo>
                        <a:pt x="2344" y="3520"/>
                      </a:lnTo>
                      <a:lnTo>
                        <a:pt x="2893" y="3885"/>
                      </a:lnTo>
                      <a:lnTo>
                        <a:pt x="3479" y="3446"/>
                      </a:lnTo>
                      <a:lnTo>
                        <a:pt x="4028" y="3812"/>
                      </a:lnTo>
                      <a:lnTo>
                        <a:pt x="4467" y="3373"/>
                      </a:lnTo>
                      <a:lnTo>
                        <a:pt x="4742" y="3629"/>
                      </a:lnTo>
                      <a:lnTo>
                        <a:pt x="5523" y="3148"/>
                      </a:lnTo>
                      <a:lnTo>
                        <a:pt x="1755" y="0"/>
                      </a:lnTo>
                      <a:lnTo>
                        <a:pt x="0" y="3149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30"/>
                <p:cNvSpPr/>
                <p:nvPr/>
              </p:nvSpPr>
              <p:spPr>
                <a:xfrm>
                  <a:off x="5726160" y="4586400"/>
                  <a:ext cx="1139400" cy="858240"/>
                </a:xfrm>
                <a:custGeom>
                  <a:avLst/>
                  <a:gdLst/>
                  <a:ahLst/>
                  <a:rect l="l" t="t" r="r" b="b"/>
                  <a:pathLst>
                    <a:path w="4724" h="3148">
                      <a:moveTo>
                        <a:pt x="2309" y="663"/>
                      </a:moveTo>
                      <a:lnTo>
                        <a:pt x="1758" y="0"/>
                      </a:lnTo>
                      <a:lnTo>
                        <a:pt x="0" y="3148"/>
                      </a:lnTo>
                      <a:lnTo>
                        <a:pt x="4542" y="3148"/>
                      </a:lnTo>
                      <a:lnTo>
                        <a:pt x="4322" y="2457"/>
                      </a:lnTo>
                      <a:lnTo>
                        <a:pt x="4724" y="1982"/>
                      </a:lnTo>
                      <a:lnTo>
                        <a:pt x="4248" y="1579"/>
                      </a:lnTo>
                      <a:lnTo>
                        <a:pt x="4651" y="736"/>
                      </a:lnTo>
                      <a:lnTo>
                        <a:pt x="4102" y="371"/>
                      </a:lnTo>
                      <a:lnTo>
                        <a:pt x="3699" y="773"/>
                      </a:lnTo>
                      <a:lnTo>
                        <a:pt x="2821" y="297"/>
                      </a:lnTo>
                      <a:lnTo>
                        <a:pt x="2309" y="663"/>
                      </a:lnTo>
                      <a:close/>
                    </a:path>
                  </a:pathLst>
                </a:custGeom>
                <a:solidFill>
                  <a:srgbClr val="ccff66"/>
                </a:solidFill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31"/>
                <p:cNvSpPr/>
                <p:nvPr/>
              </p:nvSpPr>
              <p:spPr>
                <a:xfrm>
                  <a:off x="6735600" y="4586400"/>
                  <a:ext cx="1639800" cy="858240"/>
                </a:xfrm>
                <a:custGeom>
                  <a:avLst/>
                  <a:gdLst/>
                  <a:ahLst/>
                  <a:rect l="l" t="t" r="r" b="b"/>
                  <a:pathLst>
                    <a:path w="6802" h="3149">
                      <a:moveTo>
                        <a:pt x="2252" y="481"/>
                      </a:moveTo>
                      <a:lnTo>
                        <a:pt x="1977" y="225"/>
                      </a:lnTo>
                      <a:lnTo>
                        <a:pt x="1538" y="664"/>
                      </a:lnTo>
                      <a:lnTo>
                        <a:pt x="989" y="298"/>
                      </a:lnTo>
                      <a:lnTo>
                        <a:pt x="403" y="737"/>
                      </a:lnTo>
                      <a:lnTo>
                        <a:pt x="0" y="1580"/>
                      </a:lnTo>
                      <a:lnTo>
                        <a:pt x="476" y="1983"/>
                      </a:lnTo>
                      <a:lnTo>
                        <a:pt x="74" y="2458"/>
                      </a:lnTo>
                      <a:lnTo>
                        <a:pt x="294" y="3149"/>
                      </a:lnTo>
                      <a:lnTo>
                        <a:pt x="6802" y="3149"/>
                      </a:lnTo>
                      <a:lnTo>
                        <a:pt x="3033" y="0"/>
                      </a:lnTo>
                      <a:lnTo>
                        <a:pt x="2252" y="481"/>
                      </a:lnTo>
                      <a:close/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32"/>
              <p:cNvGrpSpPr/>
              <p:nvPr/>
            </p:nvGrpSpPr>
            <p:grpSpPr>
              <a:xfrm>
                <a:off x="5726160" y="3716640"/>
                <a:ext cx="2663280" cy="1716840"/>
                <a:chOff x="5726160" y="3716640"/>
                <a:chExt cx="2663280" cy="1716840"/>
              </a:xfrm>
            </p:grpSpPr>
            <p:sp>
              <p:nvSpPr>
                <p:cNvPr id="154" name="Freeform 33"/>
                <p:cNvSpPr/>
                <p:nvPr/>
              </p:nvSpPr>
              <p:spPr>
                <a:xfrm>
                  <a:off x="5726160" y="4574880"/>
                  <a:ext cx="1094400" cy="858240"/>
                </a:xfrm>
                <a:custGeom>
                  <a:avLst/>
                  <a:gdLst/>
                  <a:ahLst/>
                  <a:rect l="l" t="t" r="r" b="b"/>
                  <a:pathLst>
                    <a:path w="4542" h="3148">
                      <a:moveTo>
                        <a:pt x="4542" y="3148"/>
                      </a:moveTo>
                      <a:lnTo>
                        <a:pt x="0" y="3148"/>
                      </a:lnTo>
                      <a:lnTo>
                        <a:pt x="175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34"/>
                <p:cNvSpPr/>
                <p:nvPr/>
              </p:nvSpPr>
              <p:spPr>
                <a:xfrm>
                  <a:off x="6814800" y="4555440"/>
                  <a:ext cx="634680" cy="201240"/>
                </a:xfrm>
                <a:custGeom>
                  <a:avLst/>
                  <a:gdLst/>
                  <a:ahLst/>
                  <a:rect l="l" t="t" r="r" b="b"/>
                  <a:pathLst>
                    <a:path w="2630" h="737">
                      <a:moveTo>
                        <a:pt x="0" y="737"/>
                      </a:moveTo>
                      <a:lnTo>
                        <a:pt x="586" y="298"/>
                      </a:lnTo>
                      <a:lnTo>
                        <a:pt x="1135" y="664"/>
                      </a:lnTo>
                      <a:lnTo>
                        <a:pt x="1574" y="225"/>
                      </a:lnTo>
                      <a:lnTo>
                        <a:pt x="1849" y="481"/>
                      </a:lnTo>
                      <a:lnTo>
                        <a:pt x="263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35"/>
                <p:cNvSpPr/>
                <p:nvPr/>
              </p:nvSpPr>
              <p:spPr>
                <a:xfrm>
                  <a:off x="6749640" y="4776480"/>
                  <a:ext cx="115560" cy="657000"/>
                </a:xfrm>
                <a:custGeom>
                  <a:avLst/>
                  <a:gdLst/>
                  <a:ahLst/>
                  <a:rect l="l" t="t" r="r" b="b"/>
                  <a:pathLst>
                    <a:path w="476" h="2412">
                      <a:moveTo>
                        <a:pt x="403" y="0"/>
                      </a:moveTo>
                      <a:lnTo>
                        <a:pt x="0" y="843"/>
                      </a:lnTo>
                      <a:lnTo>
                        <a:pt x="476" y="1246"/>
                      </a:lnTo>
                      <a:lnTo>
                        <a:pt x="74" y="1721"/>
                      </a:lnTo>
                      <a:lnTo>
                        <a:pt x="294" y="241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6"/>
                <p:cNvSpPr/>
                <p:nvPr/>
              </p:nvSpPr>
              <p:spPr>
                <a:xfrm>
                  <a:off x="6149520" y="3716640"/>
                  <a:ext cx="1331640" cy="858240"/>
                </a:xfrm>
                <a:custGeom>
                  <a:avLst/>
                  <a:gdLst/>
                  <a:ahLst/>
                  <a:rect l="l" t="t" r="r" b="b"/>
                  <a:pathLst>
                    <a:path w="5523" h="3149">
                      <a:moveTo>
                        <a:pt x="5523" y="3148"/>
                      </a:moveTo>
                      <a:lnTo>
                        <a:pt x="1755" y="0"/>
                      </a:lnTo>
                      <a:lnTo>
                        <a:pt x="0" y="314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37"/>
                <p:cNvSpPr/>
                <p:nvPr/>
              </p:nvSpPr>
              <p:spPr>
                <a:xfrm>
                  <a:off x="6820560" y="4574880"/>
                  <a:ext cx="1568880" cy="858240"/>
                </a:xfrm>
                <a:custGeom>
                  <a:avLst/>
                  <a:gdLst/>
                  <a:ahLst/>
                  <a:rect l="l" t="t" r="r" b="b"/>
                  <a:pathLst>
                    <a:path w="6508" h="3149">
                      <a:moveTo>
                        <a:pt x="0" y="3149"/>
                      </a:moveTo>
                      <a:lnTo>
                        <a:pt x="6508" y="3149"/>
                      </a:lnTo>
                      <a:lnTo>
                        <a:pt x="273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38"/>
                <p:cNvSpPr/>
                <p:nvPr/>
              </p:nvSpPr>
              <p:spPr>
                <a:xfrm>
                  <a:off x="6149520" y="4574880"/>
                  <a:ext cx="696600" cy="210960"/>
                </a:xfrm>
                <a:custGeom>
                  <a:avLst/>
                  <a:gdLst/>
                  <a:ahLst/>
                  <a:rect l="l" t="t" r="r" b="b"/>
                  <a:pathLst>
                    <a:path w="2893" h="773">
                      <a:moveTo>
                        <a:pt x="0" y="0"/>
                      </a:moveTo>
                      <a:lnTo>
                        <a:pt x="551" y="663"/>
                      </a:lnTo>
                      <a:lnTo>
                        <a:pt x="1063" y="297"/>
                      </a:lnTo>
                      <a:lnTo>
                        <a:pt x="1941" y="773"/>
                      </a:lnTo>
                      <a:lnTo>
                        <a:pt x="2344" y="371"/>
                      </a:lnTo>
                      <a:lnTo>
                        <a:pt x="2893" y="7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" name="Text Box 92"/>
            <p:cNvSpPr/>
            <p:nvPr/>
          </p:nvSpPr>
          <p:spPr>
            <a:xfrm>
              <a:off x="6375600" y="3357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Text Box 93"/>
            <p:cNvSpPr/>
            <p:nvPr/>
          </p:nvSpPr>
          <p:spPr>
            <a:xfrm>
              <a:off x="5511960" y="537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Text Box 94"/>
            <p:cNvSpPr/>
            <p:nvPr/>
          </p:nvSpPr>
          <p:spPr>
            <a:xfrm>
              <a:off x="8320320" y="537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Text Box 95"/>
            <p:cNvSpPr/>
            <p:nvPr/>
          </p:nvSpPr>
          <p:spPr>
            <a:xfrm>
              <a:off x="5076720" y="34149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4" name="Group 100"/>
          <p:cNvGrpSpPr/>
          <p:nvPr/>
        </p:nvGrpSpPr>
        <p:grpSpPr>
          <a:xfrm>
            <a:off x="4932360" y="3573360"/>
            <a:ext cx="1655640" cy="1077480"/>
            <a:chOff x="4932360" y="3573360"/>
            <a:chExt cx="1655640" cy="1077480"/>
          </a:xfrm>
        </p:grpSpPr>
        <p:sp>
          <p:nvSpPr>
            <p:cNvPr id="165" name="Freeform 25"/>
            <p:cNvSpPr/>
            <p:nvPr/>
          </p:nvSpPr>
          <p:spPr>
            <a:xfrm rot="10800000">
              <a:off x="5292720" y="3715920"/>
              <a:ext cx="1295280" cy="934920"/>
            </a:xfrm>
            <a:prstGeom prst="pie">
              <a:avLst/>
            </a:prstGeom>
            <a:solidFill>
              <a:srgbClr val="ccff66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Text Box 99"/>
            <p:cNvSpPr/>
            <p:nvPr/>
          </p:nvSpPr>
          <p:spPr>
            <a:xfrm>
              <a:off x="4932360" y="357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7" name="AutoShape 101">
            <a:hlinkClick r:id="" action="ppaction://hlinkshowjump?jump=nextslide"/>
          </p:cNvPr>
          <p:cNvSpPr/>
          <p:nvPr/>
        </p:nvSpPr>
        <p:spPr>
          <a:xfrm>
            <a:off x="8317080" y="630864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WordArt 104"/>
          <p:cNvSpPr txBox="1"/>
          <p:nvPr/>
        </p:nvSpPr>
        <p:spPr>
          <a:xfrm>
            <a:off x="468360" y="146160"/>
            <a:ext cx="2663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操作思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4360" y="220500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延长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∥A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4360" y="907920"/>
            <a:ext cx="446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△AB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A+∠B+∠C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26920" y="573408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你还有其它方法来证明三角形内角和定理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12800" y="3286080"/>
            <a:ext cx="61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=∠A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984240" y="3860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= ∠B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26920" y="44370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+∠2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AC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角的定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826920" y="501336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+∠B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AC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量代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866880" y="333360"/>
            <a:ext cx="83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三角形三个内角的和等于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180°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4932360" y="981000"/>
            <a:ext cx="3124080" cy="1831320"/>
            <a:chOff x="4932360" y="981000"/>
            <a:chExt cx="3124080" cy="1831320"/>
          </a:xfrm>
        </p:grpSpPr>
        <p:grpSp>
          <p:nvGrpSpPr>
            <p:cNvPr id="178" name="Group 11"/>
            <p:cNvGrpSpPr/>
            <p:nvPr/>
          </p:nvGrpSpPr>
          <p:grpSpPr>
            <a:xfrm>
              <a:off x="4932360" y="981000"/>
              <a:ext cx="2057400" cy="1831320"/>
              <a:chOff x="4932360" y="981000"/>
              <a:chExt cx="2057400" cy="1831320"/>
            </a:xfrm>
          </p:grpSpPr>
          <p:sp>
            <p:nvSpPr>
              <p:cNvPr id="179" name="Text Box 12"/>
              <p:cNvSpPr/>
              <p:nvPr/>
            </p:nvSpPr>
            <p:spPr>
              <a:xfrm>
                <a:off x="6227640" y="981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0" name="Text Box 13"/>
              <p:cNvSpPr/>
              <p:nvPr/>
            </p:nvSpPr>
            <p:spPr>
              <a:xfrm>
                <a:off x="4932360" y="220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1" name="Line 14"/>
              <p:cNvSpPr/>
              <p:nvPr/>
            </p:nvSpPr>
            <p:spPr>
              <a:xfrm flipV="1">
                <a:off x="5262480" y="1348920"/>
                <a:ext cx="1079640" cy="108252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>
                <a:off x="6379920" y="1361880"/>
                <a:ext cx="319320" cy="103212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3" name="Line 16"/>
              <p:cNvSpPr/>
              <p:nvPr/>
            </p:nvSpPr>
            <p:spPr>
              <a:xfrm>
                <a:off x="5236920" y="2428920"/>
                <a:ext cx="14479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6532560" y="2352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8"/>
            <p:cNvGrpSpPr/>
            <p:nvPr/>
          </p:nvGrpSpPr>
          <p:grpSpPr>
            <a:xfrm>
              <a:off x="6724440" y="981000"/>
              <a:ext cx="1179360" cy="1465200"/>
              <a:chOff x="6724440" y="981000"/>
              <a:chExt cx="1179360" cy="1465200"/>
            </a:xfrm>
          </p:grpSpPr>
          <p:sp>
            <p:nvSpPr>
              <p:cNvPr id="186" name="Line 19"/>
              <p:cNvSpPr/>
              <p:nvPr/>
            </p:nvSpPr>
            <p:spPr>
              <a:xfrm flipH="1">
                <a:off x="6724440" y="1425600"/>
                <a:ext cx="950760" cy="1020600"/>
              </a:xfrm>
              <a:prstGeom prst="line">
                <a:avLst/>
              </a:prstGeom>
              <a:ln w="12600">
                <a:solidFill>
                  <a:srgbClr val="00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7446960" y="9810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1"/>
            <p:cNvGrpSpPr/>
            <p:nvPr/>
          </p:nvGrpSpPr>
          <p:grpSpPr>
            <a:xfrm>
              <a:off x="6684840" y="2352600"/>
              <a:ext cx="1371600" cy="459720"/>
              <a:chOff x="6684840" y="2352600"/>
              <a:chExt cx="1371600" cy="45972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6684840" y="2428920"/>
                <a:ext cx="1371600" cy="0"/>
              </a:xfrm>
              <a:prstGeom prst="line">
                <a:avLst/>
              </a:prstGeom>
              <a:ln w="12600">
                <a:solidFill>
                  <a:srgbClr val="00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0" name="Text Box 23"/>
              <p:cNvSpPr/>
              <p:nvPr/>
            </p:nvSpPr>
            <p:spPr>
              <a:xfrm>
                <a:off x="7599240" y="2352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91" name="Arc 24"/>
            <p:cNvSpPr/>
            <p:nvPr/>
          </p:nvSpPr>
          <p:spPr>
            <a:xfrm>
              <a:off x="6643800" y="2187720"/>
              <a:ext cx="216000" cy="7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Arc 25"/>
            <p:cNvSpPr/>
            <p:nvPr/>
          </p:nvSpPr>
          <p:spPr>
            <a:xfrm>
              <a:off x="6831000" y="2273400"/>
              <a:ext cx="7308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Text Box 26"/>
            <p:cNvSpPr/>
            <p:nvPr/>
          </p:nvSpPr>
          <p:spPr>
            <a:xfrm>
              <a:off x="6593040" y="189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Text Box 27"/>
            <p:cNvSpPr/>
            <p:nvPr/>
          </p:nvSpPr>
          <p:spPr>
            <a:xfrm>
              <a:off x="6865920" y="2114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0"/>
          <p:cNvGrpSpPr/>
          <p:nvPr/>
        </p:nvGrpSpPr>
        <p:grpSpPr>
          <a:xfrm>
            <a:off x="5148360" y="2997360"/>
            <a:ext cx="3095640" cy="2384280"/>
            <a:chOff x="5148360" y="2997360"/>
            <a:chExt cx="3095640" cy="2384280"/>
          </a:xfrm>
        </p:grpSpPr>
        <p:sp>
          <p:nvSpPr>
            <p:cNvPr id="196" name="Line 4"/>
            <p:cNvSpPr/>
            <p:nvPr/>
          </p:nvSpPr>
          <p:spPr>
            <a:xfrm flipH="1">
              <a:off x="5651280" y="3286080"/>
              <a:ext cx="158436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5651640" y="508644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 flipH="1" flipV="1">
              <a:off x="7235640" y="3285720"/>
              <a:ext cx="57636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6804360" y="2997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5148360" y="4942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7812360" y="5013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468360" y="1916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+∠B+∠C=18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539640" y="2997360"/>
            <a:ext cx="5329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1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A=18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-∠B- ∠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B=18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-∠A- ∠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C=18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-∠A- ∠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539640" y="4668840"/>
            <a:ext cx="554508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(2)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∠A+∠B=18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- ∠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 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A+∠C=18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- ∠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 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B+∠C=180</a:t>
            </a:r>
            <a:r>
              <a:rPr b="1" lang="en-US" sz="3200" spc="-1" strike="noStrike" baseline="30000">
                <a:solidFill>
                  <a:srgbClr val="cc0066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- ∠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468360" y="249228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前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三角形中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若无三角形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则先构造三角形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179280" y="112536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定理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三角形三个内角的和等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180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WordArt 18"/>
          <p:cNvSpPr txBox="1"/>
          <p:nvPr/>
        </p:nvSpPr>
        <p:spPr>
          <a:xfrm>
            <a:off x="395280" y="85680"/>
            <a:ext cx="2808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归纳剖析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5219640" y="5516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作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35841"/>
          <p:cNvSpPr txBox="1"/>
          <p:nvPr/>
        </p:nvSpPr>
        <p:spPr>
          <a:xfrm>
            <a:off x="395280" y="333360"/>
            <a:ext cx="18003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10" name="组合 35842"/>
          <p:cNvGrpSpPr/>
          <p:nvPr/>
        </p:nvGrpSpPr>
        <p:grpSpPr>
          <a:xfrm>
            <a:off x="4572000" y="3500280"/>
            <a:ext cx="3352680" cy="1966680"/>
            <a:chOff x="4572000" y="3500280"/>
            <a:chExt cx="3352680" cy="1966680"/>
          </a:xfrm>
        </p:grpSpPr>
        <p:sp>
          <p:nvSpPr>
            <p:cNvPr id="211" name="矩形 35843"/>
            <p:cNvSpPr/>
            <p:nvPr/>
          </p:nvSpPr>
          <p:spPr>
            <a:xfrm>
              <a:off x="4572000" y="3500280"/>
              <a:ext cx="3352680" cy="19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直接连接符 35844"/>
            <p:cNvSpPr/>
            <p:nvPr/>
          </p:nvSpPr>
          <p:spPr>
            <a:xfrm flipH="1">
              <a:off x="4835520" y="3854160"/>
              <a:ext cx="1217520" cy="1201680"/>
            </a:xfrm>
            <a:prstGeom prst="line">
              <a:avLst/>
            </a:prstGeom>
            <a:ln w="20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直接连接符 35845"/>
            <p:cNvSpPr/>
            <p:nvPr/>
          </p:nvSpPr>
          <p:spPr>
            <a:xfrm>
              <a:off x="4835520" y="5055840"/>
              <a:ext cx="1662120" cy="0"/>
            </a:xfrm>
            <a:prstGeom prst="line">
              <a:avLst/>
            </a:prstGeom>
            <a:ln w="20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直接连接符 35846"/>
            <p:cNvSpPr/>
            <p:nvPr/>
          </p:nvSpPr>
          <p:spPr>
            <a:xfrm>
              <a:off x="6053040" y="3854160"/>
              <a:ext cx="444600" cy="1201680"/>
            </a:xfrm>
            <a:prstGeom prst="line">
              <a:avLst/>
            </a:prstGeom>
            <a:ln w="20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5" name="直接连接符 35847"/>
            <p:cNvSpPr/>
            <p:nvPr/>
          </p:nvSpPr>
          <p:spPr>
            <a:xfrm>
              <a:off x="6497640" y="5055840"/>
              <a:ext cx="1323720" cy="0"/>
            </a:xfrm>
            <a:prstGeom prst="line">
              <a:avLst/>
            </a:prstGeom>
            <a:ln w="20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6" name="矩形 35848"/>
            <p:cNvSpPr/>
            <p:nvPr/>
          </p:nvSpPr>
          <p:spPr>
            <a:xfrm>
              <a:off x="6540480" y="46130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17" name="组合 35849"/>
            <p:cNvGrpSpPr/>
            <p:nvPr/>
          </p:nvGrpSpPr>
          <p:grpSpPr>
            <a:xfrm>
              <a:off x="5874480" y="3568320"/>
              <a:ext cx="192960" cy="305280"/>
              <a:chOff x="5874480" y="3568320"/>
              <a:chExt cx="192960" cy="305280"/>
            </a:xfrm>
          </p:grpSpPr>
          <p:sp>
            <p:nvSpPr>
              <p:cNvPr id="218" name="椭圆 35850"/>
              <p:cNvSpPr/>
              <p:nvPr/>
            </p:nvSpPr>
            <p:spPr>
              <a:xfrm>
                <a:off x="6038640" y="3839760"/>
                <a:ext cx="28800" cy="288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9" name="矩形 35851"/>
              <p:cNvSpPr/>
              <p:nvPr/>
            </p:nvSpPr>
            <p:spPr>
              <a:xfrm>
                <a:off x="5895720" y="356832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0" name="矩形 35852"/>
              <p:cNvSpPr/>
              <p:nvPr/>
            </p:nvSpPr>
            <p:spPr>
              <a:xfrm>
                <a:off x="5874480" y="35683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35853"/>
            <p:cNvGrpSpPr/>
            <p:nvPr/>
          </p:nvGrpSpPr>
          <p:grpSpPr>
            <a:xfrm>
              <a:off x="4620240" y="4990680"/>
              <a:ext cx="229320" cy="305280"/>
              <a:chOff x="4620240" y="4990680"/>
              <a:chExt cx="229320" cy="305280"/>
            </a:xfrm>
          </p:grpSpPr>
          <p:sp>
            <p:nvSpPr>
              <p:cNvPr id="222" name="椭圆 35854"/>
              <p:cNvSpPr/>
              <p:nvPr/>
            </p:nvSpPr>
            <p:spPr>
              <a:xfrm>
                <a:off x="4821120" y="5041440"/>
                <a:ext cx="28440" cy="288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3" name="矩形 35855"/>
              <p:cNvSpPr/>
              <p:nvPr/>
            </p:nvSpPr>
            <p:spPr>
              <a:xfrm>
                <a:off x="4641840" y="499068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4" name="矩形 35856"/>
              <p:cNvSpPr/>
              <p:nvPr/>
            </p:nvSpPr>
            <p:spPr>
              <a:xfrm>
                <a:off x="4620240" y="49906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5" name="组合 35857"/>
            <p:cNvGrpSpPr/>
            <p:nvPr/>
          </p:nvGrpSpPr>
          <p:grpSpPr>
            <a:xfrm>
              <a:off x="6417720" y="5041440"/>
              <a:ext cx="185040" cy="354600"/>
              <a:chOff x="6417720" y="5041440"/>
              <a:chExt cx="185040" cy="354600"/>
            </a:xfrm>
          </p:grpSpPr>
          <p:sp>
            <p:nvSpPr>
              <p:cNvPr id="226" name="椭圆 35858"/>
              <p:cNvSpPr/>
              <p:nvPr/>
            </p:nvSpPr>
            <p:spPr>
              <a:xfrm>
                <a:off x="6483240" y="5041440"/>
                <a:ext cx="28440" cy="288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7" name="矩形 35859"/>
              <p:cNvSpPr/>
              <p:nvPr/>
            </p:nvSpPr>
            <p:spPr>
              <a:xfrm>
                <a:off x="6446880" y="50907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8" name="矩形 35860"/>
              <p:cNvSpPr/>
              <p:nvPr/>
            </p:nvSpPr>
            <p:spPr>
              <a:xfrm>
                <a:off x="6417720" y="509076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29" name="椭圆 35861"/>
            <p:cNvSpPr/>
            <p:nvPr/>
          </p:nvSpPr>
          <p:spPr>
            <a:xfrm>
              <a:off x="7807320" y="5041440"/>
              <a:ext cx="28440" cy="28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0" name="文本框 35862"/>
          <p:cNvSpPr/>
          <p:nvPr/>
        </p:nvSpPr>
        <p:spPr>
          <a:xfrm>
            <a:off x="781200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文本框 35863"/>
          <p:cNvSpPr/>
          <p:nvPr/>
        </p:nvSpPr>
        <p:spPr>
          <a:xfrm>
            <a:off x="1116000" y="1628640"/>
            <a:ext cx="676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若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=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=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D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若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D=1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=6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0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直接连接符 35864"/>
          <p:cNvSpPr/>
          <p:nvPr/>
        </p:nvSpPr>
        <p:spPr>
          <a:xfrm>
            <a:off x="2627280" y="26812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直接连接符 35865"/>
          <p:cNvSpPr/>
          <p:nvPr/>
        </p:nvSpPr>
        <p:spPr>
          <a:xfrm>
            <a:off x="2340000" y="3933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文本框 35866"/>
          <p:cNvSpPr/>
          <p:nvPr/>
        </p:nvSpPr>
        <p:spPr>
          <a:xfrm>
            <a:off x="2700360" y="2232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文本框 35867"/>
          <p:cNvSpPr/>
          <p:nvPr/>
        </p:nvSpPr>
        <p:spPr>
          <a:xfrm>
            <a:off x="2428920" y="3500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1116000" y="1052640"/>
            <a:ext cx="684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个外角，则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间有怎样的数量关系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50920" y="3933720"/>
            <a:ext cx="9296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三角形内角和定理的推论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三角形的外角等于与它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不相邻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的两个内角的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8" name="Group 5"/>
          <p:cNvGrpSpPr/>
          <p:nvPr/>
        </p:nvGrpSpPr>
        <p:grpSpPr>
          <a:xfrm>
            <a:off x="1835280" y="2133720"/>
            <a:ext cx="3352680" cy="1966680"/>
            <a:chOff x="1835280" y="2133720"/>
            <a:chExt cx="3352680" cy="1966680"/>
          </a:xfrm>
        </p:grpSpPr>
        <p:sp>
          <p:nvSpPr>
            <p:cNvPr id="239" name="AutoShape 6"/>
            <p:cNvSpPr/>
            <p:nvPr/>
          </p:nvSpPr>
          <p:spPr>
            <a:xfrm>
              <a:off x="1835280" y="2133720"/>
              <a:ext cx="3352680" cy="19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H="1">
              <a:off x="2098800" y="2487600"/>
              <a:ext cx="1217520" cy="1201680"/>
            </a:xfrm>
            <a:prstGeom prst="line">
              <a:avLst/>
            </a:prstGeom>
            <a:ln w="20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2098800" y="3689280"/>
              <a:ext cx="1662120" cy="0"/>
            </a:xfrm>
            <a:prstGeom prst="line">
              <a:avLst/>
            </a:prstGeom>
            <a:ln w="20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3316320" y="2487600"/>
              <a:ext cx="444600" cy="1201680"/>
            </a:xfrm>
            <a:prstGeom prst="line">
              <a:avLst/>
            </a:prstGeom>
            <a:ln w="20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3760920" y="3689280"/>
              <a:ext cx="1323720" cy="0"/>
            </a:xfrm>
            <a:prstGeom prst="line">
              <a:avLst/>
            </a:prstGeom>
            <a:ln w="20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3803760" y="32464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45" name="Group 12"/>
            <p:cNvGrpSpPr/>
            <p:nvPr/>
          </p:nvGrpSpPr>
          <p:grpSpPr>
            <a:xfrm>
              <a:off x="3159000" y="2201760"/>
              <a:ext cx="171720" cy="305280"/>
              <a:chOff x="3159000" y="2201760"/>
              <a:chExt cx="171720" cy="305280"/>
            </a:xfrm>
          </p:grpSpPr>
          <p:sp>
            <p:nvSpPr>
              <p:cNvPr id="246" name="Oval 13"/>
              <p:cNvSpPr/>
              <p:nvPr/>
            </p:nvSpPr>
            <p:spPr>
              <a:xfrm>
                <a:off x="3301920" y="2473200"/>
                <a:ext cx="28800" cy="288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7" name="Rectangle 14"/>
              <p:cNvSpPr/>
              <p:nvPr/>
            </p:nvSpPr>
            <p:spPr>
              <a:xfrm>
                <a:off x="3159000" y="220176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8" name="Rectangle 15"/>
              <p:cNvSpPr/>
              <p:nvPr/>
            </p:nvSpPr>
            <p:spPr>
              <a:xfrm>
                <a:off x="3159000" y="220176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6"/>
            <p:cNvGrpSpPr/>
            <p:nvPr/>
          </p:nvGrpSpPr>
          <p:grpSpPr>
            <a:xfrm>
              <a:off x="1905120" y="3624120"/>
              <a:ext cx="207720" cy="305280"/>
              <a:chOff x="1905120" y="3624120"/>
              <a:chExt cx="207720" cy="305280"/>
            </a:xfrm>
          </p:grpSpPr>
          <p:sp>
            <p:nvSpPr>
              <p:cNvPr id="250" name="Oval 17"/>
              <p:cNvSpPr/>
              <p:nvPr/>
            </p:nvSpPr>
            <p:spPr>
              <a:xfrm>
                <a:off x="2084400" y="3674880"/>
                <a:ext cx="28440" cy="288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1" name="Rectangle 18"/>
              <p:cNvSpPr/>
              <p:nvPr/>
            </p:nvSpPr>
            <p:spPr>
              <a:xfrm>
                <a:off x="1905120" y="362412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2" name="Rectangle 19"/>
              <p:cNvSpPr/>
              <p:nvPr/>
            </p:nvSpPr>
            <p:spPr>
              <a:xfrm>
                <a:off x="1905120" y="362412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0"/>
            <p:cNvGrpSpPr/>
            <p:nvPr/>
          </p:nvGrpSpPr>
          <p:grpSpPr>
            <a:xfrm>
              <a:off x="3709800" y="3674880"/>
              <a:ext cx="185040" cy="354600"/>
              <a:chOff x="3709800" y="3674880"/>
              <a:chExt cx="185040" cy="354600"/>
            </a:xfrm>
          </p:grpSpPr>
          <p:sp>
            <p:nvSpPr>
              <p:cNvPr id="254" name="Oval 21"/>
              <p:cNvSpPr/>
              <p:nvPr/>
            </p:nvSpPr>
            <p:spPr>
              <a:xfrm>
                <a:off x="3746520" y="3674880"/>
                <a:ext cx="28440" cy="288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5" name="Rectangle 22"/>
              <p:cNvSpPr/>
              <p:nvPr/>
            </p:nvSpPr>
            <p:spPr>
              <a:xfrm>
                <a:off x="3710160" y="37242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56" name="Rectangle 23"/>
              <p:cNvSpPr/>
              <p:nvPr/>
            </p:nvSpPr>
            <p:spPr>
              <a:xfrm>
                <a:off x="3709800" y="372420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57" name="Oval 24"/>
            <p:cNvSpPr/>
            <p:nvPr/>
          </p:nvSpPr>
          <p:spPr>
            <a:xfrm>
              <a:off x="5070600" y="3674880"/>
              <a:ext cx="28440" cy="28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58" name="Text Box 25"/>
          <p:cNvSpPr/>
          <p:nvPr/>
        </p:nvSpPr>
        <p:spPr>
          <a:xfrm>
            <a:off x="507672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4475160" y="4773600"/>
            <a:ext cx="1224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4427640" y="2637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D=∠A+∠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WordArt 31"/>
          <p:cNvSpPr txBox="1"/>
          <p:nvPr/>
        </p:nvSpPr>
        <p:spPr>
          <a:xfrm>
            <a:off x="395280" y="85680"/>
            <a:ext cx="2881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延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468360" y="5157720"/>
            <a:ext cx="15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剖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33"/>
          <p:cNvSpPr/>
          <p:nvPr/>
        </p:nvSpPr>
        <p:spPr>
          <a:xfrm>
            <a:off x="480960" y="5776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39640" y="155736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∠A +∠B =∠C+∠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5148360" y="2349360"/>
            <a:ext cx="3168720" cy="2592360"/>
            <a:chOff x="5148360" y="2349360"/>
            <a:chExt cx="3168720" cy="2592360"/>
          </a:xfrm>
        </p:grpSpPr>
        <p:sp>
          <p:nvSpPr>
            <p:cNvPr id="266" name="AutoShape 4"/>
            <p:cNvSpPr/>
            <p:nvPr/>
          </p:nvSpPr>
          <p:spPr>
            <a:xfrm>
              <a:off x="5148360" y="2349360"/>
              <a:ext cx="316872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Text Box 5"/>
            <p:cNvSpPr/>
            <p:nvPr/>
          </p:nvSpPr>
          <p:spPr>
            <a:xfrm>
              <a:off x="5148360" y="4368600"/>
              <a:ext cx="510480" cy="5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6881760" y="3358800"/>
              <a:ext cx="510480" cy="5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Text Box 7"/>
            <p:cNvSpPr/>
            <p:nvPr/>
          </p:nvSpPr>
          <p:spPr>
            <a:xfrm>
              <a:off x="7578000" y="4394880"/>
              <a:ext cx="510480" cy="54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7706160" y="2401560"/>
              <a:ext cx="510480" cy="54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5844600" y="2714400"/>
              <a:ext cx="510120" cy="54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H="1">
              <a:off x="5588280" y="2811960"/>
              <a:ext cx="2216520" cy="177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>
              <a:off x="6270120" y="3085200"/>
              <a:ext cx="1364760" cy="150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5588640" y="4589280"/>
              <a:ext cx="20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 flipH="1">
              <a:off x="6269760" y="2811960"/>
              <a:ext cx="153540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76" name="Text Box 21"/>
          <p:cNvSpPr/>
          <p:nvPr/>
        </p:nvSpPr>
        <p:spPr>
          <a:xfrm>
            <a:off x="324000" y="2852640"/>
            <a:ext cx="611964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+∠B+∠AOB=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三角形三个内角的和等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8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+∠B=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∠AO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理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∠D=1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∠CO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B =∠COD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对顶角相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+∠B=∠C+∠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WordArt 24"/>
          <p:cNvSpPr txBox="1"/>
          <p:nvPr/>
        </p:nvSpPr>
        <p:spPr>
          <a:xfrm>
            <a:off x="468360" y="260280"/>
            <a:ext cx="244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合作探究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6:35:28Z</dcterms:created>
  <dc:creator>Sky123.Org</dc:creator>
  <dc:description/>
  <dc:language>en-US</dc:language>
  <cp:lastModifiedBy>微软用户</cp:lastModifiedBy>
  <dcterms:modified xsi:type="dcterms:W3CDTF">2019-05-22T08:57:48Z</dcterms:modified>
  <cp:revision>1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96</vt:lpwstr>
  </property>
</Properties>
</file>