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0EEB-1941-48D3-A499-71D33D2A3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EA11-B874-4D97-978D-73D2384C4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87C1-1707-469C-BC30-B97665FDE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09EB-AA41-4759-896E-128E20464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467A-36BA-4DDD-98A4-D4D326E2D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8F5F-16C0-4ACE-830F-44D4AE603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47E8-BE90-4BDB-9256-C7B506529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97AF-8B7D-4568-9B45-8C3D185C9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40E6-4F9D-4546-9DB6-87D092E6E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C7EC-8C35-4F8F-98D9-75F03886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871A-D2D1-4BB5-9578-5B378196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A627-6A35-47ED-8095-A58C31D9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D62FF-918F-42A1-93C0-7FDB9C490C7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9.jpeg"/><Relationship Id="rId13" Type="http://schemas.openxmlformats.org/officeDocument/2006/relationships/image" Target="../media/image9.jpeg"/><Relationship Id="rId14" Type="http://schemas.openxmlformats.org/officeDocument/2006/relationships/image" Target="../media/image9.jpeg"/><Relationship Id="rId15" Type="http://schemas.openxmlformats.org/officeDocument/2006/relationships/image" Target="../media/image9.jpeg"/><Relationship Id="rId16" Type="http://schemas.openxmlformats.org/officeDocument/2006/relationships/image" Target="../media/image9.jpeg"/><Relationship Id="rId17" Type="http://schemas.openxmlformats.org/officeDocument/2006/relationships/image" Target="../media/image9.jpeg"/><Relationship Id="rId18" Type="http://schemas.openxmlformats.org/officeDocument/2006/relationships/image" Target="../media/image9.jpeg"/><Relationship Id="rId19" Type="http://schemas.openxmlformats.org/officeDocument/2006/relationships/image" Target="../media/image9.jpeg"/><Relationship Id="rId20" Type="http://schemas.openxmlformats.org/officeDocument/2006/relationships/image" Target="../media/image9.jpeg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932360" y="0"/>
            <a:ext cx="4211640" cy="357336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932360" cy="3573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3573360"/>
            <a:ext cx="4932360" cy="3284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932360" y="3573360"/>
            <a:ext cx="421164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050920" y="1700280"/>
            <a:ext cx="2160720" cy="35272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1700280"/>
            <a:ext cx="1979640" cy="3527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284720" y="1700280"/>
            <a:ext cx="2303280" cy="3527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6659640" y="1700280"/>
            <a:ext cx="2160360" cy="352728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250920" y="-647640"/>
            <a:ext cx="2232000" cy="647640"/>
            <a:chOff x="250920" y="-647640"/>
            <a:chExt cx="2232000" cy="647640"/>
          </a:xfrm>
        </p:grpSpPr>
        <p:sp>
          <p:nvSpPr>
            <p:cNvPr id="50" name=""/>
            <p:cNvSpPr/>
            <p:nvPr/>
          </p:nvSpPr>
          <p:spPr>
            <a:xfrm>
              <a:off x="1042920" y="-504720"/>
              <a:ext cx="1440000" cy="358560"/>
            </a:xfrm>
            <a:prstGeom prst="rightArrow">
              <a:avLst>
                <a:gd name="adj1" fmla="val 50000"/>
                <a:gd name="adj2" fmla="val 10040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920" y="-647640"/>
              <a:ext cx="792000" cy="647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443640" y="7101000"/>
            <a:ext cx="2232000" cy="647640"/>
            <a:chOff x="6443640" y="7101000"/>
            <a:chExt cx="2232000" cy="647640"/>
          </a:xfrm>
        </p:grpSpPr>
        <p:sp>
          <p:nvSpPr>
            <p:cNvPr id="53" name=""/>
            <p:cNvSpPr/>
            <p:nvPr/>
          </p:nvSpPr>
          <p:spPr>
            <a:xfrm rot="10800000">
              <a:off x="6443640" y="7245000"/>
              <a:ext cx="1440000" cy="360360"/>
            </a:xfrm>
            <a:prstGeom prst="rightArrow">
              <a:avLst>
                <a:gd name="adj1" fmla="val 50000"/>
                <a:gd name="adj2" fmla="val 999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883640" y="7101000"/>
              <a:ext cx="792000" cy="647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90751E-006 L 1.66667E-006 0.22012 E">
                                      <p:cBhvr>
                                        <p:cTn id="6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08092E-006 L -1.66667E-006 -0.22012 E">
                                      <p:cBhvr>
                                        <p:cTn id="15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451640" y="3213000"/>
            <a:ext cx="1441440" cy="12016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826920" y="4427640"/>
            <a:ext cx="1541520" cy="1201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826920" y="5656320"/>
            <a:ext cx="1541520" cy="1201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2465280" y="5656320"/>
            <a:ext cx="1602000" cy="1201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4140360" y="5656320"/>
            <a:ext cx="1584000" cy="12016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5796000" y="5656320"/>
            <a:ext cx="1512720" cy="12016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>
            <a:off x="2484360" y="4437000"/>
            <a:ext cx="1582920" cy="1201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8"/>
          <a:stretch/>
        </p:blipFill>
        <p:spPr>
          <a:xfrm>
            <a:off x="4141800" y="4437000"/>
            <a:ext cx="1582560" cy="1201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9"/>
          <a:stretch/>
        </p:blipFill>
        <p:spPr>
          <a:xfrm>
            <a:off x="5794200" y="4437000"/>
            <a:ext cx="1514520" cy="12016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0"/>
          <a:stretch/>
        </p:blipFill>
        <p:spPr>
          <a:xfrm>
            <a:off x="7448400" y="4437000"/>
            <a:ext cx="1444680" cy="12016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1"/>
          <a:stretch/>
        </p:blipFill>
        <p:spPr>
          <a:xfrm>
            <a:off x="7451640" y="5656320"/>
            <a:ext cx="1441440" cy="1201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2"/>
          <a:stretch/>
        </p:blipFill>
        <p:spPr>
          <a:xfrm>
            <a:off x="2451240" y="3213000"/>
            <a:ext cx="1623960" cy="1201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3"/>
          <a:stretch/>
        </p:blipFill>
        <p:spPr>
          <a:xfrm>
            <a:off x="4141800" y="3213000"/>
            <a:ext cx="1582560" cy="1201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4"/>
          <a:stretch/>
        </p:blipFill>
        <p:spPr>
          <a:xfrm>
            <a:off x="826920" y="3213000"/>
            <a:ext cx="1535400" cy="12016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5"/>
          <a:stretch/>
        </p:blipFill>
        <p:spPr>
          <a:xfrm>
            <a:off x="5810400" y="3213000"/>
            <a:ext cx="1498320" cy="1201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6"/>
          <a:stretch/>
        </p:blipFill>
        <p:spPr>
          <a:xfrm>
            <a:off x="826920" y="1989000"/>
            <a:ext cx="1528920" cy="12020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7"/>
          <a:stretch/>
        </p:blipFill>
        <p:spPr>
          <a:xfrm>
            <a:off x="2436840" y="1989000"/>
            <a:ext cx="1609560" cy="12020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8"/>
          <a:stretch/>
        </p:blipFill>
        <p:spPr>
          <a:xfrm>
            <a:off x="5791320" y="1989000"/>
            <a:ext cx="1528560" cy="12020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9"/>
          <a:stretch/>
        </p:blipFill>
        <p:spPr>
          <a:xfrm>
            <a:off x="7473960" y="1989000"/>
            <a:ext cx="1419120" cy="12020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0"/>
          <a:stretch/>
        </p:blipFill>
        <p:spPr>
          <a:xfrm>
            <a:off x="4140360" y="1955880"/>
            <a:ext cx="1584000" cy="1235160"/>
          </a:xfrm>
          <a:prstGeom prst="rect">
            <a:avLst/>
          </a:prstGeom>
          <a:ln w="0">
            <a:noFill/>
          </a:ln>
        </p:spPr>
      </p:pic>
      <p:grpSp>
        <p:nvGrpSpPr>
          <p:cNvPr id="75" name=""/>
          <p:cNvGrpSpPr/>
          <p:nvPr/>
        </p:nvGrpSpPr>
        <p:grpSpPr>
          <a:xfrm>
            <a:off x="900000" y="0"/>
            <a:ext cx="7993080" cy="1989000"/>
            <a:chOff x="900000" y="0"/>
            <a:chExt cx="7993080" cy="1989000"/>
          </a:xfrm>
        </p:grpSpPr>
        <p:sp>
          <p:nvSpPr>
            <p:cNvPr id="76" name=""/>
            <p:cNvSpPr/>
            <p:nvPr/>
          </p:nvSpPr>
          <p:spPr>
            <a:xfrm>
              <a:off x="900000" y="0"/>
              <a:ext cx="7993080" cy="1989000"/>
            </a:xfrm>
            <a:prstGeom prst="flowChartExtra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 txBox="1"/>
            <p:nvPr/>
          </p:nvSpPr>
          <p:spPr>
            <a:xfrm>
              <a:off x="2989080" y="981000"/>
              <a:ext cx="4176720" cy="935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ccff"/>
                  </a:solidFill>
                  <a:latin typeface="黑体"/>
                </a:rPr>
                <a:t>通达饭店</a:t>
              </a:r>
              <a:endPara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黑体"/>
                <a:ea typeface="黑体"/>
              </a:endParaRPr>
            </a:p>
          </p:txBody>
        </p:sp>
      </p:grpSp>
      <p:sp>
        <p:nvSpPr>
          <p:cNvPr id="78" name=""/>
          <p:cNvSpPr txBox="1"/>
          <p:nvPr/>
        </p:nvSpPr>
        <p:spPr>
          <a:xfrm>
            <a:off x="324000" y="609300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1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24000" y="479736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2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24000" y="357336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3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24000" y="2349360"/>
            <a:ext cx="228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4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5T23:43:56Z</dcterms:created>
  <dc:creator>微软用户</dc:creator>
  <dc:description/>
  <cp:keywords/>
  <dc:language>en-US</dc:language>
  <cp:lastModifiedBy>User</cp:lastModifiedBy>
  <dcterms:modified xsi:type="dcterms:W3CDTF">2015-06-18T08:00:00Z</dcterms:modified>
  <cp:revision>1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