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4.wmf" ContentType="image/x-wmf"/>
  <Override PartName="/ppt/media/image11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9EA-D0A2-4DC3-A08E-78E7C6F2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DA2-6912-4D17-B714-66B63698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603-73F8-48B1-8A3B-B30ED089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409-E7B5-46D4-9D77-F1DC6CBD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98F-AA9C-4B4F-A5AB-385E4E9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E30-BFC6-4663-B51F-4D512BE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146-CBDA-46F6-B4FA-B851ECDB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81D-A0C6-4E55-B3FE-2CBC6FE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5FD-55B2-40A9-99C8-BD3C259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66C-5A5F-469B-BFE0-8C044E3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063-B2EF-4189-8C70-A09AC95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52C-26CF-4986-9DC0-F69F2507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8565-4F87-4C70-AAEA-C5FDCD352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25600" y="245412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二元一次方程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摸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红球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摸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绿球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得到方程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两个方程组成二元一次方程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方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方程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2887560" y="2133720"/>
            <a:ext cx="1712880" cy="685440"/>
            <a:chOff x="2887560" y="2133720"/>
            <a:chExt cx="1712880" cy="685440"/>
          </a:xfrm>
        </p:grpSpPr>
        <p:graphicFrame>
          <p:nvGraphicFramePr>
            <p:cNvPr id="121" name="Object 5"/>
            <p:cNvGraphicFramePr/>
            <p:nvPr/>
          </p:nvGraphicFramePr>
          <p:xfrm>
            <a:off x="2913840" y="2133720"/>
            <a:ext cx="161424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3840" y="2133720"/>
                      <a:ext cx="161424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Object 6"/>
            <p:cNvGraphicFramePr/>
            <p:nvPr/>
          </p:nvGraphicFramePr>
          <p:xfrm>
            <a:off x="2887560" y="2455560"/>
            <a:ext cx="1712880" cy="36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87560" y="2455560"/>
                      <a:ext cx="17128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5" name="Object 7"/>
          <p:cNvGraphicFramePr/>
          <p:nvPr/>
        </p:nvGraphicFramePr>
        <p:xfrm>
          <a:off x="2755800" y="3284640"/>
          <a:ext cx="374508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5800" y="3284640"/>
                    <a:ext cx="37450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8"/>
          <p:cNvGrpSpPr/>
          <p:nvPr/>
        </p:nvGrpSpPr>
        <p:grpSpPr>
          <a:xfrm>
            <a:off x="3492360" y="4494240"/>
            <a:ext cx="4547880" cy="720720"/>
            <a:chOff x="3492360" y="4494240"/>
            <a:chExt cx="4547880" cy="720720"/>
          </a:xfrm>
        </p:grpSpPr>
        <p:graphicFrame>
          <p:nvGraphicFramePr>
            <p:cNvPr id="128" name="Object 9"/>
            <p:cNvGraphicFramePr/>
            <p:nvPr/>
          </p:nvGraphicFramePr>
          <p:xfrm>
            <a:off x="3492360" y="4494240"/>
            <a:ext cx="1170720" cy="72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92360" y="4494240"/>
                      <a:ext cx="11707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10"/>
            <p:cNvGraphicFramePr/>
            <p:nvPr/>
          </p:nvGraphicFramePr>
          <p:xfrm>
            <a:off x="4929480" y="4494240"/>
            <a:ext cx="1170720" cy="704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29480" y="4494240"/>
                      <a:ext cx="11707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11"/>
            <p:cNvGraphicFramePr/>
            <p:nvPr/>
          </p:nvGraphicFramePr>
          <p:xfrm>
            <a:off x="6153120" y="4494240"/>
            <a:ext cx="1144080" cy="720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3120" y="4494240"/>
                      <a:ext cx="114408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Rectangle 12"/>
            <p:cNvSpPr/>
            <p:nvPr/>
          </p:nvSpPr>
          <p:spPr>
            <a:xfrm>
              <a:off x="7402320" y="4756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3"/>
          <p:cNvGrpSpPr/>
          <p:nvPr/>
        </p:nvGrpSpPr>
        <p:grpSpPr>
          <a:xfrm>
            <a:off x="3492360" y="5781600"/>
            <a:ext cx="3938400" cy="790560"/>
            <a:chOff x="3492360" y="5781600"/>
            <a:chExt cx="3938400" cy="790560"/>
          </a:xfrm>
        </p:grpSpPr>
        <p:graphicFrame>
          <p:nvGraphicFramePr>
            <p:cNvPr id="136" name="Object 14"/>
            <p:cNvGraphicFramePr/>
            <p:nvPr/>
          </p:nvGraphicFramePr>
          <p:xfrm>
            <a:off x="3492360" y="5781600"/>
            <a:ext cx="1066320" cy="790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7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2360" y="5781600"/>
                      <a:ext cx="10663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15"/>
            <p:cNvGraphicFramePr/>
            <p:nvPr/>
          </p:nvGraphicFramePr>
          <p:xfrm>
            <a:off x="4646880" y="5781600"/>
            <a:ext cx="1066320" cy="790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9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46880" y="5781600"/>
                      <a:ext cx="10663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16"/>
            <p:cNvGraphicFramePr/>
            <p:nvPr/>
          </p:nvGraphicFramePr>
          <p:xfrm>
            <a:off x="5757840" y="5814720"/>
            <a:ext cx="977400" cy="724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1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57840" y="5814720"/>
                      <a:ext cx="977400" cy="72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Rectangle 17"/>
            <p:cNvSpPr/>
            <p:nvPr/>
          </p:nvSpPr>
          <p:spPr>
            <a:xfrm>
              <a:off x="6792840" y="60786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看出              是这两个方程的公共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归纳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元一次方程组的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把二元一次方程组中两个方程的公共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叫做二元一次方程组的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10.2</a:t>
            </a:r>
            <a:r>
              <a:rPr b="0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3060720" y="1486080"/>
          <a:ext cx="10033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486080"/>
                    <a:ext cx="1003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做一做</a:t>
            </a:r>
            <a:r>
              <a:rPr b="0" lang="en-US" sz="2800" spc="-1" strike="noStrike">
                <a:solidFill>
                  <a:srgbClr val="3366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找出“鸡兔同笼”问题中二元一次方程组的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86000" y="3071880"/>
          <a:ext cx="300816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71880"/>
                    <a:ext cx="30081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文本框 1"/>
          <p:cNvSpPr/>
          <p:nvPr/>
        </p:nvSpPr>
        <p:spPr>
          <a:xfrm>
            <a:off x="981000" y="4592520"/>
            <a:ext cx="74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练习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练一练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题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328680" y="1236600"/>
            <a:ext cx="8769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种饮料每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元，乙种饮料每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某人买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瓶甲种饮料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瓶乙种饮料，共花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列出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二元一次方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甲种饮料和乙种饮料共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瓶，列出关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二元一次方程组，并找出它的解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58680" y="201600"/>
            <a:ext cx="6243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拓展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1"/>
          <p:cNvGrpSpPr/>
          <p:nvPr/>
        </p:nvGrpSpPr>
        <p:grpSpPr>
          <a:xfrm>
            <a:off x="684360" y="1268280"/>
            <a:ext cx="8030880" cy="3454920"/>
            <a:chOff x="684360" y="1268280"/>
            <a:chExt cx="8030880" cy="3454920"/>
          </a:xfrm>
        </p:grpSpPr>
        <p:sp>
          <p:nvSpPr>
            <p:cNvPr id="154" name="Rectangle 3"/>
            <p:cNvSpPr/>
            <p:nvPr/>
          </p:nvSpPr>
          <p:spPr>
            <a:xfrm>
              <a:off x="684360" y="1268280"/>
              <a:ext cx="80308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6600"/>
                  </a:solidFill>
                  <a:latin typeface="宋体"/>
                </a:rPr>
                <a:t>五、</a:t>
              </a:r>
              <a:r>
                <a:rPr b="0" lang="en-US" sz="2800" spc="-1" strike="noStrike">
                  <a:solidFill>
                    <a:srgbClr val="336600"/>
                  </a:solidFill>
                  <a:latin typeface="宋体"/>
                </a:rPr>
                <a:t>【</a:t>
              </a:r>
              <a:r>
                <a:rPr b="0" lang="zh-CN" sz="2800" spc="-1" strike="noStrike">
                  <a:solidFill>
                    <a:srgbClr val="336600"/>
                  </a:solidFill>
                  <a:latin typeface="宋体"/>
                </a:rPr>
                <a:t>小结</a:t>
              </a:r>
              <a:r>
                <a:rPr b="0" lang="en-US" sz="2800" spc="-1" strike="noStrike">
                  <a:solidFill>
                    <a:srgbClr val="336600"/>
                  </a:solidFill>
                  <a:latin typeface="宋体"/>
                </a:rPr>
                <a:t>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6600"/>
                  </a:solidFill>
                  <a:latin typeface="宋体"/>
                </a:rPr>
                <a:t>    </a:t>
              </a:r>
              <a:r>
                <a:rPr b="0" lang="en-US" sz="2800" spc="-1" strike="noStrike">
                  <a:solidFill>
                    <a:srgbClr val="3366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、你能再写出一些二元一次方程组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二元一次方程组的解一定是组成这个方程组的两个方程的公共解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 写出解是       的二元一次方程组，你能写出几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Object 4"/>
            <p:cNvGraphicFramePr/>
            <p:nvPr/>
          </p:nvGraphicFramePr>
          <p:xfrm>
            <a:off x="4347720" y="3861360"/>
            <a:ext cx="1004760" cy="86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7720" y="3861360"/>
                      <a:ext cx="1004760" cy="86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含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未知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且所含未知数的项的次数都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方程叫做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835280" y="5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627280" y="119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08000" y="1951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适合二元一次方程的一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做这个二元一次方程的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796000" y="1844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未知数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50920" y="342900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(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8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=______,n=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79280" y="4916520"/>
            <a:ext cx="88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x-4y=12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=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26028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x-y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解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=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08000" y="1052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476360" y="242100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2421000"/>
            <a:ext cx="13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627280" y="2349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二元一次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x+ay=a+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一个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=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621440" y="4145040"/>
            <a:ext cx="327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二元一次方程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x+2y=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方程的非负整数解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对象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对象 5"/>
              <p:cNvSpPr txBox="1"/>
              <p:nvPr/>
            </p:nvSpPr>
            <p:spPr>
              <a:xfrm>
                <a:off x="1162080" y="2349360"/>
                <a:ext cx="1295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" name="对象 6"/>
          <p:cNvGraphicFramePr/>
          <p:nvPr/>
        </p:nvGraphicFramePr>
        <p:xfrm>
          <a:off x="533520" y="901800"/>
          <a:ext cx="13143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1800"/>
                    <a:ext cx="131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942840" y="1341360"/>
            <a:ext cx="691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有鸡兔同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有三十五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有九十四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鸡兔各几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4284720" y="1628640"/>
            <a:ext cx="3240000" cy="2661840"/>
            <a:chOff x="4284720" y="1628640"/>
            <a:chExt cx="3240000" cy="2661840"/>
          </a:xfrm>
        </p:grpSpPr>
        <p:grpSp>
          <p:nvGrpSpPr>
            <p:cNvPr id="62" name="Group 5"/>
            <p:cNvGrpSpPr/>
            <p:nvPr/>
          </p:nvGrpSpPr>
          <p:grpSpPr>
            <a:xfrm>
              <a:off x="4284720" y="1628640"/>
              <a:ext cx="3120480" cy="2661840"/>
              <a:chOff x="4284720" y="1628640"/>
              <a:chExt cx="3120480" cy="2661840"/>
            </a:xfrm>
          </p:grpSpPr>
          <p:sp>
            <p:nvSpPr>
              <p:cNvPr id="63" name="Oval 6"/>
              <p:cNvSpPr/>
              <p:nvPr/>
            </p:nvSpPr>
            <p:spPr>
              <a:xfrm>
                <a:off x="4284720" y="3691800"/>
                <a:ext cx="3120480" cy="5986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4475520" y="209376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8"/>
              <p:cNvSpPr/>
              <p:nvPr/>
            </p:nvSpPr>
            <p:spPr>
              <a:xfrm>
                <a:off x="5493960" y="222732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9"/>
              <p:cNvSpPr/>
              <p:nvPr/>
            </p:nvSpPr>
            <p:spPr>
              <a:xfrm>
                <a:off x="6003720" y="222732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0"/>
              <p:cNvSpPr/>
              <p:nvPr/>
            </p:nvSpPr>
            <p:spPr>
              <a:xfrm>
                <a:off x="6450120" y="222732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1"/>
              <p:cNvSpPr/>
              <p:nvPr/>
            </p:nvSpPr>
            <p:spPr>
              <a:xfrm>
                <a:off x="6832080" y="215964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>
                <a:off x="7151040" y="209376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>
                <a:off x="4792680" y="215964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>
                <a:off x="5111640" y="222732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5"/>
              <p:cNvSpPr/>
              <p:nvPr/>
            </p:nvSpPr>
            <p:spPr>
              <a:xfrm>
                <a:off x="4284720" y="196020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6"/>
              <p:cNvSpPr/>
              <p:nvPr/>
            </p:nvSpPr>
            <p:spPr>
              <a:xfrm>
                <a:off x="7405200" y="1893960"/>
                <a:ext cx="0" cy="20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7"/>
              <p:cNvSpPr/>
              <p:nvPr/>
            </p:nvSpPr>
            <p:spPr>
              <a:xfrm>
                <a:off x="4284720" y="1628640"/>
                <a:ext cx="3120480" cy="5986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Picture 18" descr="A1_296"/>
            <p:cNvPicPr/>
            <p:nvPr/>
          </p:nvPicPr>
          <p:blipFill>
            <a:blip r:embed="rId1"/>
            <a:stretch/>
          </p:blipFill>
          <p:spPr>
            <a:xfrm>
              <a:off x="5241600" y="2782800"/>
              <a:ext cx="9133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9" descr="A1_296"/>
            <p:cNvPicPr/>
            <p:nvPr/>
          </p:nvPicPr>
          <p:blipFill>
            <a:blip r:embed="rId2"/>
            <a:stretch/>
          </p:blipFill>
          <p:spPr>
            <a:xfrm>
              <a:off x="4558320" y="3140280"/>
              <a:ext cx="101340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0" descr="A3_031"/>
            <p:cNvPicPr/>
            <p:nvPr/>
          </p:nvPicPr>
          <p:blipFill>
            <a:blip r:embed="rId3"/>
            <a:stretch/>
          </p:blipFill>
          <p:spPr>
            <a:xfrm>
              <a:off x="6583680" y="2958840"/>
              <a:ext cx="941040" cy="12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1" descr="A1_296"/>
            <p:cNvPicPr/>
            <p:nvPr/>
          </p:nvPicPr>
          <p:blipFill>
            <a:blip r:embed="rId4"/>
            <a:stretch/>
          </p:blipFill>
          <p:spPr>
            <a:xfrm flipH="1">
              <a:off x="4748760" y="2487960"/>
              <a:ext cx="91332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2" descr="A3_031"/>
            <p:cNvPicPr/>
            <p:nvPr/>
          </p:nvPicPr>
          <p:blipFill>
            <a:blip r:embed="rId5"/>
            <a:stretch/>
          </p:blipFill>
          <p:spPr>
            <a:xfrm flipH="1">
              <a:off x="5927040" y="2899080"/>
              <a:ext cx="941040" cy="120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23"/>
          <p:cNvSpPr/>
          <p:nvPr/>
        </p:nvSpPr>
        <p:spPr>
          <a:xfrm>
            <a:off x="1771200" y="4797360"/>
            <a:ext cx="41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解决这个有趣的“鸡兔同笼”问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882720" y="708120"/>
            <a:ext cx="66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二元一次方程组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51000" y="191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兔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以得到关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两个方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849040" y="310356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+y=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x+4y=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66640" y="4302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鸡和兔的只数必须同时满足这两个方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这两个方程写在一起就可以写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5867280" y="558972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2712960" y="5369040"/>
          <a:ext cx="251460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2960" y="5369040"/>
                    <a:ext cx="25146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419040" y="34308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中的量有那些相等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35040" y="98748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鸡的只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兔的只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23960" y="14637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鸡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兔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9280" y="28494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                     这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含有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个未知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两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次方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组成的方程组叫做二元一次方程组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898560" y="144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2205000"/>
            <a:ext cx="90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32800" y="32464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24000" y="3390840"/>
            <a:ext cx="72720" cy="863640"/>
          </a:xfrm>
          <a:custGeom>
            <a:avLst/>
            <a:gdLst>
              <a:gd name="textAreaLeft" fmla="*/ 46440 w 72720"/>
              <a:gd name="textAreaRight" fmla="*/ 73080 w 72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3379680" y="342900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8"/>
          <p:cNvGraphicFramePr/>
          <p:nvPr/>
        </p:nvGraphicFramePr>
        <p:xfrm>
          <a:off x="777960" y="2311560"/>
          <a:ext cx="251460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311560"/>
                    <a:ext cx="25146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文本框 3"/>
          <p:cNvSpPr/>
          <p:nvPr/>
        </p:nvSpPr>
        <p:spPr>
          <a:xfrm>
            <a:off x="396720" y="163836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Arial"/>
              </a:rPr>
              <a:t>【练一练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方程组是二元一次方程组吗？并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           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           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1260360" y="1989000"/>
          <a:ext cx="164808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89000"/>
                    <a:ext cx="1648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4789440" y="1990800"/>
          <a:ext cx="172728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1990800"/>
                    <a:ext cx="172728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1332000" y="3429000"/>
          <a:ext cx="165744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5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429000"/>
                    <a:ext cx="16574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6"/>
          <p:cNvGraphicFramePr/>
          <p:nvPr/>
        </p:nvGraphicFramePr>
        <p:xfrm>
          <a:off x="4788000" y="3429000"/>
          <a:ext cx="1590480" cy="100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6" descr="学科网(www.zxxk.com)--教育资源门户，提供试卷、教案、课件、论文、素材及各类教学资源下载，还有大量而丰富的教学相关资讯！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429000"/>
                    <a:ext cx="1590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根据实际问题的意义列出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692280"/>
            <a:ext cx="864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圆珠笔每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圆珠笔每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种圆珠笔共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花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种圆珠笔各买多少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一场篮球比赛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计罚球得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林共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 他投中的两分球比三分球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投中两分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分球各多少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06440" y="54831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、练习书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97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页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b0f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539640" y="549360"/>
            <a:ext cx="741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宋体"/>
              </a:rPr>
              <a:t>【</a:t>
            </a:r>
            <a:r>
              <a:rPr b="0" lang="zh-CN" sz="2800" spc="-1" strike="noStrike">
                <a:solidFill>
                  <a:srgbClr val="336600"/>
                </a:solidFill>
                <a:latin typeface="宋体"/>
              </a:rPr>
              <a:t>想一想</a:t>
            </a:r>
            <a:r>
              <a:rPr b="0" lang="en-US" sz="2800" spc="-1" strike="noStrike">
                <a:solidFill>
                  <a:srgbClr val="336600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在做摸球游戏，猜猜看摸到一个红球可以得几分，一个绿球可以得几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71640" y="189000"/>
            <a:ext cx="62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二元一次方程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50920" y="2997360"/>
          <a:ext cx="368604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997360"/>
                    <a:ext cx="3686040" cy="26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5"/>
          <p:cNvSpPr/>
          <p:nvPr/>
        </p:nvSpPr>
        <p:spPr>
          <a:xfrm>
            <a:off x="3924360" y="3860640"/>
            <a:ext cx="4032360" cy="1514520"/>
          </a:xfrm>
          <a:prstGeom prst="cloudCallout">
            <a:avLst>
              <a:gd name="adj1" fmla="val -48597"/>
              <a:gd name="adj2" fmla="val -47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再摸一次，摸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红球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绿球，共得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，再猜猜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851280" y="2492280"/>
            <a:ext cx="3313080" cy="1447920"/>
          </a:xfrm>
          <a:prstGeom prst="cloudCallout">
            <a:avLst>
              <a:gd name="adj1" fmla="val -60925"/>
              <a:gd name="adj2" fmla="val 391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摸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红球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绿球，共得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，猜猜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844720" y="5445000"/>
            <a:ext cx="4156200" cy="1225800"/>
          </a:xfrm>
          <a:prstGeom prst="wedgeEllipseCallout">
            <a:avLst>
              <a:gd name="adj1" fmla="val 33333"/>
              <a:gd name="adj2" fmla="val 3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此时，你能得到摸到一个红球可以得几分，一个绿球可以得几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00:51:16Z</dcterms:created>
  <dc:creator> </dc:creator>
  <dc:description> </dc:description>
  <cp:keywords/>
  <dc:language>en-US</dc:language>
  <cp:lastModifiedBy>微软用户</cp:lastModifiedBy>
  <dcterms:modified xsi:type="dcterms:W3CDTF">2019-04-23T00:22:08Z</dcterms:modified>
  <cp:revision>1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Version">
    <vt:r8>1</vt:r8>
  </property>
</Properties>
</file>