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5D0-D5D4-4208-8414-0DCE6AEF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C23-D2DF-45DC-935C-A5F7FFC3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79E-1FE6-4C87-83AE-A8004DA3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50C-083C-49EE-AB28-C371BF10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5B5-AE4E-4E44-AA51-66C03C6F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8EF-144D-4C74-95B3-4FA52428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9CD-8438-4410-B313-EA8F2524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272-4FD9-414A-9508-DDC40FE4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BC5-0F69-4E00-BC2C-545B455A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011-1637-4CEE-B90F-D8593E51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652-7DB9-4DFB-BBDA-FC8B62B9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73E-34B9-4899-9477-5FDA63D3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C25C-DBEE-4006-88B2-A0F5F6C3E4DC}" type="datetime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B14E-9E26-4A24-8494-97E87095E0DE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3170880" y="739800"/>
            <a:ext cx="264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Cambria"/>
                <a:ea typeface="楷体_GB2312"/>
              </a:rPr>
              <a:t>初中数学七年级下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Cambria"/>
                <a:ea typeface="隶书"/>
              </a:rPr>
              <a:t>（苏科版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611280" y="2604960"/>
            <a:ext cx="7772400" cy="1111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.5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二元一次方程组解决问题</a:t>
            </a:r>
            <a:r>
              <a:rPr b="0" lang="en-US" sz="44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omic Sans MS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123920" y="708120"/>
            <a:ext cx="301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Tahoma"/>
                <a:ea typeface="华文行楷"/>
              </a:rPr>
              <a:t>归纳总结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87280" y="1700280"/>
            <a:ext cx="6985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解题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会根据示意图找出相等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建立方程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题格式步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826920" y="12254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正方形和长方形的两种硬纸片制作甲、乙两种无盖的长方体纸盒（如图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长方形的宽与正方形的边长相等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张正方形硬纸片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张长方形硬纸片可以制作甲、乙两种纸盒各多少个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22400" y="307800"/>
            <a:ext cx="889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Tahoma"/>
                <a:ea typeface="华文行楷"/>
              </a:rPr>
              <a:t>一、根据几何图形（体）数量关系解决问题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1216080" y="4299120"/>
            <a:ext cx="547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40000" y="4292640"/>
            <a:ext cx="134928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AutoShape 12"/>
          <p:cNvSpPr/>
          <p:nvPr/>
        </p:nvSpPr>
        <p:spPr>
          <a:xfrm>
            <a:off x="4572000" y="4005360"/>
            <a:ext cx="841320" cy="14716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5796000" y="4005360"/>
            <a:ext cx="1846080" cy="734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90800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硬纸片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615636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乙种纸盒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4356000" y="5661000"/>
            <a:ext cx="11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甲种纸盒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539640" y="1413000"/>
            <a:ext cx="812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问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每个甲种纸盒要正方形硬纸片几张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每个乙种纸盒要正方形硬纸片几张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每个甲种纸盒要长方形硬纸片几张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每个乙种纸盒要正方形硬纸片几张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826920" y="333360"/>
            <a:ext cx="34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Tahoma"/>
                <a:ea typeface="华文行楷"/>
              </a:rPr>
              <a:t>探究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43"/>
          <p:cNvSpPr/>
          <p:nvPr/>
        </p:nvSpPr>
        <p:spPr>
          <a:xfrm>
            <a:off x="1216080" y="4010040"/>
            <a:ext cx="8413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44"/>
          <p:cNvSpPr/>
          <p:nvPr/>
        </p:nvSpPr>
        <p:spPr>
          <a:xfrm>
            <a:off x="2340000" y="4003560"/>
            <a:ext cx="134928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45"/>
          <p:cNvSpPr/>
          <p:nvPr/>
        </p:nvSpPr>
        <p:spPr>
          <a:xfrm>
            <a:off x="4572000" y="3716280"/>
            <a:ext cx="841320" cy="14716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AutoShape 46"/>
          <p:cNvSpPr/>
          <p:nvPr/>
        </p:nvSpPr>
        <p:spPr>
          <a:xfrm>
            <a:off x="5796000" y="3716280"/>
            <a:ext cx="1846080" cy="735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47"/>
          <p:cNvSpPr/>
          <p:nvPr/>
        </p:nvSpPr>
        <p:spPr>
          <a:xfrm>
            <a:off x="190800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硬纸片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8"/>
          <p:cNvSpPr/>
          <p:nvPr/>
        </p:nvSpPr>
        <p:spPr>
          <a:xfrm>
            <a:off x="6156360" y="537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乙种纸盒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49"/>
          <p:cNvSpPr/>
          <p:nvPr/>
        </p:nvSpPr>
        <p:spPr>
          <a:xfrm>
            <a:off x="4356000" y="5372280"/>
            <a:ext cx="11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甲种纸盒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9"/>
          <p:cNvSpPr/>
          <p:nvPr/>
        </p:nvSpPr>
        <p:spPr>
          <a:xfrm>
            <a:off x="179280" y="404640"/>
            <a:ext cx="92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设可制作甲种纸盒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乙种纸盒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根据题意，得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68360" y="4869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可制作甲种纸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，乙种纸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Object 14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2722320" cy="1311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" name="Group 18"/>
          <p:cNvGrpSpPr/>
          <p:nvPr/>
        </p:nvGrpSpPr>
        <p:grpSpPr>
          <a:xfrm>
            <a:off x="395280" y="3429000"/>
            <a:ext cx="4284720" cy="1224000"/>
            <a:chOff x="395280" y="3429000"/>
            <a:chExt cx="4284720" cy="1224000"/>
          </a:xfrm>
        </p:grpSpPr>
        <p:sp>
          <p:nvSpPr>
            <p:cNvPr id="67" name="Text Box 11"/>
            <p:cNvSpPr/>
            <p:nvPr/>
          </p:nvSpPr>
          <p:spPr>
            <a:xfrm>
              <a:off x="395280" y="3789360"/>
              <a:ext cx="28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解这个方程组得：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8" name="Object 16" descr=""/>
            <p:cNvPicPr/>
            <p:nvPr/>
          </p:nvPicPr>
          <p:blipFill>
            <a:blip r:embed="rId2"/>
            <a:stretch/>
          </p:blipFill>
          <p:spPr>
            <a:xfrm>
              <a:off x="3276720" y="3429000"/>
              <a:ext cx="1403280" cy="122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"/>
          <p:cNvSpPr/>
          <p:nvPr/>
        </p:nvSpPr>
        <p:spPr>
          <a:xfrm>
            <a:off x="324000" y="1527120"/>
            <a:ext cx="800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练一练：已知梯形的高是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4cm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面积是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18cm</a:t>
            </a:r>
            <a:r>
              <a:rPr b="1" lang="zh-CN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梯形的上底比下底的  多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1cm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求梯形的上、下底的长度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对象 1073742853" descr=""/>
          <p:cNvPicPr/>
          <p:nvPr/>
        </p:nvPicPr>
        <p:blipFill>
          <a:blip r:embed="rId1"/>
          <a:stretch/>
        </p:blipFill>
        <p:spPr>
          <a:xfrm>
            <a:off x="6138720" y="1920960"/>
            <a:ext cx="4096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0" y="0"/>
            <a:ext cx="81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二、用示意图解决行程问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368280" y="795240"/>
            <a:ext cx="8543880" cy="10688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铁路桥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现有一列火车从桥上通过，测得该火车从开始上桥到完全过桥共用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整列火车完全在桥上的时间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火车的速度和长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368280" y="3105720"/>
            <a:ext cx="75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设火车的速度为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 m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设火车的长为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" name="Group 56"/>
          <p:cNvGrpSpPr/>
          <p:nvPr/>
        </p:nvGrpSpPr>
        <p:grpSpPr>
          <a:xfrm>
            <a:off x="81000" y="3912120"/>
            <a:ext cx="6665400" cy="649800"/>
            <a:chOff x="81000" y="3912120"/>
            <a:chExt cx="6665400" cy="649800"/>
          </a:xfrm>
        </p:grpSpPr>
        <p:pic>
          <p:nvPicPr>
            <p:cNvPr id="75" name="Object 52" descr=""/>
            <p:cNvPicPr/>
            <p:nvPr/>
          </p:nvPicPr>
          <p:blipFill>
            <a:blip r:embed="rId1"/>
            <a:stretch/>
          </p:blipFill>
          <p:spPr>
            <a:xfrm>
              <a:off x="4599000" y="3973680"/>
              <a:ext cx="349200" cy="5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54"/>
            <p:cNvSpPr/>
            <p:nvPr/>
          </p:nvSpPr>
          <p:spPr>
            <a:xfrm>
              <a:off x="81000" y="3912120"/>
              <a:ext cx="666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数量关系：路程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时间        速度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" name="Rectangle 55"/>
          <p:cNvSpPr/>
          <p:nvPr/>
        </p:nvSpPr>
        <p:spPr>
          <a:xfrm>
            <a:off x="476280" y="4458240"/>
            <a:ext cx="70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等量关系：路程的等量关系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79280" y="404640"/>
            <a:ext cx="92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火车的速度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m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火车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根据题意，得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486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火车的速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设火车的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Object 9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2950920" cy="1298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395280" y="3429000"/>
            <a:ext cx="4537080" cy="1208160"/>
            <a:chOff x="395280" y="3429000"/>
            <a:chExt cx="4537080" cy="1208160"/>
          </a:xfrm>
        </p:grpSpPr>
        <p:sp>
          <p:nvSpPr>
            <p:cNvPr id="86" name="Text Box 3"/>
            <p:cNvSpPr/>
            <p:nvPr/>
          </p:nvSpPr>
          <p:spPr>
            <a:xfrm>
              <a:off x="395280" y="3789360"/>
              <a:ext cx="28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解这个方程组得：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7" name="Object 11" descr=""/>
            <p:cNvPicPr/>
            <p:nvPr/>
          </p:nvPicPr>
          <p:blipFill>
            <a:blip r:embed="rId2"/>
            <a:stretch/>
          </p:blipFill>
          <p:spPr>
            <a:xfrm>
              <a:off x="3348000" y="3429000"/>
              <a:ext cx="15843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468360" y="18900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Tahoma"/>
                <a:ea typeface="华文行楷"/>
              </a:rPr>
              <a:t>练一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11240" y="903240"/>
            <a:ext cx="82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红和爷爷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环形跑道上跑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从某处同时出发，如果相向而行，那么经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红追上爷爷；如果背向而行，那么经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人相遇，求他们的跑步速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09440" y="3094200"/>
            <a:ext cx="905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某校组织学生乘汽车去野营，先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/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速度走平路，后又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速度爬坡，共用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返回时先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速度下坡，后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速度走平路，共用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学校距离野营地有多远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"/>
          <p:cNvSpPr/>
          <p:nvPr/>
        </p:nvSpPr>
        <p:spPr>
          <a:xfrm>
            <a:off x="298440" y="1117440"/>
            <a:ext cx="836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三、拓展应用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为治理沙尘暴，加快防护林工程建设，某中学七年级学生开展义务植树活动，参加者是未参加者人数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倍，若该年级人数减少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人，未参加者人数增加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人，则参加者人数是未 参加人数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倍；求该校七年级学生共有多少人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28:58Z</dcterms:created>
  <dc:creator>微软用户</dc:creator>
  <dc:description/>
  <dc:language>en-US</dc:language>
  <cp:lastModifiedBy>yu</cp:lastModifiedBy>
  <dcterms:modified xsi:type="dcterms:W3CDTF">2019-04-19T12:26:12Z</dcterms:modified>
  <cp:revision>133</cp:revision>
  <dc:subject/>
  <dc:title>7.1  生活中的不等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