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047-4593-432E-8DD4-3D83DC2C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BA9-682F-4C95-A36F-6E408F5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05-C0C5-49CE-A7FC-80AEA62C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70F-1E32-4958-A2E6-4750F507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5DA8-E0A1-448F-A08D-0EED00B7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EA0E-7558-4782-932D-9A2930F3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53DE-3ACD-4B54-A635-C3A1BD5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60D9-CE27-45FE-AA8B-B0CECA5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F1C-A109-475F-B64D-A0B176C4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7C40-F554-46A8-818B-657D9CCF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8DF-73A9-4331-9855-BF5F3E5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A69-0700-43FE-BA64-0DB5A82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7D3-D2BD-4594-9C15-0289769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1060-FB16-46B1-81B3-6336FFB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6630-B8D2-4EC3-8F94-C04598C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4129-6141-4604-A68A-24378F1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E8B2-97D2-40BE-81A8-5C51C1F8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4C3-150D-4B7F-B414-DF3ED6D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6EE-DC5F-4061-B2E3-E102AABF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652-C0FD-4E2A-B19E-5016D58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084-D503-463E-BF98-CBEEACC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335-45EA-482F-AD78-A36E247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722-8344-46BF-A44C-53EDCB38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D61-1925-46F9-BB37-799D59A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72CE-7B90-457D-B5CD-3E3E28D11969}" type="datetime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C09D-CBB8-46C5-A73D-AE62B0603057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AE6C-3F02-4680-A8AC-4789C1E812D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3170880" y="73980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Cambria"/>
                <a:ea typeface="楷体_GB2312"/>
              </a:rPr>
              <a:t>初中数学七年级下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Cambria"/>
                <a:ea typeface="隶书"/>
              </a:rPr>
              <a:t>（苏科版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11280" y="260496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二元一次方程组解决问题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8600" y="10368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述问题中，如果某居民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份用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那么需要交水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如果某居民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份用水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1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那么需要交水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上面的问题中，如果某居民某月交水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那么用水量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468360" y="18900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ahoma"/>
                <a:ea typeface="华文行楷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文本框 99"/>
          <p:cNvSpPr/>
          <p:nvPr/>
        </p:nvSpPr>
        <p:spPr>
          <a:xfrm>
            <a:off x="468360" y="101268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邮购每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元的某种杂志，邮寄费和优惠率如下表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文本框 2"/>
          <p:cNvSpPr/>
          <p:nvPr/>
        </p:nvSpPr>
        <p:spPr>
          <a:xfrm>
            <a:off x="468360" y="4121280"/>
            <a:ext cx="76150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两次邮购这种杂志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册，总计金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4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元，两次邮购杂志各多少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25400" y="2212920"/>
          <a:ext cx="7030800" cy="1908000"/>
        </p:xfrm>
        <a:graphic>
          <a:graphicData uri="http://schemas.openxmlformats.org/drawingml/2006/table">
            <a:tbl>
              <a:tblPr/>
              <a:tblGrid>
                <a:gridCol w="1825920"/>
                <a:gridCol w="2051640"/>
                <a:gridCol w="3153240"/>
              </a:tblGrid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购册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~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上（含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寄费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书价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免费邮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书价优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优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优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文本框 8"/>
          <p:cNvSpPr/>
          <p:nvPr/>
        </p:nvSpPr>
        <p:spPr>
          <a:xfrm>
            <a:off x="233280" y="5275440"/>
            <a:ext cx="825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123920" y="708120"/>
            <a:ext cx="301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ahoma"/>
                <a:ea typeface="华文行楷"/>
              </a:rPr>
              <a:t>归纳总结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187280" y="1700280"/>
            <a:ext cx="6985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立表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代数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出相等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立方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84240" y="22701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】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某厂生产甲、乙两种型号的产品，生产一个甲种产品需要时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、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；生产一种乙种产品的型号需要时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6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、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1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如果生产甲、乙两种产品共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，用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6.4kg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甲、乙两种产品个生产多少个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-1440" y="117360"/>
            <a:ext cx="9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Tahoma"/>
                <a:ea typeface="华文行楷"/>
              </a:rPr>
              <a:t>一</a:t>
            </a:r>
            <a:r>
              <a:rPr b="1" lang="en-US" sz="3600" spc="-1" strike="noStrike">
                <a:solidFill>
                  <a:srgbClr val="1f497d"/>
                </a:solidFill>
                <a:latin typeface="Tahoma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1f497d"/>
                </a:solidFill>
                <a:latin typeface="Tahoma"/>
                <a:ea typeface="华文行楷"/>
              </a:rPr>
              <a:t>尝试用列表法分析实际问题中的数量关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84240" y="76356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】回忆一元一次方程解决问题中，常用哪些分析数量关系的方法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1"/>
          <p:cNvSpPr/>
          <p:nvPr/>
        </p:nvSpPr>
        <p:spPr>
          <a:xfrm>
            <a:off x="155520" y="152280"/>
            <a:ext cx="853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问题中涉及到哪些量？问题中的数量关系是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根据问题填写下表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91960" y="2076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中宋"/>
                <a:ea typeface="华文中宋"/>
              </a:rPr>
              <a:t>解：设生产甲种产品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a50021"/>
                </a:solidFill>
                <a:latin typeface="华文中宋"/>
                <a:ea typeface="华文中宋"/>
              </a:rPr>
              <a:t>个，乙种产品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a50021"/>
                </a:solidFill>
                <a:latin typeface="华文中宋"/>
                <a:ea typeface="华文中宋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4600" y="2622600"/>
          <a:ext cx="8610480" cy="294624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936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甲种产品</a:t>
                      </a:r>
                      <a:r>
                        <a:rPr b="0" i="1" lang="en-US" sz="28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乙种产品</a:t>
                      </a:r>
                      <a:r>
                        <a:rPr b="0" i="1" lang="en-US" sz="28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用时</a:t>
                      </a:r>
                      <a:r>
                        <a:rPr b="1" lang="en-US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用铜</a:t>
                      </a:r>
                      <a:r>
                        <a:rPr b="1" lang="en-US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36"/>
          <p:cNvSpPr/>
          <p:nvPr/>
        </p:nvSpPr>
        <p:spPr>
          <a:xfrm>
            <a:off x="2901960" y="3543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华文中宋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5205240" y="3543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8"/>
          <p:cNvSpPr/>
          <p:nvPr/>
        </p:nvSpPr>
        <p:spPr>
          <a:xfrm>
            <a:off x="7149960" y="3543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36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2901960" y="47847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0"/>
          <p:cNvSpPr/>
          <p:nvPr/>
        </p:nvSpPr>
        <p:spPr>
          <a:xfrm>
            <a:off x="5133960" y="4624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41"/>
          <p:cNvSpPr/>
          <p:nvPr/>
        </p:nvSpPr>
        <p:spPr>
          <a:xfrm>
            <a:off x="7149960" y="46245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4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8"/>
          <p:cNvSpPr/>
          <p:nvPr/>
        </p:nvSpPr>
        <p:spPr>
          <a:xfrm>
            <a:off x="2268360" y="6021360"/>
            <a:ext cx="37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74600"/>
          <a:ext cx="8153280" cy="28940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99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甲种产品</a:t>
                      </a:r>
                      <a:r>
                        <a:rPr b="0" i="1" lang="en-US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x</a:t>
                      </a:r>
                      <a:r>
                        <a:rPr b="1" lang="zh-CN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乙种产品</a:t>
                      </a:r>
                      <a:r>
                        <a:rPr b="0" i="1" lang="en-US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y</a:t>
                      </a:r>
                      <a:r>
                        <a:rPr b="1" lang="zh-CN" sz="2400" spc="-1" strike="noStrike">
                          <a:solidFill>
                            <a:srgbClr val="3500cc"/>
                          </a:solidFill>
                          <a:latin typeface="Times New Roman"/>
                          <a:ea typeface="华文新魏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5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用时</a:t>
                      </a:r>
                      <a:r>
                        <a:rPr b="1" lang="en-US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50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用铜</a:t>
                      </a:r>
                      <a:r>
                        <a:rPr b="1" lang="en-US" sz="2800" spc="-1" strike="noStrike">
                          <a:solidFill>
                            <a:srgbClr val="3500cc"/>
                          </a:solidFill>
                          <a:latin typeface="华文新魏"/>
                          <a:ea typeface="华文新魏"/>
                        </a:rPr>
                        <a:t>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3"/>
          <p:cNvSpPr/>
          <p:nvPr/>
        </p:nvSpPr>
        <p:spPr>
          <a:xfrm>
            <a:off x="2762280" y="238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2762280" y="131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5048280" y="120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4896000" y="2276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7"/>
          <p:cNvSpPr/>
          <p:nvPr/>
        </p:nvSpPr>
        <p:spPr>
          <a:xfrm>
            <a:off x="6648480" y="1241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＋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8"/>
          <p:cNvSpPr/>
          <p:nvPr/>
        </p:nvSpPr>
        <p:spPr>
          <a:xfrm>
            <a:off x="6572160" y="2232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8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＋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16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" name="Group 69"/>
          <p:cNvGrpSpPr/>
          <p:nvPr/>
        </p:nvGrpSpPr>
        <p:grpSpPr>
          <a:xfrm>
            <a:off x="152280" y="3124080"/>
            <a:ext cx="8839440" cy="3657600"/>
            <a:chOff x="152280" y="3124080"/>
            <a:chExt cx="8839440" cy="3657600"/>
          </a:xfrm>
        </p:grpSpPr>
        <p:pic>
          <p:nvPicPr>
            <p:cNvPr id="105" name="Picture 70" descr="gonggaoban40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88394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71"/>
            <p:cNvSpPr/>
            <p:nvPr/>
          </p:nvSpPr>
          <p:spPr>
            <a:xfrm>
              <a:off x="1066680" y="4876920"/>
              <a:ext cx="70106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画表格时，通常可以填写已知的量，然后填写所设的未知数的量，然后再根据相等关系列出方程组求解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9"/>
          <p:cNvSpPr/>
          <p:nvPr/>
        </p:nvSpPr>
        <p:spPr>
          <a:xfrm>
            <a:off x="179280" y="40464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解：设生产甲种产品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个，乙种产品</a:t>
            </a: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y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个，根据题意，得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Object 10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733920" cy="1563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936720" y="3814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新魏"/>
              </a:rPr>
              <a:t>解这个方程组得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Object 12" descr=""/>
          <p:cNvPicPr/>
          <p:nvPr/>
        </p:nvPicPr>
        <p:blipFill>
          <a:blip r:embed="rId2"/>
          <a:stretch/>
        </p:blipFill>
        <p:spPr>
          <a:xfrm>
            <a:off x="4067280" y="3357720"/>
            <a:ext cx="1974600" cy="1512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468360" y="486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答：生产甲种产品</a:t>
            </a:r>
            <a:r>
              <a:rPr b="1" lang="en-US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240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个，生产乙种产品</a:t>
            </a:r>
            <a:r>
              <a:rPr b="1" lang="en-US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280</a:t>
            </a:r>
            <a:r>
              <a:rPr b="1" lang="zh-CN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个</a:t>
            </a:r>
            <a:r>
              <a:rPr b="1" lang="en-US" sz="2800" spc="-1" strike="noStrike">
                <a:solidFill>
                  <a:srgbClr val="a50021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203040" y="203040"/>
            <a:ext cx="8737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运输两批救灾物资，第一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60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火车车皮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辆汽车正好装完；第二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40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火车车皮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辆汽车正好装完。每节火车车皮和每辆汽车平均各装物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某车间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工人生产某种螺栓和螺母，每人每天能生产螺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或螺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，为了合理分配劳动力，使生产的螺栓和螺母配套（一个螺栓配两个螺母），应该怎样安排工人生产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地相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00k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艘船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出发，顺手航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，而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逆水航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。求船在静水中航行的速度和水流的速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0" y="0"/>
            <a:ext cx="92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二、从表格中获取信息并能用二元一次方程组解决问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1187280" y="712800"/>
            <a:ext cx="6553440" cy="2653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华文中宋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10243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为了强化公民的节水意识，合理利用水资源</a:t>
            </a:r>
            <a:r>
              <a:rPr b="1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某市采用价格调控手段达到节约用水的目的</a:t>
            </a:r>
            <a:r>
              <a:rPr b="1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规定：每户居民每月用水不超过</a:t>
            </a:r>
            <a:r>
              <a:rPr b="0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6m</a:t>
            </a:r>
            <a:r>
              <a:rPr b="0" lang="en-US" sz="2800" spc="-1" strike="noStrike" baseline="30000">
                <a:solidFill>
                  <a:srgbClr val="10243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时，按基本价格收费；超过</a:t>
            </a:r>
            <a:r>
              <a:rPr b="0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6m</a:t>
            </a:r>
            <a:r>
              <a:rPr b="0" lang="en-US" sz="2800" spc="-1" strike="noStrike" baseline="30000">
                <a:solidFill>
                  <a:srgbClr val="10243f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时，不超过的部分，仍然按基本价格收费，超过的部分要加价收费</a:t>
            </a:r>
            <a:r>
              <a:rPr b="1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该市某户居民今年</a:t>
            </a:r>
            <a:r>
              <a:rPr b="0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月份的用水量和水费如下表所示，试求用水收费的两种价格</a:t>
            </a:r>
            <a:r>
              <a:rPr b="1" lang="en-US" sz="2800" spc="-1" strike="noStrike">
                <a:solidFill>
                  <a:srgbClr val="10243f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58920" y="4365720"/>
          <a:ext cx="6408720" cy="2031840"/>
        </p:xfrm>
        <a:graphic>
          <a:graphicData uri="http://schemas.openxmlformats.org/drawingml/2006/table">
            <a:tbl>
              <a:tblPr/>
              <a:tblGrid>
                <a:gridCol w="2241720"/>
                <a:gridCol w="2128680"/>
                <a:gridCol w="20383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用水量</a:t>
                      </a: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/m</a:t>
                      </a:r>
                      <a:r>
                        <a:rPr b="1" lang="en-US" sz="2800" spc="-1" strike="noStrike" baseline="30000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水费</a:t>
                      </a: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19280" y="141120"/>
          <a:ext cx="5757840" cy="1631880"/>
        </p:xfrm>
        <a:graphic>
          <a:graphicData uri="http://schemas.openxmlformats.org/drawingml/2006/table">
            <a:tbl>
              <a:tblPr/>
              <a:tblGrid>
                <a:gridCol w="2013120"/>
                <a:gridCol w="1912680"/>
                <a:gridCol w="183204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用水量</a:t>
                      </a: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/m</a:t>
                      </a:r>
                      <a:r>
                        <a:rPr b="1" lang="en-US" sz="2800" spc="-1" strike="noStrike" baseline="30000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水费</a:t>
                      </a: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  <a:ea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4"/>
          <p:cNvSpPr/>
          <p:nvPr/>
        </p:nvSpPr>
        <p:spPr>
          <a:xfrm>
            <a:off x="1187280" y="19890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怎样列表格呢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设基本水价为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元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/m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，超过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m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的部分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元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/m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30400" y="3187800"/>
          <a:ext cx="7402320" cy="3260520"/>
        </p:xfrm>
        <a:graphic>
          <a:graphicData uri="http://schemas.openxmlformats.org/drawingml/2006/table">
            <a:tbl>
              <a:tblPr/>
              <a:tblGrid>
                <a:gridCol w="1850760"/>
                <a:gridCol w="1850760"/>
                <a:gridCol w="1849680"/>
                <a:gridCol w="1851120"/>
              </a:tblGrid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不超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m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的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超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m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的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总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47"/>
          <p:cNvSpPr/>
          <p:nvPr/>
        </p:nvSpPr>
        <p:spPr>
          <a:xfrm>
            <a:off x="3635280" y="479736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3635280" y="573408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6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9"/>
          <p:cNvSpPr/>
          <p:nvPr/>
        </p:nvSpPr>
        <p:spPr>
          <a:xfrm>
            <a:off x="5508720" y="472428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2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5580000" y="5734080"/>
            <a:ext cx="9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3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51"/>
          <p:cNvSpPr/>
          <p:nvPr/>
        </p:nvSpPr>
        <p:spPr>
          <a:xfrm>
            <a:off x="7236000" y="479736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52"/>
          <p:cNvSpPr/>
          <p:nvPr/>
        </p:nvSpPr>
        <p:spPr>
          <a:xfrm>
            <a:off x="723600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华文中宋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3840" y="71280"/>
          <a:ext cx="6248520" cy="326088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  <a:gridCol w="1562400"/>
                <a:gridCol w="156204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不超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m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的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超过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6m</a:t>
                      </a:r>
                      <a:r>
                        <a:rPr b="1" lang="en-US" sz="2800" spc="-1" strike="noStrike" baseline="30000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的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Comic Sans MS"/>
                          <a:ea typeface="宋体"/>
                        </a:rPr>
                        <a:t>总水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                  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26"/>
          <p:cNvSpPr/>
          <p:nvPr/>
        </p:nvSpPr>
        <p:spPr>
          <a:xfrm>
            <a:off x="2028960" y="151920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6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8960" y="250992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6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3552840" y="159552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2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557520" y="243360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3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5153040" y="159552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5153040" y="2509920"/>
            <a:ext cx="8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华文中宋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0" y="3284640"/>
            <a:ext cx="9220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解：设基本水价为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元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/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，超过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6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的部分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元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/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依题意得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Object 33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1944720" cy="10144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5"/>
          <p:cNvSpPr/>
          <p:nvPr/>
        </p:nvSpPr>
        <p:spPr>
          <a:xfrm>
            <a:off x="684360" y="5084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新魏"/>
              </a:rPr>
              <a:t>解这个方程组得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Object 36" descr=""/>
          <p:cNvPicPr/>
          <p:nvPr/>
        </p:nvPicPr>
        <p:blipFill>
          <a:blip r:embed="rId2"/>
          <a:stretch/>
        </p:blipFill>
        <p:spPr>
          <a:xfrm>
            <a:off x="3348000" y="4797360"/>
            <a:ext cx="1295280" cy="1109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7"/>
          <p:cNvSpPr/>
          <p:nvPr/>
        </p:nvSpPr>
        <p:spPr>
          <a:xfrm>
            <a:off x="1476360" y="595008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答：基本水价为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.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元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/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，超过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6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的部分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元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/m</a:t>
            </a:r>
            <a:r>
              <a:rPr b="1" lang="en-US" sz="2400" spc="-1" strike="noStrike" baseline="30000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28:58Z</dcterms:created>
  <dc:creator>微软用户</dc:creator>
  <dc:description/>
  <dc:language>en-US</dc:language>
  <cp:lastModifiedBy>yu</cp:lastModifiedBy>
  <dcterms:modified xsi:type="dcterms:W3CDTF">2019-04-19T09:11:27Z</dcterms:modified>
  <cp:revision>1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