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9.wmf" ContentType="image/x-wmf"/>
  <Override PartName="/ppt/media/image17.png" ContentType="image/png"/>
  <Override PartName="/ppt/media/image16.wmf" ContentType="image/x-wmf"/>
  <Override PartName="/ppt/media/image15.gif" ContentType="image/gif"/>
  <Override PartName="/ppt/media/image3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gif" ContentType="image/gif"/>
  <Override PartName="/ppt/media/image8.wmf" ContentType="image/x-wmf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F65-6AFD-4807-9C27-91365436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374-9CE2-49CA-AF1F-C3186237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CE7-A14F-4423-8A62-2503E933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0C2-4B80-4822-919C-C827974E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AF4-CF62-4E55-B0F0-568EACCB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615-6702-4827-89F2-59236494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9BE-AEDD-4322-946E-87A3485B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050-4EA6-4FDC-A674-CEB21C49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47B-FF98-4D5C-8301-A319C4A4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CFF-4CBF-4AEC-A1C6-0A25E037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C82-AFE7-4421-B233-3B3A2FF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3CD-C93C-4B44-8E20-090F715A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CD6D-985C-4239-B860-B314B619EAB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2214720"/>
            <a:ext cx="93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10.4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　三元一次方程组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720920" y="500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七年级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下册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97852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1116000" y="1197000"/>
            <a:ext cx="7703640" cy="4025880"/>
            <a:chOff x="1116000" y="1197000"/>
            <a:chExt cx="7703640" cy="4025880"/>
          </a:xfrm>
        </p:grpSpPr>
        <p:sp>
          <p:nvSpPr>
            <p:cNvPr id="127" name="Rectangle 29"/>
            <p:cNvSpPr/>
            <p:nvPr/>
          </p:nvSpPr>
          <p:spPr>
            <a:xfrm>
              <a:off x="1116000" y="1197000"/>
              <a:ext cx="7703640" cy="18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三元一次方程组的基本思路是：通过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代入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或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加减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进行消元，把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三元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转化为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二元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使解三元一次方程组转化为解二元一次方程组，进而再转化为解一元一次方程．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0"/>
            <p:cNvSpPr/>
            <p:nvPr/>
          </p:nvSpPr>
          <p:spPr>
            <a:xfrm>
              <a:off x="1116000" y="1197000"/>
              <a:ext cx="7703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1"/>
            <p:cNvSpPr/>
            <p:nvPr/>
          </p:nvSpPr>
          <p:spPr>
            <a:xfrm>
              <a:off x="1116000" y="3073320"/>
              <a:ext cx="7703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2"/>
            <p:cNvSpPr/>
            <p:nvPr/>
          </p:nvSpPr>
          <p:spPr>
            <a:xfrm>
              <a:off x="1116000" y="1197000"/>
              <a:ext cx="0" cy="18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3"/>
            <p:cNvSpPr/>
            <p:nvPr/>
          </p:nvSpPr>
          <p:spPr>
            <a:xfrm>
              <a:off x="8819640" y="1197000"/>
              <a:ext cx="0" cy="18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3"/>
            <p:cNvSpPr/>
            <p:nvPr/>
          </p:nvSpPr>
          <p:spPr>
            <a:xfrm>
              <a:off x="2355120" y="3483000"/>
              <a:ext cx="5356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三元一次方程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6"/>
            <p:cNvSpPr/>
            <p:nvPr/>
          </p:nvSpPr>
          <p:spPr>
            <a:xfrm>
              <a:off x="4595760" y="4092480"/>
              <a:ext cx="5356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二元一次方程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8"/>
            <p:cNvSpPr/>
            <p:nvPr/>
          </p:nvSpPr>
          <p:spPr>
            <a:xfrm>
              <a:off x="3963960" y="3330720"/>
              <a:ext cx="100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消元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9"/>
            <p:cNvSpPr/>
            <p:nvPr/>
          </p:nvSpPr>
          <p:spPr>
            <a:xfrm>
              <a:off x="5924520" y="4702320"/>
              <a:ext cx="24746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一元一次方程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AutoShape 50"/>
            <p:cNvCxnSpPr>
              <a:stCxn id="132" idx="3"/>
              <a:endCxn id="133" idx="0"/>
            </p:cNvCxnSpPr>
            <p:nvPr/>
          </p:nvCxnSpPr>
          <p:spPr>
            <a:xfrm>
              <a:off x="3945600" y="3640320"/>
              <a:ext cx="919800" cy="452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AutoShape 51"/>
            <p:cNvCxnSpPr>
              <a:stCxn id="133" idx="3"/>
              <a:endCxn id="135" idx="0"/>
            </p:cNvCxnSpPr>
            <p:nvPr/>
          </p:nvCxnSpPr>
          <p:spPr>
            <a:xfrm>
              <a:off x="6186960" y="4249440"/>
              <a:ext cx="975240" cy="453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" name="Text Box 52"/>
            <p:cNvSpPr/>
            <p:nvPr/>
          </p:nvSpPr>
          <p:spPr>
            <a:xfrm>
              <a:off x="6204960" y="3940200"/>
              <a:ext cx="100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消元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10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三元一次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684360" y="1236600"/>
            <a:ext cx="741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能力检测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10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三元一次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767320" y="2772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4214880" y="2071800"/>
          <a:ext cx="1614600" cy="16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4880" y="2071800"/>
                    <a:ext cx="161460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684360" y="1268280"/>
            <a:ext cx="73436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小结</a:t>
            </a:r>
            <a:r>
              <a:rPr b="1" lang="en-US" sz="2800" spc="-1" strike="noStrike">
                <a:solidFill>
                  <a:srgbClr val="336600"/>
                </a:solidFill>
                <a:latin typeface="宋体"/>
              </a:rPr>
              <a:t>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　解三元一次方程组的关键是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10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三元一次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WordArt 4" descr=""/>
          <p:cNvPicPr/>
          <p:nvPr/>
        </p:nvPicPr>
        <p:blipFill>
          <a:blip r:embed="rId1"/>
          <a:stretch/>
        </p:blipFill>
        <p:spPr>
          <a:xfrm>
            <a:off x="2633760" y="2712960"/>
            <a:ext cx="4614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e72fc65f1eda0432574e00c3"/>
          <p:cNvPicPr/>
          <p:nvPr/>
        </p:nvPicPr>
        <p:blipFill>
          <a:blip r:embed="rId1">
            <a:lum bright="48000"/>
          </a:blip>
          <a:srcRect l="41298" t="0" r="0" b="13152"/>
          <a:stretch/>
        </p:blipFill>
        <p:spPr>
          <a:xfrm>
            <a:off x="5641920" y="2057400"/>
            <a:ext cx="350208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12920" y="874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习回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2008101516425994_2"/>
          <p:cNvPicPr/>
          <p:nvPr/>
        </p:nvPicPr>
        <p:blipFill>
          <a:blip r:embed="rId2"/>
          <a:srcRect l="0" t="0" r="0" b="4758"/>
          <a:stretch/>
        </p:blipFill>
        <p:spPr>
          <a:xfrm>
            <a:off x="6705720" y="1981080"/>
            <a:ext cx="1295280" cy="922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838080" y="1523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解二元一次方程组有哪几种方法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2031120" y="301320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它们的实质是什么？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01600" y="425916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二元一次方程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/>
          <p:cNvSpPr/>
          <p:nvPr/>
        </p:nvSpPr>
        <p:spPr>
          <a:xfrm>
            <a:off x="2751120" y="4233960"/>
            <a:ext cx="1389240" cy="625320"/>
          </a:xfrm>
          <a:prstGeom prst="rightArrow">
            <a:avLst>
              <a:gd name="adj1" fmla="val 50000"/>
              <a:gd name="adj2" fmla="val 555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2822400" y="39448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代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941560" y="47862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加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3602160" y="425916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消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191120" y="43434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元一次方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15840" y="54673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化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未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已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4267080" y="5486400"/>
            <a:ext cx="2159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0f4"/>
                </a:solidFill>
                <a:latin typeface="黑体"/>
                <a:ea typeface="黑体"/>
              </a:rPr>
              <a:t>化归转化思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1184040" y="22874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代入消元法和加减消元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4648320" y="23623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0f4"/>
                </a:solidFill>
                <a:latin typeface="Times New Roman"/>
              </a:rPr>
              <a:t>消元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6627"/>
          <p:cNvSpPr/>
          <p:nvPr/>
        </p:nvSpPr>
        <p:spPr>
          <a:xfrm>
            <a:off x="457200" y="533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一、知识回顾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" descr="V9BQP5)SAUIFA$`HNMJ1E7U"/>
          <p:cNvPicPr/>
          <p:nvPr/>
        </p:nvPicPr>
        <p:blipFill>
          <a:blip r:embed="rId1"/>
          <a:stretch/>
        </p:blipFill>
        <p:spPr>
          <a:xfrm>
            <a:off x="760320" y="1569960"/>
            <a:ext cx="74646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942840" y="1341360"/>
            <a:ext cx="691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10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三元一次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71640" y="158904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足球比赛规则规定：胜一场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平一场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负一场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．某足球队赛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场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且胜的场数比负的场数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还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该球队胜、平、负各多少场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684360" y="1197000"/>
            <a:ext cx="71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10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三元一次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044720" y="1297080"/>
            <a:ext cx="72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该球队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场、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场、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场，可以得到关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的三个方程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问题的解必须同时满足上面的三个条件，因此，我们把这三个方程联立在一起，可写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5"/>
          <p:cNvGraphicFramePr/>
          <p:nvPr/>
        </p:nvGraphicFramePr>
        <p:xfrm>
          <a:off x="2928960" y="4500720"/>
          <a:ext cx="2022480" cy="14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4500720"/>
                    <a:ext cx="2022480" cy="14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37960" y="2930040"/>
            <a:ext cx="84362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这样，把含有三个未知数的三个一次方程联立在一起，就组成了一个三元一次方程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10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三元一次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5"/>
          <p:cNvGraphicFramePr/>
          <p:nvPr/>
        </p:nvGraphicFramePr>
        <p:xfrm>
          <a:off x="1760400" y="1289160"/>
          <a:ext cx="202248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1289160"/>
                    <a:ext cx="202248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云形标注 32772"/>
          <p:cNvSpPr/>
          <p:nvPr/>
        </p:nvSpPr>
        <p:spPr>
          <a:xfrm>
            <a:off x="4587840" y="1484280"/>
            <a:ext cx="4086360" cy="1082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如何解这个方程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17680" y="3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中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920880" y="1044360"/>
            <a:ext cx="60544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试一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 试着求解我们前面列出的三元一次方程组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并说出该球队胜、平、负各多少场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3581280" y="186696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1295280" y="3429000"/>
            <a:ext cx="30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把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分别代入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①②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4"/>
          <p:cNvGrpSpPr/>
          <p:nvPr/>
        </p:nvGrpSpPr>
        <p:grpSpPr>
          <a:xfrm>
            <a:off x="920880" y="4572000"/>
            <a:ext cx="3803040" cy="1755000"/>
            <a:chOff x="920880" y="4572000"/>
            <a:chExt cx="3803040" cy="1755000"/>
          </a:xfrm>
        </p:grpSpPr>
        <p:sp>
          <p:nvSpPr>
            <p:cNvPr id="80" name="Rectangle 22"/>
            <p:cNvSpPr/>
            <p:nvPr/>
          </p:nvSpPr>
          <p:spPr>
            <a:xfrm>
              <a:off x="920880" y="4572000"/>
              <a:ext cx="37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解这个二元一次方程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4"/>
            <p:cNvSpPr/>
            <p:nvPr/>
          </p:nvSpPr>
          <p:spPr>
            <a:xfrm>
              <a:off x="920880" y="5257800"/>
              <a:ext cx="380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把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z=3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代入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③ </a:t>
              </a:r>
              <a:r>
                <a:rPr b="1" lang="zh-CN" sz="2400" spc="-1" strike="noStrike">
                  <a:solidFill>
                    <a:srgbClr val="cc0000"/>
                  </a:solidFill>
                  <a:latin typeface="Arial"/>
                </a:rPr>
                <a:t>，得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x=1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6"/>
            <p:cNvSpPr/>
            <p:nvPr/>
          </p:nvSpPr>
          <p:spPr>
            <a:xfrm>
              <a:off x="1026360" y="5867280"/>
              <a:ext cx="369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三元一次方程组的解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5"/>
          <p:cNvGrpSpPr/>
          <p:nvPr/>
        </p:nvGrpSpPr>
        <p:grpSpPr>
          <a:xfrm>
            <a:off x="4724280" y="2362320"/>
            <a:ext cx="4191120" cy="3812040"/>
            <a:chOff x="4724280" y="2362320"/>
            <a:chExt cx="4191120" cy="3812040"/>
          </a:xfrm>
        </p:grpSpPr>
        <p:sp>
          <p:nvSpPr>
            <p:cNvPr id="84" name="Rectangle 29"/>
            <p:cNvSpPr/>
            <p:nvPr/>
          </p:nvSpPr>
          <p:spPr>
            <a:xfrm>
              <a:off x="4724280" y="2362320"/>
              <a:ext cx="4191120" cy="187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解三元一次方程组的基本思路是：           通过“代入”或“加减”进行消元，把“三元”转化为“二元”，使解三元一次方程组转化为解二元一次方程组，进而再转化为解一元一次方程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0"/>
            <p:cNvSpPr/>
            <p:nvPr/>
          </p:nvSpPr>
          <p:spPr>
            <a:xfrm>
              <a:off x="4724280" y="2362320"/>
              <a:ext cx="4191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1"/>
            <p:cNvSpPr/>
            <p:nvPr/>
          </p:nvSpPr>
          <p:spPr>
            <a:xfrm>
              <a:off x="4724280" y="4238640"/>
              <a:ext cx="4191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2"/>
            <p:cNvSpPr/>
            <p:nvPr/>
          </p:nvSpPr>
          <p:spPr>
            <a:xfrm>
              <a:off x="4724280" y="2362320"/>
              <a:ext cx="0" cy="18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3"/>
            <p:cNvSpPr/>
            <p:nvPr/>
          </p:nvSpPr>
          <p:spPr>
            <a:xfrm>
              <a:off x="8915400" y="2362320"/>
              <a:ext cx="0" cy="18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3"/>
            <p:cNvSpPr/>
            <p:nvPr/>
          </p:nvSpPr>
          <p:spPr>
            <a:xfrm>
              <a:off x="5365800" y="4648320"/>
              <a:ext cx="3589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三元一次方程组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6"/>
            <p:cNvSpPr/>
            <p:nvPr/>
          </p:nvSpPr>
          <p:spPr>
            <a:xfrm>
              <a:off x="6584760" y="5257800"/>
              <a:ext cx="3589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二元一次方程组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48"/>
            <p:cNvSpPr/>
            <p:nvPr/>
          </p:nvSpPr>
          <p:spPr>
            <a:xfrm>
              <a:off x="6273720" y="44956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消元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9"/>
            <p:cNvSpPr/>
            <p:nvPr/>
          </p:nvSpPr>
          <p:spPr>
            <a:xfrm>
              <a:off x="7340760" y="5867280"/>
              <a:ext cx="13460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一元一次方程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50"/>
            <p:cNvCxnSpPr>
              <a:stCxn id="89" idx="3"/>
              <a:endCxn id="90" idx="0"/>
            </p:cNvCxnSpPr>
            <p:nvPr/>
          </p:nvCxnSpPr>
          <p:spPr>
            <a:xfrm>
              <a:off x="6264000" y="4804920"/>
              <a:ext cx="500760" cy="453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AutoShape 51"/>
            <p:cNvCxnSpPr>
              <a:stCxn id="90" idx="3"/>
              <a:endCxn id="92" idx="0"/>
            </p:cNvCxnSpPr>
            <p:nvPr/>
          </p:nvCxnSpPr>
          <p:spPr>
            <a:xfrm>
              <a:off x="7482960" y="5415120"/>
              <a:ext cx="531000" cy="452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Text Box 52"/>
            <p:cNvSpPr/>
            <p:nvPr/>
          </p:nvSpPr>
          <p:spPr>
            <a:xfrm>
              <a:off x="7493040" y="510552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66"/>
                  </a:solidFill>
                  <a:latin typeface="Arial"/>
                  <a:ea typeface="华文行楷"/>
                </a:rPr>
                <a:t>消元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61" descr="12f98701b8a2e3f2267fb557"/>
          <p:cNvPicPr/>
          <p:nvPr/>
        </p:nvPicPr>
        <p:blipFill>
          <a:blip r:embed="rId1"/>
          <a:stretch/>
        </p:blipFill>
        <p:spPr>
          <a:xfrm>
            <a:off x="7315200" y="914400"/>
            <a:ext cx="952560" cy="95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对象 4"/>
              <p:cNvSpPr txBox="1"/>
              <p:nvPr/>
            </p:nvSpPr>
            <p:spPr>
              <a:xfrm>
                <a:off x="1806480" y="1866960"/>
                <a:ext cx="172080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7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t xml:space="preserve">z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对象 5"/>
              <p:cNvSpPr txBox="1"/>
              <p:nvPr/>
            </p:nvSpPr>
            <p:spPr>
              <a:xfrm>
                <a:off x="1806480" y="3755880"/>
                <a:ext cx="19018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z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z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对象 8"/>
              <p:cNvSpPr txBox="1"/>
              <p:nvPr/>
            </p:nvSpPr>
            <p:spPr>
              <a:xfrm>
                <a:off x="1608120" y="4962600"/>
                <a:ext cx="20811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对象 10"/>
              <p:cNvSpPr txBox="1"/>
              <p:nvPr/>
            </p:nvSpPr>
            <p:spPr>
              <a:xfrm>
                <a:off x="4352760" y="5572080"/>
                <a:ext cx="7430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4360" y="123192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10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三元一次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322800" y="1341360"/>
          <a:ext cx="195408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2800" y="1341360"/>
                    <a:ext cx="19540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828720" y="350208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想一想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其他方法解这个方程组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09480" y="914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中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30"/>
          <p:cNvGraphicFramePr/>
          <p:nvPr/>
        </p:nvGraphicFramePr>
        <p:xfrm>
          <a:off x="0" y="3179880"/>
          <a:ext cx="11448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79880"/>
                    <a:ext cx="1144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9"/>
          <p:cNvGraphicFramePr/>
          <p:nvPr/>
        </p:nvGraphicFramePr>
        <p:xfrm>
          <a:off x="4572000" y="1371600"/>
          <a:ext cx="190512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71600"/>
                    <a:ext cx="190512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31"/>
          <p:cNvSpPr/>
          <p:nvPr/>
        </p:nvSpPr>
        <p:spPr>
          <a:xfrm>
            <a:off x="762120" y="17823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典型例题         解三元一次方程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4"/>
          <p:cNvSpPr/>
          <p:nvPr/>
        </p:nvSpPr>
        <p:spPr>
          <a:xfrm>
            <a:off x="1873800" y="258912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解：②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×3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＋③ ，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11x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10z=35     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5"/>
          <p:cNvSpPr/>
          <p:nvPr/>
        </p:nvSpPr>
        <p:spPr>
          <a:xfrm>
            <a:off x="2868840" y="3352680"/>
            <a:ext cx="7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与④组成方程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8"/>
          <p:cNvSpPr/>
          <p:nvPr/>
        </p:nvSpPr>
        <p:spPr>
          <a:xfrm>
            <a:off x="244044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这个方程组，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2366640" y="5008680"/>
            <a:ext cx="25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入②，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42"/>
          <p:cNvGraphicFramePr/>
          <p:nvPr/>
        </p:nvGraphicFramePr>
        <p:xfrm>
          <a:off x="5532480" y="4800600"/>
          <a:ext cx="6634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4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32480" y="4800600"/>
                    <a:ext cx="663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3"/>
          <p:cNvSpPr/>
          <p:nvPr/>
        </p:nvSpPr>
        <p:spPr>
          <a:xfrm>
            <a:off x="354240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此，三元一次方程组的解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8"/>
          <p:cNvGraphicFramePr/>
          <p:nvPr/>
        </p:nvGraphicFramePr>
        <p:xfrm>
          <a:off x="4572000" y="3179880"/>
          <a:ext cx="1725480" cy="81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4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179880"/>
                    <a:ext cx="17254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49"/>
          <p:cNvGraphicFramePr/>
          <p:nvPr/>
        </p:nvGraphicFramePr>
        <p:xfrm>
          <a:off x="4478400" y="4044960"/>
          <a:ext cx="895320" cy="81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Object 4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78400" y="4044960"/>
                    <a:ext cx="8953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50"/>
          <p:cNvGraphicFramePr/>
          <p:nvPr/>
        </p:nvGraphicFramePr>
        <p:xfrm>
          <a:off x="5952960" y="5486400"/>
          <a:ext cx="722520" cy="127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Object 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52960" y="5486400"/>
                    <a:ext cx="7225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52" descr="201092792532"/>
          <p:cNvPicPr/>
          <p:nvPr/>
        </p:nvPicPr>
        <p:blipFill>
          <a:blip r:embed="rId13"/>
          <a:stretch/>
        </p:blipFill>
        <p:spPr>
          <a:xfrm>
            <a:off x="7315200" y="685800"/>
            <a:ext cx="11620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>wuliang</dc:creator>
  <dc:description/>
  <cp:keywords/>
  <dc:language>en-US</dc:language>
  <cp:lastModifiedBy>微软用户</cp:lastModifiedBy>
  <dcterms:modified xsi:type="dcterms:W3CDTF">2019-04-26T00:26:45Z</dcterms:modified>
  <cp:revision>1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