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0.wmf" ContentType="image/x-wmf"/>
  <Override PartName="/ppt/media/image28.png" ContentType="image/png"/>
  <Override PartName="/ppt/media/image32.gif" ContentType="image/gif"/>
  <Override PartName="/ppt/media/image2.gif" ContentType="image/gif"/>
  <Override PartName="/ppt/media/image13.wmf" ContentType="image/x-wmf"/>
  <Override PartName="/ppt/media/image7.gif" ContentType="image/gif"/>
  <Override PartName="/ppt/media/image29.jpeg" ContentType="image/jpeg"/>
  <Override PartName="/ppt/media/image5.jpeg" ContentType="image/jpeg"/>
  <Override PartName="/ppt/media/image11.wmf" ContentType="image/x-wmf"/>
  <Override PartName="/ppt/media/image8.wmf" ContentType="image/x-wmf"/>
  <Override PartName="/ppt/media/image4.png" ContentType="image/png"/>
  <Override PartName="/ppt/media/image12.wmf" ContentType="image/x-wmf"/>
  <Override PartName="/ppt/media/image30.gif" ContentType="image/gif"/>
  <Override PartName="/ppt/media/image16.wmf" ContentType="image/x-wmf"/>
  <Override PartName="/ppt/media/image6.wmf" ContentType="image/x-wmf"/>
  <Override PartName="/ppt/media/image9.wmf" ContentType="image/x-wmf"/>
  <Override PartName="/ppt/media/image14.png" ContentType="image/png"/>
  <Override PartName="/ppt/media/image31.jpeg" ContentType="image/jpeg"/>
  <Override PartName="/ppt/media/image10.wmf" ContentType="image/x-wmf"/>
  <Override PartName="/ppt/media/image22.gif" ContentType="image/gif"/>
  <Override PartName="/ppt/media/image3.jpeg" ContentType="image/jpeg"/>
  <Override PartName="/ppt/media/image24.jpeg" ContentType="image/jpeg"/>
  <Override PartName="/ppt/media/image1.png" ContentType="image/png"/>
  <Override PartName="/ppt/media/image15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1.jpeg" ContentType="image/jpeg"/>
  <Override PartName="/ppt/media/image2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7EDE-9B7A-4951-960B-CE193D8E93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7D51-5697-4140-8E13-B1A1B0FBB08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B94-4F97-4C69-AF66-7E95FD99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DC5-AE16-4F0B-8E36-17EF7E0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D1A95-B27B-4E6A-9542-53348E09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271AF-ACBD-441F-B68F-9306DB81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BDDD-20C4-45BA-807F-C71D86C6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DC54A-601E-41C4-85F0-DCEB493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48D7F-141D-4187-B01C-BF600ED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9447-0FFA-43B7-B49C-B960352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59CF2-D7A2-456A-B7F1-73A3B9A7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DB146-35E2-4C31-B95B-E0DE4DA4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33928-A291-4B66-8D58-308A8AC3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FA310-C012-4104-90B0-E9B4C308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B99-1367-4E76-BBFB-2815BFC7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3E6A2-FE56-4FC2-B072-7ACC34B5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68BBB-F66D-4BFB-A98E-6A0B8EDA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78697-745A-4855-8732-36D325B8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D3D85-DBB5-43F8-B743-634A9D0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2B9FD-2F85-4B73-92CF-F73F46FC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04E1D-1824-4B8B-A686-DAF8296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48947-33A8-4CC4-892D-CA78EC2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2BD49-B7E0-4E56-9254-24739C1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41F1B-23D3-48B5-AADE-A90B65B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386E0-5775-4FAC-8983-AAD33B72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AB8-5782-4C2E-9482-E791ECB6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22A7F-01B3-4F92-BA94-1635D124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78E6F-C9A9-4E16-B03D-B0FDF967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5678F-0A31-4889-8AA9-D1D2B44D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9D167-2048-4816-8635-B36CDF7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3B686-061B-4002-9D22-12F30FDA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2FDDC-07BE-49F9-A638-AED4BBF0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64165-77B7-4EA0-9B6E-C2EF518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3ED5F-533F-491A-A1C2-2EB670B5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6BEEB-4E3C-4534-B336-C89407A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3979B-4C0B-4970-B44E-8F40D2F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7D52-C1EE-4693-BAF3-2423F87D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38372-8731-4558-B45F-D6F855DF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3F618-15B8-4470-80FE-EABB9ABE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693DC-AD0B-421C-B8DF-72294D1C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5A9C0-FDF4-4DB3-962C-21AEFD0D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A0556-722C-480B-A51C-D4CF343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971A4-DF71-4FF0-AB95-F2BC94C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E76F-48D9-4216-8558-3168C2E4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AA274-6C85-46FB-A962-3AAED0DA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027B8-385A-45BC-9A0D-6B75B0C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00A2D-5D40-404E-BC9C-7E220A7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C40-2FE9-4567-BA69-CBDEC3E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0ECCE-29C9-41B5-824B-43675FA7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4FB95-27AF-4B2F-8F59-4F3A7CF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4923A-0FCB-4E41-A57A-C8BBE0E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DB7A8-E426-46A4-BAC1-B2BC6AD8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25FEB-AC87-45C6-AF50-04585A2D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067-CCE5-465E-97A3-2230261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1B37-56AF-4A43-9D58-5C25D8DA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DF4A-B894-43A4-AE4B-5EC065BA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74FA-F6D8-41BB-8922-EBF8EC55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5B16-895E-475B-A331-BA4468E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04F-075F-4284-9C92-E8DFDF5E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0F1-180E-413A-875A-A09FB7D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4A6-0BB0-4867-8358-9DAE7D6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184-E8DF-44E4-9846-7EC30247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9E7D-232D-4AA9-90EB-264F4E34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5C02-0A1B-4600-A38F-DB088576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7122-C3A4-409E-9DBB-4508ADCF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40C4-7BDD-4070-9359-EA56E20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B2B6-420A-49B4-B1F3-457254D6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6003-57C3-4151-9C6B-BDB09A35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67FA-8B6A-4FEA-A2CB-50943BA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487-6859-4C4E-B8B9-259DC355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3CCE-AEB8-48F4-B2DF-AD622CB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E90B-965C-4792-9F9A-AB7D1CBD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1C33-E638-4634-AE60-0BE0B3E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6AF7-B362-4D0C-B6CF-F3057D9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2DBC-8039-482C-86A4-75991724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AA98-A106-444B-AC54-2C6AFBCA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E514-4D58-4927-BFE3-EC2ACDAB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BABC-295D-4F25-918B-941CF3CF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7C4D-928A-479E-980B-720489E3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9E2D-F8F0-400B-8061-582321E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398-2C31-40FF-A003-957792FB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DDEC-7507-4824-80DE-BA3AEB3C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01C5-3828-4E50-98B0-94AA89A9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588C-5946-4E28-A78E-9912CF52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B573-7508-437A-931F-B21A72D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573A-5DDC-4DEB-BC28-2CBCD3A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620C-881C-4417-9559-9C52455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A8A0-7BB2-4621-83C2-CCA0E2BB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1074-9CDB-4AE8-9309-E6E29F8B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3555-F5BF-4062-B8A3-A02CC500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0F9A-764C-47D1-9CD0-4E5C9B09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00C-7711-482B-BDDE-7B67FCF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EAA6-BD99-4B7D-ABD7-6CE50FC6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B0B7-4272-4B16-93CC-09B67FC7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83A5-0A60-418F-935A-7DDD1EB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AE8F-CE1C-481C-B659-F0AC7EA4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6698-D855-464D-8CAE-69ED41CA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1673-A330-4699-99B4-1771348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CFEE-9AAB-43B1-AD81-27D7CDFE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A5CC-DE97-46BD-B173-0402E20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C0751-A544-48AB-82C7-AF84C88B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70B2-D587-427F-8ECD-40EAE22A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011-D6E8-4408-9B22-28A00CBB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40FC-791D-4F34-8A10-C169325E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09F51-A95A-4066-AA60-5C1C8FDC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A897-7DFB-43B8-8695-4D3AC5B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04DA-9AD3-413A-8C51-A3B3A50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00410-D8DB-4AAF-B1BE-9B680E1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1BEC-F821-4235-8E1A-8D778FE4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BCD6-4E75-4F35-AC12-BC09DC5E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9FBF-C014-4649-B159-3E9F588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FFA7-6FB4-41EB-BBF5-F4F42BDA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9947-714C-4971-BF0F-37EC319A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50D-E6F5-4999-B0BD-F3A412A2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7B16A-FA94-426E-955A-079329D6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0778-1128-401C-8984-B49A9292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1970-C247-4068-9F3F-3D7FE75D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A17F-51F6-497A-BEF4-2D259245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D190-B963-4249-B5B4-B8074804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BF41-2BB8-4449-871C-F09749C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F6A31-2CC8-4E4F-801E-40D21140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775B-DD44-4F5C-A81A-D69FBFBE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7F2F2-4F31-414D-8F8F-A0ED270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5695-6D7C-44B2-8428-41C0B09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2E6-95A4-45A6-9215-F45A542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BB934-6481-4341-9394-5AE402F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246B-2C90-4DD6-A49F-42461AB0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2F34E-71B8-47EA-903B-52908B8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1B49E-92DE-4E74-BAE5-BF79B4BD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0096-4519-4B30-911E-49BB2F73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3F028-5C5A-4439-B4E6-C72AD114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9DE2B-6B91-4A3D-B404-3C0598A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810F4-3942-4B2A-9D9F-C90B1D6B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7B1B1-E00B-4C49-A5FE-E6B38B85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8394D-026D-4787-845A-C28FD4FB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3AA-DF66-49B7-BD67-18E1048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4DF7E-A727-46B4-B417-8FEB45A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5036-ED44-4956-AF61-178FB86A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983F-3B25-4AD2-8F97-ED44EC7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A3C1-C29F-4096-9E83-9A81AA18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727BD-E263-413E-91F0-439634E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987D-F32A-4A07-893C-AD24703D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F772-E4C3-413D-8F25-05E6246C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6EED1-09AA-469C-B9FA-E16B4489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E367-7D1F-4F7F-A35B-B5B8B9E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89C94-8AF2-4128-A0AA-DCE8E5AB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4CB-6C5E-4F2D-93C2-963BDED6EF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"/>
          <p:cNvSpPr/>
          <p:nvPr/>
        </p:nvSpPr>
        <p:spPr>
          <a:xfrm>
            <a:off x="98280" y="34920"/>
            <a:ext cx="192240" cy="193680"/>
          </a:xfrm>
          <a:custGeom>
            <a:avLst/>
            <a:gdLst/>
            <a:ahLst/>
            <a:rect l="l" t="t" r="r" b="b"/>
            <a:pathLst>
              <a:path w="121" h="122">
                <a:moveTo>
                  <a:pt x="62" y="0"/>
                </a:moveTo>
                <a:lnTo>
                  <a:pt x="61" y="0"/>
                </a:lnTo>
                <a:lnTo>
                  <a:pt x="49" y="1"/>
                </a:lnTo>
                <a:lnTo>
                  <a:pt x="37" y="5"/>
                </a:lnTo>
                <a:lnTo>
                  <a:pt x="27" y="10"/>
                </a:lnTo>
                <a:lnTo>
                  <a:pt x="18" y="18"/>
                </a:lnTo>
                <a:lnTo>
                  <a:pt x="10" y="27"/>
                </a:lnTo>
                <a:lnTo>
                  <a:pt x="5" y="37"/>
                </a:lnTo>
                <a:lnTo>
                  <a:pt x="1" y="49"/>
                </a:lnTo>
                <a:lnTo>
                  <a:pt x="0" y="61"/>
                </a:lnTo>
                <a:lnTo>
                  <a:pt x="1" y="73"/>
                </a:lnTo>
                <a:lnTo>
                  <a:pt x="5" y="85"/>
                </a:lnTo>
                <a:lnTo>
                  <a:pt x="10" y="95"/>
                </a:lnTo>
                <a:lnTo>
                  <a:pt x="18" y="104"/>
                </a:lnTo>
                <a:lnTo>
                  <a:pt x="27" y="112"/>
                </a:lnTo>
                <a:lnTo>
                  <a:pt x="37" y="117"/>
                </a:lnTo>
                <a:lnTo>
                  <a:pt x="49" y="121"/>
                </a:lnTo>
                <a:lnTo>
                  <a:pt x="61" y="122"/>
                </a:lnTo>
                <a:lnTo>
                  <a:pt x="73" y="121"/>
                </a:lnTo>
                <a:lnTo>
                  <a:pt x="84" y="117"/>
                </a:lnTo>
                <a:lnTo>
                  <a:pt x="94" y="112"/>
                </a:lnTo>
                <a:lnTo>
                  <a:pt x="103" y="104"/>
                </a:lnTo>
                <a:lnTo>
                  <a:pt x="110" y="96"/>
                </a:lnTo>
                <a:lnTo>
                  <a:pt x="116" y="85"/>
                </a:lnTo>
                <a:lnTo>
                  <a:pt x="119" y="74"/>
                </a:lnTo>
                <a:lnTo>
                  <a:pt x="121" y="62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3"/>
          <p:cNvSpPr/>
          <p:nvPr/>
        </p:nvSpPr>
        <p:spPr>
          <a:xfrm flipH="1">
            <a:off x="0" y="133200"/>
            <a:ext cx="23464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4"/>
          <p:cNvSpPr/>
          <p:nvPr/>
        </p:nvSpPr>
        <p:spPr>
          <a:xfrm>
            <a:off x="193680" y="38160"/>
            <a:ext cx="0" cy="10825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5"/>
          <p:cNvSpPr/>
          <p:nvPr/>
        </p:nvSpPr>
        <p:spPr>
          <a:xfrm>
            <a:off x="7378560" y="6416640"/>
            <a:ext cx="21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建湖县实验初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6" descr="校徽 拷贝"/>
          <p:cNvPicPr/>
          <p:nvPr/>
        </p:nvPicPr>
        <p:blipFill>
          <a:blip r:embed="rId2"/>
          <a:stretch/>
        </p:blipFill>
        <p:spPr>
          <a:xfrm>
            <a:off x="6875640" y="6373800"/>
            <a:ext cx="469800" cy="469800"/>
          </a:xfrm>
          <a:prstGeom prst="rect">
            <a:avLst/>
          </a:prstGeom>
          <a:ln w="0">
            <a:noFill/>
          </a:ln>
        </p:spPr>
      </p:pic>
      <p:grpSp>
        <p:nvGrpSpPr>
          <p:cNvPr id="10" name="Group 7"/>
          <p:cNvGrpSpPr/>
          <p:nvPr/>
        </p:nvGrpSpPr>
        <p:grpSpPr>
          <a:xfrm>
            <a:off x="6891480" y="4527360"/>
            <a:ext cx="2276280" cy="2324160"/>
            <a:chOff x="6891480" y="4527360"/>
            <a:chExt cx="2276280" cy="2324160"/>
          </a:xfrm>
        </p:grpSpPr>
        <p:sp>
          <p:nvSpPr>
            <p:cNvPr id="11" name="Line 8"/>
            <p:cNvSpPr/>
            <p:nvPr/>
          </p:nvSpPr>
          <p:spPr>
            <a:xfrm flipV="1">
              <a:off x="6891480" y="6751800"/>
              <a:ext cx="2276280" cy="792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9"/>
            <p:cNvSpPr/>
            <p:nvPr/>
          </p:nvSpPr>
          <p:spPr>
            <a:xfrm flipH="1" flipV="1">
              <a:off x="8967600" y="4527360"/>
              <a:ext cx="6120" cy="232092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8875800" y="6657840"/>
              <a:ext cx="19188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2"/>
                  </a:moveTo>
                  <a:lnTo>
                    <a:pt x="60" y="122"/>
                  </a:lnTo>
                  <a:lnTo>
                    <a:pt x="61" y="122"/>
                  </a:lnTo>
                  <a:lnTo>
                    <a:pt x="73" y="121"/>
                  </a:lnTo>
                  <a:lnTo>
                    <a:pt x="84" y="117"/>
                  </a:lnTo>
                  <a:lnTo>
                    <a:pt x="95" y="112"/>
                  </a:lnTo>
                  <a:lnTo>
                    <a:pt x="103" y="104"/>
                  </a:lnTo>
                  <a:lnTo>
                    <a:pt x="111" y="95"/>
                  </a:lnTo>
                  <a:lnTo>
                    <a:pt x="116" y="85"/>
                  </a:lnTo>
                  <a:lnTo>
                    <a:pt x="120" y="73"/>
                  </a:lnTo>
                  <a:lnTo>
                    <a:pt x="121" y="61"/>
                  </a:lnTo>
                  <a:lnTo>
                    <a:pt x="120" y="49"/>
                  </a:lnTo>
                  <a:lnTo>
                    <a:pt x="116" y="37"/>
                  </a:lnTo>
                  <a:lnTo>
                    <a:pt x="111" y="27"/>
                  </a:lnTo>
                  <a:lnTo>
                    <a:pt x="103" y="18"/>
                  </a:lnTo>
                  <a:lnTo>
                    <a:pt x="94" y="10"/>
                  </a:lnTo>
                  <a:lnTo>
                    <a:pt x="84" y="5"/>
                  </a:lnTo>
                  <a:lnTo>
                    <a:pt x="72" y="1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2" y="48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AC35-5D6A-4D36-858B-1AF41F1F03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2EA4-983E-4F46-B64A-B65B2B7C5D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CB67-41B0-4AD5-911A-B96D09E125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2"/>
          <p:cNvSpPr/>
          <p:nvPr/>
        </p:nvSpPr>
        <p:spPr>
          <a:xfrm>
            <a:off x="98280" y="34920"/>
            <a:ext cx="192240" cy="193680"/>
          </a:xfrm>
          <a:custGeom>
            <a:avLst/>
            <a:gdLst/>
            <a:ahLst/>
            <a:rect l="l" t="t" r="r" b="b"/>
            <a:pathLst>
              <a:path w="121" h="122">
                <a:moveTo>
                  <a:pt x="62" y="0"/>
                </a:moveTo>
                <a:lnTo>
                  <a:pt x="61" y="0"/>
                </a:lnTo>
                <a:lnTo>
                  <a:pt x="49" y="1"/>
                </a:lnTo>
                <a:lnTo>
                  <a:pt x="37" y="5"/>
                </a:lnTo>
                <a:lnTo>
                  <a:pt x="27" y="10"/>
                </a:lnTo>
                <a:lnTo>
                  <a:pt x="18" y="18"/>
                </a:lnTo>
                <a:lnTo>
                  <a:pt x="10" y="27"/>
                </a:lnTo>
                <a:lnTo>
                  <a:pt x="5" y="37"/>
                </a:lnTo>
                <a:lnTo>
                  <a:pt x="1" y="49"/>
                </a:lnTo>
                <a:lnTo>
                  <a:pt x="0" y="61"/>
                </a:lnTo>
                <a:lnTo>
                  <a:pt x="1" y="73"/>
                </a:lnTo>
                <a:lnTo>
                  <a:pt x="5" y="85"/>
                </a:lnTo>
                <a:lnTo>
                  <a:pt x="10" y="95"/>
                </a:lnTo>
                <a:lnTo>
                  <a:pt x="18" y="104"/>
                </a:lnTo>
                <a:lnTo>
                  <a:pt x="27" y="112"/>
                </a:lnTo>
                <a:lnTo>
                  <a:pt x="37" y="117"/>
                </a:lnTo>
                <a:lnTo>
                  <a:pt x="49" y="121"/>
                </a:lnTo>
                <a:lnTo>
                  <a:pt x="61" y="122"/>
                </a:lnTo>
                <a:lnTo>
                  <a:pt x="73" y="121"/>
                </a:lnTo>
                <a:lnTo>
                  <a:pt x="84" y="117"/>
                </a:lnTo>
                <a:lnTo>
                  <a:pt x="94" y="112"/>
                </a:lnTo>
                <a:lnTo>
                  <a:pt x="103" y="104"/>
                </a:lnTo>
                <a:lnTo>
                  <a:pt x="110" y="96"/>
                </a:lnTo>
                <a:lnTo>
                  <a:pt x="116" y="85"/>
                </a:lnTo>
                <a:lnTo>
                  <a:pt x="119" y="74"/>
                </a:lnTo>
                <a:lnTo>
                  <a:pt x="121" y="62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 flipH="1">
            <a:off x="0" y="133200"/>
            <a:ext cx="23464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93680" y="38160"/>
            <a:ext cx="0" cy="10825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378560" y="6416640"/>
            <a:ext cx="21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建湖县实验初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校徽 拷贝"/>
          <p:cNvPicPr/>
          <p:nvPr/>
        </p:nvPicPr>
        <p:blipFill>
          <a:blip r:embed="rId2"/>
          <a:stretch/>
        </p:blipFill>
        <p:spPr>
          <a:xfrm>
            <a:off x="6875640" y="6373800"/>
            <a:ext cx="469800" cy="46980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7"/>
          <p:cNvGrpSpPr/>
          <p:nvPr/>
        </p:nvGrpSpPr>
        <p:grpSpPr>
          <a:xfrm>
            <a:off x="6891480" y="4527360"/>
            <a:ext cx="2276280" cy="2324160"/>
            <a:chOff x="6891480" y="4527360"/>
            <a:chExt cx="2276280" cy="2324160"/>
          </a:xfrm>
        </p:grpSpPr>
        <p:sp>
          <p:nvSpPr>
            <p:cNvPr id="583" name="Line 8"/>
            <p:cNvSpPr/>
            <p:nvPr/>
          </p:nvSpPr>
          <p:spPr>
            <a:xfrm flipV="1">
              <a:off x="6891480" y="6751800"/>
              <a:ext cx="2276280" cy="792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9"/>
            <p:cNvSpPr/>
            <p:nvPr/>
          </p:nvSpPr>
          <p:spPr>
            <a:xfrm flipH="1" flipV="1">
              <a:off x="8967600" y="4527360"/>
              <a:ext cx="6120" cy="232092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8875800" y="6657840"/>
              <a:ext cx="19188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2"/>
                  </a:moveTo>
                  <a:lnTo>
                    <a:pt x="60" y="122"/>
                  </a:lnTo>
                  <a:lnTo>
                    <a:pt x="61" y="122"/>
                  </a:lnTo>
                  <a:lnTo>
                    <a:pt x="73" y="121"/>
                  </a:lnTo>
                  <a:lnTo>
                    <a:pt x="84" y="117"/>
                  </a:lnTo>
                  <a:lnTo>
                    <a:pt x="95" y="112"/>
                  </a:lnTo>
                  <a:lnTo>
                    <a:pt x="103" y="104"/>
                  </a:lnTo>
                  <a:lnTo>
                    <a:pt x="111" y="95"/>
                  </a:lnTo>
                  <a:lnTo>
                    <a:pt x="116" y="85"/>
                  </a:lnTo>
                  <a:lnTo>
                    <a:pt x="120" y="73"/>
                  </a:lnTo>
                  <a:lnTo>
                    <a:pt x="121" y="61"/>
                  </a:lnTo>
                  <a:lnTo>
                    <a:pt x="120" y="49"/>
                  </a:lnTo>
                  <a:lnTo>
                    <a:pt x="116" y="37"/>
                  </a:lnTo>
                  <a:lnTo>
                    <a:pt x="111" y="27"/>
                  </a:lnTo>
                  <a:lnTo>
                    <a:pt x="103" y="18"/>
                  </a:lnTo>
                  <a:lnTo>
                    <a:pt x="94" y="10"/>
                  </a:lnTo>
                  <a:lnTo>
                    <a:pt x="84" y="5"/>
                  </a:lnTo>
                  <a:lnTo>
                    <a:pt x="72" y="1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2" y="48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CAF-979D-4B64-8117-9CB63030BA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2D88-0033-482A-BFB2-79A7D24033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4591-8680-4876-A3CF-6608049B3A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7A6B-D7D3-4A84-8B5E-E1486F3725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6B0-46BC-4D67-8073-F51AE5B504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2A4-D2E8-47B9-AC6D-9551F041EA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F57B-D229-4877-88D1-4A5A37AAA1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443-0287-49D4-BB8E-ED94A74D3C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9"/>
          <p:cNvSpPr/>
          <p:nvPr/>
        </p:nvSpPr>
        <p:spPr>
          <a:xfrm>
            <a:off x="5318280" y="6216480"/>
            <a:ext cx="38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一数学备课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字8"/>
          <p:cNvPicPr/>
          <p:nvPr/>
        </p:nvPicPr>
        <p:blipFill>
          <a:blip r:embed="rId1"/>
          <a:stretch/>
        </p:blipFill>
        <p:spPr>
          <a:xfrm>
            <a:off x="0" y="0"/>
            <a:ext cx="3203640" cy="12812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love-175"/>
          <p:cNvPicPr/>
          <p:nvPr/>
        </p:nvPicPr>
        <p:blipFill>
          <a:blip r:embed="rId2"/>
          <a:stretch/>
        </p:blipFill>
        <p:spPr>
          <a:xfrm>
            <a:off x="5294160" y="3984480"/>
            <a:ext cx="3849840" cy="2887920"/>
          </a:xfrm>
          <a:prstGeom prst="rect">
            <a:avLst/>
          </a:prstGeom>
          <a:ln w="0">
            <a:noFill/>
          </a:ln>
        </p:spPr>
      </p:pic>
      <p:pic>
        <p:nvPicPr>
          <p:cNvPr id="634" name="WordArt 14" descr=""/>
          <p:cNvPicPr/>
          <p:nvPr/>
        </p:nvPicPr>
        <p:blipFill>
          <a:blip r:embed="rId3"/>
          <a:stretch/>
        </p:blipFill>
        <p:spPr>
          <a:xfrm>
            <a:off x="981000" y="2309760"/>
            <a:ext cx="61149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576440" y="2217600"/>
            <a:ext cx="61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+b+c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4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+b+c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）（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+b+c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647720" y="4494240"/>
            <a:ext cx="63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=  a</a:t>
            </a:r>
            <a:r>
              <a:rPr b="1" lang="en-US" sz="4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+b</a:t>
            </a:r>
            <a:r>
              <a:rPr b="1" lang="en-US" sz="4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+c</a:t>
            </a:r>
            <a:r>
              <a:rPr b="1" lang="en-US" sz="4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+2ab+2bc+2a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760400" y="1227240"/>
            <a:ext cx="68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华文新魏"/>
              </a:rPr>
              <a:t>代数方法：多项式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  <a:ea typeface="华文新魏"/>
              </a:rPr>
              <a:t>×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华文新魏"/>
              </a:rPr>
              <a:t>多项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WordArt 7"/>
          <p:cNvSpPr txBox="1"/>
          <p:nvPr/>
        </p:nvSpPr>
        <p:spPr>
          <a:xfrm rot="5400000">
            <a:off x="-374040" y="1065960"/>
            <a:ext cx="2376360" cy="94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381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数学实验室</a:t>
            </a:r>
            <a:endParaRPr b="1" lang="en-US" sz="3600" spc="1" strike="noStrike">
              <a:ln w="381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1673280" y="371520"/>
            <a:ext cx="72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你知道（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+b+c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4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是多少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9" descr="0086"/>
          <p:cNvPicPr/>
          <p:nvPr/>
        </p:nvPicPr>
        <p:blipFill>
          <a:blip r:embed="rId3"/>
          <a:stretch/>
        </p:blipFill>
        <p:spPr>
          <a:xfrm>
            <a:off x="8539200" y="90360"/>
            <a:ext cx="419040" cy="56196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0"/>
          <p:cNvSpPr/>
          <p:nvPr/>
        </p:nvSpPr>
        <p:spPr>
          <a:xfrm>
            <a:off x="1665360" y="3629160"/>
            <a:ext cx="70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 a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ab+ac+ab+b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bc+ac+bc+c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4"/>
          <p:cNvSpPr/>
          <p:nvPr/>
        </p:nvSpPr>
        <p:spPr>
          <a:xfrm>
            <a:off x="1770120" y="9763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华文新魏"/>
              </a:rPr>
              <a:t>面积法：通过图形的拼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3"/>
          <p:cNvSpPr/>
          <p:nvPr/>
        </p:nvSpPr>
        <p:spPr>
          <a:xfrm>
            <a:off x="2354400" y="2367000"/>
            <a:ext cx="463320" cy="463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5"/>
          <p:cNvSpPr/>
          <p:nvPr/>
        </p:nvSpPr>
        <p:spPr>
          <a:xfrm>
            <a:off x="2817720" y="2844720"/>
            <a:ext cx="601920" cy="60192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6"/>
          <p:cNvSpPr/>
          <p:nvPr/>
        </p:nvSpPr>
        <p:spPr>
          <a:xfrm>
            <a:off x="3433680" y="3446640"/>
            <a:ext cx="1035000" cy="1035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7"/>
          <p:cNvSpPr/>
          <p:nvPr/>
        </p:nvSpPr>
        <p:spPr>
          <a:xfrm>
            <a:off x="2354400" y="2844720"/>
            <a:ext cx="463320" cy="601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8"/>
          <p:cNvSpPr/>
          <p:nvPr/>
        </p:nvSpPr>
        <p:spPr>
          <a:xfrm>
            <a:off x="2352600" y="3446640"/>
            <a:ext cx="479520" cy="1035000"/>
          </a:xfrm>
          <a:prstGeom prst="rect">
            <a:avLst/>
          </a:prstGeom>
          <a:solidFill>
            <a:srgbClr val="e84e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9"/>
          <p:cNvSpPr/>
          <p:nvPr/>
        </p:nvSpPr>
        <p:spPr>
          <a:xfrm>
            <a:off x="2817720" y="3446640"/>
            <a:ext cx="615960" cy="1035000"/>
          </a:xfrm>
          <a:prstGeom prst="rect">
            <a:avLst/>
          </a:prstGeom>
          <a:solidFill>
            <a:srgbClr val="58ed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0"/>
          <p:cNvSpPr/>
          <p:nvPr/>
        </p:nvSpPr>
        <p:spPr>
          <a:xfrm>
            <a:off x="2817720" y="2367000"/>
            <a:ext cx="615960" cy="463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1"/>
          <p:cNvSpPr/>
          <p:nvPr/>
        </p:nvSpPr>
        <p:spPr>
          <a:xfrm>
            <a:off x="3433680" y="2367000"/>
            <a:ext cx="1035000" cy="46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3433680" y="2830680"/>
            <a:ext cx="1035000" cy="61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4"/>
          <p:cNvSpPr/>
          <p:nvPr/>
        </p:nvSpPr>
        <p:spPr>
          <a:xfrm>
            <a:off x="5634000" y="2374920"/>
            <a:ext cx="463680" cy="463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5"/>
          <p:cNvSpPr/>
          <p:nvPr/>
        </p:nvSpPr>
        <p:spPr>
          <a:xfrm>
            <a:off x="6111720" y="2838600"/>
            <a:ext cx="601920" cy="6015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6"/>
          <p:cNvSpPr/>
          <p:nvPr/>
        </p:nvSpPr>
        <p:spPr>
          <a:xfrm>
            <a:off x="6729480" y="3456000"/>
            <a:ext cx="1035000" cy="1035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7"/>
          <p:cNvSpPr/>
          <p:nvPr/>
        </p:nvSpPr>
        <p:spPr>
          <a:xfrm>
            <a:off x="5634000" y="2838600"/>
            <a:ext cx="463680" cy="601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8"/>
          <p:cNvSpPr/>
          <p:nvPr/>
        </p:nvSpPr>
        <p:spPr>
          <a:xfrm>
            <a:off x="5632560" y="3454560"/>
            <a:ext cx="479160" cy="1035000"/>
          </a:xfrm>
          <a:prstGeom prst="rect">
            <a:avLst/>
          </a:prstGeom>
          <a:solidFill>
            <a:srgbClr val="e84e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9"/>
          <p:cNvSpPr/>
          <p:nvPr/>
        </p:nvSpPr>
        <p:spPr>
          <a:xfrm>
            <a:off x="6113520" y="3440160"/>
            <a:ext cx="615960" cy="1035000"/>
          </a:xfrm>
          <a:prstGeom prst="rect">
            <a:avLst/>
          </a:prstGeom>
          <a:solidFill>
            <a:srgbClr val="58ed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0"/>
          <p:cNvSpPr/>
          <p:nvPr/>
        </p:nvSpPr>
        <p:spPr>
          <a:xfrm>
            <a:off x="6099120" y="2360520"/>
            <a:ext cx="615960" cy="463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1"/>
          <p:cNvSpPr/>
          <p:nvPr/>
        </p:nvSpPr>
        <p:spPr>
          <a:xfrm>
            <a:off x="6713640" y="2360520"/>
            <a:ext cx="1035000" cy="463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2"/>
          <p:cNvSpPr/>
          <p:nvPr/>
        </p:nvSpPr>
        <p:spPr>
          <a:xfrm>
            <a:off x="6729480" y="2838600"/>
            <a:ext cx="1035000" cy="61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53"/>
          <p:cNvSpPr/>
          <p:nvPr/>
        </p:nvSpPr>
        <p:spPr>
          <a:xfrm>
            <a:off x="2166840" y="23605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54"/>
          <p:cNvSpPr/>
          <p:nvPr/>
        </p:nvSpPr>
        <p:spPr>
          <a:xfrm>
            <a:off x="2166840" y="2838600"/>
            <a:ext cx="0" cy="60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55"/>
          <p:cNvSpPr/>
          <p:nvPr/>
        </p:nvSpPr>
        <p:spPr>
          <a:xfrm>
            <a:off x="2166840" y="3454560"/>
            <a:ext cx="0" cy="1020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56"/>
          <p:cNvSpPr/>
          <p:nvPr/>
        </p:nvSpPr>
        <p:spPr>
          <a:xfrm>
            <a:off x="2338560" y="2163600"/>
            <a:ext cx="47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57"/>
          <p:cNvSpPr/>
          <p:nvPr/>
        </p:nvSpPr>
        <p:spPr>
          <a:xfrm>
            <a:off x="2817720" y="2163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58"/>
          <p:cNvSpPr/>
          <p:nvPr/>
        </p:nvSpPr>
        <p:spPr>
          <a:xfrm>
            <a:off x="3433680" y="2163600"/>
            <a:ext cx="103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9"/>
          <p:cNvSpPr/>
          <p:nvPr/>
        </p:nvSpPr>
        <p:spPr>
          <a:xfrm>
            <a:off x="1660680" y="2163600"/>
            <a:ext cx="7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0"/>
          <p:cNvSpPr/>
          <p:nvPr/>
        </p:nvSpPr>
        <p:spPr>
          <a:xfrm>
            <a:off x="1647720" y="2752560"/>
            <a:ext cx="7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1687680" y="3608280"/>
            <a:ext cx="7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2"/>
          <p:cNvSpPr/>
          <p:nvPr/>
        </p:nvSpPr>
        <p:spPr>
          <a:xfrm>
            <a:off x="3605040" y="1498680"/>
            <a:ext cx="7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3"/>
          <p:cNvSpPr/>
          <p:nvPr/>
        </p:nvSpPr>
        <p:spPr>
          <a:xfrm>
            <a:off x="2884320" y="1544760"/>
            <a:ext cx="7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64"/>
          <p:cNvSpPr/>
          <p:nvPr/>
        </p:nvSpPr>
        <p:spPr>
          <a:xfrm>
            <a:off x="2338560" y="1515960"/>
            <a:ext cx="7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WordArt 65"/>
          <p:cNvSpPr txBox="1"/>
          <p:nvPr/>
        </p:nvSpPr>
        <p:spPr>
          <a:xfrm rot="5400000">
            <a:off x="-374040" y="1065960"/>
            <a:ext cx="2376360" cy="94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381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数学实验室</a:t>
            </a:r>
            <a:endParaRPr b="1" lang="en-US" sz="3600" spc="1" strike="noStrike">
              <a:ln w="381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6" name="Text Box 66"/>
          <p:cNvSpPr/>
          <p:nvPr/>
        </p:nvSpPr>
        <p:spPr>
          <a:xfrm>
            <a:off x="1673280" y="371520"/>
            <a:ext cx="72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你知道（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+b+c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4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是多少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7"/>
          <p:cNvSpPr/>
          <p:nvPr/>
        </p:nvSpPr>
        <p:spPr>
          <a:xfrm>
            <a:off x="1889280" y="465768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图形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8"/>
          <p:cNvSpPr/>
          <p:nvPr/>
        </p:nvSpPr>
        <p:spPr>
          <a:xfrm>
            <a:off x="1854360" y="4637160"/>
            <a:ext cx="65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面积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 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面积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9"/>
          <p:cNvSpPr/>
          <p:nvPr/>
        </p:nvSpPr>
        <p:spPr>
          <a:xfrm>
            <a:off x="5853600" y="4643280"/>
            <a:ext cx="17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图形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225360" y="4456080"/>
            <a:ext cx="8732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有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+b+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ac+ab+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bc+ac+bc+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2ab+2ac+2b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1" descr="0086"/>
          <p:cNvPicPr/>
          <p:nvPr/>
        </p:nvPicPr>
        <p:blipFill>
          <a:blip r:embed="rId7"/>
          <a:stretch/>
        </p:blipFill>
        <p:spPr>
          <a:xfrm>
            <a:off x="8539200" y="90360"/>
            <a:ext cx="4190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4"/>
          <p:cNvSpPr/>
          <p:nvPr/>
        </p:nvSpPr>
        <p:spPr>
          <a:xfrm>
            <a:off x="406440" y="355680"/>
            <a:ext cx="45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试试看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2335680" y="1255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计算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" descr="0803"/>
          <p:cNvPicPr/>
          <p:nvPr/>
        </p:nvPicPr>
        <p:blipFill>
          <a:blip r:embed="rId1"/>
          <a:stretch/>
        </p:blipFill>
        <p:spPr>
          <a:xfrm>
            <a:off x="7778880" y="14400"/>
            <a:ext cx="1365120" cy="13651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对象 2"/>
          <p:cNvGraphicFramePr/>
          <p:nvPr/>
        </p:nvGraphicFramePr>
        <p:xfrm>
          <a:off x="1960560" y="2336760"/>
          <a:ext cx="2862360" cy="8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7" name="对象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0560" y="2336760"/>
                    <a:ext cx="286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对象 4"/>
          <p:cNvGraphicFramePr/>
          <p:nvPr/>
        </p:nvGraphicFramePr>
        <p:xfrm>
          <a:off x="1960560" y="3930480"/>
          <a:ext cx="3139920" cy="7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0" name="对象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60560" y="3930480"/>
                    <a:ext cx="31399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Object 4"/>
          <p:cNvGraphicFramePr/>
          <p:nvPr/>
        </p:nvGraphicFramePr>
        <p:xfrm>
          <a:off x="208080" y="142920"/>
          <a:ext cx="798516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2920"/>
                    <a:ext cx="798516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3" name="Picture 6" descr="test[1]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7559640" y="142920"/>
            <a:ext cx="1328760" cy="92088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7"/>
          <p:cNvSpPr/>
          <p:nvPr/>
        </p:nvSpPr>
        <p:spPr>
          <a:xfrm>
            <a:off x="8015040" y="1120680"/>
            <a:ext cx="35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算一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5"/>
          <p:cNvSpPr/>
          <p:nvPr/>
        </p:nvSpPr>
        <p:spPr>
          <a:xfrm>
            <a:off x="1440" y="-7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练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多项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加上一个单项式后，使它能成为一个整式的完全平方，那么加上的单项式可以是＿＿＿＿＿＿＿＿＿＿＿（请尽可能多的填写正确答案）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1392840" y="233028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）若所填项是首项或是尾项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0"/>
          <p:cNvSpPr/>
          <p:nvPr/>
        </p:nvSpPr>
        <p:spPr>
          <a:xfrm>
            <a:off x="766080" y="2914560"/>
            <a:ext cx="28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则：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    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2·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·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1687680" y="3429000"/>
            <a:ext cx="41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根据完全平方式的形式，所以括号内应填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2"/>
          <p:cNvSpPr/>
          <p:nvPr/>
        </p:nvSpPr>
        <p:spPr>
          <a:xfrm>
            <a:off x="951480" y="38862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即：此单项式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3"/>
          <p:cNvSpPr/>
          <p:nvPr/>
        </p:nvSpPr>
        <p:spPr>
          <a:xfrm>
            <a:off x="1915920" y="4495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若所填项是中间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4"/>
          <p:cNvSpPr/>
          <p:nvPr/>
        </p:nvSpPr>
        <p:spPr>
          <a:xfrm>
            <a:off x="1094040" y="5029200"/>
            <a:ext cx="30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则：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x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2·2x·1+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5"/>
          <p:cNvSpPr/>
          <p:nvPr/>
        </p:nvSpPr>
        <p:spPr>
          <a:xfrm>
            <a:off x="1323000" y="55627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所以中间项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4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6"/>
          <p:cNvSpPr/>
          <p:nvPr/>
        </p:nvSpPr>
        <p:spPr>
          <a:xfrm>
            <a:off x="1307520" y="617220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即：此单项式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4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WordArt 5"/>
          <p:cNvSpPr txBox="1"/>
          <p:nvPr/>
        </p:nvSpPr>
        <p:spPr>
          <a:xfrm>
            <a:off x="6703920" y="185760"/>
            <a:ext cx="218448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拓展与延伸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277920" y="112680"/>
            <a:ext cx="561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、已知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+b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7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， 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-b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3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，求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b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的值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320760" y="2255760"/>
            <a:ext cx="8610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、观察下面各式规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1×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+2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1×2+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2×3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+3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2×3+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3×4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+4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3×4+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；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706320" y="538308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写出第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行的式子，并证明你的结论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320760" y="5240160"/>
            <a:ext cx="8888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答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:     n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×(n+1)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】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(n+1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×(n+1)+1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】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WordArt 5" descr=""/>
          <p:cNvPicPr/>
          <p:nvPr/>
        </p:nvPicPr>
        <p:blipFill>
          <a:blip r:embed="rId1"/>
          <a:stretch/>
        </p:blipFill>
        <p:spPr>
          <a:xfrm>
            <a:off x="768240" y="1036800"/>
            <a:ext cx="4584960" cy="9381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6" descr="5"/>
          <p:cNvPicPr/>
          <p:nvPr/>
        </p:nvPicPr>
        <p:blipFill>
          <a:blip r:embed="rId2"/>
          <a:stretch/>
        </p:blipFill>
        <p:spPr>
          <a:xfrm>
            <a:off x="6461280" y="100080"/>
            <a:ext cx="2668320" cy="21700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" descr="米老鼠"/>
          <p:cNvPicPr/>
          <p:nvPr/>
        </p:nvPicPr>
        <p:blipFill>
          <a:blip r:embed="rId3"/>
          <a:stretch/>
        </p:blipFill>
        <p:spPr>
          <a:xfrm>
            <a:off x="6180120" y="569880"/>
            <a:ext cx="1344600" cy="134640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8"/>
          <p:cNvSpPr/>
          <p:nvPr/>
        </p:nvSpPr>
        <p:spPr>
          <a:xfrm>
            <a:off x="388800" y="2787480"/>
            <a:ext cx="758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" descr="2097"/>
          <p:cNvPicPr/>
          <p:nvPr/>
        </p:nvPicPr>
        <p:blipFill>
          <a:blip r:embed="rId4"/>
          <a:stretch/>
        </p:blipFill>
        <p:spPr>
          <a:xfrm>
            <a:off x="468360" y="2973240"/>
            <a:ext cx="1579680" cy="21067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GuestBk"/>
          <p:cNvPicPr/>
          <p:nvPr/>
        </p:nvPicPr>
        <p:blipFill>
          <a:blip r:embed="rId5"/>
          <a:stretch/>
        </p:blipFill>
        <p:spPr>
          <a:xfrm>
            <a:off x="2050920" y="3621240"/>
            <a:ext cx="2160720" cy="12967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11"/>
          <p:cNvSpPr/>
          <p:nvPr/>
        </p:nvSpPr>
        <p:spPr>
          <a:xfrm>
            <a:off x="5044680" y="3786120"/>
            <a:ext cx="241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华文行楷"/>
              </a:rPr>
              <a:t>布置作业</a:t>
            </a:r>
            <a:r>
              <a:rPr b="1" lang="en-US" sz="6000" spc="-1" strike="noStrike">
                <a:solidFill>
                  <a:srgbClr val="ff3300"/>
                </a:solidFill>
                <a:latin typeface="Tahoma"/>
                <a:ea typeface="华文行楷"/>
              </a:rPr>
              <a:t>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733320" y="5335560"/>
            <a:ext cx="8066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课本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79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～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80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页 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1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华文中宋"/>
              </a:rPr>
              <a:t>-7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4"/>
          <p:cNvSpPr/>
          <p:nvPr/>
        </p:nvSpPr>
        <p:spPr>
          <a:xfrm>
            <a:off x="281160" y="363600"/>
            <a:ext cx="50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、完全平方公式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771480" y="1131840"/>
            <a:ext cx="6093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+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a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2ab+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-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a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-2ab+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309600" y="3162240"/>
            <a:ext cx="48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、平方差公式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774720" y="397512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+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-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a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-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8" descr="068"/>
          <p:cNvPicPr/>
          <p:nvPr/>
        </p:nvPicPr>
        <p:blipFill>
          <a:blip r:embed="rId1"/>
          <a:stretch/>
        </p:blipFill>
        <p:spPr>
          <a:xfrm>
            <a:off x="5904000" y="2952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5904000" y="244440"/>
            <a:ext cx="23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华文彩云"/>
              </a:rPr>
              <a:t>公式再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0"/>
          <p:cNvSpPr/>
          <p:nvPr/>
        </p:nvSpPr>
        <p:spPr>
          <a:xfrm>
            <a:off x="6122880" y="946080"/>
            <a:ext cx="1882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1"/>
          <p:cNvSpPr/>
          <p:nvPr/>
        </p:nvSpPr>
        <p:spPr>
          <a:xfrm>
            <a:off x="6122880" y="1033560"/>
            <a:ext cx="188280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43"/>
          <p:cNvGrpSpPr/>
          <p:nvPr/>
        </p:nvGrpSpPr>
        <p:grpSpPr>
          <a:xfrm>
            <a:off x="1295280" y="1676520"/>
            <a:ext cx="4389480" cy="663480"/>
            <a:chOff x="1295280" y="1676520"/>
            <a:chExt cx="4389480" cy="663480"/>
          </a:xfrm>
        </p:grpSpPr>
        <p:sp>
          <p:nvSpPr>
            <p:cNvPr id="645" name="Rectangle 44"/>
            <p:cNvSpPr/>
            <p:nvPr/>
          </p:nvSpPr>
          <p:spPr>
            <a:xfrm>
              <a:off x="1295280" y="1676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6" name="Object 45"/>
            <p:cNvGraphicFramePr/>
            <p:nvPr/>
          </p:nvGraphicFramePr>
          <p:xfrm>
            <a:off x="1904760" y="1694160"/>
            <a:ext cx="3780000" cy="64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7" name="Object 4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4760" y="1694160"/>
                      <a:ext cx="3780000" cy="64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8" name="Group 46"/>
          <p:cNvGrpSpPr/>
          <p:nvPr/>
        </p:nvGrpSpPr>
        <p:grpSpPr>
          <a:xfrm>
            <a:off x="1219320" y="2362320"/>
            <a:ext cx="4647600" cy="675720"/>
            <a:chOff x="1219320" y="2362320"/>
            <a:chExt cx="4647600" cy="675720"/>
          </a:xfrm>
        </p:grpSpPr>
        <p:sp>
          <p:nvSpPr>
            <p:cNvPr id="649" name="Rectangle 47"/>
            <p:cNvSpPr/>
            <p:nvPr/>
          </p:nvSpPr>
          <p:spPr>
            <a:xfrm>
              <a:off x="1219320" y="236232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②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Object 48"/>
                <p:cNvSpPr txBox="1"/>
                <p:nvPr/>
              </p:nvSpPr>
              <p:spPr>
                <a:xfrm>
                  <a:off x="1895040" y="2447640"/>
                  <a:ext cx="397188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</m:d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1" name="Group 49"/>
          <p:cNvGrpSpPr/>
          <p:nvPr/>
        </p:nvGrpSpPr>
        <p:grpSpPr>
          <a:xfrm>
            <a:off x="1143000" y="5334120"/>
            <a:ext cx="4952880" cy="653760"/>
            <a:chOff x="1143000" y="5334120"/>
            <a:chExt cx="4952880" cy="653760"/>
          </a:xfrm>
        </p:grpSpPr>
        <p:sp>
          <p:nvSpPr>
            <p:cNvPr id="652" name="Rectangle 50"/>
            <p:cNvSpPr/>
            <p:nvPr/>
          </p:nvSpPr>
          <p:spPr>
            <a:xfrm>
              <a:off x="1143000" y="53341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⑥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3" name="Object 51"/>
                <p:cNvSpPr txBox="1"/>
                <p:nvPr/>
              </p:nvSpPr>
              <p:spPr>
                <a:xfrm>
                  <a:off x="1752480" y="5356080"/>
                  <a:ext cx="43434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</m:d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4" name="Group 52"/>
          <p:cNvGrpSpPr/>
          <p:nvPr/>
        </p:nvGrpSpPr>
        <p:grpSpPr>
          <a:xfrm>
            <a:off x="1328760" y="3124080"/>
            <a:ext cx="4447800" cy="586080"/>
            <a:chOff x="1328760" y="3124080"/>
            <a:chExt cx="4447800" cy="586080"/>
          </a:xfrm>
        </p:grpSpPr>
        <mc:AlternateContent>
          <mc:Choice xmlns:a14="http://schemas.microsoft.com/office/drawing/2010/main" Requires="a14">
            <p:sp>
              <p:nvSpPr>
                <p:cNvPr id="655" name="Object 53"/>
                <p:cNvSpPr txBox="1"/>
                <p:nvPr/>
              </p:nvSpPr>
              <p:spPr>
                <a:xfrm>
                  <a:off x="1814400" y="3124080"/>
                  <a:ext cx="39621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56" name="Rectangle 54"/>
            <p:cNvSpPr/>
            <p:nvPr/>
          </p:nvSpPr>
          <p:spPr>
            <a:xfrm>
              <a:off x="1328760" y="3128760"/>
              <a:ext cx="5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③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55"/>
          <p:cNvGrpSpPr/>
          <p:nvPr/>
        </p:nvGrpSpPr>
        <p:grpSpPr>
          <a:xfrm>
            <a:off x="1328760" y="3886200"/>
            <a:ext cx="4538520" cy="601560"/>
            <a:chOff x="1328760" y="3886200"/>
            <a:chExt cx="4538520" cy="601560"/>
          </a:xfrm>
        </p:grpSpPr>
        <mc:AlternateContent>
          <mc:Choice xmlns:a14="http://schemas.microsoft.com/office/drawing/2010/main" Requires="a14">
            <p:sp>
              <p:nvSpPr>
                <p:cNvPr id="658" name="Object 56"/>
                <p:cNvSpPr txBox="1"/>
                <p:nvPr/>
              </p:nvSpPr>
              <p:spPr>
                <a:xfrm>
                  <a:off x="1828800" y="3897360"/>
                  <a:ext cx="403848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59" name="Rectangle 57"/>
            <p:cNvSpPr/>
            <p:nvPr/>
          </p:nvSpPr>
          <p:spPr>
            <a:xfrm>
              <a:off x="1328760" y="3886200"/>
              <a:ext cx="5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④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58"/>
          <p:cNvGrpSpPr/>
          <p:nvPr/>
        </p:nvGrpSpPr>
        <p:grpSpPr>
          <a:xfrm>
            <a:off x="1312560" y="4606920"/>
            <a:ext cx="4691160" cy="581400"/>
            <a:chOff x="1312560" y="4606920"/>
            <a:chExt cx="4691160" cy="581400"/>
          </a:xfrm>
        </p:grpSpPr>
        <mc:AlternateContent>
          <mc:Choice xmlns:a14="http://schemas.microsoft.com/office/drawing/2010/main" Requires="a14">
            <p:sp>
              <p:nvSpPr>
                <p:cNvPr id="661" name="Object 59"/>
                <p:cNvSpPr txBox="1"/>
                <p:nvPr/>
              </p:nvSpPr>
              <p:spPr>
                <a:xfrm>
                  <a:off x="1729080" y="4606920"/>
                  <a:ext cx="4274640" cy="55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</m:d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2" name="Rectangle 60"/>
            <p:cNvSpPr/>
            <p:nvPr/>
          </p:nvSpPr>
          <p:spPr>
            <a:xfrm>
              <a:off x="1312560" y="4606920"/>
              <a:ext cx="5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⑤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Rectangle 61"/>
          <p:cNvSpPr/>
          <p:nvPr/>
        </p:nvSpPr>
        <p:spPr>
          <a:xfrm>
            <a:off x="228600" y="-36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公式运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2"/>
          <p:cNvSpPr/>
          <p:nvPr/>
        </p:nvSpPr>
        <p:spPr>
          <a:xfrm>
            <a:off x="914400" y="914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13"/>
          <p:cNvSpPr/>
          <p:nvPr/>
        </p:nvSpPr>
        <p:spPr>
          <a:xfrm>
            <a:off x="3417840" y="5286240"/>
            <a:ext cx="548640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38040" y="222120"/>
            <a:ext cx="1643040" cy="1416600"/>
            <a:chOff x="338040" y="222120"/>
            <a:chExt cx="1643040" cy="1416600"/>
          </a:xfrm>
        </p:grpSpPr>
        <p:pic>
          <p:nvPicPr>
            <p:cNvPr id="667" name="Picture 4" descr="test[1]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366480" y="222120"/>
              <a:ext cx="13287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Text Box 5"/>
            <p:cNvSpPr/>
            <p:nvPr/>
          </p:nvSpPr>
          <p:spPr>
            <a:xfrm>
              <a:off x="338040" y="1057320"/>
              <a:ext cx="16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做一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6"/>
          <p:cNvSpPr/>
          <p:nvPr/>
        </p:nvSpPr>
        <p:spPr>
          <a:xfrm>
            <a:off x="601200" y="1693800"/>
            <a:ext cx="7290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用乘法公式计算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7"/>
          <p:cNvGraphicFramePr/>
          <p:nvPr/>
        </p:nvGraphicFramePr>
        <p:xfrm>
          <a:off x="1781280" y="303120"/>
          <a:ext cx="7256520" cy="15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1280" y="303120"/>
                    <a:ext cx="72565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8"/>
          <p:cNvGraphicFramePr/>
          <p:nvPr/>
        </p:nvGraphicFramePr>
        <p:xfrm>
          <a:off x="1461960" y="1846440"/>
          <a:ext cx="7542360" cy="231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960" y="1846440"/>
                    <a:ext cx="754236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9"/>
          <p:cNvSpPr/>
          <p:nvPr/>
        </p:nvSpPr>
        <p:spPr>
          <a:xfrm>
            <a:off x="1724040" y="4210200"/>
            <a:ext cx="20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算算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10"/>
          <p:cNvGraphicFramePr/>
          <p:nvPr/>
        </p:nvGraphicFramePr>
        <p:xfrm>
          <a:off x="3363840" y="4091040"/>
          <a:ext cx="3036960" cy="87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6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63840" y="4091040"/>
                    <a:ext cx="30369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Text Box 11"/>
          <p:cNvSpPr/>
          <p:nvPr/>
        </p:nvSpPr>
        <p:spPr>
          <a:xfrm>
            <a:off x="1795320" y="5291280"/>
            <a:ext cx="226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结论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12"/>
          <p:cNvGraphicFramePr/>
          <p:nvPr/>
        </p:nvGraphicFramePr>
        <p:xfrm>
          <a:off x="3417840" y="5246640"/>
          <a:ext cx="561996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7840" y="5246640"/>
                    <a:ext cx="56199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5"/>
          <p:cNvSpPr/>
          <p:nvPr/>
        </p:nvSpPr>
        <p:spPr>
          <a:xfrm>
            <a:off x="801360" y="5256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597240" y="677880"/>
            <a:ext cx="622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(2x-y)(_____)=4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(b-a)(_____)=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4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12xy+(____)=(______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(-3x-2)(_____)=4-9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2545560" y="57312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x+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2343240" y="11970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-a-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3395160" y="17334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9y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937760" y="178920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x-3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2579760" y="2316240"/>
            <a:ext cx="18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-2+3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1157760" y="3162240"/>
            <a:ext cx="69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下列多项式的乘法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用平方差公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算的是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(a+3)(3+a)           B(6x-y)(y+6x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(-m+2n)(m-2n)    D(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b)(a+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7422840" y="4218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>
            <a:off x="380880" y="914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仿宋_GB2312"/>
              </a:rPr>
              <a:t>填空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5"/>
          <p:cNvGrpSpPr/>
          <p:nvPr/>
        </p:nvGrpSpPr>
        <p:grpSpPr>
          <a:xfrm>
            <a:off x="348840" y="1981080"/>
            <a:ext cx="8489880" cy="764280"/>
            <a:chOff x="348840" y="1981080"/>
            <a:chExt cx="8489880" cy="764280"/>
          </a:xfrm>
        </p:grpSpPr>
        <mc:AlternateContent>
          <mc:Choice xmlns:a14="http://schemas.microsoft.com/office/drawing/2010/main" Requires="a14">
            <p:sp>
              <p:nvSpPr>
                <p:cNvPr id="691" name="Object 6"/>
                <p:cNvSpPr txBox="1"/>
                <p:nvPr/>
              </p:nvSpPr>
              <p:spPr>
                <a:xfrm>
                  <a:off x="1002960" y="2133360"/>
                  <a:ext cx="78357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92" name="Rectangle 7"/>
            <p:cNvSpPr/>
            <p:nvPr/>
          </p:nvSpPr>
          <p:spPr>
            <a:xfrm>
              <a:off x="348840" y="1981080"/>
              <a:ext cx="65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8"/>
          <p:cNvGrpSpPr/>
          <p:nvPr/>
        </p:nvGrpSpPr>
        <p:grpSpPr>
          <a:xfrm>
            <a:off x="348840" y="3200400"/>
            <a:ext cx="8391960" cy="783720"/>
            <a:chOff x="348840" y="3200400"/>
            <a:chExt cx="8391960" cy="783720"/>
          </a:xfrm>
        </p:grpSpPr>
        <p:graphicFrame>
          <p:nvGraphicFramePr>
            <p:cNvPr id="694" name="Object 9"/>
            <p:cNvGraphicFramePr/>
            <p:nvPr/>
          </p:nvGraphicFramePr>
          <p:xfrm>
            <a:off x="1011240" y="3330360"/>
            <a:ext cx="7729560" cy="65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11240" y="3330360"/>
                      <a:ext cx="7729560" cy="65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6" name="Rectangle 10"/>
            <p:cNvSpPr/>
            <p:nvPr/>
          </p:nvSpPr>
          <p:spPr>
            <a:xfrm>
              <a:off x="348840" y="3200400"/>
              <a:ext cx="65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</a:rPr>
                <a:t>②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1"/>
          <p:cNvGrpSpPr/>
          <p:nvPr/>
        </p:nvGrpSpPr>
        <p:grpSpPr>
          <a:xfrm>
            <a:off x="348840" y="4572000"/>
            <a:ext cx="8414280" cy="813960"/>
            <a:chOff x="348840" y="4572000"/>
            <a:chExt cx="8414280" cy="813960"/>
          </a:xfrm>
        </p:grpSpPr>
        <mc:AlternateContent>
          <mc:Choice xmlns:a14="http://schemas.microsoft.com/office/drawing/2010/main" Requires="a14">
            <p:sp>
              <p:nvSpPr>
                <p:cNvPr id="698" name="Object 12"/>
                <p:cNvSpPr txBox="1"/>
                <p:nvPr/>
              </p:nvSpPr>
              <p:spPr>
                <a:xfrm>
                  <a:off x="914400" y="4724280"/>
                  <a:ext cx="78487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99" name="Rectangle 13"/>
            <p:cNvSpPr/>
            <p:nvPr/>
          </p:nvSpPr>
          <p:spPr>
            <a:xfrm>
              <a:off x="348840" y="4572000"/>
              <a:ext cx="65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</a:rPr>
                <a:t>③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Rectangle 14"/>
          <p:cNvSpPr/>
          <p:nvPr/>
        </p:nvSpPr>
        <p:spPr>
          <a:xfrm>
            <a:off x="228600" y="-36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公式运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4"/>
          <p:cNvSpPr/>
          <p:nvPr/>
        </p:nvSpPr>
        <p:spPr>
          <a:xfrm>
            <a:off x="566640" y="78588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、计算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Object 5"/>
          <p:cNvGraphicFramePr/>
          <p:nvPr/>
        </p:nvGraphicFramePr>
        <p:xfrm>
          <a:off x="1366920" y="1204920"/>
          <a:ext cx="5842080" cy="25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1204920"/>
                    <a:ext cx="584208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4" name="Picture 6" descr="1"/>
          <p:cNvPicPr/>
          <p:nvPr/>
        </p:nvPicPr>
        <p:blipFill>
          <a:blip r:embed="rId3"/>
          <a:stretch/>
        </p:blipFill>
        <p:spPr>
          <a:xfrm>
            <a:off x="8424720" y="0"/>
            <a:ext cx="719280" cy="6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5" name="Object 7"/>
          <p:cNvGraphicFramePr/>
          <p:nvPr/>
        </p:nvGraphicFramePr>
        <p:xfrm>
          <a:off x="30240" y="3841920"/>
          <a:ext cx="5945040" cy="18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240" y="3841920"/>
                    <a:ext cx="594504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AutoShape 8"/>
          <p:cNvSpPr/>
          <p:nvPr/>
        </p:nvSpPr>
        <p:spPr>
          <a:xfrm>
            <a:off x="6470640" y="3792600"/>
            <a:ext cx="2606760" cy="579240"/>
          </a:xfrm>
          <a:prstGeom prst="wedgeRoundRectCallout">
            <a:avLst>
              <a:gd name="adj1" fmla="val -67662"/>
              <a:gd name="adj2" fmla="val 3657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平方差公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9"/>
          <p:cNvSpPr/>
          <p:nvPr/>
        </p:nvSpPr>
        <p:spPr>
          <a:xfrm>
            <a:off x="6232680" y="5089680"/>
            <a:ext cx="2606400" cy="579240"/>
          </a:xfrm>
          <a:prstGeom prst="wedgeRoundRectCallout">
            <a:avLst>
              <a:gd name="adj1" fmla="val -112787"/>
              <a:gd name="adj2" fmla="val -1191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平方差公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0"/>
          <p:cNvGrpSpPr/>
          <p:nvPr/>
        </p:nvGrpSpPr>
        <p:grpSpPr>
          <a:xfrm>
            <a:off x="0" y="5443560"/>
            <a:ext cx="1643040" cy="1416600"/>
            <a:chOff x="0" y="5443560"/>
            <a:chExt cx="1643040" cy="1416600"/>
          </a:xfrm>
        </p:grpSpPr>
        <p:pic>
          <p:nvPicPr>
            <p:cNvPr id="710" name="Picture 11" descr="test[1]">
              <a:hlinkClick r:id="" action="ppaction://hlinkshowjump?jump=firstslide"/>
            </p:cNvPr>
            <p:cNvPicPr/>
            <p:nvPr/>
          </p:nvPicPr>
          <p:blipFill>
            <a:blip r:embed="rId6"/>
            <a:stretch/>
          </p:blipFill>
          <p:spPr>
            <a:xfrm>
              <a:off x="28440" y="5443560"/>
              <a:ext cx="13287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12"/>
            <p:cNvSpPr/>
            <p:nvPr/>
          </p:nvSpPr>
          <p:spPr>
            <a:xfrm>
              <a:off x="0" y="6278760"/>
              <a:ext cx="16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做一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Object 9"/>
          <p:cNvGraphicFramePr/>
          <p:nvPr/>
        </p:nvGraphicFramePr>
        <p:xfrm>
          <a:off x="198360" y="264960"/>
          <a:ext cx="705816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264960"/>
                    <a:ext cx="705816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10"/>
          <p:cNvGraphicFramePr/>
          <p:nvPr/>
        </p:nvGraphicFramePr>
        <p:xfrm>
          <a:off x="-4680" y="1905120"/>
          <a:ext cx="5860800" cy="27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680" y="1905120"/>
                    <a:ext cx="586080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Text Box 11"/>
          <p:cNvSpPr/>
          <p:nvPr/>
        </p:nvSpPr>
        <p:spPr>
          <a:xfrm>
            <a:off x="5710320" y="2109960"/>
            <a:ext cx="33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积的乘方的逆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2"/>
          <p:cNvSpPr/>
          <p:nvPr/>
        </p:nvSpPr>
        <p:spPr>
          <a:xfrm>
            <a:off x="5684760" y="3178080"/>
            <a:ext cx="30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平方差公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5681520" y="4106880"/>
            <a:ext cx="33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完全平方公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14" descr="0803"/>
          <p:cNvPicPr/>
          <p:nvPr/>
        </p:nvPicPr>
        <p:blipFill>
          <a:blip r:embed="rId5"/>
          <a:stretch/>
        </p:blipFill>
        <p:spPr>
          <a:xfrm>
            <a:off x="7778880" y="14400"/>
            <a:ext cx="136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0" name="Object 3"/>
          <p:cNvGraphicFramePr/>
          <p:nvPr/>
        </p:nvGraphicFramePr>
        <p:xfrm>
          <a:off x="17640" y="1658880"/>
          <a:ext cx="652284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658880"/>
                    <a:ext cx="652284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4"/>
          <p:cNvGraphicFramePr/>
          <p:nvPr/>
        </p:nvGraphicFramePr>
        <p:xfrm>
          <a:off x="68400" y="399960"/>
          <a:ext cx="4676760" cy="7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00" y="399960"/>
                    <a:ext cx="467676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Picture 5" descr="0803"/>
          <p:cNvPicPr/>
          <p:nvPr/>
        </p:nvPicPr>
        <p:blipFill>
          <a:blip r:embed="rId5"/>
          <a:stretch/>
        </p:blipFill>
        <p:spPr>
          <a:xfrm>
            <a:off x="7778880" y="14400"/>
            <a:ext cx="1365120" cy="136512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684760" y="2735280"/>
            <a:ext cx="30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平方差公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681520" y="3606840"/>
            <a:ext cx="33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完全平方公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1:29:39Z</dcterms:created>
  <dc:creator>修改：王以建</dc:creator>
  <dc:description/>
  <cp:keywords>乘法公式（2）</cp:keywords>
  <dc:language>en-US</dc:language>
  <cp:lastModifiedBy>微软用户</cp:lastModifiedBy>
  <dcterms:modified xsi:type="dcterms:W3CDTF">2019-03-26T09:37:59Z</dcterms:modified>
  <cp:revision>30</cp:revision>
  <dc:subject>乘法公式（2）</dc:subject>
  <dc:title>乘法公式（2）</dc:title>
</cp:coreProperties>
</file>