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6.wmf" ContentType="image/x-wmf"/>
  <Override PartName="/ppt/media/image7.gif" ContentType="image/gif"/>
  <Override PartName="/ppt/media/image8.png" ContentType="image/png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81B-47EC-48D4-886B-A4044219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8FF-65BF-4D8A-9278-3978CF50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9DC-E1B5-4143-AD77-DD088B69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C08-ECE1-40C4-B806-B7547BEE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DB8-D3F3-428C-A845-10B1CC5B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C4A-A62A-4DA6-9305-AC9C449A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4407-C4A0-4DF1-83EA-059477C3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05B-A6FB-4D8E-AE02-A29A87DF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D31-4D18-4402-B9F4-F2B04025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6BF-2CE0-47A3-B89C-26D11BF0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423-CC85-4AFC-A3FA-0E46449F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B3C4-567B-4F75-B863-FF80E3EF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6DE3-B1EE-471A-8E64-E4EF98466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2060640"/>
            <a:ext cx="67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多项式乘多项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love-175"/>
          <p:cNvPicPr/>
          <p:nvPr/>
        </p:nvPicPr>
        <p:blipFill>
          <a:blip r:embed="rId1"/>
          <a:stretch/>
        </p:blipFill>
        <p:spPr>
          <a:xfrm>
            <a:off x="5294160" y="3984480"/>
            <a:ext cx="384984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320400" y="765000"/>
            <a:ext cx="5801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计算下列各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3x+1)(x-2)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2x-5y)(3x-y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1434240" y="5300640"/>
            <a:ext cx="58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705e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6705e9"/>
                </a:solidFill>
                <a:latin typeface="Arial"/>
              </a:rPr>
              <a:t>注意</a:t>
            </a:r>
            <a:r>
              <a:rPr b="1" lang="en-US" sz="3600" spc="-1" strike="noStrike">
                <a:solidFill>
                  <a:srgbClr val="6705e9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6705e9"/>
                </a:solidFill>
                <a:latin typeface="Arial"/>
              </a:rPr>
              <a:t>多项式与多项式相乘的结果中</a:t>
            </a:r>
            <a:r>
              <a:rPr b="1" lang="en-US" sz="3600" spc="-1" strike="noStrike">
                <a:solidFill>
                  <a:srgbClr val="6705e9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705e9"/>
                </a:solidFill>
                <a:latin typeface="Arial"/>
              </a:rPr>
              <a:t>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合并同类项</a:t>
            </a:r>
            <a:r>
              <a:rPr b="1" lang="en-US" sz="3600" spc="-1" strike="noStrike">
                <a:solidFill>
                  <a:srgbClr val="6705e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50920" y="3284640"/>
            <a:ext cx="9289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解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原式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3x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•x+3x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-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+1•x+1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-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=3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-6x+x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=3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-5x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7"/>
          <p:cNvSpPr/>
          <p:nvPr/>
        </p:nvSpPr>
        <p:spPr>
          <a:xfrm>
            <a:off x="1513080" y="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板块三运用多项式乘多项式法则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395280" y="98100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填空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(1)(2x+y)(x-y)=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(2)(m+2n)(m-2n)=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(3)(2m+5)(2m-3)=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(4)(1-x)(0.6-x)=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(5)(x+2y)(x+8y)=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⑴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(x+1)(x-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⑵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(a+b)(a-b)-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a-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lianxi"/>
          <p:cNvPicPr/>
          <p:nvPr/>
        </p:nvPicPr>
        <p:blipFill>
          <a:blip r:embed="rId1"/>
          <a:stretch/>
        </p:blipFill>
        <p:spPr>
          <a:xfrm>
            <a:off x="468360" y="189000"/>
            <a:ext cx="1727280" cy="863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3995640" y="1557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2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-xy-y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788000" y="22734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m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-4n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714920" y="2852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4m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10m-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572000" y="34974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-1.6x+0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572000" y="40734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10xy+16y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: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计算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7740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(1) n(n+1)(n+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解：原式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 (n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n)(n+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       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n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2n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n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2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       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n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3n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2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7596360" y="404640"/>
            <a:ext cx="1303200" cy="1461960"/>
            <a:chOff x="7596360" y="404640"/>
            <a:chExt cx="1303200" cy="1461960"/>
          </a:xfrm>
        </p:grpSpPr>
        <p:pic>
          <p:nvPicPr>
            <p:cNvPr id="240" name="Picture 5" descr="0803"/>
            <p:cNvPicPr/>
            <p:nvPr/>
          </p:nvPicPr>
          <p:blipFill>
            <a:blip r:embed="rId1"/>
            <a:stretch/>
          </p:blipFill>
          <p:spPr>
            <a:xfrm>
              <a:off x="7596360" y="404640"/>
              <a:ext cx="10461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6"/>
            <p:cNvSpPr/>
            <p:nvPr/>
          </p:nvSpPr>
          <p:spPr>
            <a:xfrm>
              <a:off x="7643880" y="1346040"/>
              <a:ext cx="125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0000"/>
                  </a:solidFill>
                  <a:latin typeface="Arial"/>
                  <a:ea typeface="隶书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7"/>
          <p:cNvSpPr/>
          <p:nvPr/>
        </p:nvSpPr>
        <p:spPr>
          <a:xfrm>
            <a:off x="684360" y="3573360"/>
            <a:ext cx="8459640" cy="30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2)(x+4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(8x-1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解：原式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 (x+4)(x+4)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x-16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+4x+4x+16-8x+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+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4932360" y="2349360"/>
            <a:ext cx="42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539640" y="620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11120" y="698400"/>
            <a:ext cx="419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5292720" y="404640"/>
            <a:ext cx="42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3420b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981000"/>
            <a:ext cx="8551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332000" y="450864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-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(X+3)(X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334520" y="2060640"/>
            <a:ext cx="415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n (n+2)(2n+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258920" y="3357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 (y+1)(y-1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9"/>
          <p:cNvGrpSpPr/>
          <p:nvPr/>
        </p:nvGrpSpPr>
        <p:grpSpPr>
          <a:xfrm>
            <a:off x="7164360" y="260280"/>
            <a:ext cx="1978920" cy="1570320"/>
            <a:chOff x="7164360" y="260280"/>
            <a:chExt cx="1978920" cy="1570320"/>
          </a:xfrm>
        </p:grpSpPr>
        <p:pic>
          <p:nvPicPr>
            <p:cNvPr id="252" name="Picture 10" descr="0803"/>
            <p:cNvPicPr/>
            <p:nvPr/>
          </p:nvPicPr>
          <p:blipFill>
            <a:blip r:embed="rId1"/>
            <a:stretch/>
          </p:blipFill>
          <p:spPr>
            <a:xfrm>
              <a:off x="7164360" y="260280"/>
              <a:ext cx="1588680" cy="11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1"/>
            <p:cNvSpPr/>
            <p:nvPr/>
          </p:nvSpPr>
          <p:spPr>
            <a:xfrm>
              <a:off x="7236360" y="1310040"/>
              <a:ext cx="190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0000"/>
                  </a:solidFill>
                  <a:latin typeface="Arial"/>
                  <a:ea typeface="隶书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Object 12"/>
          <p:cNvGraphicFramePr/>
          <p:nvPr/>
        </p:nvGraphicFramePr>
        <p:xfrm>
          <a:off x="1908000" y="5159520"/>
          <a:ext cx="5040360" cy="169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5159520"/>
                    <a:ext cx="504036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矩形 14"/>
          <p:cNvSpPr/>
          <p:nvPr/>
        </p:nvSpPr>
        <p:spPr>
          <a:xfrm>
            <a:off x="1262880" y="56610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1042920" y="260280"/>
            <a:ext cx="581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1)(a+4)(a+3)       (2)(x+2)(x-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3)(x-2)(x-3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68360" y="3228840"/>
            <a:ext cx="7848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 原式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+3a+4a+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+7a+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原式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3x+2x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x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原式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3x-2x+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5x+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4495680" y="824040"/>
            <a:ext cx="289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397"/>
                </a:solidFill>
                <a:latin typeface="Arial"/>
              </a:rPr>
              <a:t>=a</a:t>
            </a:r>
            <a:r>
              <a:rPr b="1" lang="en-US" sz="4400" spc="-1" strike="noStrike" baseline="30000">
                <a:solidFill>
                  <a:srgbClr val="420397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420397"/>
                </a:solidFill>
                <a:latin typeface="Arial"/>
              </a:rPr>
              <a:t>+7a+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4494600" y="1544760"/>
            <a:ext cx="19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397"/>
                </a:solidFill>
                <a:latin typeface="Arial"/>
              </a:rPr>
              <a:t>=x</a:t>
            </a:r>
            <a:r>
              <a:rPr b="1" lang="en-US" sz="4400" spc="-1" strike="noStrike" baseline="30000">
                <a:solidFill>
                  <a:srgbClr val="420397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420397"/>
                </a:solidFill>
                <a:latin typeface="Arial"/>
              </a:rPr>
              <a:t>-x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4279320" y="2192400"/>
            <a:ext cx="244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397"/>
                </a:solidFill>
                <a:latin typeface="Arial"/>
              </a:rPr>
              <a:t>=x</a:t>
            </a:r>
            <a:r>
              <a:rPr b="1" lang="en-US" sz="4400" spc="-1" strike="noStrike" baseline="30000">
                <a:solidFill>
                  <a:srgbClr val="420397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420397"/>
                </a:solidFill>
                <a:latin typeface="Arial"/>
              </a:rPr>
              <a:t>-5x+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250920" y="26028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般地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x+a)(x+b)=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ax+bx+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4000" spc="-1" strike="noStrike">
                <a:solidFill>
                  <a:srgbClr val="f3420b"/>
                </a:solidFill>
                <a:latin typeface="Arial"/>
              </a:rPr>
              <a:t>=x</a:t>
            </a:r>
            <a:r>
              <a:rPr b="1" lang="en-US" sz="4000" spc="-1" strike="noStrike" baseline="30000">
                <a:solidFill>
                  <a:srgbClr val="f3420b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3420b"/>
                </a:solidFill>
                <a:latin typeface="Arial"/>
              </a:rPr>
              <a:t>+ (a+b)x+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95076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95280" y="141300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口答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0" y="2492280"/>
            <a:ext cx="8904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20397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420397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420397"/>
                </a:solidFill>
                <a:latin typeface="Arial"/>
              </a:rPr>
              <a:t>）</a:t>
            </a:r>
            <a:r>
              <a:rPr b="1" lang="en-US" sz="4400" spc="-1" strike="noStrike">
                <a:solidFill>
                  <a:srgbClr val="420397"/>
                </a:solidFill>
                <a:latin typeface="Arial"/>
              </a:rPr>
              <a:t>(x+1)(x+2)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20397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420397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420397"/>
                </a:solidFill>
                <a:latin typeface="Arial"/>
              </a:rPr>
              <a:t>） </a:t>
            </a:r>
            <a:r>
              <a:rPr b="1" lang="en-US" sz="4400" spc="-1" strike="noStrike">
                <a:solidFill>
                  <a:srgbClr val="420397"/>
                </a:solidFill>
                <a:latin typeface="Arial"/>
              </a:rPr>
              <a:t>(x+1)(x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20397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420397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420397"/>
                </a:solidFill>
                <a:latin typeface="Arial"/>
              </a:rPr>
              <a:t>） </a:t>
            </a:r>
            <a:r>
              <a:rPr b="1" lang="en-US" sz="4400" spc="-1" strike="noStrike">
                <a:solidFill>
                  <a:srgbClr val="420397"/>
                </a:solidFill>
                <a:latin typeface="Arial"/>
              </a:rPr>
              <a:t>(x-1)(x-2)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20397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420397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420397"/>
                </a:solidFill>
                <a:latin typeface="Arial"/>
              </a:rPr>
              <a:t>） </a:t>
            </a:r>
            <a:r>
              <a:rPr b="1" lang="en-US" sz="4400" spc="-1" strike="noStrike">
                <a:solidFill>
                  <a:srgbClr val="420397"/>
                </a:solidFill>
                <a:latin typeface="Arial"/>
              </a:rPr>
              <a:t>(x+2)(x-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719280" y="1268280"/>
            <a:ext cx="8424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果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(x-3)(3x+5)=ax</a:t>
            </a:r>
            <a:r>
              <a:rPr b="1" lang="en-US" sz="4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+bx+c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611280" y="126828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7"/>
          <p:cNvGrpSpPr/>
          <p:nvPr/>
        </p:nvGrpSpPr>
        <p:grpSpPr>
          <a:xfrm>
            <a:off x="8101080" y="0"/>
            <a:ext cx="1303200" cy="1461960"/>
            <a:chOff x="8101080" y="0"/>
            <a:chExt cx="1303200" cy="1461960"/>
          </a:xfrm>
        </p:grpSpPr>
        <p:pic>
          <p:nvPicPr>
            <p:cNvPr id="269" name="Picture 8" descr="0803"/>
            <p:cNvPicPr/>
            <p:nvPr/>
          </p:nvPicPr>
          <p:blipFill>
            <a:blip r:embed="rId1"/>
            <a:stretch/>
          </p:blipFill>
          <p:spPr>
            <a:xfrm>
              <a:off x="8101080" y="0"/>
              <a:ext cx="10461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Rectangle 9"/>
            <p:cNvSpPr/>
            <p:nvPr/>
          </p:nvSpPr>
          <p:spPr>
            <a:xfrm>
              <a:off x="8148600" y="941400"/>
              <a:ext cx="125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0000"/>
                  </a:solidFill>
                  <a:latin typeface="Arial"/>
                  <a:ea typeface="隶书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0"/>
          <p:cNvSpPr/>
          <p:nvPr/>
        </p:nvSpPr>
        <p:spPr>
          <a:xfrm>
            <a:off x="1072080" y="2852640"/>
            <a:ext cx="69440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解：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x-3)(3x+5)=3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5x-9x-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3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4x-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a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bx+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所以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=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=-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=-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lianxi"/>
          <p:cNvPicPr/>
          <p:nvPr/>
        </p:nvPicPr>
        <p:blipFill>
          <a:blip r:embed="rId1"/>
          <a:stretch/>
        </p:blipFill>
        <p:spPr>
          <a:xfrm>
            <a:off x="468360" y="298440"/>
            <a:ext cx="1727280" cy="863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练习：先化简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再求值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-(2x+1)(3x-2)+(x+3)(x-3)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中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8172360" y="1844640"/>
                <a:ext cx="54936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5" name="Group 5"/>
          <p:cNvGrpSpPr/>
          <p:nvPr/>
        </p:nvGrpSpPr>
        <p:grpSpPr>
          <a:xfrm>
            <a:off x="7596360" y="404640"/>
            <a:ext cx="1303200" cy="1461960"/>
            <a:chOff x="7596360" y="404640"/>
            <a:chExt cx="1303200" cy="1461960"/>
          </a:xfrm>
        </p:grpSpPr>
        <p:pic>
          <p:nvPicPr>
            <p:cNvPr id="276" name="Picture 6" descr="0803"/>
            <p:cNvPicPr/>
            <p:nvPr/>
          </p:nvPicPr>
          <p:blipFill>
            <a:blip r:embed="rId2"/>
            <a:stretch/>
          </p:blipFill>
          <p:spPr>
            <a:xfrm>
              <a:off x="7596360" y="404640"/>
              <a:ext cx="10461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Rectangle 7"/>
            <p:cNvSpPr/>
            <p:nvPr/>
          </p:nvSpPr>
          <p:spPr>
            <a:xfrm>
              <a:off x="7643880" y="1346040"/>
              <a:ext cx="125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0000"/>
                  </a:solidFill>
                  <a:latin typeface="Arial"/>
                  <a:ea typeface="隶书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792720" y="1268280"/>
            <a:ext cx="699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397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考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0397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420397"/>
                </a:solidFill>
                <a:latin typeface="Arial"/>
              </a:rPr>
              <a:t>如果</a:t>
            </a:r>
            <a:r>
              <a:rPr b="1" lang="en-US" sz="4000" spc="-1" strike="noStrike">
                <a:solidFill>
                  <a:srgbClr val="420397"/>
                </a:solidFill>
                <a:latin typeface="Arial"/>
              </a:rPr>
              <a:t>(x+a)(x+b)=x</a:t>
            </a:r>
            <a:r>
              <a:rPr b="1" lang="en-US" sz="4000" spc="-1" strike="noStrike" baseline="30000">
                <a:solidFill>
                  <a:srgbClr val="420397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420397"/>
                </a:solidFill>
                <a:latin typeface="Arial"/>
              </a:rPr>
              <a:t>+3x-4</a:t>
            </a:r>
            <a:r>
              <a:rPr b="1" lang="zh-CN" sz="4000" spc="-1" strike="noStrike">
                <a:solidFill>
                  <a:srgbClr val="420397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0397"/>
                </a:solidFill>
                <a:latin typeface="Arial"/>
              </a:rPr>
              <a:t>求（</a:t>
            </a:r>
            <a:r>
              <a:rPr b="1" lang="en-US" sz="4000" spc="-1" strike="noStrike">
                <a:solidFill>
                  <a:srgbClr val="420397"/>
                </a:solidFill>
                <a:latin typeface="Arial"/>
              </a:rPr>
              <a:t>a+b</a:t>
            </a:r>
            <a:r>
              <a:rPr b="1" lang="zh-CN" sz="4000" spc="-1" strike="noStrike">
                <a:solidFill>
                  <a:srgbClr val="420397"/>
                </a:solidFill>
                <a:latin typeface="Arial"/>
              </a:rPr>
              <a:t>）</a:t>
            </a:r>
            <a:r>
              <a:rPr b="1" lang="en-US" sz="4000" spc="-1" strike="noStrike">
                <a:solidFill>
                  <a:srgbClr val="420397"/>
                </a:solidFill>
                <a:latin typeface="Arial"/>
              </a:rPr>
              <a:t>-ab</a:t>
            </a:r>
            <a:r>
              <a:rPr b="1" lang="zh-CN" sz="4000" spc="-1" strike="noStrike">
                <a:solidFill>
                  <a:srgbClr val="420397"/>
                </a:solidFill>
                <a:latin typeface="Arial"/>
              </a:rPr>
              <a:t>的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7596360" y="404640"/>
            <a:ext cx="1303200" cy="1461960"/>
            <a:chOff x="7596360" y="404640"/>
            <a:chExt cx="1303200" cy="1461960"/>
          </a:xfrm>
        </p:grpSpPr>
        <p:pic>
          <p:nvPicPr>
            <p:cNvPr id="280" name="Picture 4" descr="0803"/>
            <p:cNvPicPr/>
            <p:nvPr/>
          </p:nvPicPr>
          <p:blipFill>
            <a:blip r:embed="rId1"/>
            <a:stretch/>
          </p:blipFill>
          <p:spPr>
            <a:xfrm>
              <a:off x="7596360" y="404640"/>
              <a:ext cx="10461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5"/>
            <p:cNvSpPr/>
            <p:nvPr/>
          </p:nvSpPr>
          <p:spPr>
            <a:xfrm>
              <a:off x="7643880" y="1346040"/>
              <a:ext cx="125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0000"/>
                  </a:solidFill>
                  <a:latin typeface="Arial"/>
                  <a:ea typeface="隶书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6"/>
          <p:cNvSpPr/>
          <p:nvPr/>
        </p:nvSpPr>
        <p:spPr>
          <a:xfrm>
            <a:off x="826920" y="3154320"/>
            <a:ext cx="77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解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x+a)(x+b)=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ax+bx+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 (a+b)x+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 3x-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所以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+b=3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b=-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+b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ab=3-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snow"/>
          <p:cNvPicPr/>
          <p:nvPr/>
        </p:nvPicPr>
        <p:blipFill>
          <a:blip r:embed="rId1"/>
          <a:stretch/>
        </p:blipFill>
        <p:spPr>
          <a:xfrm>
            <a:off x="0" y="2708280"/>
            <a:ext cx="3276720" cy="2209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snow"/>
          <p:cNvPicPr/>
          <p:nvPr/>
        </p:nvPicPr>
        <p:blipFill>
          <a:blip r:embed="rId2"/>
          <a:stretch/>
        </p:blipFill>
        <p:spPr>
          <a:xfrm>
            <a:off x="5651640" y="2708280"/>
            <a:ext cx="3276360" cy="22096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snow"/>
          <p:cNvPicPr/>
          <p:nvPr/>
        </p:nvPicPr>
        <p:blipFill>
          <a:blip r:embed="rId3"/>
          <a:stretch/>
        </p:blipFill>
        <p:spPr>
          <a:xfrm>
            <a:off x="2195640" y="2492280"/>
            <a:ext cx="3276360" cy="2210040"/>
          </a:xfrm>
          <a:prstGeom prst="rect">
            <a:avLst/>
          </a:prstGeom>
          <a:ln w="0">
            <a:noFill/>
          </a:ln>
        </p:spPr>
      </p:pic>
      <p:pic>
        <p:nvPicPr>
          <p:cNvPr id="286" name="WordArt 5" descr=""/>
          <p:cNvPicPr/>
          <p:nvPr/>
        </p:nvPicPr>
        <p:blipFill>
          <a:blip r:embed="rId4"/>
          <a:stretch/>
        </p:blipFill>
        <p:spPr>
          <a:xfrm>
            <a:off x="1609560" y="2535120"/>
            <a:ext cx="4583160" cy="93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5"/>
          <p:cNvPicPr/>
          <p:nvPr/>
        </p:nvPicPr>
        <p:blipFill>
          <a:blip r:embed="rId5"/>
          <a:stretch/>
        </p:blipFill>
        <p:spPr>
          <a:xfrm>
            <a:off x="6461280" y="100080"/>
            <a:ext cx="2668320" cy="2170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米老鼠"/>
          <p:cNvPicPr/>
          <p:nvPr/>
        </p:nvPicPr>
        <p:blipFill>
          <a:blip r:embed="rId6"/>
          <a:stretch/>
        </p:blipFill>
        <p:spPr>
          <a:xfrm>
            <a:off x="6180120" y="569880"/>
            <a:ext cx="1344600" cy="13464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8"/>
          <p:cNvSpPr/>
          <p:nvPr/>
        </p:nvSpPr>
        <p:spPr>
          <a:xfrm>
            <a:off x="6410160" y="210960"/>
            <a:ext cx="20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小结与回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873520" y="22212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701880" y="22212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116240" y="22212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"/>
          <p:cNvGrpSpPr/>
          <p:nvPr/>
        </p:nvGrpSpPr>
        <p:grpSpPr>
          <a:xfrm>
            <a:off x="-252360" y="-387360"/>
            <a:ext cx="9144000" cy="7676640"/>
            <a:chOff x="-252360" y="-387360"/>
            <a:chExt cx="9144000" cy="7676640"/>
          </a:xfrm>
        </p:grpSpPr>
        <p:pic>
          <p:nvPicPr>
            <p:cNvPr id="49" name="Picture 8" descr=""/>
            <p:cNvPicPr/>
            <p:nvPr/>
          </p:nvPicPr>
          <p:blipFill>
            <a:blip r:embed="rId1"/>
            <a:stretch/>
          </p:blipFill>
          <p:spPr>
            <a:xfrm>
              <a:off x="-252360" y="-387360"/>
              <a:ext cx="9144000" cy="76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9"/>
            <p:cNvSpPr/>
            <p:nvPr/>
          </p:nvSpPr>
          <p:spPr>
            <a:xfrm>
              <a:off x="465480" y="-300600"/>
              <a:ext cx="8425800" cy="642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10"/>
          <p:cNvSpPr/>
          <p:nvPr/>
        </p:nvSpPr>
        <p:spPr>
          <a:xfrm>
            <a:off x="611280" y="-316080"/>
            <a:ext cx="8137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板块一知识回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单项式乘多项式的法则是什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1"/>
              <p:cNvSpPr txBox="1"/>
              <p:nvPr/>
            </p:nvSpPr>
            <p:spPr>
              <a:xfrm>
                <a:off x="684360" y="3213000"/>
                <a:ext cx="48956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、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2"/>
              <p:cNvSpPr txBox="1"/>
              <p:nvPr/>
            </p:nvSpPr>
            <p:spPr>
              <a:xfrm>
                <a:off x="539640" y="4437000"/>
                <a:ext cx="503568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、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24000" y="836640"/>
            <a:ext cx="78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已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9"/>
          <p:cNvGraphicFramePr/>
          <p:nvPr/>
        </p:nvGraphicFramePr>
        <p:xfrm>
          <a:off x="3106800" y="682560"/>
          <a:ext cx="515916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06800" y="682560"/>
                    <a:ext cx="51591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10"/>
          <p:cNvSpPr/>
          <p:nvPr/>
        </p:nvSpPr>
        <p:spPr>
          <a:xfrm>
            <a:off x="468360" y="1773360"/>
            <a:ext cx="794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果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换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a+b)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能计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a+b)(c+d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4753080"/>
            <a:ext cx="914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四个小长方形，它们的面积可分别表示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7451640" y="2637000"/>
            <a:ext cx="433440" cy="1584000"/>
            <a:chOff x="7451640" y="2637000"/>
            <a:chExt cx="433440" cy="1584000"/>
          </a:xfrm>
        </p:grpSpPr>
        <p:sp>
          <p:nvSpPr>
            <p:cNvPr id="62" name="Line 4"/>
            <p:cNvSpPr/>
            <p:nvPr/>
          </p:nvSpPr>
          <p:spPr>
            <a:xfrm>
              <a:off x="7451640" y="2637000"/>
              <a:ext cx="433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5"/>
            <p:cNvSpPr/>
            <p:nvPr/>
          </p:nvSpPr>
          <p:spPr>
            <a:xfrm>
              <a:off x="7451640" y="4221000"/>
              <a:ext cx="433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6"/>
            <p:cNvSpPr/>
            <p:nvPr/>
          </p:nvSpPr>
          <p:spPr>
            <a:xfrm>
              <a:off x="7668360" y="2637000"/>
              <a:ext cx="0" cy="1584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7451640" y="3196080"/>
              <a:ext cx="289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36"/>
          <p:cNvSpPr/>
          <p:nvPr/>
        </p:nvSpPr>
        <p:spPr>
          <a:xfrm>
            <a:off x="1979640" y="52293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7"/>
          <p:cNvSpPr/>
          <p:nvPr/>
        </p:nvSpPr>
        <p:spPr>
          <a:xfrm>
            <a:off x="5237280" y="52293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3492360" y="52293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9"/>
          <p:cNvSpPr/>
          <p:nvPr/>
        </p:nvSpPr>
        <p:spPr>
          <a:xfrm>
            <a:off x="1619280" y="1052640"/>
            <a:ext cx="1584360" cy="792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0"/>
          <p:cNvSpPr/>
          <p:nvPr/>
        </p:nvSpPr>
        <p:spPr>
          <a:xfrm>
            <a:off x="5508720" y="981000"/>
            <a:ext cx="1873080" cy="792360"/>
          </a:xfrm>
          <a:prstGeom prst="rect">
            <a:avLst/>
          </a:prstGeom>
          <a:solidFill>
            <a:srgbClr val="fffa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1"/>
          <p:cNvSpPr/>
          <p:nvPr/>
        </p:nvSpPr>
        <p:spPr>
          <a:xfrm>
            <a:off x="1619280" y="2637000"/>
            <a:ext cx="1584360" cy="1584000"/>
          </a:xfrm>
          <a:prstGeom prst="rect">
            <a:avLst/>
          </a:prstGeom>
          <a:solidFill>
            <a:srgbClr val="f342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5508720" y="2637000"/>
            <a:ext cx="1871640" cy="1584000"/>
          </a:xfrm>
          <a:prstGeom prst="rect">
            <a:avLst/>
          </a:prstGeom>
          <a:solidFill>
            <a:srgbClr val="6705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3"/>
          <p:cNvGrpSpPr/>
          <p:nvPr/>
        </p:nvGrpSpPr>
        <p:grpSpPr>
          <a:xfrm>
            <a:off x="3276720" y="2637000"/>
            <a:ext cx="433440" cy="1584000"/>
            <a:chOff x="3276720" y="2637000"/>
            <a:chExt cx="433440" cy="1584000"/>
          </a:xfrm>
        </p:grpSpPr>
        <p:sp>
          <p:nvSpPr>
            <p:cNvPr id="74" name="Line 44"/>
            <p:cNvSpPr/>
            <p:nvPr/>
          </p:nvSpPr>
          <p:spPr>
            <a:xfrm>
              <a:off x="3276720" y="2637000"/>
              <a:ext cx="433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45"/>
            <p:cNvSpPr/>
            <p:nvPr/>
          </p:nvSpPr>
          <p:spPr>
            <a:xfrm>
              <a:off x="3276720" y="4221000"/>
              <a:ext cx="433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6"/>
            <p:cNvSpPr/>
            <p:nvPr/>
          </p:nvSpPr>
          <p:spPr>
            <a:xfrm>
              <a:off x="3493440" y="2637000"/>
              <a:ext cx="0" cy="1584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47"/>
            <p:cNvSpPr/>
            <p:nvPr/>
          </p:nvSpPr>
          <p:spPr>
            <a:xfrm>
              <a:off x="3276720" y="3196080"/>
              <a:ext cx="289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58"/>
          <p:cNvSpPr/>
          <p:nvPr/>
        </p:nvSpPr>
        <p:spPr>
          <a:xfrm>
            <a:off x="3203640" y="4221000"/>
            <a:ext cx="0" cy="287640"/>
          </a:xfrm>
          <a:prstGeom prst="line">
            <a:avLst/>
          </a:prstGeom>
          <a:ln w="28440">
            <a:solidFill>
              <a:srgbClr val="4203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9"/>
          <p:cNvSpPr/>
          <p:nvPr/>
        </p:nvSpPr>
        <p:spPr>
          <a:xfrm>
            <a:off x="1619280" y="4221000"/>
            <a:ext cx="0" cy="287640"/>
          </a:xfrm>
          <a:prstGeom prst="line">
            <a:avLst/>
          </a:prstGeom>
          <a:ln w="28440">
            <a:solidFill>
              <a:srgbClr val="4203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0"/>
          <p:cNvSpPr/>
          <p:nvPr/>
        </p:nvSpPr>
        <p:spPr>
          <a:xfrm>
            <a:off x="2627280" y="43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1"/>
          <p:cNvSpPr/>
          <p:nvPr/>
        </p:nvSpPr>
        <p:spPr>
          <a:xfrm flipH="1">
            <a:off x="1619280" y="4365720"/>
            <a:ext cx="504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2"/>
          <p:cNvSpPr/>
          <p:nvPr/>
        </p:nvSpPr>
        <p:spPr>
          <a:xfrm>
            <a:off x="2195640" y="4149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3"/>
          <p:cNvSpPr/>
          <p:nvPr/>
        </p:nvSpPr>
        <p:spPr>
          <a:xfrm>
            <a:off x="7380360" y="4221000"/>
            <a:ext cx="0" cy="360360"/>
          </a:xfrm>
          <a:prstGeom prst="line">
            <a:avLst/>
          </a:prstGeom>
          <a:ln w="28440">
            <a:solidFill>
              <a:srgbClr val="4203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4"/>
          <p:cNvSpPr/>
          <p:nvPr/>
        </p:nvSpPr>
        <p:spPr>
          <a:xfrm>
            <a:off x="5508720" y="4221000"/>
            <a:ext cx="0" cy="360360"/>
          </a:xfrm>
          <a:prstGeom prst="line">
            <a:avLst/>
          </a:prstGeom>
          <a:ln w="28440">
            <a:solidFill>
              <a:srgbClr val="4203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5"/>
          <p:cNvSpPr/>
          <p:nvPr/>
        </p:nvSpPr>
        <p:spPr>
          <a:xfrm>
            <a:off x="6588000" y="443700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6"/>
          <p:cNvSpPr/>
          <p:nvPr/>
        </p:nvSpPr>
        <p:spPr>
          <a:xfrm flipH="1">
            <a:off x="5508720" y="44370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7"/>
          <p:cNvSpPr/>
          <p:nvPr/>
        </p:nvSpPr>
        <p:spPr>
          <a:xfrm>
            <a:off x="6227640" y="414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8"/>
          <p:cNvSpPr/>
          <p:nvPr/>
        </p:nvSpPr>
        <p:spPr>
          <a:xfrm>
            <a:off x="3203640" y="692280"/>
            <a:ext cx="0" cy="287280"/>
          </a:xfrm>
          <a:prstGeom prst="line">
            <a:avLst/>
          </a:prstGeom>
          <a:ln w="28440">
            <a:solidFill>
              <a:srgbClr val="4203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9"/>
          <p:cNvSpPr/>
          <p:nvPr/>
        </p:nvSpPr>
        <p:spPr>
          <a:xfrm>
            <a:off x="1619280" y="692280"/>
            <a:ext cx="0" cy="287280"/>
          </a:xfrm>
          <a:prstGeom prst="line">
            <a:avLst/>
          </a:prstGeom>
          <a:ln w="28440">
            <a:solidFill>
              <a:srgbClr val="4203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0"/>
          <p:cNvSpPr/>
          <p:nvPr/>
        </p:nvSpPr>
        <p:spPr>
          <a:xfrm>
            <a:off x="2627280" y="83664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1"/>
          <p:cNvSpPr/>
          <p:nvPr/>
        </p:nvSpPr>
        <p:spPr>
          <a:xfrm flipH="1">
            <a:off x="1619280" y="836640"/>
            <a:ext cx="504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2"/>
          <p:cNvSpPr/>
          <p:nvPr/>
        </p:nvSpPr>
        <p:spPr>
          <a:xfrm>
            <a:off x="2195640" y="54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3"/>
          <p:cNvSpPr/>
          <p:nvPr/>
        </p:nvSpPr>
        <p:spPr>
          <a:xfrm>
            <a:off x="7380360" y="620640"/>
            <a:ext cx="0" cy="360360"/>
          </a:xfrm>
          <a:prstGeom prst="line">
            <a:avLst/>
          </a:prstGeom>
          <a:ln w="28440">
            <a:solidFill>
              <a:srgbClr val="4203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4"/>
          <p:cNvSpPr/>
          <p:nvPr/>
        </p:nvSpPr>
        <p:spPr>
          <a:xfrm>
            <a:off x="5508720" y="620640"/>
            <a:ext cx="0" cy="360360"/>
          </a:xfrm>
          <a:prstGeom prst="line">
            <a:avLst/>
          </a:prstGeom>
          <a:ln w="28440">
            <a:solidFill>
              <a:srgbClr val="4203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5"/>
          <p:cNvSpPr/>
          <p:nvPr/>
        </p:nvSpPr>
        <p:spPr>
          <a:xfrm>
            <a:off x="6588000" y="76500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6"/>
          <p:cNvSpPr/>
          <p:nvPr/>
        </p:nvSpPr>
        <p:spPr>
          <a:xfrm flipH="1">
            <a:off x="5508720" y="7650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7"/>
          <p:cNvSpPr/>
          <p:nvPr/>
        </p:nvSpPr>
        <p:spPr>
          <a:xfrm>
            <a:off x="6227640" y="5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8"/>
          <p:cNvSpPr/>
          <p:nvPr/>
        </p:nvSpPr>
        <p:spPr>
          <a:xfrm>
            <a:off x="3203640" y="1052640"/>
            <a:ext cx="3603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9"/>
          <p:cNvSpPr/>
          <p:nvPr/>
        </p:nvSpPr>
        <p:spPr>
          <a:xfrm>
            <a:off x="3203640" y="1844640"/>
            <a:ext cx="3603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0"/>
          <p:cNvSpPr/>
          <p:nvPr/>
        </p:nvSpPr>
        <p:spPr>
          <a:xfrm flipV="1">
            <a:off x="3348000" y="105228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1"/>
          <p:cNvSpPr/>
          <p:nvPr/>
        </p:nvSpPr>
        <p:spPr>
          <a:xfrm>
            <a:off x="3348000" y="162864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2"/>
          <p:cNvSpPr/>
          <p:nvPr/>
        </p:nvSpPr>
        <p:spPr>
          <a:xfrm>
            <a:off x="3203640" y="1197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3"/>
          <p:cNvSpPr/>
          <p:nvPr/>
        </p:nvSpPr>
        <p:spPr>
          <a:xfrm>
            <a:off x="7380360" y="981000"/>
            <a:ext cx="3603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4"/>
          <p:cNvSpPr/>
          <p:nvPr/>
        </p:nvSpPr>
        <p:spPr>
          <a:xfrm>
            <a:off x="7380360" y="1773360"/>
            <a:ext cx="3603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5"/>
          <p:cNvSpPr/>
          <p:nvPr/>
        </p:nvSpPr>
        <p:spPr>
          <a:xfrm flipV="1">
            <a:off x="7596360" y="981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6"/>
          <p:cNvSpPr/>
          <p:nvPr/>
        </p:nvSpPr>
        <p:spPr>
          <a:xfrm>
            <a:off x="7596360" y="155736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7"/>
          <p:cNvSpPr/>
          <p:nvPr/>
        </p:nvSpPr>
        <p:spPr>
          <a:xfrm>
            <a:off x="7451640" y="1125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8"/>
          <p:cNvSpPr/>
          <p:nvPr/>
        </p:nvSpPr>
        <p:spPr>
          <a:xfrm>
            <a:off x="6732720" y="52354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2"/>
          <p:cNvSpPr/>
          <p:nvPr/>
        </p:nvSpPr>
        <p:spPr>
          <a:xfrm>
            <a:off x="1324800" y="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板块二探索多项式乘多项式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11006 L -1.11111E-006 0.1311 E">
                                      <p:cBhvr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11006 L 1.94444E-006 0.1311 E">
                                      <p:cBhvr>
                                        <p:cTn id="4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11006 L -5.55556E-007 0.1311 E">
                                      <p:cBhvr>
                                        <p:cTn id="4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11006 L 4.72222E-006 0.13109 E">
                                      <p:cBhvr>
                                        <p:cTn id="4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0.11006 L -2.77778E-007 0.13109 E">
                                      <p:cBhvr>
                                        <p:cTn id="4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11006 L 3.05556E-006 0.1311 E">
                                      <p:cBhvr>
                                        <p:cTn id="5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11006 L 3.88889E-006 0.1311 E">
                                      <p:cBhvr>
                                        <p:cTn id="5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11006 L 3.88889E-006 0.13109 E">
                                      <p:cBhvr>
                                        <p:cTn id="5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11006 L 8.33333E-007 0.1311 E">
                                      <p:cBhvr>
                                        <p:cTn id="5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11005 L 8.33333E-007 0.1311 E">
                                      <p:cBhvr>
                                        <p:cTn id="5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0.11006 L 1.38889E-006 0.1311 E">
                                      <p:cBhvr>
                                        <p:cTn id="6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 E">
                                      <p:cBhvr>
                                        <p:cTn id="6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 E">
                                      <p:cBhvr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 E">
                                      <p:cBhvr>
                                        <p:cTn id="6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 E">
                                      <p:cBhvr>
                                        <p:cTn id="7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 E">
                                      <p:cBhvr>
                                        <p:cTn id="7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 E">
                                      <p:cBhvr>
                                        <p:cTn id="7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 E">
                                      <p:cBhvr>
                                        <p:cTn id="7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.11538 E">
                                      <p:cBhvr>
                                        <p:cTn id="8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.11538 E">
                                      <p:cBhvr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.11538 E">
                                      <p:cBhvr>
                                        <p:cTn id="8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.11538 E">
                                      <p:cBhvr>
                                        <p:cTn id="8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.11538 E">
                                      <p:cBhvr>
                                        <p:cTn id="8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.11538 E">
                                      <p:cBhvr>
                                        <p:cTn id="9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.11538 E">
                                      <p:cBhvr>
                                        <p:cTn id="92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.11538 E">
                                      <p:cBhvr>
                                        <p:cTn id="9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.11538 E">
                                      <p:cBhvr>
                                        <p:cTn id="9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.11538 E">
                                      <p:cBhvr>
                                        <p:cTn id="9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208 0.11538 E">
                                      <p:cBhvr>
                                        <p:cTn id="10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3"/>
          <p:cNvGrpSpPr/>
          <p:nvPr/>
        </p:nvGrpSpPr>
        <p:grpSpPr>
          <a:xfrm>
            <a:off x="7451640" y="2637000"/>
            <a:ext cx="433440" cy="1584000"/>
            <a:chOff x="7451640" y="2637000"/>
            <a:chExt cx="433440" cy="1584000"/>
          </a:xfrm>
        </p:grpSpPr>
        <p:sp>
          <p:nvSpPr>
            <p:cNvPr id="111" name="Line 4"/>
            <p:cNvSpPr/>
            <p:nvPr/>
          </p:nvSpPr>
          <p:spPr>
            <a:xfrm>
              <a:off x="7451640" y="2637000"/>
              <a:ext cx="433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"/>
            <p:cNvSpPr/>
            <p:nvPr/>
          </p:nvSpPr>
          <p:spPr>
            <a:xfrm>
              <a:off x="7451640" y="4221000"/>
              <a:ext cx="433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>
              <a:off x="7668360" y="2637000"/>
              <a:ext cx="0" cy="1584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7451640" y="3196080"/>
              <a:ext cx="289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11"/>
          <p:cNvSpPr/>
          <p:nvPr/>
        </p:nvSpPr>
        <p:spPr>
          <a:xfrm>
            <a:off x="3924360" y="1844640"/>
            <a:ext cx="1584360" cy="792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5508720" y="1844640"/>
            <a:ext cx="1873080" cy="792360"/>
          </a:xfrm>
          <a:prstGeom prst="rect">
            <a:avLst/>
          </a:prstGeom>
          <a:solidFill>
            <a:srgbClr val="fffa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924360" y="2637000"/>
            <a:ext cx="1584360" cy="1584000"/>
          </a:xfrm>
          <a:prstGeom prst="rect">
            <a:avLst/>
          </a:prstGeom>
          <a:solidFill>
            <a:srgbClr val="f342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508720" y="2637000"/>
            <a:ext cx="1871640" cy="1584000"/>
          </a:xfrm>
          <a:prstGeom prst="rect">
            <a:avLst/>
          </a:prstGeom>
          <a:solidFill>
            <a:srgbClr val="6705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3924360" y="4221000"/>
            <a:ext cx="0" cy="287640"/>
          </a:xfrm>
          <a:prstGeom prst="line">
            <a:avLst/>
          </a:prstGeom>
          <a:ln w="28440">
            <a:solidFill>
              <a:srgbClr val="4203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4572000" y="4149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>
            <a:off x="7380360" y="4221000"/>
            <a:ext cx="0" cy="360360"/>
          </a:xfrm>
          <a:prstGeom prst="line">
            <a:avLst/>
          </a:prstGeom>
          <a:ln w="28440">
            <a:solidFill>
              <a:srgbClr val="4203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5508720" y="4221000"/>
            <a:ext cx="0" cy="360360"/>
          </a:xfrm>
          <a:prstGeom prst="line">
            <a:avLst/>
          </a:prstGeom>
          <a:ln w="28440">
            <a:solidFill>
              <a:srgbClr val="4203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7"/>
          <p:cNvSpPr/>
          <p:nvPr/>
        </p:nvSpPr>
        <p:spPr>
          <a:xfrm>
            <a:off x="6588000" y="443700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8"/>
          <p:cNvSpPr/>
          <p:nvPr/>
        </p:nvSpPr>
        <p:spPr>
          <a:xfrm flipH="1">
            <a:off x="5508720" y="44370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6227640" y="414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9"/>
          <p:cNvSpPr/>
          <p:nvPr/>
        </p:nvSpPr>
        <p:spPr>
          <a:xfrm>
            <a:off x="7451640" y="198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420b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1"/>
          <p:cNvSpPr/>
          <p:nvPr/>
        </p:nvSpPr>
        <p:spPr>
          <a:xfrm flipH="1">
            <a:off x="3924000" y="443700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2"/>
          <p:cNvSpPr/>
          <p:nvPr/>
        </p:nvSpPr>
        <p:spPr>
          <a:xfrm>
            <a:off x="4932360" y="443700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3"/>
          <p:cNvSpPr/>
          <p:nvPr/>
        </p:nvSpPr>
        <p:spPr>
          <a:xfrm>
            <a:off x="7380360" y="1844640"/>
            <a:ext cx="50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4"/>
          <p:cNvSpPr/>
          <p:nvPr/>
        </p:nvSpPr>
        <p:spPr>
          <a:xfrm flipV="1">
            <a:off x="7667640" y="1844280"/>
            <a:ext cx="0" cy="28908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5"/>
          <p:cNvSpPr/>
          <p:nvPr/>
        </p:nvSpPr>
        <p:spPr>
          <a:xfrm>
            <a:off x="7667640" y="2349360"/>
            <a:ext cx="0" cy="28764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1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1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1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1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1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2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2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2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2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2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3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35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3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3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4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4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-0.24116 E">
                                      <p:cBhvr>
                                        <p:cTn id="14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8"/>
          <p:cNvSpPr/>
          <p:nvPr/>
        </p:nvSpPr>
        <p:spPr>
          <a:xfrm>
            <a:off x="971640" y="5938920"/>
            <a:ext cx="6985080" cy="641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5867280" y="981000"/>
            <a:ext cx="433440" cy="1584360"/>
            <a:chOff x="5867280" y="981000"/>
            <a:chExt cx="433440" cy="1584360"/>
          </a:xfrm>
        </p:grpSpPr>
        <p:sp>
          <p:nvSpPr>
            <p:cNvPr id="134" name="Line 3"/>
            <p:cNvSpPr/>
            <p:nvPr/>
          </p:nvSpPr>
          <p:spPr>
            <a:xfrm>
              <a:off x="5867280" y="981000"/>
              <a:ext cx="433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"/>
            <p:cNvSpPr/>
            <p:nvPr/>
          </p:nvSpPr>
          <p:spPr>
            <a:xfrm>
              <a:off x="5867280" y="2565360"/>
              <a:ext cx="433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"/>
            <p:cNvSpPr/>
            <p:nvPr/>
          </p:nvSpPr>
          <p:spPr>
            <a:xfrm>
              <a:off x="6084000" y="981000"/>
              <a:ext cx="0" cy="15843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6"/>
            <p:cNvSpPr/>
            <p:nvPr/>
          </p:nvSpPr>
          <p:spPr>
            <a:xfrm>
              <a:off x="5867280" y="1540080"/>
              <a:ext cx="289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7"/>
          <p:cNvSpPr/>
          <p:nvPr/>
        </p:nvSpPr>
        <p:spPr>
          <a:xfrm>
            <a:off x="2340000" y="189000"/>
            <a:ext cx="1584360" cy="792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924360" y="189000"/>
            <a:ext cx="1873080" cy="792000"/>
          </a:xfrm>
          <a:prstGeom prst="rect">
            <a:avLst/>
          </a:prstGeom>
          <a:solidFill>
            <a:srgbClr val="fffa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340000" y="981000"/>
            <a:ext cx="1584360" cy="1584360"/>
          </a:xfrm>
          <a:prstGeom prst="rect">
            <a:avLst/>
          </a:prstGeom>
          <a:solidFill>
            <a:srgbClr val="f342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924360" y="981000"/>
            <a:ext cx="1871640" cy="1584360"/>
          </a:xfrm>
          <a:prstGeom prst="rect">
            <a:avLst/>
          </a:prstGeom>
          <a:solidFill>
            <a:srgbClr val="6705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2340000" y="2565360"/>
            <a:ext cx="0" cy="287280"/>
          </a:xfrm>
          <a:prstGeom prst="line">
            <a:avLst/>
          </a:prstGeom>
          <a:ln w="28440">
            <a:solidFill>
              <a:srgbClr val="4203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987640" y="24940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5796000" y="2565360"/>
            <a:ext cx="0" cy="360360"/>
          </a:xfrm>
          <a:prstGeom prst="line">
            <a:avLst/>
          </a:prstGeom>
          <a:ln w="28440">
            <a:solidFill>
              <a:srgbClr val="4203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3924360" y="2565360"/>
            <a:ext cx="0" cy="360360"/>
          </a:xfrm>
          <a:prstGeom prst="line">
            <a:avLst/>
          </a:prstGeom>
          <a:ln w="28440">
            <a:solidFill>
              <a:srgbClr val="4203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5003640" y="278136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6"/>
          <p:cNvSpPr/>
          <p:nvPr/>
        </p:nvSpPr>
        <p:spPr>
          <a:xfrm flipH="1">
            <a:off x="3924360" y="278136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643280" y="2494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867280" y="333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420b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2339640" y="278136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3348000" y="278136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5796000" y="189000"/>
            <a:ext cx="50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"/>
          <p:cNvSpPr/>
          <p:nvPr/>
        </p:nvSpPr>
        <p:spPr>
          <a:xfrm flipV="1">
            <a:off x="6083280" y="189000"/>
            <a:ext cx="0" cy="28872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6083280" y="693720"/>
            <a:ext cx="0" cy="28728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8"/>
          <p:cNvSpPr/>
          <p:nvPr/>
        </p:nvSpPr>
        <p:spPr>
          <a:xfrm>
            <a:off x="0" y="2997360"/>
            <a:ext cx="914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把它看成由四个小长方形组成，那么它的面积可表示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4913280" y="587700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ac+bc+ad+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4"/>
          <p:cNvGrpSpPr/>
          <p:nvPr/>
        </p:nvGrpSpPr>
        <p:grpSpPr>
          <a:xfrm>
            <a:off x="3465360" y="6213600"/>
            <a:ext cx="1143000" cy="152280"/>
            <a:chOff x="3465360" y="6213600"/>
            <a:chExt cx="1143000" cy="152280"/>
          </a:xfrm>
        </p:grpSpPr>
        <p:sp>
          <p:nvSpPr>
            <p:cNvPr id="158" name="Line 35"/>
            <p:cNvSpPr/>
            <p:nvPr/>
          </p:nvSpPr>
          <p:spPr>
            <a:xfrm>
              <a:off x="3465360" y="6213600"/>
              <a:ext cx="1143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6"/>
            <p:cNvSpPr/>
            <p:nvPr/>
          </p:nvSpPr>
          <p:spPr>
            <a:xfrm>
              <a:off x="3465360" y="6365880"/>
              <a:ext cx="1143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37"/>
          <p:cNvSpPr/>
          <p:nvPr/>
        </p:nvSpPr>
        <p:spPr>
          <a:xfrm>
            <a:off x="971640" y="59389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(a+b)(c+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3708360" y="3573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c+bc+ad+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9"/>
          <p:cNvSpPr/>
          <p:nvPr/>
        </p:nvSpPr>
        <p:spPr>
          <a:xfrm>
            <a:off x="0" y="4210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把它看成一个大长方形，那么它的边长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面积可表示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____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0"/>
          <p:cNvSpPr/>
          <p:nvPr/>
        </p:nvSpPr>
        <p:spPr>
          <a:xfrm>
            <a:off x="1116000" y="479736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c+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1"/>
          <p:cNvSpPr/>
          <p:nvPr/>
        </p:nvSpPr>
        <p:spPr>
          <a:xfrm>
            <a:off x="6516720" y="4724280"/>
            <a:ext cx="21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(a+b)(c+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2"/>
          <p:cNvSpPr/>
          <p:nvPr/>
        </p:nvSpPr>
        <p:spPr>
          <a:xfrm>
            <a:off x="2771640" y="4724280"/>
            <a:ext cx="9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8"/>
          <p:cNvSpPr/>
          <p:nvPr/>
        </p:nvSpPr>
        <p:spPr>
          <a:xfrm>
            <a:off x="971640" y="2489040"/>
            <a:ext cx="217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(a+b)(c+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9"/>
          <p:cNvGrpSpPr/>
          <p:nvPr/>
        </p:nvGrpSpPr>
        <p:grpSpPr>
          <a:xfrm>
            <a:off x="3348000" y="2709720"/>
            <a:ext cx="1143000" cy="152640"/>
            <a:chOff x="3348000" y="2709720"/>
            <a:chExt cx="1143000" cy="152640"/>
          </a:xfrm>
        </p:grpSpPr>
        <p:sp>
          <p:nvSpPr>
            <p:cNvPr id="168" name="Line 10"/>
            <p:cNvSpPr/>
            <p:nvPr/>
          </p:nvSpPr>
          <p:spPr>
            <a:xfrm>
              <a:off x="3348000" y="2709720"/>
              <a:ext cx="1143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>
              <a:off x="3348000" y="2862360"/>
              <a:ext cx="1143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5"/>
          <p:cNvSpPr/>
          <p:nvPr/>
        </p:nvSpPr>
        <p:spPr>
          <a:xfrm>
            <a:off x="5724360" y="306864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6300720" y="306864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6659640" y="3068640"/>
            <a:ext cx="8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4859280" y="30686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5435640" y="306864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4067280" y="184464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根据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单项式乘多项式法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4913280" y="603108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ac+bc+ad+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27"/>
          <p:cNvGrpSpPr/>
          <p:nvPr/>
        </p:nvGrpSpPr>
        <p:grpSpPr>
          <a:xfrm>
            <a:off x="3465360" y="6367320"/>
            <a:ext cx="1143000" cy="152640"/>
            <a:chOff x="3465360" y="6367320"/>
            <a:chExt cx="1143000" cy="152640"/>
          </a:xfrm>
        </p:grpSpPr>
        <p:sp>
          <p:nvSpPr>
            <p:cNvPr id="178" name="Line 28"/>
            <p:cNvSpPr/>
            <p:nvPr/>
          </p:nvSpPr>
          <p:spPr>
            <a:xfrm>
              <a:off x="3465360" y="6367320"/>
              <a:ext cx="1143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9"/>
            <p:cNvSpPr/>
            <p:nvPr/>
          </p:nvSpPr>
          <p:spPr>
            <a:xfrm>
              <a:off x="3465360" y="6519960"/>
              <a:ext cx="1143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30"/>
          <p:cNvSpPr/>
          <p:nvPr/>
        </p:nvSpPr>
        <p:spPr>
          <a:xfrm>
            <a:off x="971640" y="609300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(a+b)(c+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1"/>
          <p:cNvSpPr/>
          <p:nvPr/>
        </p:nvSpPr>
        <p:spPr>
          <a:xfrm>
            <a:off x="7596360" y="30686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7236000" y="306864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rc 34"/>
          <p:cNvSpPr/>
          <p:nvPr/>
        </p:nvSpPr>
        <p:spPr>
          <a:xfrm rot="7432200">
            <a:off x="1589400" y="2667600"/>
            <a:ext cx="739800" cy="900000"/>
          </a:xfrm>
          <a:custGeom>
            <a:avLst/>
            <a:gdLst>
              <a:gd name="textAreaLeft" fmla="*/ 0 w 739800"/>
              <a:gd name="textAreaRight" fmla="*/ 740160 w 7398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fill="none" w="21600" h="2294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049"/>
                  <a:pt x="21585" y="22499"/>
                  <a:pt x="21557" y="22948"/>
                </a:cubicBezTo>
              </a:path>
              <a:path stroke="0" w="21600" h="2294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049"/>
                  <a:pt x="21585" y="22499"/>
                  <a:pt x="21557" y="2294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5"/>
          <p:cNvSpPr/>
          <p:nvPr/>
        </p:nvSpPr>
        <p:spPr>
          <a:xfrm>
            <a:off x="2050920" y="306864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rc 36"/>
          <p:cNvSpPr/>
          <p:nvPr/>
        </p:nvSpPr>
        <p:spPr>
          <a:xfrm flipH="1" flipV="1" rot="21128400">
            <a:off x="1835640" y="3041640"/>
            <a:ext cx="639720" cy="243000"/>
          </a:xfrm>
          <a:custGeom>
            <a:avLst/>
            <a:gdLst>
              <a:gd name="textAreaLeft" fmla="*/ -360 w 639720"/>
              <a:gd name="textAreaRight" fmla="*/ 639720 w 639720"/>
              <a:gd name="textAreaTop" fmla="*/ -360 h 243000"/>
              <a:gd name="textAreaBottom" fmla="*/ 243000 h 243000"/>
            </a:gdLst>
            <a:ahLst/>
            <a:rect l="textAreaLeft" t="textAreaTop" r="textAreaRight" b="textAreaBottom"/>
            <a:pathLst>
              <a:path fill="none" w="41533" h="25604">
                <a:moveTo>
                  <a:pt x="0" y="13279"/>
                </a:moveTo>
                <a:cubicBezTo>
                  <a:pt x="3357" y="5236"/>
                  <a:pt x="11218" y="-1"/>
                  <a:pt x="19933" y="0"/>
                </a:cubicBezTo>
                <a:cubicBezTo>
                  <a:pt x="31862" y="0"/>
                  <a:pt x="41533" y="9670"/>
                  <a:pt x="41533" y="21600"/>
                </a:cubicBezTo>
                <a:cubicBezTo>
                  <a:pt x="41533" y="22943"/>
                  <a:pt x="41407" y="24283"/>
                  <a:pt x="41158" y="25603"/>
                </a:cubicBezTo>
              </a:path>
              <a:path stroke="0" w="41533" h="25604">
                <a:moveTo>
                  <a:pt x="0" y="13279"/>
                </a:moveTo>
                <a:cubicBezTo>
                  <a:pt x="3357" y="5236"/>
                  <a:pt x="11218" y="-1"/>
                  <a:pt x="19933" y="0"/>
                </a:cubicBezTo>
                <a:cubicBezTo>
                  <a:pt x="31862" y="0"/>
                  <a:pt x="41533" y="9670"/>
                  <a:pt x="41533" y="21600"/>
                </a:cubicBezTo>
                <a:cubicBezTo>
                  <a:pt x="41533" y="22943"/>
                  <a:pt x="41407" y="24283"/>
                  <a:pt x="41158" y="25603"/>
                </a:cubicBezTo>
                <a:lnTo>
                  <a:pt x="19933" y="21600"/>
                </a:lnTo>
                <a:lnTo>
                  <a:pt x="0" y="1327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7"/>
          <p:cNvGrpSpPr/>
          <p:nvPr/>
        </p:nvGrpSpPr>
        <p:grpSpPr>
          <a:xfrm>
            <a:off x="3348000" y="3357720"/>
            <a:ext cx="1143000" cy="152280"/>
            <a:chOff x="3348000" y="3357720"/>
            <a:chExt cx="1143000" cy="152280"/>
          </a:xfrm>
        </p:grpSpPr>
        <p:sp>
          <p:nvSpPr>
            <p:cNvPr id="187" name="Line 38"/>
            <p:cNvSpPr/>
            <p:nvPr/>
          </p:nvSpPr>
          <p:spPr>
            <a:xfrm>
              <a:off x="3348000" y="3357720"/>
              <a:ext cx="1143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9"/>
            <p:cNvSpPr/>
            <p:nvPr/>
          </p:nvSpPr>
          <p:spPr>
            <a:xfrm>
              <a:off x="3348000" y="3510000"/>
              <a:ext cx="1143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40"/>
          <p:cNvSpPr/>
          <p:nvPr/>
        </p:nvSpPr>
        <p:spPr>
          <a:xfrm>
            <a:off x="4859280" y="2427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a(c+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1"/>
          <p:cNvSpPr/>
          <p:nvPr/>
        </p:nvSpPr>
        <p:spPr>
          <a:xfrm>
            <a:off x="6588000" y="2427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b(c+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2"/>
          <p:cNvSpPr/>
          <p:nvPr/>
        </p:nvSpPr>
        <p:spPr>
          <a:xfrm>
            <a:off x="6285960" y="2427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3"/>
          <p:cNvSpPr/>
          <p:nvPr/>
        </p:nvSpPr>
        <p:spPr>
          <a:xfrm>
            <a:off x="4822920" y="3645000"/>
            <a:ext cx="34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根据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乘法的分配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83908 E">
                                      <p:cBhvr>
                                        <p:cTn id="19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4509E-006 L -1.66667E-006 -0.83908 E">
                                      <p:cBhvr>
                                        <p:cTn id="196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2948E-006 L 0.00504 -0.82428 E">
                                      <p:cBhvr>
                                        <p:cTn id="198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971640" y="2647800"/>
            <a:ext cx="217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(a+b)(c+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724360" y="258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300720" y="265104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6659640" y="2585880"/>
            <a:ext cx="8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4859280" y="2585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5435640" y="265104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4788000" y="260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ac+bc+ad+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3"/>
          <p:cNvGrpSpPr/>
          <p:nvPr/>
        </p:nvGrpSpPr>
        <p:grpSpPr>
          <a:xfrm>
            <a:off x="3492360" y="620640"/>
            <a:ext cx="1143000" cy="152640"/>
            <a:chOff x="3492360" y="620640"/>
            <a:chExt cx="1143000" cy="152640"/>
          </a:xfrm>
        </p:grpSpPr>
        <p:sp>
          <p:nvSpPr>
            <p:cNvPr id="201" name="Line 14"/>
            <p:cNvSpPr/>
            <p:nvPr/>
          </p:nvSpPr>
          <p:spPr>
            <a:xfrm>
              <a:off x="3492360" y="620640"/>
              <a:ext cx="1143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5"/>
            <p:cNvSpPr/>
            <p:nvPr/>
          </p:nvSpPr>
          <p:spPr>
            <a:xfrm>
              <a:off x="3492360" y="773280"/>
              <a:ext cx="1143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6"/>
          <p:cNvSpPr/>
          <p:nvPr/>
        </p:nvSpPr>
        <p:spPr>
          <a:xfrm>
            <a:off x="1042920" y="33336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(a+b)(c+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7596360" y="2585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236000" y="265104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rc 19"/>
          <p:cNvSpPr/>
          <p:nvPr/>
        </p:nvSpPr>
        <p:spPr>
          <a:xfrm rot="18016800">
            <a:off x="1641960" y="2257560"/>
            <a:ext cx="739800" cy="1208160"/>
          </a:xfrm>
          <a:custGeom>
            <a:avLst/>
            <a:gdLst>
              <a:gd name="textAreaLeft" fmla="*/ 0 w 739800"/>
              <a:gd name="textAreaRight" fmla="*/ 740160 w 739800"/>
              <a:gd name="textAreaTop" fmla="*/ 0 h 1208160"/>
              <a:gd name="textAreaBottom" fmla="*/ 1208520 h 1208160"/>
            </a:gdLst>
            <a:ahLst/>
            <a:rect l="textAreaLeft" t="textAreaTop" r="textAreaRight" b="textAreaBottom"/>
            <a:pathLst>
              <a:path fill="none" w="21600" h="22413">
                <a:moveTo>
                  <a:pt x="1625" y="0"/>
                </a:moveTo>
                <a:cubicBezTo>
                  <a:pt x="12892" y="850"/>
                  <a:pt x="21600" y="10240"/>
                  <a:pt x="21600" y="21539"/>
                </a:cubicBezTo>
                <a:cubicBezTo>
                  <a:pt x="21600" y="21830"/>
                  <a:pt x="21594" y="22121"/>
                  <a:pt x="21582" y="22413"/>
                </a:cubicBezTo>
              </a:path>
              <a:path stroke="0" w="21600" h="22413">
                <a:moveTo>
                  <a:pt x="1625" y="0"/>
                </a:moveTo>
                <a:cubicBezTo>
                  <a:pt x="12892" y="850"/>
                  <a:pt x="21600" y="10240"/>
                  <a:pt x="21600" y="21539"/>
                </a:cubicBezTo>
                <a:cubicBezTo>
                  <a:pt x="21600" y="21830"/>
                  <a:pt x="21594" y="22121"/>
                  <a:pt x="21582" y="22413"/>
                </a:cubicBezTo>
                <a:lnTo>
                  <a:pt x="0" y="21539"/>
                </a:lnTo>
                <a:lnTo>
                  <a:pt x="1625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rc 21"/>
          <p:cNvSpPr/>
          <p:nvPr/>
        </p:nvSpPr>
        <p:spPr>
          <a:xfrm flipH="1" flipV="1" rot="10509000">
            <a:off x="1331280" y="2638080"/>
            <a:ext cx="936360" cy="298440"/>
          </a:xfrm>
          <a:custGeom>
            <a:avLst/>
            <a:gdLst>
              <a:gd name="textAreaLeft" fmla="*/ -360 w 936360"/>
              <a:gd name="textAreaRight" fmla="*/ 936360 w 93636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fill="none" w="41533" h="25604">
                <a:moveTo>
                  <a:pt x="0" y="13279"/>
                </a:moveTo>
                <a:cubicBezTo>
                  <a:pt x="3357" y="5236"/>
                  <a:pt x="11218" y="-1"/>
                  <a:pt x="19933" y="0"/>
                </a:cubicBezTo>
                <a:cubicBezTo>
                  <a:pt x="31862" y="0"/>
                  <a:pt x="41533" y="9670"/>
                  <a:pt x="41533" y="21600"/>
                </a:cubicBezTo>
                <a:cubicBezTo>
                  <a:pt x="41533" y="22943"/>
                  <a:pt x="41407" y="24283"/>
                  <a:pt x="41158" y="25603"/>
                </a:cubicBezTo>
              </a:path>
              <a:path stroke="0" w="41533" h="25604">
                <a:moveTo>
                  <a:pt x="0" y="13279"/>
                </a:moveTo>
                <a:cubicBezTo>
                  <a:pt x="3357" y="5236"/>
                  <a:pt x="11218" y="-1"/>
                  <a:pt x="19933" y="0"/>
                </a:cubicBezTo>
                <a:cubicBezTo>
                  <a:pt x="31862" y="0"/>
                  <a:pt x="41533" y="9670"/>
                  <a:pt x="41533" y="21600"/>
                </a:cubicBezTo>
                <a:cubicBezTo>
                  <a:pt x="41533" y="22943"/>
                  <a:pt x="41407" y="24283"/>
                  <a:pt x="41158" y="25603"/>
                </a:cubicBezTo>
                <a:lnTo>
                  <a:pt x="19933" y="21600"/>
                </a:lnTo>
                <a:lnTo>
                  <a:pt x="0" y="1327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2"/>
          <p:cNvGrpSpPr/>
          <p:nvPr/>
        </p:nvGrpSpPr>
        <p:grpSpPr>
          <a:xfrm>
            <a:off x="3419640" y="2868480"/>
            <a:ext cx="1143000" cy="152640"/>
            <a:chOff x="3419640" y="2868480"/>
            <a:chExt cx="1143000" cy="152640"/>
          </a:xfrm>
        </p:grpSpPr>
        <p:sp>
          <p:nvSpPr>
            <p:cNvPr id="209" name="Line 23"/>
            <p:cNvSpPr/>
            <p:nvPr/>
          </p:nvSpPr>
          <p:spPr>
            <a:xfrm>
              <a:off x="3419640" y="2868480"/>
              <a:ext cx="1143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4"/>
            <p:cNvSpPr/>
            <p:nvPr/>
          </p:nvSpPr>
          <p:spPr>
            <a:xfrm>
              <a:off x="3419640" y="3021120"/>
              <a:ext cx="1143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29"/>
          <p:cNvSpPr/>
          <p:nvPr/>
        </p:nvSpPr>
        <p:spPr>
          <a:xfrm>
            <a:off x="25092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个运算过程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也可以表示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rc 30"/>
          <p:cNvSpPr/>
          <p:nvPr/>
        </p:nvSpPr>
        <p:spPr>
          <a:xfrm flipV="1">
            <a:off x="1733400" y="3083760"/>
            <a:ext cx="534960" cy="142920"/>
          </a:xfrm>
          <a:custGeom>
            <a:avLst/>
            <a:gdLst>
              <a:gd name="textAreaLeft" fmla="*/ 0 w 534960"/>
              <a:gd name="textAreaRight" fmla="*/ 535320 w 53496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fill="none" w="42581" h="21600">
                <a:moveTo>
                  <a:pt x="-1" y="16466"/>
                </a:moveTo>
                <a:cubicBezTo>
                  <a:pt x="2364" y="6799"/>
                  <a:pt x="11028" y="-1"/>
                  <a:pt x="20981" y="0"/>
                </a:cubicBezTo>
                <a:cubicBezTo>
                  <a:pt x="32910" y="0"/>
                  <a:pt x="42581" y="9670"/>
                  <a:pt x="42581" y="21600"/>
                </a:cubicBezTo>
              </a:path>
              <a:path stroke="0" w="42581" h="21600">
                <a:moveTo>
                  <a:pt x="-1" y="16466"/>
                </a:moveTo>
                <a:cubicBezTo>
                  <a:pt x="2364" y="6799"/>
                  <a:pt x="11028" y="-1"/>
                  <a:pt x="20981" y="0"/>
                </a:cubicBezTo>
                <a:cubicBezTo>
                  <a:pt x="32910" y="0"/>
                  <a:pt x="42581" y="9670"/>
                  <a:pt x="42581" y="21600"/>
                </a:cubicBezTo>
                <a:lnTo>
                  <a:pt x="20981" y="21600"/>
                </a:lnTo>
                <a:lnTo>
                  <a:pt x="-1" y="16466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rc 31"/>
          <p:cNvSpPr/>
          <p:nvPr/>
        </p:nvSpPr>
        <p:spPr>
          <a:xfrm flipV="1">
            <a:off x="1763640" y="3010680"/>
            <a:ext cx="1008000" cy="430200"/>
          </a:xfrm>
          <a:custGeom>
            <a:avLst/>
            <a:gdLst>
              <a:gd name="textAreaLeft" fmla="*/ 0 w 1008000"/>
              <a:gd name="textAreaRight" fmla="*/ 1008360 w 1008000"/>
              <a:gd name="textAreaTop" fmla="*/ -360 h 430200"/>
              <a:gd name="textAreaBottom" fmla="*/ 430200 h 430200"/>
            </a:gdLst>
            <a:ahLst/>
            <a:rect l="textAreaLeft" t="textAreaTop" r="textAreaRight" b="textAreaBottom"/>
            <a:pathLst>
              <a:path fill="none" w="41035" h="21600">
                <a:moveTo>
                  <a:pt x="-1" y="13686"/>
                </a:moveTo>
                <a:cubicBezTo>
                  <a:pt x="3251" y="5428"/>
                  <a:pt x="11222" y="-1"/>
                  <a:pt x="20098" y="0"/>
                </a:cubicBezTo>
                <a:cubicBezTo>
                  <a:pt x="29981" y="0"/>
                  <a:pt x="38604" y="6708"/>
                  <a:pt x="41034" y="16288"/>
                </a:cubicBezTo>
              </a:path>
              <a:path stroke="0" w="41035" h="21600">
                <a:moveTo>
                  <a:pt x="-1" y="13686"/>
                </a:moveTo>
                <a:cubicBezTo>
                  <a:pt x="3251" y="5428"/>
                  <a:pt x="11222" y="-1"/>
                  <a:pt x="20098" y="0"/>
                </a:cubicBezTo>
                <a:cubicBezTo>
                  <a:pt x="29981" y="0"/>
                  <a:pt x="38604" y="6708"/>
                  <a:pt x="41034" y="16288"/>
                </a:cubicBezTo>
                <a:lnTo>
                  <a:pt x="20098" y="21600"/>
                </a:lnTo>
                <a:lnTo>
                  <a:pt x="-1" y="13686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250920" y="3716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何进行多项式乘多项式的运算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287280" y="4508640"/>
            <a:ext cx="8317080" cy="642600"/>
          </a:xfrm>
          <a:prstGeom prst="rect">
            <a:avLst/>
          </a:prstGeom>
          <a:solidFill>
            <a:srgbClr val="fffa32"/>
          </a:solid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项式与多项式相乘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用一个多项式的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每一项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乘另一个多项式的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每一项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把所得的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积相加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468360" y="1628640"/>
            <a:ext cx="8388360" cy="642600"/>
          </a:xfrm>
          <a:prstGeom prst="rect">
            <a:avLst/>
          </a:prstGeom>
          <a:solidFill>
            <a:srgbClr val="fffa32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多项式与多项式相乘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先用一个多项式的每一项乘另一个多项式的每一项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再把所得的积相加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195640" y="62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华文中宋"/>
              </a:rPr>
              <a:t>多项式乘多项式的法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95280" y="2492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468360" y="5805360"/>
            <a:ext cx="818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428472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0" y="4221000"/>
            <a:ext cx="8675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0" y="5013360"/>
            <a:ext cx="9144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1042920" y="414972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a+b)(c+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4000680" y="4149720"/>
            <a:ext cx="34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c+bc+ad+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471840" y="4076640"/>
            <a:ext cx="62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2:11:08Z</dcterms:created>
  <dc:creator>zhm</dc:creator>
  <dc:description/>
  <dc:language>en-US</dc:language>
  <cp:lastModifiedBy>微软用户</cp:lastModifiedBy>
  <dcterms:modified xsi:type="dcterms:W3CDTF">2019-03-20T10:38:51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