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931-0B87-4908-A3A8-EB25CE81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876-6728-4710-A61D-59993765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869-11D7-4B37-86F7-CDBCED29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1FB-D458-4C8E-ABD7-45B23A60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E15-0ED2-4DD1-BF2D-A244F386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4B0-47DF-4C8C-B9F1-227188BB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8D2-E2D3-4C53-B541-337E0AD1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5E7-BBDF-4B9B-BBC4-73EF060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58F-4074-4483-94E7-0F798190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907-DA0E-4C2E-B049-3894DF47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140-2D39-41E0-84FB-F26A5BF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55E-6D46-4E1F-B552-3AA2092E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FA8F-F10C-45FD-B73E-9AAEF81DF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6"/>
          <p:cNvPicPr/>
          <p:nvPr/>
        </p:nvPicPr>
        <p:blipFill>
          <a:blip r:embed="rId1"/>
          <a:stretch/>
        </p:blipFill>
        <p:spPr>
          <a:xfrm>
            <a:off x="0" y="-3467160"/>
            <a:ext cx="9144000" cy="1032516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3" descr=""/>
          <p:cNvPicPr/>
          <p:nvPr/>
        </p:nvPicPr>
        <p:blipFill>
          <a:blip r:embed="rId2"/>
          <a:stretch/>
        </p:blipFill>
        <p:spPr>
          <a:xfrm>
            <a:off x="1536840" y="1554120"/>
            <a:ext cx="6138720" cy="211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4006"/>
          <p:cNvPicPr/>
          <p:nvPr/>
        </p:nvPicPr>
        <p:blipFill>
          <a:blip r:embed="rId3"/>
          <a:stretch/>
        </p:blipFill>
        <p:spPr>
          <a:xfrm>
            <a:off x="-228600" y="-1900080"/>
            <a:ext cx="9372600" cy="14325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2124000" y="1197000"/>
            <a:ext cx="426744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因式分解</a:t>
            </a:r>
            <a:endParaRPr b="0" lang="en-US" sz="8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894040" y="291924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  <a:ea typeface="华文彩云"/>
              </a:rPr>
              <a:t>——</a:t>
            </a:r>
            <a:r>
              <a:rPr b="0" lang="en-US" sz="4800" spc="-1" strike="noStrike">
                <a:solidFill>
                  <a:srgbClr val="ff9900"/>
                </a:solidFill>
                <a:latin typeface="华文彩云"/>
                <a:ea typeface="华文彩云"/>
              </a:rPr>
              <a:t> </a:t>
            </a:r>
            <a:r>
              <a:rPr b="0" lang="zh-CN" sz="4800" spc="-1" strike="noStrike">
                <a:solidFill>
                  <a:srgbClr val="ff9900"/>
                </a:solidFill>
                <a:latin typeface="华文彩云"/>
                <a:ea typeface="华文彩云"/>
              </a:rPr>
              <a:t>公式法（</a:t>
            </a:r>
            <a:r>
              <a:rPr b="0" lang="en-US" sz="4800" spc="-1" strike="noStrike">
                <a:solidFill>
                  <a:srgbClr val="ff9900"/>
                </a:solidFill>
                <a:latin typeface="华文彩云"/>
                <a:ea typeface="华文彩云"/>
              </a:rPr>
              <a:t>1</a:t>
            </a:r>
            <a:r>
              <a:rPr b="0" lang="zh-CN" sz="4800" spc="-1" strike="noStrike">
                <a:solidFill>
                  <a:srgbClr val="ff9900"/>
                </a:solidFill>
                <a:latin typeface="华文彩云"/>
                <a:ea typeface="华文彩云"/>
              </a:rPr>
              <a:t>）</a:t>
            </a:r>
            <a:r>
              <a:rPr b="0" lang="zh-CN" sz="4000" spc="-1" strike="noStrike">
                <a:solidFill>
                  <a:srgbClr val="ffcc66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求圆环绿地的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352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2360" y="690120"/>
            <a:ext cx="7488360" cy="27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如图，在边长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.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厘米的正方形纸片的４个角各剪去一边长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厘米的正方形，求余下纸片的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592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609480" y="1600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(1)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b-a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84360" y="9079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把下列各式分解因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038480" y="16002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(2)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a-1)+4(1-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4920" y="326088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a+b)(a-b)-2(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-5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975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板块三、公式法因式分解的拓展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476000" y="1557360"/>
            <a:ext cx="6761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.1012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-988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.73×145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-105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×7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833400" y="285840"/>
            <a:ext cx="721368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拓展训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利用因式分解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187280" y="4076640"/>
            <a:ext cx="6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97000" y="1413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.-25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+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2.4(a-b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-9(2a+3b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3.(2a-b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-9a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4.(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+3x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-(x+1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23560" y="404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训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因式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572280" y="549360"/>
            <a:ext cx="1643760" cy="825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95280" y="1700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平方差公式： 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-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 = (a+b)(a-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95280" y="256536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用平方差公式因式分解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一变、二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块一、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叫因式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177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一个多项式写成几个整式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形式叫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因式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-36360" y="321948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  －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2xyz+9x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6a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-9ab+3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914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１、平方差公式如何表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a+b)(a-b)=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-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baseline="30000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800" spc="-1" strike="noStrike" baseline="30000">
                <a:solidFill>
                  <a:srgbClr val="000000"/>
                </a:solidFill>
                <a:latin typeface="宋体"/>
              </a:rPr>
              <a:t>反过来又如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-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a+b)(a-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你能把下面的多项式分解因式吗？  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-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板块二、探索用公式来因式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-b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a+b)(a-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观察上面的式子，你发现其有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特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左边是两数的平方差，右边是两数和与它们差的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600" y="520200"/>
            <a:ext cx="185400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9560" y="981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(1)a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16=a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(  )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=(a+  )(a-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(2)64-b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=(  )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b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=(  +b)(  -b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(3)25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49y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=(  )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(  )</a:t>
            </a:r>
            <a:r>
              <a:rPr b="1" lang="en-US" sz="4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=(  +  )(  -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932360" y="90792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72000" y="177336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300720" y="1773360"/>
            <a:ext cx="5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140360" y="256536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211640" y="357516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084720" y="3502080"/>
            <a:ext cx="5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076720" y="4365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5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804000" y="436572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7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995640" y="522936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5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227640" y="522936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5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020000" y="530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7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4932360" y="5229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7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68706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把下列各式分解因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1200" y="1787400"/>
            <a:ext cx="5032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.36-25x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.16a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-9b</a:t>
            </a:r>
            <a:r>
              <a:rPr b="1" lang="en-US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76360" y="3933720"/>
            <a:ext cx="6480360" cy="15562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这种利用公式进行因式分解的方法，叫做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运用公式法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3720" y="314280"/>
            <a:ext cx="7284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把下列各式分解因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10920" y="1639800"/>
            <a:ext cx="403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.36-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2.a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- b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3.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-16y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4.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-z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243320" y="2529000"/>
                <a:ext cx="51912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55640" y="2076120"/>
            <a:ext cx="792000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1.(x+y)</a:t>
            </a:r>
            <a:r>
              <a:rPr b="1" lang="en-US" sz="7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-(x-y)</a:t>
            </a:r>
            <a:r>
              <a:rPr b="1" lang="en-US" sz="7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2.9(a+b)</a:t>
            </a:r>
            <a:r>
              <a:rPr b="1" lang="en-US" sz="7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-4(a-b)</a:t>
            </a:r>
            <a:r>
              <a:rPr b="1" lang="en-US" sz="7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504720" y="1009440"/>
            <a:ext cx="68407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把下列各式分解因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58920" y="1555920"/>
            <a:ext cx="734544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.(x-2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-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2.(x+a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-(y-b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3.-25(a+b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+4(a-b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4.16-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宋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802800" y="814320"/>
            <a:ext cx="396396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28:58Z</dcterms:created>
  <dc:creator>江阴高中初中部:胡云清 王晓云</dc:creator>
  <dc:description/>
  <dc:language>en-US</dc:language>
  <cp:lastModifiedBy>微软用户</cp:lastModifiedBy>
  <dcterms:modified xsi:type="dcterms:W3CDTF">2019-04-01T23:54:55Z</dcterms:modified>
  <cp:revision>103</cp:revision>
  <dc:subject/>
  <dc:title>乘法公式的再认识－因式分解(二)(1)</dc:title>
</cp:coreProperties>
</file>