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8EA-0C41-4076-98A5-B2A60644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604-0884-4CE0-B65F-566B1F7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040-D43C-4DA3-BA97-23DA45AE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C4D-DD20-4C14-B6E4-608460FE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6F4-FD59-4816-A12E-5C94784D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755-4640-4CCD-A4D6-0246E8B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541-5DA0-4FE7-87D6-7300A8F8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E65-B145-4219-BDB5-DC68033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2DF-ECC7-4F94-8BBF-14EA63F9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E44-B1BE-4F91-87EA-47D8A1A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A0F-7914-49BA-9642-2A897CF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66F-00AE-40B3-9C76-8FCE44A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F30-C251-47B1-A37C-0B2594676C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ve-175"/>
          <p:cNvPicPr/>
          <p:nvPr/>
        </p:nvPicPr>
        <p:blipFill>
          <a:blip r:embed="rId1"/>
          <a:stretch/>
        </p:blipFill>
        <p:spPr>
          <a:xfrm>
            <a:off x="5294160" y="3984480"/>
            <a:ext cx="3849840" cy="288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8360" y="2133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华文中宋"/>
                <a:ea typeface="华文中宋"/>
              </a:rPr>
              <a:t>9.2</a:t>
            </a:r>
            <a:r>
              <a:rPr b="1" lang="zh-CN" sz="7200" spc="-1" strike="noStrike">
                <a:solidFill>
                  <a:srgbClr val="660033"/>
                </a:solidFill>
                <a:latin typeface="华文中宋"/>
                <a:ea typeface="华文中宋"/>
              </a:rPr>
              <a:t>单项式</a:t>
            </a:r>
            <a:r>
              <a:rPr b="1" lang="zh-CN" sz="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乘</a:t>
            </a:r>
            <a:r>
              <a:rPr b="1" lang="zh-CN" sz="7200" spc="-1" strike="noStrike">
                <a:solidFill>
                  <a:srgbClr val="660033"/>
                </a:solidFill>
                <a:latin typeface="华文中宋"/>
                <a:ea typeface="华文中宋"/>
              </a:rPr>
              <a:t>多项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52280" y="1908000"/>
            <a:ext cx="89154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单项式与多项式相乘，先用单项式乘多项式的每一项，再把所得的积相加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14400" y="1066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单项式乘多项式的运算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95280" y="465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说明：单项式乘多项式的本质是运用乘法运算律，转化为单项式乘单项式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79280" y="981000"/>
            <a:ext cx="86108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单项式与多项式相乘，先用单项式乘多项式的每一项，再把所得的积相加</a:t>
            </a:r>
            <a:r>
              <a:rPr b="1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1258920" y="4437000"/>
                <a:ext cx="280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187280" y="5229360"/>
                <a:ext cx="3888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5"/>
          <p:cNvSpPr/>
          <p:nvPr/>
        </p:nvSpPr>
        <p:spPr>
          <a:xfrm>
            <a:off x="0" y="2565360"/>
            <a:ext cx="350532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-3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9280" y="5516640"/>
            <a:ext cx="13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964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运用单项式乘多项式的法则计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计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 3x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2x-1)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2) (2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3xy+4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(-2xy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2"/>
          <p:cNvSpPr/>
          <p:nvPr/>
        </p:nvSpPr>
        <p:spPr>
          <a:xfrm>
            <a:off x="4267080" y="5029200"/>
            <a:ext cx="52236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5943600" y="4267080"/>
            <a:ext cx="52236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4876920" y="342900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3505320" y="251460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0" y="1066680"/>
            <a:ext cx="87631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下面的计算是否正确？如果有错误，请改正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1)3a·(4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-1)= 7 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-3a            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2) -2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·(3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+4)= -6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5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+8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    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3)-4x(x-3y-1)=  -4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+12xy</a:t>
            </a:r>
            <a:r>
              <a:rPr b="1" lang="en-US" sz="3600" spc="-1" strike="noStrike">
                <a:solidFill>
                  <a:srgbClr val="fe0202"/>
                </a:solidFill>
                <a:latin typeface="Century Gothic"/>
                <a:ea typeface="华文中宋"/>
              </a:rPr>
              <a:t>      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楷体_GB2312"/>
              </a:rPr>
              <a:t>(4) 5-a(b-2) =5-ab  - 2a            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7380360" y="400536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164360" y="3213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010280" y="2286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876920" y="1676520"/>
            <a:ext cx="1062000" cy="711000"/>
          </a:xfrm>
          <a:prstGeom prst="wedgeEllipseCallout">
            <a:avLst>
              <a:gd name="adj1" fmla="val -143273"/>
              <a:gd name="adj2" fmla="val 90625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  <a:ea typeface="华文中宋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5791320" y="2362320"/>
            <a:ext cx="1062000" cy="711000"/>
          </a:xfrm>
          <a:prstGeom prst="wedgeEllipseCallout">
            <a:avLst>
              <a:gd name="adj1" fmla="val -102916"/>
              <a:gd name="adj2" fmla="val 110939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0202"/>
                </a:solidFill>
                <a:latin typeface="黑体"/>
                <a:ea typeface="黑体"/>
              </a:rPr>
              <a:t>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6443640" y="3573360"/>
            <a:ext cx="1297080" cy="711360"/>
          </a:xfrm>
          <a:prstGeom prst="wedgeEllipseCallout">
            <a:avLst>
              <a:gd name="adj1" fmla="val -72722"/>
              <a:gd name="adj2" fmla="val 91962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  <a:ea typeface="华文中宋"/>
              </a:rPr>
              <a:t>+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308720" y="4869000"/>
            <a:ext cx="164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5105520" y="5638680"/>
            <a:ext cx="1266840" cy="711360"/>
          </a:xfrm>
          <a:prstGeom prst="wedgeEllipseCallout">
            <a:avLst>
              <a:gd name="adj1" fmla="val -100824"/>
              <a:gd name="adj2" fmla="val -70314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0202"/>
                </a:solidFill>
                <a:latin typeface="华文中宋"/>
                <a:ea typeface="华文中宋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7"/>
          <p:cNvSpPr txBox="1"/>
          <p:nvPr/>
        </p:nvSpPr>
        <p:spPr>
          <a:xfrm>
            <a:off x="228600" y="228600"/>
            <a:ext cx="297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你行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(y-5)+y(3-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习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(n+2)-n(3-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3382920" y="136440"/>
            <a:ext cx="5762880" cy="4359240"/>
            <a:chOff x="3382920" y="136440"/>
            <a:chExt cx="5762880" cy="4359240"/>
          </a:xfrm>
        </p:grpSpPr>
        <p:sp>
          <p:nvSpPr>
            <p:cNvPr id="256" name="Rectangle 3"/>
            <p:cNvSpPr/>
            <p:nvPr/>
          </p:nvSpPr>
          <p:spPr>
            <a:xfrm>
              <a:off x="4038480" y="762120"/>
              <a:ext cx="2737080" cy="3733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住宅用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6735600" y="762120"/>
              <a:ext cx="1798920" cy="230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人民广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6735600" y="3048120"/>
              <a:ext cx="1798920" cy="14475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商业用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>
              <a:off x="8534520" y="3048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7"/>
            <p:cNvSpPr/>
            <p:nvPr/>
          </p:nvSpPr>
          <p:spPr>
            <a:xfrm>
              <a:off x="8534520" y="762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>
              <a:off x="8839080" y="762120"/>
              <a:ext cx="0" cy="228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 rot="16200000">
              <a:off x="8474040" y="1766520"/>
              <a:ext cx="7617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3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0"/>
            <p:cNvSpPr/>
            <p:nvPr/>
          </p:nvSpPr>
          <p:spPr>
            <a:xfrm>
              <a:off x="403848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>
              <a:off x="851868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>
              <a:off x="670572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4038480" y="457200"/>
              <a:ext cx="26672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6705720" y="457200"/>
              <a:ext cx="181296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4648320" y="136440"/>
              <a:ext cx="1523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3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+2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7010280" y="152280"/>
              <a:ext cx="1219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2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-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3414600" y="449568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8"/>
            <p:cNvSpPr/>
            <p:nvPr/>
          </p:nvSpPr>
          <p:spPr>
            <a:xfrm>
              <a:off x="3414600" y="76212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9"/>
            <p:cNvSpPr/>
            <p:nvPr/>
          </p:nvSpPr>
          <p:spPr>
            <a:xfrm>
              <a:off x="3657600" y="838080"/>
              <a:ext cx="0" cy="36576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 rot="16200000">
              <a:off x="3330720" y="241416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4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304920" y="5335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问题</a:t>
            </a:r>
            <a:r>
              <a:rPr b="1" lang="en-US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如图：一块长方形地用来建造住宅、广场、商厦，求这块地的面积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1"/>
          <p:cNvSpPr/>
          <p:nvPr/>
        </p:nvSpPr>
        <p:spPr>
          <a:xfrm>
            <a:off x="304920" y="38088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解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形的长为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+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+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宽为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块地的面积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228600" y="3429000"/>
            <a:ext cx="31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[(3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+2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)+(2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-b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(5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+b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660066"/>
                </a:solidFill>
                <a:latin typeface="华文中宋"/>
                <a:ea typeface="华文新魏"/>
              </a:rPr>
              <a:t>·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5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+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·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=20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 baseline="30000">
                <a:solidFill>
                  <a:srgbClr val="660066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+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答：这块地的面积为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 baseline="30000">
                <a:solidFill>
                  <a:srgbClr val="660066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+4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b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382920" y="136440"/>
            <a:ext cx="5762880" cy="4359240"/>
            <a:chOff x="3382920" y="136440"/>
            <a:chExt cx="5762880" cy="4359240"/>
          </a:xfrm>
        </p:grpSpPr>
        <p:sp>
          <p:nvSpPr>
            <p:cNvPr id="278" name="Rectangle 24"/>
            <p:cNvSpPr/>
            <p:nvPr/>
          </p:nvSpPr>
          <p:spPr>
            <a:xfrm>
              <a:off x="4038480" y="762120"/>
              <a:ext cx="2737080" cy="3733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住宅用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5"/>
            <p:cNvSpPr/>
            <p:nvPr/>
          </p:nvSpPr>
          <p:spPr>
            <a:xfrm>
              <a:off x="6735600" y="762120"/>
              <a:ext cx="1798920" cy="230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人民广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6"/>
            <p:cNvSpPr/>
            <p:nvPr/>
          </p:nvSpPr>
          <p:spPr>
            <a:xfrm>
              <a:off x="6735600" y="3048120"/>
              <a:ext cx="1798920" cy="14475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商业用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8534520" y="3048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>
              <a:off x="8534520" y="762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8839080" y="762120"/>
              <a:ext cx="0" cy="228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 rot="16200000">
              <a:off x="8474040" y="1766520"/>
              <a:ext cx="7617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3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1"/>
            <p:cNvSpPr/>
            <p:nvPr/>
          </p:nvSpPr>
          <p:spPr>
            <a:xfrm>
              <a:off x="403848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>
              <a:off x="851868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>
              <a:off x="6705720" y="304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4038480" y="457200"/>
              <a:ext cx="26672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5"/>
            <p:cNvSpPr/>
            <p:nvPr/>
          </p:nvSpPr>
          <p:spPr>
            <a:xfrm>
              <a:off x="6705720" y="457200"/>
              <a:ext cx="181296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36"/>
            <p:cNvSpPr/>
            <p:nvPr/>
          </p:nvSpPr>
          <p:spPr>
            <a:xfrm>
              <a:off x="4648320" y="136440"/>
              <a:ext cx="1523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3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+2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7"/>
            <p:cNvSpPr/>
            <p:nvPr/>
          </p:nvSpPr>
          <p:spPr>
            <a:xfrm>
              <a:off x="7010280" y="152280"/>
              <a:ext cx="1219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2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-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8"/>
            <p:cNvSpPr/>
            <p:nvPr/>
          </p:nvSpPr>
          <p:spPr>
            <a:xfrm>
              <a:off x="3414600" y="449568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9"/>
            <p:cNvSpPr/>
            <p:nvPr/>
          </p:nvSpPr>
          <p:spPr>
            <a:xfrm>
              <a:off x="3414600" y="76212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0"/>
            <p:cNvSpPr/>
            <p:nvPr/>
          </p:nvSpPr>
          <p:spPr>
            <a:xfrm>
              <a:off x="3657600" y="838080"/>
              <a:ext cx="0" cy="36576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41"/>
            <p:cNvSpPr/>
            <p:nvPr/>
          </p:nvSpPr>
          <p:spPr>
            <a:xfrm rot="16200000">
              <a:off x="3330720" y="241416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4</a:t>
              </a: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图，求梯形的面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图片 16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1781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填空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(       ) · (3x-4)=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 2x·(         )=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+1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39528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单项式乘多项式的拓展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763640" y="256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262728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先化简，再求值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=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1484280"/>
                <a:ext cx="2448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835280" y="2205000"/>
            <a:ext cx="5562000" cy="3186000"/>
            <a:chOff x="1835280" y="2205000"/>
            <a:chExt cx="5562000" cy="3186000"/>
          </a:xfrm>
        </p:grpSpPr>
        <p:sp>
          <p:nvSpPr>
            <p:cNvPr id="44" name="Rectangle 3"/>
            <p:cNvSpPr/>
            <p:nvPr/>
          </p:nvSpPr>
          <p:spPr>
            <a:xfrm>
              <a:off x="1835280" y="2800080"/>
              <a:ext cx="2209320" cy="2590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4044600" y="2800080"/>
              <a:ext cx="182844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5873400" y="2800080"/>
              <a:ext cx="1066680" cy="2590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1835280" y="2342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6940440" y="2342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4044600" y="2342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5873400" y="2342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835280" y="2571480"/>
              <a:ext cx="220932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4044600" y="2571480"/>
              <a:ext cx="18284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5873400" y="2571480"/>
              <a:ext cx="10666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6178320" y="2205000"/>
              <a:ext cx="533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4730400" y="2205000"/>
              <a:ext cx="533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749320" y="2205000"/>
              <a:ext cx="533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6940440" y="2800080"/>
              <a:ext cx="456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6940440" y="5391000"/>
              <a:ext cx="456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7169040" y="280008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9"/>
            <p:cNvSpPr/>
            <p:nvPr/>
          </p:nvSpPr>
          <p:spPr>
            <a:xfrm>
              <a:off x="6940440" y="3714480"/>
              <a:ext cx="3042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20"/>
          <p:cNvSpPr/>
          <p:nvPr/>
        </p:nvSpPr>
        <p:spPr>
          <a:xfrm>
            <a:off x="434880" y="647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求出下图图形的面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84360" y="11160"/>
            <a:ext cx="83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 探索单项式乘多项式法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127 L 3.33333E-006 -0.19052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解方程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x(x-1)-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 -3(x-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已知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-6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y(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5y)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WordArt 2" descr=""/>
          <p:cNvPicPr/>
          <p:nvPr/>
        </p:nvPicPr>
        <p:blipFill>
          <a:blip r:embed="rId1"/>
          <a:stretch/>
        </p:blipFill>
        <p:spPr>
          <a:xfrm>
            <a:off x="768240" y="1036800"/>
            <a:ext cx="4584960" cy="938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5"/>
          <p:cNvPicPr/>
          <p:nvPr/>
        </p:nvPicPr>
        <p:blipFill>
          <a:blip r:embed="rId2"/>
          <a:stretch/>
        </p:blipFill>
        <p:spPr>
          <a:xfrm>
            <a:off x="6461280" y="100080"/>
            <a:ext cx="2668320" cy="217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米老鼠"/>
          <p:cNvPicPr/>
          <p:nvPr/>
        </p:nvPicPr>
        <p:blipFill>
          <a:blip r:embed="rId3"/>
          <a:stretch/>
        </p:blipFill>
        <p:spPr>
          <a:xfrm>
            <a:off x="6180120" y="569880"/>
            <a:ext cx="1344600" cy="1346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6410160" y="210960"/>
            <a:ext cx="20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小结与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228600" y="2514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单项式乘多项式的运算法则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运用时应注意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4753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如果把它看成三个小长方形，那么它们的面积可分别表示为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.</a:t>
            </a: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5867280" y="1752480"/>
            <a:ext cx="457200" cy="2590920"/>
            <a:chOff x="5867280" y="1752480"/>
            <a:chExt cx="457200" cy="2590920"/>
          </a:xfrm>
        </p:grpSpPr>
        <p:sp>
          <p:nvSpPr>
            <p:cNvPr id="65" name="Line 4"/>
            <p:cNvSpPr/>
            <p:nvPr/>
          </p:nvSpPr>
          <p:spPr>
            <a:xfrm>
              <a:off x="5867280" y="17524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6095880" y="175248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5867280" y="2666880"/>
              <a:ext cx="304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320760" y="1157400"/>
            <a:ext cx="2666880" cy="3186000"/>
            <a:chOff x="320760" y="1157400"/>
            <a:chExt cx="2666880" cy="3186000"/>
          </a:xfrm>
        </p:grpSpPr>
        <p:grpSp>
          <p:nvGrpSpPr>
            <p:cNvPr id="70" name="Group 9"/>
            <p:cNvGrpSpPr/>
            <p:nvPr/>
          </p:nvGrpSpPr>
          <p:grpSpPr>
            <a:xfrm>
              <a:off x="2530440" y="1752480"/>
              <a:ext cx="457200" cy="2590920"/>
              <a:chOff x="2530440" y="1752480"/>
              <a:chExt cx="457200" cy="2590920"/>
            </a:xfrm>
          </p:grpSpPr>
          <p:sp>
            <p:nvSpPr>
              <p:cNvPr id="71" name="Line 10"/>
              <p:cNvSpPr/>
              <p:nvPr/>
            </p:nvSpPr>
            <p:spPr>
              <a:xfrm>
                <a:off x="2530440" y="17524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1"/>
              <p:cNvSpPr/>
              <p:nvPr/>
            </p:nvSpPr>
            <p:spPr>
              <a:xfrm>
                <a:off x="2530440" y="434340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2"/>
              <p:cNvSpPr/>
              <p:nvPr/>
            </p:nvSpPr>
            <p:spPr>
              <a:xfrm>
                <a:off x="2759040" y="1752480"/>
                <a:ext cx="0" cy="259092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3"/>
              <p:cNvSpPr/>
              <p:nvPr/>
            </p:nvSpPr>
            <p:spPr>
              <a:xfrm>
                <a:off x="2530440" y="26668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4"/>
            <p:cNvGrpSpPr/>
            <p:nvPr/>
          </p:nvGrpSpPr>
          <p:grpSpPr>
            <a:xfrm>
              <a:off x="320760" y="1157400"/>
              <a:ext cx="2209680" cy="3186000"/>
              <a:chOff x="320760" y="1157400"/>
              <a:chExt cx="2209680" cy="3186000"/>
            </a:xfrm>
          </p:grpSpPr>
          <p:sp>
            <p:nvSpPr>
              <p:cNvPr id="76" name="Rectangle 15"/>
              <p:cNvSpPr/>
              <p:nvPr/>
            </p:nvSpPr>
            <p:spPr>
              <a:xfrm>
                <a:off x="320760" y="1752480"/>
                <a:ext cx="2209680" cy="25909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6"/>
              <p:cNvSpPr/>
              <p:nvPr/>
            </p:nvSpPr>
            <p:spPr>
              <a:xfrm>
                <a:off x="320760" y="129528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7"/>
              <p:cNvSpPr/>
              <p:nvPr/>
            </p:nvSpPr>
            <p:spPr>
              <a:xfrm>
                <a:off x="2530440" y="129528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8"/>
              <p:cNvSpPr/>
              <p:nvPr/>
            </p:nvSpPr>
            <p:spPr>
              <a:xfrm>
                <a:off x="320760" y="1523880"/>
                <a:ext cx="22096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9"/>
              <p:cNvSpPr/>
              <p:nvPr/>
            </p:nvSpPr>
            <p:spPr>
              <a:xfrm>
                <a:off x="1235160" y="1157400"/>
                <a:ext cx="5335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20"/>
          <p:cNvGrpSpPr/>
          <p:nvPr/>
        </p:nvGrpSpPr>
        <p:grpSpPr>
          <a:xfrm>
            <a:off x="4038480" y="1157400"/>
            <a:ext cx="1828800" cy="3186000"/>
            <a:chOff x="4038480" y="1157400"/>
            <a:chExt cx="1828800" cy="3186000"/>
          </a:xfrm>
        </p:grpSpPr>
        <p:sp>
          <p:nvSpPr>
            <p:cNvPr id="82" name="Rectangle 21"/>
            <p:cNvSpPr/>
            <p:nvPr/>
          </p:nvSpPr>
          <p:spPr>
            <a:xfrm>
              <a:off x="4038480" y="1752480"/>
              <a:ext cx="18288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4038480" y="12952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>
              <a:off x="5867280" y="12952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>
              <a:off x="4038480" y="1523880"/>
              <a:ext cx="18288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5"/>
            <p:cNvSpPr/>
            <p:nvPr/>
          </p:nvSpPr>
          <p:spPr>
            <a:xfrm>
              <a:off x="4724280" y="115740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6"/>
          <p:cNvGrpSpPr/>
          <p:nvPr/>
        </p:nvGrpSpPr>
        <p:grpSpPr>
          <a:xfrm>
            <a:off x="7238880" y="1143000"/>
            <a:ext cx="1524240" cy="3186000"/>
            <a:chOff x="7238880" y="1143000"/>
            <a:chExt cx="1524240" cy="3186000"/>
          </a:xfrm>
        </p:grpSpPr>
        <p:sp>
          <p:nvSpPr>
            <p:cNvPr id="88" name="Rectangle 27"/>
            <p:cNvSpPr/>
            <p:nvPr/>
          </p:nvSpPr>
          <p:spPr>
            <a:xfrm>
              <a:off x="7238880" y="1738080"/>
              <a:ext cx="1067040" cy="2590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8305920" y="17380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8305920" y="43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8534520" y="173808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1"/>
            <p:cNvSpPr/>
            <p:nvPr/>
          </p:nvSpPr>
          <p:spPr>
            <a:xfrm>
              <a:off x="8305920" y="2652480"/>
              <a:ext cx="304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2"/>
            <p:cNvSpPr/>
            <p:nvPr/>
          </p:nvSpPr>
          <p:spPr>
            <a:xfrm>
              <a:off x="8305920" y="1280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3"/>
            <p:cNvSpPr/>
            <p:nvPr/>
          </p:nvSpPr>
          <p:spPr>
            <a:xfrm>
              <a:off x="7238880" y="12808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>
              <a:off x="7238880" y="1509480"/>
              <a:ext cx="1067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5"/>
            <p:cNvSpPr/>
            <p:nvPr/>
          </p:nvSpPr>
          <p:spPr>
            <a:xfrm>
              <a:off x="7543800" y="114300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36"/>
          <p:cNvSpPr/>
          <p:nvPr/>
        </p:nvSpPr>
        <p:spPr>
          <a:xfrm>
            <a:off x="4211640" y="530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7524720" y="530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796000" y="530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108000" y="189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 探索单项式乘多项式法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5867280" y="1752480"/>
            <a:ext cx="457200" cy="2590920"/>
            <a:chOff x="5867280" y="1752480"/>
            <a:chExt cx="457200" cy="2590920"/>
          </a:xfrm>
        </p:grpSpPr>
        <p:sp>
          <p:nvSpPr>
            <p:cNvPr id="102" name="Line 3"/>
            <p:cNvSpPr/>
            <p:nvPr/>
          </p:nvSpPr>
          <p:spPr>
            <a:xfrm>
              <a:off x="5867280" y="17524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6095880" y="175248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5867280" y="2666880"/>
              <a:ext cx="304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49120" y="1157400"/>
            <a:ext cx="2666880" cy="3186000"/>
            <a:chOff x="249120" y="1157400"/>
            <a:chExt cx="2666880" cy="3186000"/>
          </a:xfrm>
        </p:grpSpPr>
        <p:grpSp>
          <p:nvGrpSpPr>
            <p:cNvPr id="107" name="Group 8"/>
            <p:cNvGrpSpPr/>
            <p:nvPr/>
          </p:nvGrpSpPr>
          <p:grpSpPr>
            <a:xfrm>
              <a:off x="2458800" y="1752480"/>
              <a:ext cx="457200" cy="2590920"/>
              <a:chOff x="2458800" y="1752480"/>
              <a:chExt cx="457200" cy="2590920"/>
            </a:xfrm>
          </p:grpSpPr>
          <p:sp>
            <p:nvSpPr>
              <p:cNvPr id="108" name="Line 9"/>
              <p:cNvSpPr/>
              <p:nvPr/>
            </p:nvSpPr>
            <p:spPr>
              <a:xfrm>
                <a:off x="2458800" y="17524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0"/>
              <p:cNvSpPr/>
              <p:nvPr/>
            </p:nvSpPr>
            <p:spPr>
              <a:xfrm>
                <a:off x="2458800" y="434340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"/>
              <p:cNvSpPr/>
              <p:nvPr/>
            </p:nvSpPr>
            <p:spPr>
              <a:xfrm>
                <a:off x="2687400" y="1752480"/>
                <a:ext cx="0" cy="259092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"/>
              <p:cNvSpPr/>
              <p:nvPr/>
            </p:nvSpPr>
            <p:spPr>
              <a:xfrm>
                <a:off x="2458800" y="26668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3"/>
            <p:cNvGrpSpPr/>
            <p:nvPr/>
          </p:nvGrpSpPr>
          <p:grpSpPr>
            <a:xfrm>
              <a:off x="249120" y="1157400"/>
              <a:ext cx="2209680" cy="3186000"/>
              <a:chOff x="249120" y="1157400"/>
              <a:chExt cx="2209680" cy="3186000"/>
            </a:xfrm>
          </p:grpSpPr>
          <p:sp>
            <p:nvSpPr>
              <p:cNvPr id="113" name="Rectangle 14"/>
              <p:cNvSpPr/>
              <p:nvPr/>
            </p:nvSpPr>
            <p:spPr>
              <a:xfrm>
                <a:off x="249120" y="1752480"/>
                <a:ext cx="2209680" cy="25909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>
                <a:off x="249120" y="129528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6"/>
              <p:cNvSpPr/>
              <p:nvPr/>
            </p:nvSpPr>
            <p:spPr>
              <a:xfrm>
                <a:off x="2458800" y="129528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7"/>
              <p:cNvSpPr/>
              <p:nvPr/>
            </p:nvSpPr>
            <p:spPr>
              <a:xfrm>
                <a:off x="249120" y="1523880"/>
                <a:ext cx="22096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8"/>
              <p:cNvSpPr/>
              <p:nvPr/>
            </p:nvSpPr>
            <p:spPr>
              <a:xfrm>
                <a:off x="1163520" y="1157400"/>
                <a:ext cx="5335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9"/>
          <p:cNvGrpSpPr/>
          <p:nvPr/>
        </p:nvGrpSpPr>
        <p:grpSpPr>
          <a:xfrm>
            <a:off x="3995640" y="1179360"/>
            <a:ext cx="1828800" cy="3186000"/>
            <a:chOff x="3995640" y="1179360"/>
            <a:chExt cx="1828800" cy="3186000"/>
          </a:xfrm>
        </p:grpSpPr>
        <p:sp>
          <p:nvSpPr>
            <p:cNvPr id="119" name="Rectangle 20"/>
            <p:cNvSpPr/>
            <p:nvPr/>
          </p:nvSpPr>
          <p:spPr>
            <a:xfrm>
              <a:off x="3995640" y="1774440"/>
              <a:ext cx="18288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995640" y="1317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5824440" y="1317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995640" y="1545840"/>
              <a:ext cx="18288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4"/>
            <p:cNvSpPr/>
            <p:nvPr/>
          </p:nvSpPr>
          <p:spPr>
            <a:xfrm>
              <a:off x="4681440" y="117936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7238880" y="1179360"/>
            <a:ext cx="1524240" cy="3186000"/>
            <a:chOff x="7238880" y="1179360"/>
            <a:chExt cx="1524240" cy="3186000"/>
          </a:xfrm>
        </p:grpSpPr>
        <p:sp>
          <p:nvSpPr>
            <p:cNvPr id="125" name="Rectangle 26"/>
            <p:cNvSpPr/>
            <p:nvPr/>
          </p:nvSpPr>
          <p:spPr>
            <a:xfrm>
              <a:off x="7238880" y="1774440"/>
              <a:ext cx="1067040" cy="2590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8305920" y="177444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8305920" y="436536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8534520" y="177444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0"/>
            <p:cNvSpPr/>
            <p:nvPr/>
          </p:nvSpPr>
          <p:spPr>
            <a:xfrm>
              <a:off x="8305920" y="2688840"/>
              <a:ext cx="304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305920" y="1317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7238880" y="1317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7238880" y="1545840"/>
              <a:ext cx="1067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7543800" y="117936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5.78035E-007 L -0.15451 0.00139 E">
                                      <p:cBhvr>
                                        <p:cTn id="3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2775E-006 L 0.16944 0.00463 E">
                                      <p:cBhvr>
                                        <p:cTn id="4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1908000" y="1125360"/>
            <a:ext cx="5562720" cy="3186000"/>
            <a:chOff x="1908000" y="1125360"/>
            <a:chExt cx="5562720" cy="3186000"/>
          </a:xfrm>
        </p:grpSpPr>
        <p:sp>
          <p:nvSpPr>
            <p:cNvPr id="135" name="Rectangle 3"/>
            <p:cNvSpPr/>
            <p:nvPr/>
          </p:nvSpPr>
          <p:spPr>
            <a:xfrm>
              <a:off x="1908000" y="1720440"/>
              <a:ext cx="2209680" cy="2590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4117680" y="1720440"/>
              <a:ext cx="18288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946480" y="1720440"/>
              <a:ext cx="1067040" cy="2590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1908000" y="1263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013520" y="1263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4117680" y="1263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5946480" y="12632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8000" y="1491840"/>
              <a:ext cx="22096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4117680" y="1491840"/>
              <a:ext cx="18288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5946480" y="1491840"/>
              <a:ext cx="1067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6251400" y="112536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4803480" y="112536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2822400" y="112536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7013520" y="172044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7013520" y="431136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7242120" y="172044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7013520" y="2634840"/>
              <a:ext cx="304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1"/>
          <p:cNvSpPr/>
          <p:nvPr/>
        </p:nvSpPr>
        <p:spPr>
          <a:xfrm>
            <a:off x="395280" y="40464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127 L 3.33333E-006 -0.19052 E">
                                      <p:cBhvr>
                                        <p:cTn id="4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763640" y="260280"/>
            <a:ext cx="5562720" cy="3186360"/>
            <a:chOff x="1763640" y="260280"/>
            <a:chExt cx="5562720" cy="3186360"/>
          </a:xfrm>
        </p:grpSpPr>
        <p:sp>
          <p:nvSpPr>
            <p:cNvPr id="154" name="Rectangle 3"/>
            <p:cNvSpPr/>
            <p:nvPr/>
          </p:nvSpPr>
          <p:spPr>
            <a:xfrm>
              <a:off x="1763640" y="855720"/>
              <a:ext cx="2209680" cy="2590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3973320" y="855720"/>
              <a:ext cx="18288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5802120" y="855720"/>
              <a:ext cx="1067040" cy="2590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763640" y="398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869160" y="398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3973320" y="398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5802120" y="398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1763640" y="627120"/>
              <a:ext cx="22096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>
              <a:off x="3973320" y="627120"/>
              <a:ext cx="18288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802120" y="627120"/>
              <a:ext cx="1067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6107040" y="26028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4659120" y="26028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2678040" y="26028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>
              <a:off x="6869160" y="855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6869160" y="344664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7097760" y="855720"/>
              <a:ext cx="0" cy="2590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6869160" y="1770120"/>
              <a:ext cx="304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0"/>
          <p:cNvSpPr/>
          <p:nvPr/>
        </p:nvSpPr>
        <p:spPr>
          <a:xfrm>
            <a:off x="0" y="364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如果把它看成一个大长方形，那么它的长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_,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宽为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，面积可表示为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____.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24000" y="4221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+c+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732720" y="414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(b+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771640" y="414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如果把它看成三个小长方形，那么它们的面积可分别表示为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.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0" y="45086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如果把它看成一个大长方形，那么它的面积可表示为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_________.</a:t>
            </a: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en-US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828800" y="27000"/>
            <a:ext cx="5562720" cy="3186000"/>
            <a:chOff x="1828800" y="27000"/>
            <a:chExt cx="5562720" cy="3186000"/>
          </a:xfrm>
        </p:grpSpPr>
        <p:sp>
          <p:nvSpPr>
            <p:cNvPr id="178" name="Rectangle 5"/>
            <p:cNvSpPr/>
            <p:nvPr/>
          </p:nvSpPr>
          <p:spPr>
            <a:xfrm>
              <a:off x="1828800" y="622080"/>
              <a:ext cx="2209680" cy="25905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4038480" y="62208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5867280" y="622080"/>
              <a:ext cx="1067040" cy="2590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1828800" y="16488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934320" y="16488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4038480" y="16488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867280" y="16488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1828800" y="393480"/>
              <a:ext cx="22096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4038480" y="393480"/>
              <a:ext cx="18288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5867280" y="393480"/>
              <a:ext cx="1067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6172200" y="2700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4724280" y="2700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743200" y="27000"/>
              <a:ext cx="53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934320" y="6220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934320" y="3213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7162920" y="622080"/>
              <a:ext cx="0" cy="25905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934320" y="1536480"/>
              <a:ext cx="304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2"/>
          <p:cNvGrpSpPr/>
          <p:nvPr/>
        </p:nvGrpSpPr>
        <p:grpSpPr>
          <a:xfrm>
            <a:off x="4336920" y="3795840"/>
            <a:ext cx="4267440" cy="642600"/>
            <a:chOff x="4336920" y="3795840"/>
            <a:chExt cx="4267440" cy="642600"/>
          </a:xfrm>
        </p:grpSpPr>
        <p:sp>
          <p:nvSpPr>
            <p:cNvPr id="196" name="Text Box 23"/>
            <p:cNvSpPr/>
            <p:nvPr/>
          </p:nvSpPr>
          <p:spPr>
            <a:xfrm>
              <a:off x="4336920" y="379584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7613640" y="379584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5937120" y="379584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6"/>
          <p:cNvSpPr/>
          <p:nvPr/>
        </p:nvSpPr>
        <p:spPr>
          <a:xfrm>
            <a:off x="3276720" y="50846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(b+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5029200" y="5835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b+ac+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8"/>
          <p:cNvGrpSpPr/>
          <p:nvPr/>
        </p:nvGrpSpPr>
        <p:grpSpPr>
          <a:xfrm>
            <a:off x="3581280" y="6172200"/>
            <a:ext cx="1143000" cy="152280"/>
            <a:chOff x="3581280" y="6172200"/>
            <a:chExt cx="1143000" cy="152280"/>
          </a:xfrm>
        </p:grpSpPr>
        <p:sp>
          <p:nvSpPr>
            <p:cNvPr id="202" name="Line 29"/>
            <p:cNvSpPr/>
            <p:nvPr/>
          </p:nvSpPr>
          <p:spPr>
            <a:xfrm>
              <a:off x="3581280" y="617220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3581280" y="632448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31"/>
          <p:cNvSpPr/>
          <p:nvPr/>
        </p:nvSpPr>
        <p:spPr>
          <a:xfrm>
            <a:off x="1447920" y="5897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(b+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1447920" y="5835600"/>
            <a:ext cx="6172200" cy="643320"/>
            <a:chOff x="1447920" y="5835600"/>
            <a:chExt cx="6172200" cy="643320"/>
          </a:xfrm>
        </p:grpSpPr>
        <p:sp>
          <p:nvSpPr>
            <p:cNvPr id="206" name="Text Box 3"/>
            <p:cNvSpPr/>
            <p:nvPr/>
          </p:nvSpPr>
          <p:spPr>
            <a:xfrm>
              <a:off x="5029200" y="5835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b+ac+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4"/>
            <p:cNvGrpSpPr/>
            <p:nvPr/>
          </p:nvGrpSpPr>
          <p:grpSpPr>
            <a:xfrm>
              <a:off x="3581280" y="6172200"/>
              <a:ext cx="1143000" cy="152280"/>
              <a:chOff x="3581280" y="6172200"/>
              <a:chExt cx="1143000" cy="152280"/>
            </a:xfrm>
          </p:grpSpPr>
          <p:sp>
            <p:nvSpPr>
              <p:cNvPr id="208" name="Line 5"/>
              <p:cNvSpPr/>
              <p:nvPr/>
            </p:nvSpPr>
            <p:spPr>
              <a:xfrm>
                <a:off x="3581280" y="6172200"/>
                <a:ext cx="11430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"/>
              <p:cNvSpPr/>
              <p:nvPr/>
            </p:nvSpPr>
            <p:spPr>
              <a:xfrm>
                <a:off x="3581280" y="6324480"/>
                <a:ext cx="11430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7"/>
            <p:cNvSpPr/>
            <p:nvPr/>
          </p:nvSpPr>
          <p:spPr>
            <a:xfrm>
              <a:off x="1447920" y="58975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a(b+c+d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8"/>
          <p:cNvSpPr/>
          <p:nvPr/>
        </p:nvSpPr>
        <p:spPr>
          <a:xfrm>
            <a:off x="1447920" y="2895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(b+c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581280" y="3170160"/>
            <a:ext cx="1143000" cy="152640"/>
            <a:chOff x="3581280" y="3170160"/>
            <a:chExt cx="1143000" cy="152640"/>
          </a:xfrm>
        </p:grpSpPr>
        <p:sp>
          <p:nvSpPr>
            <p:cNvPr id="213" name="Line 10"/>
            <p:cNvSpPr/>
            <p:nvPr/>
          </p:nvSpPr>
          <p:spPr>
            <a:xfrm>
              <a:off x="3581280" y="317016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581280" y="3322800"/>
              <a:ext cx="1143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2"/>
          <p:cNvSpPr/>
          <p:nvPr/>
        </p:nvSpPr>
        <p:spPr>
          <a:xfrm flipV="1" rot="5400000">
            <a:off x="1721520" y="2712240"/>
            <a:ext cx="214560" cy="457200"/>
          </a:xfrm>
          <a:custGeom>
            <a:avLst/>
            <a:gdLst>
              <a:gd name="textAreaLeft" fmla="*/ 63000 w 214560"/>
              <a:gd name="textAreaRight" fmla="*/ 214920 w 2145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 flipV="1" rot="5400000">
            <a:off x="1896120" y="2429640"/>
            <a:ext cx="322560" cy="914400"/>
          </a:xfrm>
          <a:custGeom>
            <a:avLst/>
            <a:gdLst>
              <a:gd name="textAreaLeft" fmla="*/ 94680 w 322560"/>
              <a:gd name="textAreaRight" fmla="*/ 322560 w 3225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flipV="1" rot="5400000">
            <a:off x="2019240" y="2095560"/>
            <a:ext cx="533520" cy="1371600"/>
          </a:xfrm>
          <a:custGeom>
            <a:avLst/>
            <a:gdLst>
              <a:gd name="textAreaLeft" fmla="*/ 156600 w 533520"/>
              <a:gd name="textAreaRight" fmla="*/ 533880 w 533520"/>
              <a:gd name="textAreaTop" fmla="*/ 3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867280" y="2819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6400800" y="2819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670572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02920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562720" y="2819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2514600" y="1568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根据乘法的分配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0" y="620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能从运算角度说明上面等式成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0116E-006 L -3.33333E-006 -0.83006 E">
                                      <p:cBhvr>
                                        <p:cTn id="9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066680" y="1752480"/>
            <a:ext cx="777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）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(5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a+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）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(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x-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y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)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·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09480" y="44197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e51909"/>
                </a:solidFill>
                <a:latin typeface="Garamond"/>
                <a:ea typeface="华文中宋"/>
              </a:rPr>
              <a:t>如何进行单项式乘多项式的乘法运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0" y="54936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下列各式，并说明理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2:35:07Z</dcterms:created>
  <dc:creator>User</dc:creator>
  <dc:description/>
  <dc:language>en-US</dc:language>
  <cp:lastModifiedBy>微软用户</cp:lastModifiedBy>
  <dcterms:modified xsi:type="dcterms:W3CDTF">2019-03-20T00:33:02Z</dcterms:modified>
  <cp:revision>53</cp:revision>
  <dc:subject/>
  <dc:title>幻灯片 1</dc:title>
</cp:coreProperties>
</file>