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27C-88B7-49B0-BCA0-8CEFC31F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D56-05DB-4C44-9300-55A69919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CAF-F670-400E-904F-0854A331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F03-5C2D-4ECE-AA34-CAA6DA40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F685-092E-450D-8103-7453D37E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F292-9746-45B5-9771-B1B182D1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31CE-A031-4EE2-98AF-7ED2A17B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2DD6-CBBD-4C2F-872F-6B09EB81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4005-1653-42BE-87AF-25D1BF2A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DF0D-5926-4F9A-8BC9-FE0E9927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4D73-4697-48BC-8BEC-5F65F299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7E2-E18B-4116-A960-421D0B39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33BD-59FC-4B89-95ED-9CD1BB8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EB12-0CC8-4423-B503-8DD06FB7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867B-89B6-4EC8-9F85-7671E1AA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90E8-7782-4593-8EE5-A086C2FC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E8D7-7E39-4171-80ED-1AD71AB7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8825F-F923-44D2-B228-379B2E13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8789-DFAE-4D16-B771-7A6AED3B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D35E-52FD-4EB3-ADF2-5C4FD984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37DD-867F-4B18-9BF7-473CDA23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9E04-3935-4134-A642-510B159B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623-EA95-4E2B-9D3B-F13D3518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7890-0F5B-4550-BD25-518755BD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7F09-F52A-4D93-ADFD-1939D75A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FB99-8CEC-4E5A-9344-46F1B284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90FF6-9630-4B74-AB25-C7512C79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E6E5-DC64-4C3D-A3C5-7E64A2B5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D66A-152D-4A9F-A131-C009D661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E51FF-B4CD-4AD9-BA54-92799B9D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42206-F5FF-415E-A740-EE9975D6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9CC8-B2EC-454B-9F9B-0E13211C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CFBFE-EEE0-47B8-ABAA-8C2875D5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7033-8129-4A6D-A6E7-576EBD7D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59FE8-03A3-4F08-BF7A-2D00E3A3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F9C22-A6B6-4641-A829-F5FB420A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5C12-7229-49E9-9251-CE1B1498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D9D69-F575-4E04-889F-17B3D48F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FF381-4800-4D18-B23E-78F850E0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C5B42-3129-4F3B-9F99-D8EB8302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9DCD1-4711-4097-851B-DE86F56F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70A19-6655-42BC-890D-43ED5118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AE685-5B28-4E80-A9ED-6B5812EA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352EF-2342-4CF1-BDB5-3DBE739A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000-75B4-46F6-92B5-43FCA1A4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216F0-963C-437B-9BCF-5DA1BA7F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8E69B-2668-47D2-AA40-9534C0B0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D02A0-B890-4A47-9625-9A1BDBB5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8FD6-CFEF-4AA0-9817-AC210A76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35C09-8164-48E0-B514-4F49E079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1669-D2C7-4CBA-B685-5027BBA0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3906-7B99-46AD-A05E-AF18503B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AEA9-1286-4B22-A335-41F2524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09753-4E17-468D-B71F-4F77CFE9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C61A2-8811-4E43-82ED-AA9B2AD8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C06-490B-4223-8820-86B3E885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D34EA-D08C-453C-ABC2-CE51EF12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EDAF3-5C05-46C4-B127-778B3F3C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051CF-588B-459D-A388-B77B2E45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9692E-ED50-4C73-A115-49F621D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E75AF-E902-44D6-A156-BA932EF3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1C8B9-FFE6-4D80-BFA9-D7DE6523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9CC16-76B4-47D9-82BC-7A7131C5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0E16C-7DF7-4591-AAEC-AE1CDFB2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48F7A-B377-42D5-8D39-461E4799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C5980-6B73-407B-9B06-BBF5977B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B05-1229-431E-94B8-55315E04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A716A-28A1-4B28-A34F-331089B9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743B4-B3FC-48B6-85AF-5969693F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16013-F5A9-48B3-AE49-A8ECEB3F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167-E8B4-4590-ADEE-53AEBBB5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F4C-18CB-46E7-84A0-AB400E66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DCF6-4630-45F0-872C-95B5038498D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93A6-4530-42AD-9F5D-B22D4667A3A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1F08-693E-472C-BA66-4006DC505B1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E29F-A271-4B19-B9DE-96A173778E7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8DC3-6505-4406-8B65-A5D8494C4E1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直角三角形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直接连接符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2B76-17BF-409E-94D5-4173FC0758D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4"/>
          <p:cNvSpPr/>
          <p:nvPr/>
        </p:nvSpPr>
        <p:spPr>
          <a:xfrm>
            <a:off x="533520" y="457200"/>
            <a:ext cx="7924680" cy="144792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1828800" y="380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研究性学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4876920" y="1447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LED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灯与白炽灯的对比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4180320" y="36576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汇报小组：爱迪生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3429000" y="41148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汇报班级：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3429000" y="452124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指导老师：商骏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云形标注 3"/>
          <p:cNvSpPr/>
          <p:nvPr/>
        </p:nvSpPr>
        <p:spPr>
          <a:xfrm>
            <a:off x="6553080" y="76320"/>
            <a:ext cx="2362320" cy="106668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55080">
            <a:solidFill>
              <a:srgbClr val="78d6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6553080" y="3067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aecd"/>
                </a:solidFill>
                <a:latin typeface="Times New Roman"/>
                <a:ea typeface="宋体"/>
              </a:rPr>
              <a:t>课题组成员心得会</a:t>
            </a:r>
            <a:r>
              <a:rPr b="1" lang="en-US" sz="2000" spc="-1" strike="noStrike">
                <a:solidFill>
                  <a:srgbClr val="1faecd"/>
                </a:solidFill>
                <a:latin typeface="Times New Roman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1faecd"/>
                </a:solidFill>
                <a:latin typeface="Times New Roman"/>
                <a:ea typeface="宋体"/>
              </a:rPr>
              <a:t>王淑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流程图: 卡片 5"/>
          <p:cNvSpPr/>
          <p:nvPr/>
        </p:nvSpPr>
        <p:spPr>
          <a:xfrm flipH="1">
            <a:off x="228600" y="228600"/>
            <a:ext cx="5867280" cy="5562720"/>
          </a:xfrm>
          <a:prstGeom prst="flowChartPunchedCard">
            <a:avLst/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图片 6" descr="QQ图片20140124124839.jpg"/>
          <p:cNvPicPr/>
          <p:nvPr/>
        </p:nvPicPr>
        <p:blipFill>
          <a:blip r:embed="rId1"/>
          <a:stretch/>
        </p:blipFill>
        <p:spPr>
          <a:xfrm>
            <a:off x="6781680" y="1523880"/>
            <a:ext cx="1981440" cy="264168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7" descr="QQ图片20140124123450.jpg"/>
          <p:cNvPicPr/>
          <p:nvPr/>
        </p:nvPicPr>
        <p:blipFill>
          <a:blip r:embed="rId2"/>
          <a:stretch/>
        </p:blipFill>
        <p:spPr>
          <a:xfrm>
            <a:off x="6324480" y="4572000"/>
            <a:ext cx="2616480" cy="19620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"/>
          <p:cNvSpPr/>
          <p:nvPr/>
        </p:nvSpPr>
        <p:spPr>
          <a:xfrm>
            <a:off x="228600" y="2636280"/>
            <a:ext cx="5334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1faecd"/>
                </a:solidFill>
                <a:latin typeface="Arial"/>
                <a:ea typeface="宋体"/>
              </a:rPr>
              <a:t>我们这次活动的主题是“</a:t>
            </a:r>
            <a:r>
              <a:rPr b="0" lang="en-US" sz="1500" spc="-1" strike="noStrike">
                <a:solidFill>
                  <a:srgbClr val="1faecd"/>
                </a:solidFill>
                <a:latin typeface="Arial"/>
                <a:ea typeface="宋体"/>
              </a:rPr>
              <a:t>LED</a:t>
            </a:r>
            <a:r>
              <a:rPr b="0" lang="zh-CN" sz="1500" spc="-1" strike="noStrike">
                <a:solidFill>
                  <a:srgbClr val="1faecd"/>
                </a:solidFill>
                <a:latin typeface="Arial"/>
                <a:ea typeface="宋体"/>
              </a:rPr>
              <a:t>灯与白炽灯的对比”，当时在选题时觉得这是一个十分简单的主题，但经过一段时间的调查后，觉得一切都是说起来容易做起来难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1faecd"/>
                </a:solidFill>
                <a:latin typeface="宋体"/>
                <a:ea typeface="宋体"/>
              </a:rPr>
              <a:t>   </a:t>
            </a:r>
            <a:r>
              <a:rPr b="0" lang="zh-CN" sz="1500" spc="-1" strike="noStrike">
                <a:solidFill>
                  <a:srgbClr val="1faecd"/>
                </a:solidFill>
                <a:latin typeface="宋体"/>
                <a:ea typeface="宋体"/>
              </a:rPr>
              <a:t>灯是我们现在生活中少不了的东西，没有它就没有光明。依照方案，我们先在网上找了一些关于</a:t>
            </a:r>
            <a:r>
              <a:rPr b="0" lang="en-US" sz="1500" spc="-1" strike="noStrike">
                <a:solidFill>
                  <a:srgbClr val="1faecd"/>
                </a:solidFill>
                <a:latin typeface="宋体"/>
                <a:ea typeface="宋体"/>
              </a:rPr>
              <a:t>LED</a:t>
            </a:r>
            <a:r>
              <a:rPr b="0" lang="zh-CN" sz="1500" spc="-1" strike="noStrike">
                <a:solidFill>
                  <a:srgbClr val="1faecd"/>
                </a:solidFill>
                <a:latin typeface="宋体"/>
                <a:ea typeface="宋体"/>
              </a:rPr>
              <a:t>灯和白炽灯的知识。这些知识让我们对电灯多了一些了解。接下来，我们依次列出了如今生活中</a:t>
            </a:r>
            <a:r>
              <a:rPr b="0" lang="en-US" sz="1500" spc="-1" strike="noStrike">
                <a:solidFill>
                  <a:srgbClr val="1faecd"/>
                </a:solidFill>
                <a:latin typeface="宋体"/>
                <a:ea typeface="宋体"/>
              </a:rPr>
              <a:t>LED</a:t>
            </a:r>
            <a:r>
              <a:rPr b="0" lang="zh-CN" sz="1500" spc="-1" strike="noStrike">
                <a:solidFill>
                  <a:srgbClr val="1faecd"/>
                </a:solidFill>
                <a:latin typeface="宋体"/>
                <a:ea typeface="宋体"/>
              </a:rPr>
              <a:t>灯的优点：</a:t>
            </a:r>
            <a:r>
              <a:rPr b="0" lang="en-US" sz="1500" spc="-1" strike="noStrike">
                <a:solidFill>
                  <a:srgbClr val="1faecd"/>
                </a:solidFill>
                <a:latin typeface="宋体"/>
                <a:ea typeface="宋体"/>
              </a:rPr>
              <a:t>1</a:t>
            </a:r>
            <a:r>
              <a:rPr b="0" lang="zh-CN" sz="1500" spc="-1" strike="noStrike">
                <a:solidFill>
                  <a:srgbClr val="1faecd"/>
                </a:solidFill>
                <a:latin typeface="宋体"/>
                <a:ea typeface="宋体"/>
              </a:rPr>
              <a:t>、节能省电； </a:t>
            </a:r>
            <a:r>
              <a:rPr b="0" lang="en-US" sz="1500" spc="-1" strike="noStrike">
                <a:solidFill>
                  <a:srgbClr val="1faecd"/>
                </a:solidFill>
                <a:latin typeface="宋体"/>
                <a:ea typeface="宋体"/>
              </a:rPr>
              <a:t>2</a:t>
            </a:r>
            <a:r>
              <a:rPr b="0" lang="zh-CN" sz="1500" spc="-1" strike="noStrike">
                <a:solidFill>
                  <a:srgbClr val="1faecd"/>
                </a:solidFill>
                <a:latin typeface="宋体"/>
                <a:ea typeface="宋体"/>
              </a:rPr>
              <a:t>、保护视力； </a:t>
            </a:r>
            <a:r>
              <a:rPr b="0" lang="en-US" sz="1500" spc="-1" strike="noStrike">
                <a:solidFill>
                  <a:srgbClr val="1faecd"/>
                </a:solidFill>
                <a:latin typeface="宋体"/>
                <a:ea typeface="宋体"/>
              </a:rPr>
              <a:t>3</a:t>
            </a:r>
            <a:r>
              <a:rPr b="0" lang="zh-CN" sz="1500" spc="-1" strike="noStrike">
                <a:solidFill>
                  <a:srgbClr val="1faecd"/>
                </a:solidFill>
                <a:latin typeface="宋体"/>
                <a:ea typeface="宋体"/>
              </a:rPr>
              <a:t>、污染少，不会破坏环境；  </a:t>
            </a:r>
            <a:r>
              <a:rPr b="0" lang="en-US" sz="1500" spc="-1" strike="noStrike">
                <a:solidFill>
                  <a:srgbClr val="1faecd"/>
                </a:solidFill>
                <a:latin typeface="宋体"/>
                <a:ea typeface="宋体"/>
              </a:rPr>
              <a:t>4</a:t>
            </a:r>
            <a:r>
              <a:rPr b="0" lang="zh-CN" sz="1500" spc="-1" strike="noStrike">
                <a:solidFill>
                  <a:srgbClr val="1faecd"/>
                </a:solidFill>
                <a:latin typeface="宋体"/>
                <a:ea typeface="宋体"/>
              </a:rPr>
              <a:t>、寿命比较长。拍摄方面的工作是我们组的刘云负责的。挑好了时间，就去拍了一些大街小巷灯的使用情况，但这些并不是我们想要的。又在接下来的日子里，努力了几天，在把照相机拍到没电的情况下，基本上完成了拍摄。下面的工作便是问卷调查，商老师布置给我们一个很艰巨的任务，就是要我们去大街小巷去调查。开始有点害怕，但当我们鼓起勇气后就不那么害怕了，那些街坊邻居还有警察、卖灯的阿姨都给予我们调查很多帮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1faecd"/>
                </a:solidFill>
                <a:latin typeface="宋体"/>
                <a:ea typeface="宋体"/>
              </a:rPr>
              <a:t>   </a:t>
            </a:r>
            <a:r>
              <a:rPr b="0" lang="zh-CN" sz="1500" spc="-1" strike="noStrike">
                <a:solidFill>
                  <a:srgbClr val="1faecd"/>
                </a:solidFill>
                <a:latin typeface="宋体"/>
                <a:ea typeface="宋体"/>
              </a:rPr>
              <a:t>在这些过程中，我明白了并不是所有想做的事都会成功的，就像我们一开始去拍摄路灯因为白天灯不工作，实在无法辨别那是什么灯，而无法达到我们想要的材料。但我们没有放弃，在那次失败后，我又去了几次，终于一次比一次好了。在开始去问卷调查时心里也十分怕，怕他们不理我们，但发现大家都能很好的配合，我们很感谢他们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云形标注 3"/>
          <p:cNvSpPr/>
          <p:nvPr/>
        </p:nvSpPr>
        <p:spPr>
          <a:xfrm>
            <a:off x="6934320" y="152280"/>
            <a:ext cx="1981080" cy="12193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7086600" y="380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aecd"/>
                </a:solidFill>
                <a:latin typeface="Times New Roman"/>
                <a:ea typeface="宋体"/>
              </a:rPr>
              <a:t>课题组成员心得会</a:t>
            </a:r>
            <a:r>
              <a:rPr b="1" lang="en-US" sz="1800" spc="-1" strike="noStrike">
                <a:solidFill>
                  <a:srgbClr val="1faecd"/>
                </a:solidFill>
                <a:latin typeface="Times New Roman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1faecd"/>
                </a:solidFill>
                <a:latin typeface="Times New Roman"/>
                <a:ea typeface="宋体"/>
              </a:rPr>
              <a:t>刘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5" descr="wifi0s0-174238416IMG_20140124_120723_0.jpg"/>
          <p:cNvPicPr/>
          <p:nvPr/>
        </p:nvPicPr>
        <p:blipFill>
          <a:blip r:embed="rId1"/>
          <a:stretch/>
        </p:blipFill>
        <p:spPr>
          <a:xfrm>
            <a:off x="6324480" y="4800600"/>
            <a:ext cx="2667240" cy="2000160"/>
          </a:xfrm>
          <a:prstGeom prst="rect">
            <a:avLst/>
          </a:prstGeom>
          <a:ln w="0">
            <a:noFill/>
          </a:ln>
        </p:spPr>
      </p:pic>
      <p:sp>
        <p:nvSpPr>
          <p:cNvPr id="323" name="椭圆 7"/>
          <p:cNvSpPr/>
          <p:nvPr/>
        </p:nvSpPr>
        <p:spPr>
          <a:xfrm>
            <a:off x="152280" y="533520"/>
            <a:ext cx="7543800" cy="4724280"/>
          </a:xfrm>
          <a:prstGeom prst="ellipse">
            <a:avLst/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1523880" y="23641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次我们小组研究的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灯和白炽灯的对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负责摄影，这几周里，我们在灯具店，操场进行了拍摄，几经波折终于拍到一些有用的东西。开始，去人家店里不好意思拍，怕别人说我们很奇怪，后来跟卖灯的阿姨聊了一下，她不但没有阻止我们，反而给予我们很多帮助，不仅为我们介绍灯的区别和销售良，还为我们提供拍摄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云形标注 3"/>
          <p:cNvSpPr/>
          <p:nvPr/>
        </p:nvSpPr>
        <p:spPr>
          <a:xfrm>
            <a:off x="6629400" y="380880"/>
            <a:ext cx="2133720" cy="1295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6934320" y="533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aecd"/>
                </a:solidFill>
                <a:latin typeface="Times New Roman"/>
                <a:ea typeface="宋体"/>
              </a:rPr>
              <a:t>课题组成员心得会</a:t>
            </a:r>
            <a:r>
              <a:rPr b="1" lang="en-US" sz="1800" spc="-1" strike="noStrike">
                <a:solidFill>
                  <a:srgbClr val="1faecd"/>
                </a:solidFill>
                <a:latin typeface="Times New Roman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1faecd"/>
                </a:solidFill>
                <a:latin typeface="Times New Roman"/>
                <a:ea typeface="宋体"/>
              </a:rPr>
              <a:t>沈烨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图片 5" descr="QQ图片20140124123508.jpg"/>
          <p:cNvPicPr/>
          <p:nvPr/>
        </p:nvPicPr>
        <p:blipFill>
          <a:blip r:embed="rId1"/>
          <a:stretch/>
        </p:blipFill>
        <p:spPr>
          <a:xfrm>
            <a:off x="228600" y="22860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328" name="正五边形 6"/>
          <p:cNvSpPr/>
          <p:nvPr/>
        </p:nvSpPr>
        <p:spPr>
          <a:xfrm>
            <a:off x="1600200" y="1295280"/>
            <a:ext cx="7162920" cy="5410440"/>
          </a:xfrm>
          <a:prstGeom prst="pentagon">
            <a:avLst/>
          </a:prstGeom>
          <a:solidFill>
            <a:srgbClr val="ffffff"/>
          </a:solidFill>
          <a:ln w="57240">
            <a:solidFill>
              <a:srgbClr val="2da2b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"/>
          <p:cNvSpPr/>
          <p:nvPr/>
        </p:nvSpPr>
        <p:spPr>
          <a:xfrm flipH="1">
            <a:off x="3047400" y="417060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我的任务是分析灯之间的区别和整理资料。上个星期六我跑去图书馆查找资料，因为时间有限，而且图书馆的数量太多，不好找。于是星期天下午我上网寻找灯的资料，我感觉这个比较容易和方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心得体会：这次研究性学习可以发展我们自己动手动脑的能力，而且可以培养我们以后在社会上的工作能力，我们要积极参与。另外，我在这次研究活动中感悟到团队合作精神的重要性，当组员有困难时，我虽然不是负责干那样活的，但我也积极的帮助别人，当我统计时，因为数量太多，很难统计，于是他们就帮我一起统计，所有人都在积极参与，我真的很开心。虽然有些事非常难，但我们依然会克服困难，寻找解决问题的方法。我们始终相信一句话：“我相信，我能行！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3" descr="wifi0s01881815633IMG_20140124_120739_0.jpg"/>
          <p:cNvPicPr/>
          <p:nvPr/>
        </p:nvPicPr>
        <p:blipFill>
          <a:blip r:embed="rId1"/>
          <a:stretch/>
        </p:blipFill>
        <p:spPr>
          <a:xfrm>
            <a:off x="5791320" y="2286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331" name="云形标注 4"/>
          <p:cNvSpPr/>
          <p:nvPr/>
        </p:nvSpPr>
        <p:spPr>
          <a:xfrm>
            <a:off x="6781680" y="4572000"/>
            <a:ext cx="2133720" cy="129528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6"/>
          <p:cNvSpPr/>
          <p:nvPr/>
        </p:nvSpPr>
        <p:spPr>
          <a:xfrm>
            <a:off x="7020000" y="491652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aecd"/>
                </a:solidFill>
                <a:latin typeface="Times New Roman"/>
                <a:ea typeface="宋体"/>
              </a:rPr>
              <a:t>课题组成员心得会</a:t>
            </a:r>
            <a:r>
              <a:rPr b="1" lang="en-US" sz="1800" spc="-1" strike="noStrike">
                <a:solidFill>
                  <a:srgbClr val="1faecd"/>
                </a:solidFill>
                <a:latin typeface="Times New Roman"/>
                <a:ea typeface="宋体"/>
              </a:rPr>
              <a:t>——</a:t>
            </a:r>
            <a:r>
              <a:rPr b="1" lang="zh-CN" sz="1800" spc="-1" strike="noStrike">
                <a:solidFill>
                  <a:srgbClr val="1faecd"/>
                </a:solidFill>
                <a:latin typeface="Times New Roman"/>
                <a:ea typeface="宋体"/>
              </a:rPr>
              <a:t>王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右箭头标注 8"/>
          <p:cNvSpPr/>
          <p:nvPr/>
        </p:nvSpPr>
        <p:spPr>
          <a:xfrm>
            <a:off x="304920" y="609480"/>
            <a:ext cx="8076960" cy="6019920"/>
          </a:xfrm>
          <a:prstGeom prst="rightArrowCallout">
            <a:avLst>
              <a:gd name="adj1" fmla="val 9010"/>
              <a:gd name="adj2" fmla="val 12593"/>
              <a:gd name="adj3" fmla="val -14539"/>
              <a:gd name="adj4" fmla="val 64977"/>
            </a:avLst>
          </a:prstGeom>
          <a:noFill/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0"/>
          <p:cNvSpPr/>
          <p:nvPr/>
        </p:nvSpPr>
        <p:spPr>
          <a:xfrm>
            <a:off x="457200" y="9144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我这次的任务是电脑制作，开始我并不怎么会，弄后来经人指点，才慢慢学会了，技术也越来越熟练了。一开始，我并不顺利，既不会配颜色也不会让标题鲜明。但经过一番熟悉之后，我便熟练多了，做起来也得心应手多了，我还打了问卷，收集了一些资料。通过这次研究性学习，我不仅增长了见识，更让我明白了所有事都是从不会到会的，只要慢慢的学。从这次的研究中我还发现，十几年了我对身边的生活了解的太少了，我们应该积极思考，主动学习探究，从生活下手，找到一些奥秘让生活更有乐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流程图: 资料带 4"/>
          <p:cNvSpPr/>
          <p:nvPr/>
        </p:nvSpPr>
        <p:spPr>
          <a:xfrm>
            <a:off x="609480" y="1143000"/>
            <a:ext cx="8077320" cy="2971800"/>
          </a:xfrm>
          <a:prstGeom prst="flowChartPunchedTape">
            <a:avLst/>
          </a:prstGeom>
          <a:noFill/>
          <a:ln w="5508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矩形 5" descr=""/>
          <p:cNvPicPr/>
          <p:nvPr/>
        </p:nvPicPr>
        <p:blipFill>
          <a:blip r:embed="rId1"/>
          <a:stretch/>
        </p:blipFill>
        <p:spPr>
          <a:xfrm>
            <a:off x="719280" y="781200"/>
            <a:ext cx="7997760" cy="3449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矩形 3" descr=""/>
          <p:cNvPicPr/>
          <p:nvPr/>
        </p:nvPicPr>
        <p:blipFill>
          <a:blip r:embed="rId1"/>
          <a:stretch/>
        </p:blipFill>
        <p:spPr>
          <a:xfrm>
            <a:off x="1920960" y="1450800"/>
            <a:ext cx="6242040" cy="293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剪去同侧角的矩形 4"/>
          <p:cNvSpPr/>
          <p:nvPr/>
        </p:nvSpPr>
        <p:spPr>
          <a:xfrm>
            <a:off x="1371600" y="609480"/>
            <a:ext cx="6095880" cy="1067040"/>
          </a:xfrm>
          <a:custGeom>
            <a:avLst/>
            <a:gdLst>
              <a:gd name="textAreaLeft" fmla="*/ 88560 w 6095880"/>
              <a:gd name="textAreaRight" fmla="*/ 6007320 w 6095880"/>
              <a:gd name="textAreaTop" fmla="*/ 88920 h 1067040"/>
              <a:gd name="textAreaBottom" fmla="*/ 1067040 h 1067040"/>
            </a:gdLst>
            <a:ahLst/>
            <a:rect l="textAreaLeft" t="textAreaTop" r="textAreaRight" b="textAreaBottom"/>
            <a:pathLst>
              <a:path w="6096000" h="1066800">
                <a:moveTo>
                  <a:pt x="177804" y="0"/>
                </a:moveTo>
                <a:lnTo>
                  <a:pt x="5918196" y="0"/>
                </a:lnTo>
                <a:lnTo>
                  <a:pt x="6096000" y="177804"/>
                </a:lnTo>
                <a:lnTo>
                  <a:pt x="6096000" y="1066800"/>
                </a:lnTo>
                <a:lnTo>
                  <a:pt x="6096000" y="1066800"/>
                </a:lnTo>
                <a:lnTo>
                  <a:pt x="0" y="1066800"/>
                </a:lnTo>
                <a:lnTo>
                  <a:pt x="0" y="1066800"/>
                </a:lnTo>
                <a:lnTo>
                  <a:pt x="0" y="177804"/>
                </a:lnTo>
                <a:close/>
              </a:path>
            </a:pathLst>
          </a:custGeom>
          <a:solidFill>
            <a:srgbClr val="b5e9f4"/>
          </a:solidFill>
          <a:ln w="55080">
            <a:solidFill>
              <a:srgbClr val="78d6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矩形 5" descr=""/>
          <p:cNvPicPr/>
          <p:nvPr/>
        </p:nvPicPr>
        <p:blipFill>
          <a:blip r:embed="rId1"/>
          <a:stretch/>
        </p:blipFill>
        <p:spPr>
          <a:xfrm>
            <a:off x="1822320" y="407880"/>
            <a:ext cx="551664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1143000" y="2514600"/>
          <a:ext cx="7086600" cy="2743200"/>
        </p:xfrm>
        <a:graphic>
          <a:graphicData uri="http://schemas.openxmlformats.org/drawingml/2006/table">
            <a:tbl>
              <a:tblPr/>
              <a:tblGrid>
                <a:gridCol w="1063800"/>
                <a:gridCol w="796680"/>
                <a:gridCol w="52261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Lucida Sans Unicode"/>
                          <a:ea typeface="黑体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Lucida Sans Unicode"/>
                          <a:ea typeface="黑体"/>
                        </a:rPr>
                        <a:t>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Lucida Sans Unicode"/>
                          <a:ea typeface="黑体"/>
                        </a:rPr>
                        <a:t>分工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王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设计问卷，制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P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沈烨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完成研究记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王淑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对交警和灯具店人员进行采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刘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Lucida Sans Unicode"/>
                          <a:ea typeface="黑体"/>
                        </a:rPr>
                        <a:t>进行实验研究，测量灯的功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剪去对角的矩形 3"/>
          <p:cNvSpPr/>
          <p:nvPr/>
        </p:nvSpPr>
        <p:spPr>
          <a:xfrm>
            <a:off x="1676520" y="152280"/>
            <a:ext cx="5257800" cy="1447920"/>
          </a:xfrm>
          <a:custGeom>
            <a:avLst/>
            <a:gdLst>
              <a:gd name="textAreaLeft" fmla="*/ 120600 w 5257800"/>
              <a:gd name="textAreaRight" fmla="*/ 5137200 w 5257800"/>
              <a:gd name="textAreaTop" fmla="*/ 120600 h 1447920"/>
              <a:gd name="textAreaBottom" fmla="*/ 1327320 h 1447920"/>
            </a:gdLst>
            <a:ahLst/>
            <a:rect l="textAreaLeft" t="textAreaTop" r="textAreaRight" b="textAreaBottom"/>
            <a:pathLst>
              <a:path w="5257800" h="1447800">
                <a:moveTo>
                  <a:pt x="0" y="0"/>
                </a:moveTo>
                <a:lnTo>
                  <a:pt x="5016495" y="0"/>
                </a:lnTo>
                <a:lnTo>
                  <a:pt x="5257800" y="241305"/>
                </a:lnTo>
                <a:lnTo>
                  <a:pt x="5257800" y="1447800"/>
                </a:lnTo>
                <a:lnTo>
                  <a:pt x="5257800" y="1447800"/>
                </a:lnTo>
                <a:lnTo>
                  <a:pt x="241305" y="1447800"/>
                </a:lnTo>
                <a:lnTo>
                  <a:pt x="0" y="120649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8d6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矩形 4" descr=""/>
          <p:cNvPicPr/>
          <p:nvPr/>
        </p:nvPicPr>
        <p:blipFill>
          <a:blip r:embed="rId1"/>
          <a:stretch/>
        </p:blipFill>
        <p:spPr>
          <a:xfrm>
            <a:off x="1511280" y="-268200"/>
            <a:ext cx="5743440" cy="1682640"/>
          </a:xfrm>
          <a:prstGeom prst="rect">
            <a:avLst/>
          </a:prstGeom>
          <a:ln w="0">
            <a:noFill/>
          </a:ln>
        </p:spPr>
      </p:pic>
      <p:sp>
        <p:nvSpPr>
          <p:cNvPr id="287" name="任意多边形 5"/>
          <p:cNvSpPr/>
          <p:nvPr/>
        </p:nvSpPr>
        <p:spPr>
          <a:xfrm>
            <a:off x="3348000" y="1143000"/>
            <a:ext cx="3052800" cy="426960"/>
          </a:xfrm>
          <a:custGeom>
            <a:avLst/>
            <a:gdLst/>
            <a:ahLst/>
            <a:rect l="l" t="t" r="r" b="b"/>
            <a:pathLst>
              <a:path w="2062164" h="426244">
                <a:moveTo>
                  <a:pt x="1585913" y="180975"/>
                </a:moveTo>
                <a:cubicBezTo>
                  <a:pt x="1624013" y="207169"/>
                  <a:pt x="1662113" y="233363"/>
                  <a:pt x="1728788" y="252413"/>
                </a:cubicBezTo>
                <a:cubicBezTo>
                  <a:pt x="1795463" y="271463"/>
                  <a:pt x="1940719" y="335756"/>
                  <a:pt x="1985963" y="295275"/>
                </a:cubicBezTo>
                <a:cubicBezTo>
                  <a:pt x="2031207" y="254794"/>
                  <a:pt x="2062164" y="19050"/>
                  <a:pt x="2000251" y="9525"/>
                </a:cubicBezTo>
                <a:cubicBezTo>
                  <a:pt x="1938339" y="0"/>
                  <a:pt x="1940719" y="233363"/>
                  <a:pt x="1614488" y="238125"/>
                </a:cubicBezTo>
                <a:cubicBezTo>
                  <a:pt x="1288257" y="242888"/>
                  <a:pt x="0" y="426244"/>
                  <a:pt x="42863" y="38100"/>
                </a:cubicBezTo>
              </a:path>
            </a:pathLst>
          </a:custGeom>
          <a:noFill/>
          <a:ln w="9360">
            <a:solidFill>
              <a:srgbClr val="2da2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流程图: 可选过程 7"/>
          <p:cNvSpPr/>
          <p:nvPr/>
        </p:nvSpPr>
        <p:spPr>
          <a:xfrm>
            <a:off x="762120" y="2133720"/>
            <a:ext cx="7543800" cy="3657600"/>
          </a:xfrm>
          <a:prstGeom prst="flowChartAlternateProcess">
            <a:avLst/>
          </a:prstGeom>
          <a:solidFill>
            <a:srgbClr val="b5e9f4"/>
          </a:solidFill>
          <a:ln w="55080">
            <a:solidFill>
              <a:srgbClr val="def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faecd"/>
                </a:solidFill>
                <a:latin typeface="Lucida Sans Unicode"/>
                <a:ea typeface="黑体"/>
              </a:rPr>
              <a:t>据介绍，</a:t>
            </a:r>
            <a:r>
              <a:rPr b="0" lang="en-US" sz="2600" spc="-1" strike="noStrike">
                <a:solidFill>
                  <a:srgbClr val="1faecd"/>
                </a:solidFill>
                <a:latin typeface="Lucida Sans Unicode"/>
                <a:ea typeface="黑体"/>
              </a:rPr>
              <a:t>LED</a:t>
            </a:r>
            <a:r>
              <a:rPr b="0" lang="zh-CN" sz="2600" spc="-1" strike="noStrike">
                <a:solidFill>
                  <a:srgbClr val="1faecd"/>
                </a:solidFill>
                <a:latin typeface="Lucida Sans Unicode"/>
                <a:ea typeface="黑体"/>
              </a:rPr>
              <a:t>灯节电高达</a:t>
            </a:r>
            <a:r>
              <a:rPr b="0" lang="en-US" sz="2600" spc="-1" strike="noStrike">
                <a:solidFill>
                  <a:srgbClr val="1faecd"/>
                </a:solidFill>
                <a:latin typeface="Lucida Sans Unicode"/>
                <a:ea typeface="黑体"/>
              </a:rPr>
              <a:t>80%</a:t>
            </a:r>
            <a:r>
              <a:rPr b="0" lang="zh-CN" sz="2600" spc="-1" strike="noStrike">
                <a:solidFill>
                  <a:srgbClr val="1faecd"/>
                </a:solidFill>
                <a:latin typeface="Lucida Sans Unicode"/>
                <a:ea typeface="黑体"/>
              </a:rPr>
              <a:t>以上，寿命为普通灯的</a:t>
            </a:r>
            <a:r>
              <a:rPr b="0" lang="en-US" sz="2600" spc="-1" strike="noStrike">
                <a:solidFill>
                  <a:srgbClr val="1faecd"/>
                </a:solidFill>
                <a:latin typeface="Lucida Sans Unicode"/>
                <a:ea typeface="黑体"/>
              </a:rPr>
              <a:t>10</a:t>
            </a:r>
            <a:r>
              <a:rPr b="0" lang="zh-CN" sz="2600" spc="-1" strike="noStrike">
                <a:solidFill>
                  <a:srgbClr val="1faecd"/>
                </a:solidFill>
                <a:latin typeface="Lucida Sans Unicode"/>
                <a:ea typeface="黑体"/>
              </a:rPr>
              <a:t>倍以上。绿色环保型的半导体点光源，有利于人的视力保护和身体健康。如果将传统灯换成</a:t>
            </a:r>
            <a:r>
              <a:rPr b="0" lang="en-US" sz="2600" spc="-1" strike="noStrike">
                <a:solidFill>
                  <a:srgbClr val="1faecd"/>
                </a:solidFill>
                <a:latin typeface="Lucida Sans Unicode"/>
                <a:ea typeface="黑体"/>
              </a:rPr>
              <a:t>LED</a:t>
            </a:r>
            <a:r>
              <a:rPr b="0" lang="zh-CN" sz="2600" spc="-1" strike="noStrike">
                <a:solidFill>
                  <a:srgbClr val="1faecd"/>
                </a:solidFill>
                <a:latin typeface="Lucida Sans Unicode"/>
                <a:ea typeface="黑体"/>
              </a:rPr>
              <a:t>灯，不仅可以节约电，还可以绿色环保，低碳生活。白炽灯和</a:t>
            </a:r>
            <a:r>
              <a:rPr b="0" lang="en-US" sz="2600" spc="-1" strike="noStrike">
                <a:solidFill>
                  <a:srgbClr val="1faecd"/>
                </a:solidFill>
                <a:latin typeface="Lucida Sans Unicode"/>
                <a:ea typeface="黑体"/>
              </a:rPr>
              <a:t>LED</a:t>
            </a:r>
            <a:r>
              <a:rPr b="0" lang="zh-CN" sz="2600" spc="-1" strike="noStrike">
                <a:solidFill>
                  <a:srgbClr val="1faecd"/>
                </a:solidFill>
                <a:latin typeface="Lucida Sans Unicode"/>
                <a:ea typeface="黑体"/>
              </a:rPr>
              <a:t>灯的构造、原理及使用情况怎么样呢？带着这些问题，我们爱迪生组开始了该课题的调查与研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云形标注 3" descr=""/>
          <p:cNvPicPr/>
          <p:nvPr/>
        </p:nvPicPr>
        <p:blipFill>
          <a:blip r:embed="rId1"/>
          <a:stretch/>
        </p:blipFill>
        <p:spPr>
          <a:xfrm>
            <a:off x="2408400" y="-23760"/>
            <a:ext cx="3419280" cy="24858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914400" y="2362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研究和调查，了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与白炽灯的构造及发光原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与白炽灯的功率，了解节能的原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比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与白炽灯的优缺点，了解推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E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的前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探究活动，增进对物理与生活的认识，提升综合素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右箭头 3"/>
          <p:cNvSpPr/>
          <p:nvPr/>
        </p:nvSpPr>
        <p:spPr>
          <a:xfrm>
            <a:off x="380880" y="152280"/>
            <a:ext cx="3353040" cy="914400"/>
          </a:xfrm>
          <a:prstGeom prst="rightArrow">
            <a:avLst>
              <a:gd name="adj1" fmla="val 50000"/>
              <a:gd name="adj2" fmla="val 65631"/>
            </a:avLst>
          </a:prstGeom>
          <a:solidFill>
            <a:srgbClr val="def5f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aecd"/>
                </a:solidFill>
                <a:latin typeface="Lucida Sans Unicode"/>
                <a:ea typeface="黑体"/>
              </a:rPr>
              <a:t>研究主要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4"/>
          <p:cNvSpPr/>
          <p:nvPr/>
        </p:nvSpPr>
        <p:spPr>
          <a:xfrm>
            <a:off x="838080" y="1371600"/>
            <a:ext cx="7696440" cy="16002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1523880" y="14529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.LE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灯与白炽灯的构造及发光原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实验测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灯与白炽灯的功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推广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灯的成因研究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左箭头 6"/>
          <p:cNvSpPr/>
          <p:nvPr/>
        </p:nvSpPr>
        <p:spPr>
          <a:xfrm>
            <a:off x="4952880" y="3200400"/>
            <a:ext cx="3048120" cy="10666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d3eef5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aecd"/>
                </a:solidFill>
                <a:latin typeface="Lucida Sans Unicode"/>
                <a:ea typeface="黑体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流程图: 可选过程 7"/>
          <p:cNvSpPr/>
          <p:nvPr/>
        </p:nvSpPr>
        <p:spPr>
          <a:xfrm>
            <a:off x="2438280" y="4724280"/>
            <a:ext cx="6248520" cy="762120"/>
          </a:xfrm>
          <a:prstGeom prst="flowChartAlternateProcess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Lucida Sans Unicode"/>
                <a:ea typeface="黑体"/>
              </a:rPr>
              <a:t>网络资料法、实验研究法、走访调查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上凸带形 3"/>
          <p:cNvSpPr/>
          <p:nvPr/>
        </p:nvSpPr>
        <p:spPr>
          <a:xfrm>
            <a:off x="5334120" y="152280"/>
            <a:ext cx="3352680" cy="83844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0 h 838440"/>
              <a:gd name="textAreaBottom" fmla="*/ 698760 h 83844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78d6ea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Lucida Sans Unicode"/>
                <a:ea typeface="黑体"/>
              </a:rPr>
              <a:t>研究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4"/>
          <p:cNvSpPr/>
          <p:nvPr/>
        </p:nvSpPr>
        <p:spPr>
          <a:xfrm>
            <a:off x="304920" y="1371600"/>
            <a:ext cx="8610480" cy="441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7ac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457200" y="2576160"/>
            <a:ext cx="8305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．第一阶段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013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1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8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~2013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1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4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)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：设计研究方案。先组员各自思考研究课题，然后在一起研讨，确定课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．第二阶段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013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1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5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~2013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2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）：上网调查，了解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LED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灯与白炽灯的有关数据，如：它们的构造、发光原理、功率及其优缺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3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．第三阶段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013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2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9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~2013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2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5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）：采访。走访灯具店的专业人员，了解关于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LED 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灯的使用情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4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．第四阶段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013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2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6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~2013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2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2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）：实验测量。到实验室做实验，用电能表和秒表分别测量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LED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灯与白炽灯在一定时间内消耗的电能，计算它们的实际功率的发光亮暗情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5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．第五阶段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014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8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~2011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4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）：撰写研究报告。整理资料，分析数据，交流讨论，准备汇报材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6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．第六阶段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014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5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~2011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年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1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月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28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日）：撰写倡议书，向居民发放宣传单，介绍推广使用</a:t>
            </a:r>
            <a:r>
              <a:rPr b="1" lang="en-US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LED</a:t>
            </a:r>
            <a:r>
              <a:rPr b="1" lang="zh-CN" sz="1600" spc="-1" strike="noStrike">
                <a:solidFill>
                  <a:srgbClr val="1faecd"/>
                </a:solidFill>
                <a:latin typeface="Times New Roman"/>
                <a:ea typeface="宋体"/>
              </a:rPr>
              <a:t>灯。</a:t>
            </a:r>
            <a:r>
              <a:rPr b="1" lang="zh-CN" sz="1600" spc="-1" strike="noStrike">
                <a:solidFill>
                  <a:srgbClr val="1faecd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流程图: 延期 3"/>
          <p:cNvSpPr/>
          <p:nvPr/>
        </p:nvSpPr>
        <p:spPr>
          <a:xfrm>
            <a:off x="533520" y="457200"/>
            <a:ext cx="1600200" cy="914400"/>
          </a:xfrm>
          <a:prstGeom prst="flowChartDelay">
            <a:avLst/>
          </a:prstGeom>
          <a:solidFill>
            <a:srgbClr val="ffffff"/>
          </a:solidFill>
          <a:ln w="55080">
            <a:solidFill>
              <a:srgbClr val="a6dd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0" y="405720"/>
            <a:ext cx="2209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aecd"/>
                </a:solidFill>
                <a:latin typeface="Times New Roman"/>
                <a:ea typeface="宋体"/>
              </a:rPr>
              <a:t>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aecd"/>
                </a:solidFill>
                <a:latin typeface="Times New Roman"/>
                <a:ea typeface="宋体"/>
              </a:rPr>
              <a:t>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流程图: 库存数据 5"/>
          <p:cNvSpPr/>
          <p:nvPr/>
        </p:nvSpPr>
        <p:spPr>
          <a:xfrm>
            <a:off x="3505320" y="228600"/>
            <a:ext cx="5105160" cy="2590920"/>
          </a:xfrm>
          <a:prstGeom prst="flowChartOnlineStorag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3581280" y="505800"/>
            <a:ext cx="426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、实地考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课间时间，我们对马路和街坊邻居进行了巡视，发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灯和白炽灯的使用情况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路灯一般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居民家中一般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白炽灯如今被很少使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QQ图片20140124121307.jpg"/>
          <p:cNvPicPr/>
          <p:nvPr/>
        </p:nvPicPr>
        <p:blipFill>
          <a:blip r:embed="rId1"/>
          <a:stretch/>
        </p:blipFill>
        <p:spPr>
          <a:xfrm>
            <a:off x="457200" y="1905120"/>
            <a:ext cx="2800440" cy="37335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8" descr="wifi0s0-1991120595IMG_20140122_160550_0.jpg"/>
          <p:cNvPicPr/>
          <p:nvPr/>
        </p:nvPicPr>
        <p:blipFill>
          <a:blip r:embed="rId2"/>
          <a:stretch/>
        </p:blipFill>
        <p:spPr>
          <a:xfrm>
            <a:off x="4191120" y="304812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流程图: 延期 3"/>
          <p:cNvSpPr/>
          <p:nvPr/>
        </p:nvSpPr>
        <p:spPr>
          <a:xfrm>
            <a:off x="6324480" y="2819520"/>
            <a:ext cx="1600200" cy="914400"/>
          </a:xfrm>
          <a:prstGeom prst="flowChartDelay">
            <a:avLst/>
          </a:prstGeom>
          <a:solidFill>
            <a:srgbClr val="ffffff"/>
          </a:solidFill>
          <a:ln w="55080">
            <a:solidFill>
              <a:srgbClr val="a6dd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aecd"/>
                </a:solidFill>
                <a:latin typeface="Times New Roman"/>
                <a:ea typeface="宋体"/>
              </a:rPr>
              <a:t>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aecd"/>
                </a:solidFill>
                <a:latin typeface="Times New Roman"/>
                <a:ea typeface="宋体"/>
              </a:rPr>
              <a:t>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6" descr="wifi0s01881815633IMG_20140124_120739_0.jpg"/>
          <p:cNvPicPr/>
          <p:nvPr/>
        </p:nvPicPr>
        <p:blipFill>
          <a:blip r:embed="rId1"/>
          <a:stretch/>
        </p:blipFill>
        <p:spPr>
          <a:xfrm>
            <a:off x="6248520" y="5335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7" descr="wifi0s0-174238416IMG_20140124_120723_0.jpg"/>
          <p:cNvPicPr/>
          <p:nvPr/>
        </p:nvPicPr>
        <p:blipFill>
          <a:blip r:embed="rId2"/>
          <a:stretch/>
        </p:blipFill>
        <p:spPr>
          <a:xfrm>
            <a:off x="6350040" y="396252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308" name="圆角矩形 8"/>
          <p:cNvSpPr/>
          <p:nvPr/>
        </p:nvSpPr>
        <p:spPr>
          <a:xfrm>
            <a:off x="533520" y="304920"/>
            <a:ext cx="5486400" cy="5715000"/>
          </a:xfrm>
          <a:custGeom>
            <a:avLst/>
            <a:gdLst>
              <a:gd name="textAreaLeft" fmla="*/ 267840 w 5486400"/>
              <a:gd name="textAreaRight" fmla="*/ 5218560 w 5486400"/>
              <a:gd name="textAreaTop" fmla="*/ 267840 h 5715000"/>
              <a:gd name="textAreaBottom" fmla="*/ 5447160 h 571500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f5fa"/>
          </a:solidFill>
          <a:ln w="55080">
            <a:solidFill>
              <a:srgbClr val="78d6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609480" y="2144880"/>
            <a:ext cx="541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80"/>
                </a:solidFill>
                <a:latin typeface="Times New Roman"/>
                <a:ea typeface="宋体"/>
              </a:rPr>
              <a:t>、来自网络的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灯即为为节能灯，是白炽灯的进步产品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灯具和白炽灯比较有如下优点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节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白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能耗仅为白炽灯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节能灯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长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寿命可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万小时以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普通家庭照明可谓一劳永逸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可以工作在高速状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节能灯如果频繁的启动或关断灯丝就会发黑很快的坏掉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固态封装，属于冷光源类型。所以它很方便运输和安装，可以被装置在任何微型和封闭的设备中，不怕振动，基本上用不着考虑散热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灯具技术正日新月异的在进步，它的发光效率正在取得惊人的突破，价格也在不断的降低。一个白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灯具进入家庭的时代正在迅速到来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环保，没有汞的有害物质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灯的组装部件可以非常容易的拆装，不用厂家回收都可以通过其它人回收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3" descr="QQ图片20140124123440.jpg"/>
          <p:cNvPicPr/>
          <p:nvPr/>
        </p:nvPicPr>
        <p:blipFill>
          <a:blip r:embed="rId1"/>
          <a:stretch/>
        </p:blipFill>
        <p:spPr>
          <a:xfrm>
            <a:off x="5410080" y="492120"/>
            <a:ext cx="3581640" cy="4613400"/>
          </a:xfrm>
          <a:prstGeom prst="rect">
            <a:avLst/>
          </a:prstGeom>
          <a:ln w="0">
            <a:noFill/>
          </a:ln>
        </p:spPr>
      </p:pic>
      <p:sp>
        <p:nvSpPr>
          <p:cNvPr id="311" name="左右箭头 4"/>
          <p:cNvSpPr/>
          <p:nvPr/>
        </p:nvSpPr>
        <p:spPr>
          <a:xfrm>
            <a:off x="5486400" y="5334120"/>
            <a:ext cx="3505320" cy="121896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Rectangle 1" descr=""/>
          <p:cNvPicPr/>
          <p:nvPr/>
        </p:nvPicPr>
        <p:blipFill>
          <a:blip r:embed="rId2"/>
          <a:stretch/>
        </p:blipFill>
        <p:spPr>
          <a:xfrm>
            <a:off x="5711760" y="5456160"/>
            <a:ext cx="2908440" cy="798480"/>
          </a:xfrm>
          <a:prstGeom prst="rect">
            <a:avLst/>
          </a:prstGeom>
          <a:ln w="0">
            <a:noFill/>
          </a:ln>
        </p:spPr>
      </p:pic>
      <p:sp>
        <p:nvSpPr>
          <p:cNvPr id="313" name="TextBox 7"/>
          <p:cNvSpPr/>
          <p:nvPr/>
        </p:nvSpPr>
        <p:spPr>
          <a:xfrm>
            <a:off x="762120" y="0"/>
            <a:ext cx="441936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通过调查实验和网络资料分析可知，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LED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灯和白炽灯对比起来有如下优点：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1.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	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节能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. 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白光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LED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的能耗仅为白炽灯的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1/10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，节能灯的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1/4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2.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	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长寿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. 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寿命可达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10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万小时以上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,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对普通家庭照明可谓一劳永逸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3.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	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LED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灯可以工作在高速状态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.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节能灯如果频繁的启动或关断灯丝就会发黑很快的坏掉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4.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	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LED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灯很方便运输和安装，可以被装置在任何微型和封闭的设备中，不怕振动，基本上用不着考虑散热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5.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	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LED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灯具技术正日新月异的在进步，它的发光效率正在取得惊人的突破，价格也在不断的降低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6.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	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环保，没有汞的有害物质。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LED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灯的组装部件可以非常容易的拆装，不用厂家回收都可以通过其它人回收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    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白炽灯必然会被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LED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灯具所取代。目前国家越来越重视照明节能及环保问题，已经在大力推行使用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LED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灯具了。特别是政府改造路灯项目首先就是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LED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路灯，就指明得用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LED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路灯可见</a:t>
            </a:r>
            <a:r>
              <a:rPr b="0" lang="en-US" sz="1700" spc="-1" strike="noStrike">
                <a:solidFill>
                  <a:srgbClr val="1faecd"/>
                </a:solidFill>
                <a:latin typeface="Arial"/>
                <a:ea typeface="黑体"/>
              </a:rPr>
              <a:t>LED</a:t>
            </a:r>
            <a:r>
              <a:rPr b="0" lang="zh-CN" sz="1700" spc="-1" strike="noStrike">
                <a:solidFill>
                  <a:srgbClr val="1faecd"/>
                </a:solidFill>
                <a:latin typeface="Arial"/>
                <a:ea typeface="黑体"/>
              </a:rPr>
              <a:t>灯具替代白炽灯的势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02:49:50Z</dcterms:created>
  <dc:creator>Administrator</dc:creator>
  <dc:description/>
  <dc:language>en-US</dc:language>
  <cp:lastModifiedBy>微软用户</cp:lastModifiedBy>
  <dcterms:modified xsi:type="dcterms:W3CDTF">2014-01-24T05:25:4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