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6DA-5F64-4338-9F39-16E2E6F7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491A-62F1-46BA-BF21-E50B209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B6A-1219-4482-BB29-3DEC1D15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072D-C08B-417F-B08B-7EE11028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DD1-9599-432C-9ADD-A83BE684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941F-008F-4595-A3B2-D252DD46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7EF5-3534-412E-8B94-95DBC5D3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68F-000C-4A6C-90BF-AF194EF9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82B7-1BC8-478C-BDB1-D0B3BFE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9696-3F59-4A50-8AE9-610EF742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9DBA-A0D1-416D-B657-3FAF8E5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A7E-DF3E-4522-9ED4-DA3ED016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28CD-2A35-46DF-8B51-F23C8C8C3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8-02-23T07:03:28Z</dcterms:modified>
  <cp:revision>29</cp:revision>
  <dc:subject/>
  <dc:title>幻灯片 1</dc:title>
</cp:coreProperties>
</file>