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png" ContentType="image/png"/>
  <Override PartName="/ppt/media/image12.jpeg" ContentType="image/jpeg"/>
  <Override PartName="/ppt/media/image10.png" ContentType="image/png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3DB-84A2-488D-9111-29A03D1F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2D6-163F-400D-84E8-87D0CBB2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3E8-59C8-4B7F-AB6D-95AD8187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055-1BBF-4B7C-87EF-50BB99F1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F0D-E696-41E7-9ECA-C9C602D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489-D26B-49AF-9ED4-2FB4A0B5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067-4781-4805-B0F4-728187AA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7F5-330A-4C31-B7A7-7ADD9B3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FFD-E27E-4B15-95AE-F0E3AD2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31E-3FE2-4D7E-A7CB-53B70CB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7A8-3AF7-41D4-8499-C5B18F1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ECF-4EA0-487D-8DAF-840C4FA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134-8C28-44FB-9493-BA88A6A84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:\&#24352;&#30922;&#36801;&#31227;\&#23616;&#23567;&#24037;&#20316;\&#21697;&#24503;&#19982;&#31038;&#20250;&#25945;&#26696;\&#25105;&#20204;&#20026;&#31062;&#20808;&#32780;&#39556;&#20658;&#65288;&#19978;&#65289;\&#27721;&#23383;&#33521;&#38596;&#24635;&#20915;&#36187;&#32553;&#20943;&#29256;.mpg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:\&#24352;&#30922;&#36801;&#31227;\&#23616;&#23567;&#24037;&#20316;\&#21697;&#24503;&#19982;&#31038;&#20250;&#25945;&#26696;\&#25105;&#20204;&#20026;&#31062;&#20808;&#32780;&#39556;&#20658;&#65288;&#19978;&#65289;\&#20070;&#27861;&#27427;&#36175;.m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hyperlink" Target="F:\&#24352;&#30922;&#36801;&#31227;\&#23616;&#23567;&#24037;&#20316;\&#21697;&#24503;&#19982;&#31038;&#20250;&#25945;&#26696;\&#25105;&#20204;&#20026;&#31062;&#20808;&#32780;&#39556;&#20658;&#65288;&#19978;&#65289;\For&#24352;&#30922;.flv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:\&#24352;&#30922;&#36801;&#31227;\&#23616;&#23567;&#24037;&#20316;\&#21697;&#24503;&#19982;&#31038;&#20250;&#25945;&#26696;\&#25105;&#20204;&#20026;&#31062;&#20808;&#32780;&#39556;&#20658;&#65288;&#19978;&#65289;\&#27721;&#23383;&#28436;&#21464;&#21160;&#30011;&#20462;&#25913;&#29256;.m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06668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301"/>
                </a:moveTo>
                <a:lnTo>
                  <a:pt x="9031" y="7301"/>
                </a:lnTo>
                <a:lnTo>
                  <a:pt x="9414" y="7667"/>
                </a:lnTo>
                <a:lnTo>
                  <a:pt x="18623" y="7667"/>
                </a:lnTo>
                <a:lnTo>
                  <a:pt x="19180" y="8224"/>
                </a:lnTo>
                <a:lnTo>
                  <a:pt x="19180" y="8772"/>
                </a:lnTo>
                <a:lnTo>
                  <a:pt x="21025" y="8772"/>
                </a:lnTo>
                <a:lnTo>
                  <a:pt x="21391" y="8224"/>
                </a:lnTo>
                <a:lnTo>
                  <a:pt x="22131" y="8224"/>
                </a:lnTo>
                <a:lnTo>
                  <a:pt x="22131" y="13376"/>
                </a:lnTo>
                <a:lnTo>
                  <a:pt x="21391" y="13376"/>
                </a:lnTo>
                <a:lnTo>
                  <a:pt x="21025" y="12828"/>
                </a:lnTo>
                <a:lnTo>
                  <a:pt x="19180" y="12828"/>
                </a:lnTo>
                <a:lnTo>
                  <a:pt x="19180" y="14107"/>
                </a:lnTo>
                <a:lnTo>
                  <a:pt x="9597" y="14107"/>
                </a:lnTo>
                <a:lnTo>
                  <a:pt x="9597" y="9877"/>
                </a:lnTo>
                <a:lnTo>
                  <a:pt x="9414" y="9877"/>
                </a:lnTo>
                <a:lnTo>
                  <a:pt x="9031" y="10243"/>
                </a:lnTo>
                <a:lnTo>
                  <a:pt x="811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2286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甲骨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93920" y="2124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篆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59000" y="49323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楷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4800" y="116676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金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9880" y="30718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隶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9920" y="578016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行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14800" y="3973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草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20870" b="0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3200" y="1828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414600">
            <a:off x="2781000" y="1637640"/>
            <a:ext cx="3429000" cy="44197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371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汉字英雄第二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字体辨认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29200" y="30492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208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20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5960" y="31384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2960" y="40971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35680" y="508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5680" y="6102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35816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按照汉字演变的顺序将“马”这个字进行排列，把相应的编号写下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914400" cy="76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48520" y="2209680"/>
            <a:ext cx="63324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5943600"/>
            <a:ext cx="914400" cy="73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838080" cy="65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324480" y="5029200"/>
            <a:ext cx="61776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248520" y="1143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248520" y="3200400"/>
            <a:ext cx="6858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22860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49320" y="29401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0880" y="3930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51120" y="1119240"/>
            <a:ext cx="8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5160" y="2033640"/>
            <a:ext cx="7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7640" y="5878440"/>
            <a:ext cx="77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7120" y="4867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80880"/>
            <a:ext cx="99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正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答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4600" y="380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98880" y="12096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6280" y="20480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23000" y="30351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隶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3000" y="4027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41720" y="4946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楷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86360" y="5867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行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838080" cy="696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52680" y="1143000"/>
            <a:ext cx="6336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0400" y="5867280"/>
            <a:ext cx="914400" cy="73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00400" y="2971800"/>
            <a:ext cx="838080" cy="655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352680" y="2057400"/>
            <a:ext cx="61776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352680" y="2286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3276720" y="4952880"/>
            <a:ext cx="6858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20870" b="0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1828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5414600">
            <a:off x="2781000" y="1637640"/>
            <a:ext cx="3429000" cy="44197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371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汉字英雄第三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汉字小游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52480" y="13716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/>
          </p:cNvPr>
          <p:cNvSpPr/>
          <p:nvPr/>
        </p:nvSpPr>
        <p:spPr>
          <a:xfrm>
            <a:off x="8305920" y="60958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301"/>
                </a:moveTo>
                <a:lnTo>
                  <a:pt x="8290" y="7301"/>
                </a:lnTo>
                <a:lnTo>
                  <a:pt x="8673" y="7667"/>
                </a:lnTo>
                <a:lnTo>
                  <a:pt x="17882" y="7667"/>
                </a:lnTo>
                <a:lnTo>
                  <a:pt x="18439" y="8224"/>
                </a:lnTo>
                <a:lnTo>
                  <a:pt x="18439" y="8772"/>
                </a:lnTo>
                <a:lnTo>
                  <a:pt x="20284" y="8772"/>
                </a:lnTo>
                <a:lnTo>
                  <a:pt x="20650" y="8224"/>
                </a:lnTo>
                <a:lnTo>
                  <a:pt x="21390" y="8224"/>
                </a:lnTo>
                <a:lnTo>
                  <a:pt x="21390" y="13376"/>
                </a:lnTo>
                <a:lnTo>
                  <a:pt x="20650" y="13376"/>
                </a:lnTo>
                <a:lnTo>
                  <a:pt x="20284" y="12828"/>
                </a:lnTo>
                <a:lnTo>
                  <a:pt x="18439" y="12828"/>
                </a:lnTo>
                <a:lnTo>
                  <a:pt x="18439" y="14107"/>
                </a:lnTo>
                <a:lnTo>
                  <a:pt x="8856" y="14107"/>
                </a:lnTo>
                <a:lnTo>
                  <a:pt x="8856" y="9877"/>
                </a:lnTo>
                <a:lnTo>
                  <a:pt x="8673" y="9877"/>
                </a:lnTo>
                <a:lnTo>
                  <a:pt x="8290" y="10243"/>
                </a:lnTo>
                <a:lnTo>
                  <a:pt x="737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2000" y="609480"/>
            <a:ext cx="441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学院，是中国在世界各地设立的推广汉语和传播中国文化的教育机构。最重要的一项工作就是给世界各地的汉语学习者提供规范、权威的现代汉语教材；提供最正规、最主要的汉语教学渠道。全球首家孔子学院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在韩国首尔成立，截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全球已建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孔子学院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孔子课堂，共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7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，分布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，成为汉语教学推广与中国文化传播的全球品牌和平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38280" y="6858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孔子学院世界分布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765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19810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765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7432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1371600"/>
            <a:ext cx="8458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1" lang="zh-CN" sz="5000" spc="-1" strike="noStrike">
                <a:solidFill>
                  <a:srgbClr val="ffffff"/>
                </a:solidFill>
                <a:latin typeface="隶书"/>
                <a:ea typeface="隶书"/>
              </a:rPr>
              <a:t>．我们为祖先而骄傲（上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——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千年不衰的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7242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常州市局前街小学教育集团  张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505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6765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676520" y="12952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猜字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209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黑狗，不叫不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2971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独生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38440" y="5362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字，圆又圆；看起来只有三笔，写起来就是九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1040" y="458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733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高手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97600" y="57704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1143000"/>
            <a:ext cx="4343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甲骨文，又称 “龟甲兽骨文”，主要指中国商朝后期在龟甲或兽骨上雕刻的文字 ，是中国已知的最早的成体系的文字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0870" b="0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1828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5414600">
            <a:off x="2781000" y="1637640"/>
            <a:ext cx="3429000" cy="44197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371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汉字英雄第一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认读甲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1951200" cy="221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838080"/>
            <a:ext cx="800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500" spc="-1" strike="noStrike">
                <a:solidFill>
                  <a:srgbClr val="0000ff"/>
                </a:solidFill>
                <a:latin typeface="Arial"/>
                <a:ea typeface="楷体_GB2312"/>
              </a:rPr>
              <a:t>你认识这四个甲骨文吗？小组讨论讨论，确定后就写在答题纸上，由组长高高举起答题纸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16480" y="5398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4100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81480" y="297180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781680" y="2895480"/>
            <a:ext cx="2057400" cy="193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54800" y="53848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334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76520" y="1447920"/>
            <a:ext cx="29718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86400" y="1447920"/>
            <a:ext cx="1917720" cy="2209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19520" y="4572000"/>
            <a:ext cx="1066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572000"/>
            <a:ext cx="1066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195084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971800" y="1066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257800" y="106668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58000" y="990720"/>
            <a:ext cx="2057400" cy="193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057400" y="3581280"/>
            <a:ext cx="2971800" cy="2490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867280" y="3581280"/>
            <a:ext cx="1917720" cy="22100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8"/>
          </p:cNvPr>
          <p:cNvSpPr/>
          <p:nvPr/>
        </p:nvSpPr>
        <p:spPr>
          <a:xfrm>
            <a:off x="144792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301"/>
                </a:moveTo>
                <a:lnTo>
                  <a:pt x="10095" y="7301"/>
                </a:lnTo>
                <a:lnTo>
                  <a:pt x="10478" y="7667"/>
                </a:lnTo>
                <a:lnTo>
                  <a:pt x="19686" y="7667"/>
                </a:lnTo>
                <a:lnTo>
                  <a:pt x="20243" y="8224"/>
                </a:lnTo>
                <a:lnTo>
                  <a:pt x="20243" y="8772"/>
                </a:lnTo>
                <a:lnTo>
                  <a:pt x="22088" y="8772"/>
                </a:lnTo>
                <a:lnTo>
                  <a:pt x="22454" y="8224"/>
                </a:lnTo>
                <a:lnTo>
                  <a:pt x="23194" y="8224"/>
                </a:lnTo>
                <a:lnTo>
                  <a:pt x="23194" y="13376"/>
                </a:lnTo>
                <a:lnTo>
                  <a:pt x="22454" y="13376"/>
                </a:lnTo>
                <a:lnTo>
                  <a:pt x="22088" y="12828"/>
                </a:lnTo>
                <a:lnTo>
                  <a:pt x="20243" y="12828"/>
                </a:lnTo>
                <a:lnTo>
                  <a:pt x="20243" y="14107"/>
                </a:lnTo>
                <a:lnTo>
                  <a:pt x="10660" y="14107"/>
                </a:lnTo>
                <a:lnTo>
                  <a:pt x="10660" y="9877"/>
                </a:lnTo>
                <a:lnTo>
                  <a:pt x="10478" y="9877"/>
                </a:lnTo>
                <a:lnTo>
                  <a:pt x="10095" y="10243"/>
                </a:lnTo>
                <a:lnTo>
                  <a:pt x="91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391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1752480"/>
            <a:ext cx="6858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5500" spc="-1" strike="noStrike">
                <a:solidFill>
                  <a:srgbClr val="0000ff"/>
                </a:solidFill>
                <a:latin typeface="Arial"/>
                <a:ea typeface="楷体_GB2312"/>
              </a:rPr>
              <a:t>甲骨文是如何演变为现代汉字的呢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/>
          </p:cNvPr>
          <p:cNvSpPr/>
          <p:nvPr/>
        </p:nvSpPr>
        <p:spPr>
          <a:xfrm>
            <a:off x="14479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311"/>
                </a:moveTo>
                <a:lnTo>
                  <a:pt x="4707" y="7311"/>
                </a:lnTo>
                <a:lnTo>
                  <a:pt x="5090" y="7677"/>
                </a:lnTo>
                <a:lnTo>
                  <a:pt x="14299" y="7677"/>
                </a:lnTo>
                <a:lnTo>
                  <a:pt x="14856" y="8234"/>
                </a:lnTo>
                <a:lnTo>
                  <a:pt x="14856" y="8782"/>
                </a:lnTo>
                <a:lnTo>
                  <a:pt x="16701" y="8782"/>
                </a:lnTo>
                <a:lnTo>
                  <a:pt x="17067" y="8234"/>
                </a:lnTo>
                <a:lnTo>
                  <a:pt x="17806" y="8234"/>
                </a:lnTo>
                <a:lnTo>
                  <a:pt x="17806" y="13386"/>
                </a:lnTo>
                <a:lnTo>
                  <a:pt x="17067" y="13386"/>
                </a:lnTo>
                <a:lnTo>
                  <a:pt x="16701" y="12838"/>
                </a:lnTo>
                <a:lnTo>
                  <a:pt x="14856" y="12838"/>
                </a:lnTo>
                <a:lnTo>
                  <a:pt x="14856" y="14118"/>
                </a:lnTo>
                <a:lnTo>
                  <a:pt x="5273" y="14118"/>
                </a:lnTo>
                <a:lnTo>
                  <a:pt x="5273" y="9888"/>
                </a:lnTo>
                <a:lnTo>
                  <a:pt x="5090" y="9888"/>
                </a:lnTo>
                <a:lnTo>
                  <a:pt x="4707" y="10253"/>
                </a:lnTo>
                <a:lnTo>
                  <a:pt x="3794" y="102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12-18T13:26:00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