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C932-B4C2-4166-AE20-3D214B22C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06A2-4EF8-41B8-ADC9-1C72E405C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3606-1E21-4E02-BD0E-BFF19BF16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EA66-7F45-4081-BA0C-57B9FBE5C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6DCE7-C5F0-48BF-8ACE-020025D88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401E6-773C-4376-8625-8800EB93E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B37F6-E61D-432B-AAA4-0689E4F74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E2FDE-1ACF-446B-8538-815FF84E4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B785E-D593-44F7-8A94-7E121B5F4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258B7-4061-4448-9764-C3FC07E14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AD670-9C20-4A96-B373-83A81CCB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FE2A-8E02-4EA5-9E4A-D01A82336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C62B6-DD0C-4916-B1C6-1725A32E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2EE33-3040-4422-BE2B-B80B2755B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3FF6C-282B-4F7E-9413-0C7F9B67E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9FFB5-BDB5-407B-BD60-46ECED906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BFDCD-5171-40C7-B480-4D3C75DC5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DA0DD-B64E-464F-8125-0F88DE81C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330E6-4382-4213-94F2-E986053E0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E6273-575E-4523-819C-376BEE95E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AE968-E04E-471A-8919-4C856905D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FEE91-2466-49E0-897A-BAC8027C9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ADF3-182F-445B-8CE0-E5E34F24C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70ACD-981D-4924-8FF4-6504A453E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95C1D-70D3-4E03-8BEE-EBE37D61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A9621-3C56-4159-A759-2DE15321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569CC-4ADA-42DC-AE06-05FC794F0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D2766-E622-4252-AE7A-B8C348B8E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27171-824C-46C7-835F-74D513790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30074-9F40-4CFF-9864-54A62E112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E45BD-C6E5-482D-BE5F-6AB4DD61B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F8713-6B69-440B-ACF1-2AFECBDB9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889C5-6C5A-457B-A521-40C266269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A3BC-32AF-412A-9A54-B78C5352D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A431B-000D-481A-9EF6-CFA24D8D0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3FAA1-83D8-426F-84D9-3576932C3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AFFD6-F87B-4485-8E88-56D9B76B2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D4AE2-2C94-4CC2-8924-E3264067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C8D8D-3AA0-40EA-B856-6EBB54B8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B7C4C-FBC8-478B-82BB-DD4494CF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4EC55-33DA-4D1B-8D48-57525F917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2EC31-225F-4B55-BB8F-2CE161F75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9A3D4-A1C2-446E-8A7C-0F296B2F7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0915-4B6E-4F99-A989-CCB8F56C3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44BC-5B6A-49BC-A3D2-B6794D449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FA97-A95F-424D-9010-49D38FFB5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DD20-5A91-4955-94E2-46ACCD054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2F56-77C0-4FE3-B0B6-B178BF43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9F859-36FF-4655-8AE1-F9527FAD5A3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5CE00-E2AD-4585-AE15-587718B4BA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C20BD-3E6E-47FC-A150-24C09D09E3F7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0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11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12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47938-25A8-46E3-B223-60B46D86E7F6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1116000" y="2565360"/>
            <a:ext cx="66978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爸爸妈妈我想对您说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63" name=""/>
          <p:cNvSpPr/>
          <p:nvPr/>
        </p:nvSpPr>
        <p:spPr>
          <a:xfrm>
            <a:off x="900000" y="692280"/>
            <a:ext cx="575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040" y="71280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苏教版五年级品德与社会下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00000" y="537372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常州市局前街小学教育集团   张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461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9280" y="1413000"/>
            <a:ext cx="79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03280" y="83664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你曾经是否和爸爸妈妈发生过争执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476360" y="1916280"/>
          <a:ext cx="6719760" cy="3916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6360" y="1916280"/>
                    <a:ext cx="6719760" cy="39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2556000" y="1916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80000" y="278136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1116000" y="2565360"/>
            <a:ext cx="66978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爸爸妈妈我不想对您说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74" name=""/>
          <p:cNvSpPr/>
          <p:nvPr/>
        </p:nvSpPr>
        <p:spPr>
          <a:xfrm>
            <a:off x="900000" y="692280"/>
            <a:ext cx="575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461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9280" y="1413000"/>
            <a:ext cx="79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87280" y="620640"/>
            <a:ext cx="756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是哪些事情让我们和爸爸妈妈之间发生矛盾和冲突呢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384200" y="2184480"/>
          <a:ext cx="6729480" cy="3914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84200" y="2184480"/>
                    <a:ext cx="6729480" cy="39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2340000" y="21337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76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564000" y="242100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716360" y="285264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5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940360" y="220500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75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461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9280" y="1413000"/>
            <a:ext cx="79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71640" y="1268280"/>
            <a:ext cx="75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当我们有了烦心事的时候，愿意跟谁说呢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403280" y="2133720"/>
          <a:ext cx="6729480" cy="3914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03280" y="2133720"/>
                    <a:ext cx="6729480" cy="39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2556000" y="1989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851280" y="263700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19640" y="4581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516720" y="386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461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9280" y="1413000"/>
            <a:ext cx="79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0" y="2997360"/>
            <a:ext cx="2952720" cy="29527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3203640" y="2708280"/>
            <a:ext cx="54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如果是你遇到了这两种情况，你会怎么做呢？请四人小组选择其中的一种情况讨论讨论，说说自己的做法，并谈一谈自己的理由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258920" y="765000"/>
            <a:ext cx="6697800" cy="15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爸爸妈妈我该不该对您说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461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9280" y="1413000"/>
            <a:ext cx="79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11280" y="549360"/>
            <a:ext cx="806436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情境一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爸爸是个大学老师，但却是个暴脾气，对我的成绩又一向严格要求，每次考得不好，家里就似乎酝酿着火药味，真让人难受。这次数学考试，我又考砸了，所幸的是老师没让我们家长签字，爸爸妈妈最近也忙，工作太辛苦了，不知道我有这么一次考试。想告诉他们吧，又害怕看到爸爸疲惫的脸上充满着对我的失望与愤怒。不告诉他们吧，看着他们每天辛苦地工作，对我满怀期望，撒谎又于心不忍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9640" y="3645000"/>
            <a:ext cx="820908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情境二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妈妈总说为我好，希望我多才多艺，花了很多钱给我报了很多的兴趣班、钢琴、绘画、书法等等，其实我对这些都不是太感兴趣，学得也都不太好。每次跟妈妈提起退出兴趣班的事情的时候，妈妈总严厉地说，人不能懒惰，坚持下去就是成功。可我真的觉得挺无聊的，我希望能多跟同学在一起游戏参加活动，妈妈说这样只想着玩，没出息。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0" y="461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79280" y="1413000"/>
            <a:ext cx="79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116000" y="2492280"/>
            <a:ext cx="66978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爸爸妈妈我想怎样对您说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8T12:57:39Z</dcterms:created>
  <dc:creator>微软用户</dc:creator>
  <dc:description/>
  <dc:language>en-US</dc:language>
  <cp:lastModifiedBy>雨林木风</cp:lastModifiedBy>
  <dcterms:modified xsi:type="dcterms:W3CDTF">2014-03-18T03:24:44Z</dcterms:modified>
  <cp:revision>51</cp:revision>
  <dc:subject/>
  <dc:title>幻灯片 1</dc:title>
</cp:coreProperties>
</file>