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33.xml" ContentType="application/vnd.openxmlformats-officedocument.theme+xml"/>
  <Override PartName="/ppt/theme/theme45.xml" ContentType="application/vnd.openxmlformats-officedocument.theme+xml"/>
  <Override PartName="/ppt/theme/theme10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9.png" ContentType="image/png"/>
  <Override PartName="/ppt/media/image6.png" ContentType="image/png"/>
  <Override PartName="/ppt/media/image20.png" ContentType="image/png"/>
  <Override PartName="/ppt/media/image14.jpeg" ContentType="image/jpeg"/>
  <Override PartName="/ppt/media/image8.png" ContentType="image/png"/>
  <Override PartName="/ppt/media/image7.jpeg" ContentType="image/jpeg"/>
  <Override PartName="/ppt/media/image5.gif" ContentType="image/gif"/>
  <Override PartName="/ppt/media/image28.png" ContentType="image/png"/>
  <Override PartName="/ppt/media/image10.jpeg" ContentType="image/jpeg"/>
  <Override PartName="/ppt/media/image30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19.jpeg" ContentType="image/jpeg"/>
  <Override PartName="/ppt/media/image3.png" ContentType="image/png"/>
  <Override PartName="/ppt/media/image17.jpeg" ContentType="image/jpeg"/>
  <Override PartName="/ppt/media/image11.png" ContentType="image/png"/>
  <Override PartName="/ppt/media/image9.jpeg" ContentType="image/jpeg"/>
  <Override PartName="/ppt/media/image1.png" ContentType="image/png"/>
  <Override PartName="/ppt/media/image2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21.png" ContentType="image/png"/>
  <Override PartName="/ppt/media/image22.png" ContentType="image/png"/>
  <Override PartName="/ppt/media/image26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</p:sldMasterIdLst>
  <p:sldIdLst>
    <p:sldId id="256" r:id="rId47"/>
    <p:sldId id="257" r:id="rId48"/>
    <p:sldId id="258" r:id="rId49"/>
    <p:sldId id="259" r:id="rId50"/>
    <p:sldId id="260" r:id="rId51"/>
    <p:sldId id="261" r:id="rId52"/>
    <p:sldId id="262" r:id="rId53"/>
    <p:sldId id="263" r:id="rId54"/>
    <p:sldId id="264" r:id="rId55"/>
    <p:sldId id="265" r:id="rId56"/>
    <p:sldId id="266" r:id="rId57"/>
    <p:sldId id="267" r:id="rId58"/>
    <p:sldId id="268" r:id="rId59"/>
    <p:sldId id="269" r:id="rId60"/>
    <p:sldId id="270" r:id="rId61"/>
    <p:sldId id="271" r:id="rId62"/>
    <p:sldId id="272" r:id="rId63"/>
    <p:sldId id="273" r:id="rId64"/>
    <p:sldId id="274" r:id="rId65"/>
    <p:sldId id="275" r:id="rId66"/>
    <p:sldId id="276" r:id="rId67"/>
    <p:sldId id="277" r:id="rId6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" Target="slides/slide1.xml"/><Relationship Id="rId48" Type="http://schemas.openxmlformats.org/officeDocument/2006/relationships/slide" Target="slides/slide2.xml"/><Relationship Id="rId49" Type="http://schemas.openxmlformats.org/officeDocument/2006/relationships/slide" Target="slides/slide3.xml"/><Relationship Id="rId50" Type="http://schemas.openxmlformats.org/officeDocument/2006/relationships/slide" Target="slides/slide4.xml"/><Relationship Id="rId51" Type="http://schemas.openxmlformats.org/officeDocument/2006/relationships/slide" Target="slides/slide5.xml"/><Relationship Id="rId52" Type="http://schemas.openxmlformats.org/officeDocument/2006/relationships/slide" Target="slides/slide6.xml"/><Relationship Id="rId53" Type="http://schemas.openxmlformats.org/officeDocument/2006/relationships/slide" Target="slides/slide7.xml"/><Relationship Id="rId54" Type="http://schemas.openxmlformats.org/officeDocument/2006/relationships/slide" Target="slides/slide8.xml"/><Relationship Id="rId55" Type="http://schemas.openxmlformats.org/officeDocument/2006/relationships/slide" Target="slides/slide9.xml"/><Relationship Id="rId56" Type="http://schemas.openxmlformats.org/officeDocument/2006/relationships/slide" Target="slides/slide10.xml"/><Relationship Id="rId57" Type="http://schemas.openxmlformats.org/officeDocument/2006/relationships/slide" Target="slides/slide11.xml"/><Relationship Id="rId58" Type="http://schemas.openxmlformats.org/officeDocument/2006/relationships/slide" Target="slides/slide12.xml"/><Relationship Id="rId59" Type="http://schemas.openxmlformats.org/officeDocument/2006/relationships/slide" Target="slides/slide13.xml"/><Relationship Id="rId60" Type="http://schemas.openxmlformats.org/officeDocument/2006/relationships/slide" Target="slides/slide14.xml"/><Relationship Id="rId61" Type="http://schemas.openxmlformats.org/officeDocument/2006/relationships/slide" Target="slides/slide15.xml"/><Relationship Id="rId62" Type="http://schemas.openxmlformats.org/officeDocument/2006/relationships/slide" Target="slides/slide16.xml"/><Relationship Id="rId63" Type="http://schemas.openxmlformats.org/officeDocument/2006/relationships/slide" Target="slides/slide17.xml"/><Relationship Id="rId64" Type="http://schemas.openxmlformats.org/officeDocument/2006/relationships/slide" Target="slides/slide18.xml"/><Relationship Id="rId65" Type="http://schemas.openxmlformats.org/officeDocument/2006/relationships/slide" Target="slides/slide19.xml"/><Relationship Id="rId66" Type="http://schemas.openxmlformats.org/officeDocument/2006/relationships/slide" Target="slides/slide20.xml"/><Relationship Id="rId67" Type="http://schemas.openxmlformats.org/officeDocument/2006/relationships/slide" Target="slides/slide21.xml"/><Relationship Id="rId68" Type="http://schemas.openxmlformats.org/officeDocument/2006/relationships/slide" Target="slides/slide22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F568-CA96-41F5-84C3-FE04A63B0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3303-3694-4450-B83E-7C504F4B7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2FEA-05FC-40BF-9EC5-AA3FB5FF4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6A0D-7816-42E1-BFAF-CBD1707C4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3F57-FB21-4552-8B89-3B6F9E3FF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DE1C-9034-4B9B-8D35-9FDBA912E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7A62-B785-42B2-8EBB-69DC35F4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B7D7-DA90-4A1B-A1FF-C9D5FF38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2CBF-7642-425B-9ECC-17EC9DD2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B244-2FA6-4022-B9AD-5A681F78C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A26E-745A-4F03-8BC9-ABA06BA50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47AB-04C2-4667-AFC9-8FA355F6C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37376-4A99-4BFA-903E-60238F294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C4A43-FA92-4293-AA0E-26F6FCA06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D529A-C180-4C0C-95DE-D5D1C576A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B40C1-6E3B-4AA7-BE73-8948FBDF3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E8EF4-46CF-456B-88C9-33AB3D22D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E4E94-6C94-4283-B9B3-6A9B34D52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4A140-9E62-4063-8C75-B159DCCB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8BBCD-93CE-43EF-A843-2AED936C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79CE1-5EAB-4B36-BF5D-CEB2C6BD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7BA4C-A226-4144-832D-FD7685922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61776-0B82-480F-A067-EDF4583EE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60900-E597-4951-8FB0-6A53E3181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8B46E-D6C5-4DB2-A535-98B02F25B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E2D2D-48A2-49BF-A023-62618B889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546CE-C3E7-43D4-A48D-ADC4FCD26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5206C-9EF1-493A-9361-5CD96F2E6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9B38B-F962-469F-84BC-972CFED5C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CCFA2-5FF5-4087-9422-4D004A75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16C53-76DD-42C3-B213-D8732B45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F1E5C-D1F5-4716-8E6F-C81DFADC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A53DE-93DA-42F3-9BDD-8C7395B0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E2C09-0EE8-45CE-84A4-CB2B40A6C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27C8A-279E-438A-A6C5-E62D0290A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9668F-914E-4E0C-A25B-14050C349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827CF-80C2-4F28-A4CD-3F6432267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BD6F2-EA15-43DF-885F-54F09971A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8479C-7162-483E-8875-C838E0BD6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12693-FBDA-42E9-8F96-5E9087545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77A85-62B1-434F-92D4-422507C47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F70C9-E74E-4D55-A9E3-D96DDA99E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F8D94-8DBE-4FAA-8D94-02D1BC82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4A892-CF35-4668-A636-4FA20AB8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37F95-B6A8-448A-9AB5-AF506FD9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4F034-5A84-4A1F-9A84-7C7F95460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0A101-15CD-43D2-A05B-0DB57D90B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DBF90-F519-4D55-9026-4A7D77DCB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80D08-8851-4229-9C37-D79744E1C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B560C-7858-4A0F-A361-B8CF45695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7BA6C-CD1B-4555-9E2F-6202084CA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64527-1075-43BF-B028-18DACC71A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C5227-E69D-4688-AB4B-82CF9B28D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1E2BB0-1832-430A-87CA-9974EA537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75D42-F332-4E82-860B-648287B7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0A3C4-B10C-4040-BCF7-F8170654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FBFE0-4E46-414C-9AA0-C8A5E612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CD8BE-5B27-4403-AB74-0DFCD1307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6CB15-3E31-4D45-8A61-38C970567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A2478-F0F2-4AAD-890F-7DDB1B831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B6341-B654-4F07-AB02-24C12B7D2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04FB6-1273-48D1-A870-133781848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E6120A-49C1-44E0-9FC3-DA827E34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F870B-9773-436F-B4F6-37FDB59C3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9EB26-4DDC-4DDB-A984-149791AAC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C5FCF-9A92-4D19-B426-D6A1E9753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5D010F-16FE-49C0-86B2-CC4095DE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F448E-DD40-488A-B0D4-37D9D945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90209-BEA2-4FC3-A7CA-04F1B71B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FC4DA-73BF-49F2-B55E-85E6CDA81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4CA60-EF18-4035-A703-C7640950F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81491-5B08-419C-92AD-54C4372DB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E253A-4E0D-4CE1-A3ED-C217603D0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6890C1-CCDA-4F09-8322-58AA53E58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FE9A1-0ECC-470A-A031-DCF85942D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7B3F8D-227D-46D0-B728-9CA4427FB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02EDB-106E-41A5-9F7C-F3762287D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38AEF-C960-413F-9BA0-A988851A5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08004B-83D9-4068-AEFE-7DF085FE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53BFA-EBEB-4A60-94B2-41F1B032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774BD-0DCB-4B7E-8AF9-B00BBF07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789F4-A65C-4E05-B687-6D7F025A6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BE929A-ACC8-42B3-AB54-A122D0CBF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36384-00BA-4126-A8B1-EFF45CD29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B7B186-E763-4A87-ACC5-E26247722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8069DA-B237-4B4F-A5B8-C4B13B713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5ACDF6-9C1F-4503-9966-D1C52BF44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093DB7-243A-491A-ADC7-7FD47468D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94A14-DB2C-417E-9FB6-4AC716F16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3D8F1D-F8F9-4578-9595-FF33496A9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95172B-4321-4ECF-96FC-D8258F42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73B226-BE6B-4FA2-A4A0-6576A0B4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0DC429-44D0-44F8-9B55-39D8E010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B43BE8-255A-4495-94D0-608BB4150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CFA70B-9796-4D66-AD5F-9B1FD83E9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3F9BFE-C0BE-4FA2-B1B9-DA2AD4620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6DE03E-50CC-4132-A308-D1B993872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C04EE5-84E8-4FA8-9945-82C9C81DF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81EAE9-0D96-44BD-9B58-FF05F3272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005F52-BE16-48F1-9819-23547B04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3CA63A-8870-4F11-B34C-76C9C96A0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538055-22AF-4B5B-9CAF-2CDF90206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DB4BDB-BECB-4978-A2B5-CAECB147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89EA67-4306-46EA-89C2-9E56DF02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C4B6EE-F514-490C-8EF8-C2FA49D2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FF285B-0A0F-4EE8-A161-6D60904C2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B11ABE-19F1-404A-BFB7-9C180806A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643B16-2039-4AD1-9251-1D93050E3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17F960-59F5-46C9-977E-D1A371D92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F6E1F7-D519-4824-A54A-01E972797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F46788-7114-4F0C-996E-44FAA1F07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458F86-897C-4E6C-AE13-63EF82DD7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CFB7DA-51D2-4BC8-9EE9-205CB12A3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1FAFF4-6D3B-47F8-B56C-EEFE76EDB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D7E597-5610-48A1-955E-39DFF195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C37204-F241-4C60-AC3C-AA30814D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96B59B-64AD-4F2E-B2D9-F3F54334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B3D9A3-3E06-485C-B482-7AD44173B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5EBF9C-7E65-4D59-8408-3C1896690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A91CB2-6567-4E3C-9F51-84895AF6B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7E18E1-ECBA-4769-8AFE-8B2EB640E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B8F46E-FA12-4C37-A41B-25FBF2D91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AEAD14-4BB5-4D7E-9DE9-C6A82BD0E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C3160C-5BEF-4293-BD7F-F3D7A134B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234375-8ACB-40DE-8EC4-D26808289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76C2E2-0E39-419A-94E5-2F28DE4D6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EC4C9E-939E-4A93-84FA-2363083F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8D9F0E-3863-4BBA-988E-8E7F012E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47259B-B693-4B02-89D7-5682B22D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F309AC-1BC2-4273-985A-CD44D062C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604231-D99D-4E60-8779-C51F982A1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972E0A-411A-4FA5-9E99-A804CD5EE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FC25EC-9408-4341-9EDE-92B305F80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929D22-6538-4961-979C-85378755E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9B5870-43DA-45CE-8C6D-33B7DC93C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92D961-1DA8-498A-A757-0B6D055E9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C442E1-C0DE-4132-906F-551A1BF29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AA86C2-29DE-46FB-96C5-97781231A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80EB25-7F5C-4F3A-884C-ABCCC05D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332D31-5A08-42B3-85C1-946ABDD9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BCEF4B-9BC5-49EE-A013-24645516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96F38C-7B84-463E-AE17-2BF93F48A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107DDA-855A-413D-9064-93FC7E575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2B630F-8942-48D6-A045-B85B3AA16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542564-14D1-4C67-9A5F-C9867D330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1ACDDD-27A4-40F5-8F26-7E03393EB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737C7F-E404-43A3-BD43-F6F22394A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5BFD32-92C9-4846-8356-F69BC11DC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775CCB-EF24-4EFA-BFA5-FA19C5A6C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E1C806-AD46-4AD7-ABE9-8F4E61126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2F808D-C386-465A-9300-A65107BA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73F271-709D-44AD-942D-ABE58B9C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8FD35D-BC99-41C3-9B8B-249F6A97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42E86F-EBB5-4BF1-AB82-542B22248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D465F5-C04E-4894-9C6F-BFBC7CE87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F83E12-3713-4A98-9605-4901DE615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E3B1B9-5026-4819-8435-12591DC7E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2F03E3-818F-4DB8-A481-C3A034B2A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23D3EE-8E71-42B7-93D8-36950857D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5F1932-0553-4553-9D64-554FF4B41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C7605A-BEEE-4A3D-8534-FA813302D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784932-35C0-4878-B6DD-76420BCC0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42C2F0-B3B3-4923-AE67-A4A2ABE6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D13D4B-AB47-4EAC-84B9-345B3748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54C291-2B96-4732-8697-BD1245E1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43B0BE-B878-4BE1-9351-642DDFF03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A30E9A-3CB4-44D6-B67B-9230AF6EF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F339A7-9930-4DDD-B67B-55D84AB77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7492EC-F678-4490-9B62-B78F9CA03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483555-589F-48B2-9A14-1A036DAA7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E5F50A-4BDF-4E15-80B9-84D77EDA2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697A4F-C72F-4786-88D7-B45724698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384CF2-A1B7-4A34-B6BE-AC9530878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529849-8473-4950-B3D5-7A92F3370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C4A8A8-D3BF-45E1-B576-694A26C0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F0BA89-FC4B-4B8F-92C1-CAF1152D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609248-2C89-48CC-9615-70417D8E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FB8A17-5489-4D4C-BFCE-8989B2CB2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94EAB1-9F45-4B12-9489-BFA1025F1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37F0F4-9292-49F5-B63B-367F0AC0B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151C17-C083-4526-A8D0-493CC6C6A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0DF933-2ED5-46F4-8169-92AE1E71E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14E97C-172F-4739-AFB9-6FEE6ED66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78FEFD-96EC-49FB-A294-4756B5D86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A8F471-6FA9-4202-B6DA-8F2D41E4D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DE3252-ADAC-4436-9BEB-B32AAC4A9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7F5D5E-4BB5-4AA4-99BE-EF154C0C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29A6A5-9BEF-44DB-AA39-C9930C6C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1CD47E-8FA0-41A7-8045-02E10802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B0A18F-B21A-40E0-8C2E-309EEB791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CF1909-2340-41C1-88F0-1087655FD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F1D156-DAA8-4234-ADB0-E2EF1F81E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61AE38-DC49-434A-9AD0-CA454F8B7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FC23DB-B4CC-4299-9386-0121BBA36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AB2CD4-72AC-4ACD-89A9-61A9821BB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C4BD17-FF86-4A4F-AD0D-CC76DF358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D9F4C2-FBD5-45C6-9903-89767A671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E48C6B-8077-4217-9F08-8E12F07B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011CFA-DB56-42BB-AD38-B3C442F4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908A85-8348-42D4-A773-3A7E279B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94AE92-EC10-4458-A651-C770CF17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8E119D-4924-4C41-8F5C-582A055C8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2140F0-A5A1-43F2-9A1E-E8CB3B611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20A2CE-FDF2-4C02-B67D-37AB1B7F1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4EC872-0D66-4F09-95BA-05D88FE21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CD9989-59D5-4480-A0F2-F078BA90E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3B2051-56BC-4E25-A0A5-454CB59FC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40B510-88E0-4698-98E5-ED93DAE18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26BF71-B200-4F7E-8588-97C7AFA2F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17F1E5-F061-4F97-B13C-935D7E98D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81B488-6A14-4138-92A1-B482E27D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141D77-0A97-4D01-828B-094558E7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CD2AC3-F675-4054-86F1-E4618109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2B031F-2DFA-4A9C-BBBD-8C1781549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8683E0-5744-4258-A78C-A8293E6D7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58CED8-8D29-4E8D-A35A-A9E6837B4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74DC3F-887A-453A-B806-2C50211AC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DBCB7A-9672-4E22-A2D7-F97C97EA1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05AA80-7037-4A3A-8C04-7163666EF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3D6C21-1E67-472E-8EDE-385D75856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F3325E-4860-44B6-97C5-820C71A9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8DCD1F-D4D4-44C2-81FF-958E8AE80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78502E-31DA-4CB2-B262-C5E32FE0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75DC5A-966C-481D-A316-21718A1A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1C19D5-C153-4788-8D2B-23F61DD1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9A3E8D-82C6-4A41-A8F6-62AE45244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13E4C2-8C2E-4E1E-BD02-2C53C0BA8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0438CE-7A19-42DC-865D-3967512D6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00900C-2C51-4D59-BF1B-CF9D60D0F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F9E442-B58B-4CFD-8E3E-A264AB0B3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3B3AAA-53AD-4583-9A80-85072CA9C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D039D0-BE39-419D-887C-37CA115BF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F375B3-9FC0-4684-A532-0B74FE1BE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900621-B58D-454C-A6A1-8B8B5DA3E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8028BB-5F5A-4B90-A3DB-134FA5D8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7325B7-F5AD-4AD6-A2A8-FA0D7D26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9A6A33-6E2C-4728-A62A-6DF10820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37E436-E7FD-466B-93CE-5C47CD32D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8811BF-CDD4-410D-8361-AD3D868CE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A83A6D-D019-4939-8067-35B339621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5FA0FF-4F4A-465D-B64F-7F7467BC3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A2BC48-D649-459E-81B5-B3793DD2D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CB2269-468B-477C-B946-1CBBEB6F4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A36467-B449-4540-A0D1-DB7217D9B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78B27A-88F4-42A8-BA64-DDFCC082A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CB63DE-D9B5-4019-99B1-F775D4725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FA113D-160C-4BF9-8287-7C731E90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ED80C5-E740-431A-A72B-E3FB90BD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1CED65-E84C-4458-B543-9D121C20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9AB163-69B8-4B59-B361-1EA99495F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F05DFF-9D84-46E5-BB74-5070CA294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EFEA80-2096-4BD2-89C6-3513687B6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B76CD7A-7E3E-4520-9A7C-272E7F9CF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22F8EC3-CDBB-478E-A8DF-86518832A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E38066F-BE29-45ED-8DA6-581CE4C37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A23706F-452C-475A-85FA-2690DAF9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6B78F9E-90DA-4B97-82D5-68E1AD1A6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B105663-D816-426A-878D-6627E0815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7FD47A-4DB7-45FC-9AA5-C4A2BB04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8CFDE68-1CE4-42D3-BC20-7E0A6F5D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90018A-32E0-438C-A665-1A68C25A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A1997E7-CA52-438C-9AA9-79A52C71D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ECF6FE1-78DA-4F03-8B6E-902081B04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1BB0030-905B-428B-9424-AE7A84F53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C1F41B7-FBD0-434E-B25C-584925AEA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1250AE-7366-4CC9-A063-A1058895D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5AC0EF9-A814-404F-A404-1BAF804F4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202B8E2-1E07-4D85-9507-62324FF7D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D5A9F8F-1D8D-46F0-AB5C-8B37362E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4DBA220-6B84-4079-A7D7-E6AAA9763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C594B2D-21B1-4764-B412-5D83CEE7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233B275-FA1E-4690-BECF-E887163B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C98AFB4-ACA0-493D-81C9-B9D3A7DD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D13BA89-BE40-4D55-9942-6DBB33415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CEC7C5F-FCE6-4A28-B160-1741F862D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C685AE3-1AAA-4E16-B437-277120A5C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1CC73DA-0855-40F6-918B-F9539A891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95441E5-A110-4C69-A327-839013E0A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B1D9C73-2894-44CA-8D80-2F04A099E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A596F76-466A-4AA5-BED0-D09CDB54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8328FB3-4D69-4203-B0FC-E96E11CBD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B66DBC4-68BC-43A7-A8AB-34E821A8F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24BF12D-74E8-4177-94B8-8E725863D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30E91AB-D848-405B-A7EE-D9E82B8D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23892EE-7848-47EB-9500-0453D133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6417B0C-F041-4044-8EAC-10A07C1A7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C705721-CE65-4439-8F39-227E4E594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9617DD4-DCD2-42FB-B152-BEC42B3EB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DA7FD88-370B-4545-B926-661A1724E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5166024-68D8-4C43-823F-4051FC902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4ABE4C3-B194-4BBF-A448-AAB3517E0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B77972C-867F-477F-9772-BBE34CB2F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484EC9B-0B33-426E-A0C2-A3C6242E5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06B9C42-296B-429D-B2D3-7E5EDAC9F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94DE2B5-5BC8-4C61-A584-0623B603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938502E-9F99-4675-A125-4AC7036A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1CFA2DF-B921-4556-B909-6AD5F48A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1FF9D9C-EDE5-4B1E-9048-A9CBA387A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AB9912A-86CC-4EB4-83D6-F42DFA4EB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E94E87B-D7AC-4E38-87E8-4023076A3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C334979-8ADA-40AD-9DE3-EA72C48C6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271C9FA-590C-41BB-94AB-DC54E051B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9D9868D-283E-4D88-BBB1-2EB7BCB6F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55CA8E0-42C2-451C-8D6E-8A9883E20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A14B97E-944A-4E66-B8CB-EF8CDC98D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E351390-9141-4FFB-92E5-50288C651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D7E4C6B-FACD-4619-A786-BE68289F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CF5AD0C-51C7-48C9-8422-1398F1E6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A2A8D49-EA95-4A77-977A-92EA90CB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AD9EDAC-D254-4F5B-AE98-DC0246C6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A80775D-31D6-4F26-80F7-585BC6680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0C455B9-4B84-41F4-A768-D618F8766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85.xml"/><Relationship Id="rId5" Type="http://schemas.openxmlformats.org/officeDocument/2006/relationships/slideLayout" Target="../slideLayouts/slideLayout386.xml"/><Relationship Id="rId6" Type="http://schemas.openxmlformats.org/officeDocument/2006/relationships/slideLayout" Target="../slideLayouts/slideLayout387.xml"/><Relationship Id="rId7" Type="http://schemas.openxmlformats.org/officeDocument/2006/relationships/slideLayout" Target="../slideLayouts/slideLayout388.xml"/><Relationship Id="rId8" Type="http://schemas.openxmlformats.org/officeDocument/2006/relationships/slideLayout" Target="../slideLayouts/slideLayout389.xml"/><Relationship Id="rId9" Type="http://schemas.openxmlformats.org/officeDocument/2006/relationships/slideLayout" Target="../slideLayouts/slideLayout390.xml"/><Relationship Id="rId10" Type="http://schemas.openxmlformats.org/officeDocument/2006/relationships/slideLayout" Target="../slideLayouts/slideLayout391.xml"/><Relationship Id="rId11" Type="http://schemas.openxmlformats.org/officeDocument/2006/relationships/slideLayout" Target="../slideLayouts/slideLayout392.xml"/><Relationship Id="rId12" Type="http://schemas.openxmlformats.org/officeDocument/2006/relationships/slideLayout" Target="../slideLayouts/slideLayout393.xml"/><Relationship Id="rId13" Type="http://schemas.openxmlformats.org/officeDocument/2006/relationships/slideLayout" Target="../slideLayouts/slideLayout394.xml"/><Relationship Id="rId14" Type="http://schemas.openxmlformats.org/officeDocument/2006/relationships/slideLayout" Target="../slideLayouts/slideLayout395.xml"/><Relationship Id="rId15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97.xml"/><Relationship Id="rId5" Type="http://schemas.openxmlformats.org/officeDocument/2006/relationships/slideLayout" Target="../slideLayouts/slideLayout398.xml"/><Relationship Id="rId6" Type="http://schemas.openxmlformats.org/officeDocument/2006/relationships/slideLayout" Target="../slideLayouts/slideLayout399.xml"/><Relationship Id="rId7" Type="http://schemas.openxmlformats.org/officeDocument/2006/relationships/slideLayout" Target="../slideLayouts/slideLayout400.xml"/><Relationship Id="rId8" Type="http://schemas.openxmlformats.org/officeDocument/2006/relationships/slideLayout" Target="../slideLayouts/slideLayout401.xml"/><Relationship Id="rId9" Type="http://schemas.openxmlformats.org/officeDocument/2006/relationships/slideLayout" Target="../slideLayouts/slideLayout402.xml"/><Relationship Id="rId10" Type="http://schemas.openxmlformats.org/officeDocument/2006/relationships/slideLayout" Target="../slideLayouts/slideLayout403.xml"/><Relationship Id="rId11" Type="http://schemas.openxmlformats.org/officeDocument/2006/relationships/slideLayout" Target="../slideLayouts/slideLayout404.xml"/><Relationship Id="rId12" Type="http://schemas.openxmlformats.org/officeDocument/2006/relationships/slideLayout" Target="../slideLayouts/slideLayout405.xml"/><Relationship Id="rId13" Type="http://schemas.openxmlformats.org/officeDocument/2006/relationships/slideLayout" Target="../slideLayouts/slideLayout406.xml"/><Relationship Id="rId14" Type="http://schemas.openxmlformats.org/officeDocument/2006/relationships/slideLayout" Target="../slideLayouts/slideLayout407.xml"/><Relationship Id="rId15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8" descr="풍차2"/>
          <p:cNvPicPr/>
          <p:nvPr/>
        </p:nvPicPr>
        <p:blipFill>
          <a:blip r:embed="rId2"/>
          <a:srcRect l="3889" t="0" r="2962" b="4399"/>
          <a:stretch/>
        </p:blipFill>
        <p:spPr>
          <a:xfrm>
            <a:off x="4352760" y="3316320"/>
            <a:ext cx="4791240" cy="18273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4" descr="C:\Documents and Settings\Administrator\桌面\大课堂标志.png"/>
          <p:cNvPicPr/>
          <p:nvPr/>
        </p:nvPicPr>
        <p:blipFill>
          <a:blip r:embed="rId3"/>
          <a:stretch/>
        </p:blipFill>
        <p:spPr>
          <a:xfrm>
            <a:off x="8067600" y="44280"/>
            <a:ext cx="1027080" cy="70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BAD66-36F9-459C-A3FC-B2865AF9854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4" descr="C:\Documents and Settings\Administrator\桌面\大课堂标志.png"/>
          <p:cNvPicPr/>
          <p:nvPr/>
        </p:nvPicPr>
        <p:blipFill>
          <a:blip r:embed="rId2"/>
          <a:stretch/>
        </p:blipFill>
        <p:spPr>
          <a:xfrm>
            <a:off x="8067600" y="44280"/>
            <a:ext cx="1027080" cy="70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2" descr="C:\Documents and Settings\Administrator\桌面\状元成才路标志.png"/>
          <p:cNvPicPr/>
          <p:nvPr/>
        </p:nvPicPr>
        <p:blipFill>
          <a:blip r:embed="rId2"/>
          <a:stretch/>
        </p:blipFill>
        <p:spPr>
          <a:xfrm>
            <a:off x="8129520" y="38160"/>
            <a:ext cx="979560" cy="860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4" descr="C:\Documents and Settings\Administrator\桌面\大课堂标志.png"/>
          <p:cNvPicPr/>
          <p:nvPr/>
        </p:nvPicPr>
        <p:blipFill>
          <a:blip r:embed="rId2"/>
          <a:stretch/>
        </p:blipFill>
        <p:spPr>
          <a:xfrm>
            <a:off x="8067600" y="44280"/>
            <a:ext cx="1027080" cy="70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138" descr="풍차2"/>
          <p:cNvPicPr/>
          <p:nvPr/>
        </p:nvPicPr>
        <p:blipFill>
          <a:blip r:embed="rId2"/>
          <a:srcRect l="3889" t="0" r="2962" b="4399"/>
          <a:stretch/>
        </p:blipFill>
        <p:spPr>
          <a:xfrm>
            <a:off x="4352760" y="3316320"/>
            <a:ext cx="4791240" cy="182736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4" descr="C:\Documents and Settings\Administrator\桌面\大课堂标志.png"/>
          <p:cNvPicPr/>
          <p:nvPr/>
        </p:nvPicPr>
        <p:blipFill>
          <a:blip r:embed="rId3"/>
          <a:stretch/>
        </p:blipFill>
        <p:spPr>
          <a:xfrm>
            <a:off x="8067600" y="44280"/>
            <a:ext cx="1027080" cy="70200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 type="dt" idx="4"/>
          </p:nvPr>
        </p:nvSpPr>
        <p:spPr>
          <a:xfrm>
            <a:off x="68580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ftr" idx="5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sldNum" idx="6"/>
          </p:nvPr>
        </p:nvSpPr>
        <p:spPr>
          <a:xfrm>
            <a:off x="655308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E7904-7C3A-4B4C-982E-CEA9E5145013}" type="slidenum">
              <a:rPr b="0" sz="24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138" descr="풍차2"/>
          <p:cNvPicPr/>
          <p:nvPr/>
        </p:nvPicPr>
        <p:blipFill>
          <a:blip r:embed="rId2"/>
          <a:srcRect l="3889" t="0" r="2962" b="4399"/>
          <a:stretch/>
        </p:blipFill>
        <p:spPr>
          <a:xfrm>
            <a:off x="4352760" y="3316320"/>
            <a:ext cx="4791240" cy="182736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4" descr="C:\Documents and Settings\Administrator\桌面\大课堂标志.png"/>
          <p:cNvPicPr/>
          <p:nvPr/>
        </p:nvPicPr>
        <p:blipFill>
          <a:blip r:embed="rId3"/>
          <a:stretch/>
        </p:blipFill>
        <p:spPr>
          <a:xfrm>
            <a:off x="8067600" y="44280"/>
            <a:ext cx="1027080" cy="702000"/>
          </a:xfrm>
          <a:prstGeom prst="rect">
            <a:avLst/>
          </a:prstGeom>
          <a:ln w="0">
            <a:noFill/>
          </a:ln>
        </p:spPr>
      </p:pic>
      <p:sp>
        <p:nvSpPr>
          <p:cNvPr id="577" name="PlaceHolder 1"/>
          <p:cNvSpPr>
            <a:spLocks noGrp="1"/>
          </p:cNvSpPr>
          <p:nvPr>
            <p:ph type="dt" idx="7"/>
          </p:nvPr>
        </p:nvSpPr>
        <p:spPr>
          <a:xfrm>
            <a:off x="68580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ftr" idx="8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sldNum" idx="9"/>
          </p:nvPr>
        </p:nvSpPr>
        <p:spPr>
          <a:xfrm>
            <a:off x="655308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86332-AEAC-48CB-962A-7E5CEC1A5895}" type="slidenum">
              <a:rPr b="0" sz="24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Picture 4" descr="C:\Documents and Settings\Administrator\桌面\大课堂标志.png"/>
          <p:cNvPicPr/>
          <p:nvPr/>
        </p:nvPicPr>
        <p:blipFill>
          <a:blip r:embed="rId2"/>
          <a:stretch/>
        </p:blipFill>
        <p:spPr>
          <a:xfrm>
            <a:off x="8067600" y="44280"/>
            <a:ext cx="1027080" cy="70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Picture 138" descr="풍차2"/>
          <p:cNvPicPr/>
          <p:nvPr/>
        </p:nvPicPr>
        <p:blipFill>
          <a:blip r:embed="rId2"/>
          <a:srcRect l="3889" t="0" r="2962" b="4399"/>
          <a:stretch/>
        </p:blipFill>
        <p:spPr>
          <a:xfrm>
            <a:off x="4352760" y="3316320"/>
            <a:ext cx="4791240" cy="182736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4" descr="C:\Documents and Settings\Administrator\桌面\大课堂标志.png"/>
          <p:cNvPicPr/>
          <p:nvPr/>
        </p:nvPicPr>
        <p:blipFill>
          <a:blip r:embed="rId3"/>
          <a:stretch/>
        </p:blipFill>
        <p:spPr>
          <a:xfrm>
            <a:off x="8067600" y="44280"/>
            <a:ext cx="1027080" cy="702000"/>
          </a:xfrm>
          <a:prstGeom prst="rect">
            <a:avLst/>
          </a:prstGeom>
          <a:ln w="0">
            <a:noFill/>
          </a:ln>
        </p:spPr>
      </p:pic>
      <p:sp>
        <p:nvSpPr>
          <p:cNvPr id="655" name="PlaceHolder 1"/>
          <p:cNvSpPr>
            <a:spLocks noGrp="1"/>
          </p:cNvSpPr>
          <p:nvPr>
            <p:ph type="dt" idx="10"/>
          </p:nvPr>
        </p:nvSpPr>
        <p:spPr>
          <a:xfrm>
            <a:off x="68580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ftr" idx="11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 type="sldNum" idx="12"/>
          </p:nvPr>
        </p:nvSpPr>
        <p:spPr>
          <a:xfrm>
            <a:off x="655308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67013-99FC-4253-AE35-17C045E3E862}" type="slidenum">
              <a:rPr b="0" sz="24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4" name="Picture 138" descr="풍차2"/>
          <p:cNvPicPr/>
          <p:nvPr/>
        </p:nvPicPr>
        <p:blipFill>
          <a:blip r:embed="rId2"/>
          <a:srcRect l="3889" t="0" r="2962" b="4399"/>
          <a:stretch/>
        </p:blipFill>
        <p:spPr>
          <a:xfrm>
            <a:off x="4352760" y="3316320"/>
            <a:ext cx="4791240" cy="182736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4" descr="C:\Documents and Settings\Administrator\桌面\大课堂标志.png"/>
          <p:cNvPicPr/>
          <p:nvPr/>
        </p:nvPicPr>
        <p:blipFill>
          <a:blip r:embed="rId3"/>
          <a:stretch/>
        </p:blipFill>
        <p:spPr>
          <a:xfrm>
            <a:off x="8067600" y="44280"/>
            <a:ext cx="1027080" cy="702000"/>
          </a:xfrm>
          <a:prstGeom prst="rect">
            <a:avLst/>
          </a:prstGeom>
          <a:ln w="0">
            <a:noFill/>
          </a:ln>
        </p:spPr>
      </p:pic>
      <p:sp>
        <p:nvSpPr>
          <p:cNvPr id="696" name="PlaceHolder 1"/>
          <p:cNvSpPr>
            <a:spLocks noGrp="1"/>
          </p:cNvSpPr>
          <p:nvPr>
            <p:ph type="dt" idx="13"/>
          </p:nvPr>
        </p:nvSpPr>
        <p:spPr>
          <a:xfrm>
            <a:off x="68580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ftr" idx="14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 type="sldNum" idx="15"/>
          </p:nvPr>
        </p:nvSpPr>
        <p:spPr>
          <a:xfrm>
            <a:off x="655308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4BF94-5CEA-49EF-B935-39A38093A635}" type="slidenum">
              <a:rPr b="0" sz="24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138" descr="풍차2"/>
          <p:cNvPicPr/>
          <p:nvPr/>
        </p:nvPicPr>
        <p:blipFill>
          <a:blip r:embed="rId2"/>
          <a:srcRect l="3889" t="0" r="2962" b="4399"/>
          <a:stretch/>
        </p:blipFill>
        <p:spPr>
          <a:xfrm>
            <a:off x="4352760" y="3316320"/>
            <a:ext cx="4791240" cy="182736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2" descr="C:\Documents and Settings\Administrator\桌面\状元成才路标志.png"/>
          <p:cNvPicPr/>
          <p:nvPr/>
        </p:nvPicPr>
        <p:blipFill>
          <a:blip r:embed="rId3"/>
          <a:stretch/>
        </p:blipFill>
        <p:spPr>
          <a:xfrm>
            <a:off x="8129520" y="38160"/>
            <a:ext cx="979560" cy="860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Picture 4" descr="C:\Documents and Settings\Administrator\桌面\大课堂标志.png"/>
          <p:cNvPicPr/>
          <p:nvPr/>
        </p:nvPicPr>
        <p:blipFill>
          <a:blip r:embed="rId2"/>
          <a:stretch/>
        </p:blipFill>
        <p:spPr>
          <a:xfrm>
            <a:off x="8067600" y="44280"/>
            <a:ext cx="1027080" cy="70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2" name="Picture 138" descr="풍차2"/>
          <p:cNvPicPr/>
          <p:nvPr/>
        </p:nvPicPr>
        <p:blipFill>
          <a:blip r:embed="rId2"/>
          <a:srcRect l="3889" t="0" r="2962" b="4399"/>
          <a:stretch/>
        </p:blipFill>
        <p:spPr>
          <a:xfrm>
            <a:off x="4352760" y="3316320"/>
            <a:ext cx="4791240" cy="1827360"/>
          </a:xfrm>
          <a:prstGeom prst="rect">
            <a:avLst/>
          </a:prstGeom>
          <a:ln w="0">
            <a:noFill/>
          </a:ln>
        </p:spPr>
      </p:pic>
      <p:pic>
        <p:nvPicPr>
          <p:cNvPr id="773" name="Picture 4" descr="C:\Documents and Settings\Administrator\桌面\大课堂标志.png"/>
          <p:cNvPicPr/>
          <p:nvPr/>
        </p:nvPicPr>
        <p:blipFill>
          <a:blip r:embed="rId3"/>
          <a:stretch/>
        </p:blipFill>
        <p:spPr>
          <a:xfrm>
            <a:off x="8067600" y="44280"/>
            <a:ext cx="1027080" cy="702000"/>
          </a:xfrm>
          <a:prstGeom prst="rect">
            <a:avLst/>
          </a:prstGeom>
          <a:ln w="0">
            <a:noFill/>
          </a:ln>
        </p:spPr>
      </p:pic>
      <p:sp>
        <p:nvSpPr>
          <p:cNvPr id="774" name="PlaceHolder 1"/>
          <p:cNvSpPr>
            <a:spLocks noGrp="1"/>
          </p:cNvSpPr>
          <p:nvPr>
            <p:ph type="dt" idx="16"/>
          </p:nvPr>
        </p:nvSpPr>
        <p:spPr>
          <a:xfrm>
            <a:off x="68580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ftr" idx="17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 type="sldNum" idx="18"/>
          </p:nvPr>
        </p:nvSpPr>
        <p:spPr>
          <a:xfrm>
            <a:off x="655308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0629D-8045-49CD-B830-DB5D136DACA8}" type="slidenum">
              <a:rPr b="0" sz="24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Picture 138" descr="풍차2"/>
          <p:cNvPicPr/>
          <p:nvPr/>
        </p:nvPicPr>
        <p:blipFill>
          <a:blip r:embed="rId2"/>
          <a:srcRect l="3889" t="0" r="2962" b="4399"/>
          <a:stretch/>
        </p:blipFill>
        <p:spPr>
          <a:xfrm>
            <a:off x="4352760" y="3316320"/>
            <a:ext cx="4791240" cy="182736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4" descr="C:\Documents and Settings\Administrator\桌面\大课堂标志.png"/>
          <p:cNvPicPr/>
          <p:nvPr/>
        </p:nvPicPr>
        <p:blipFill>
          <a:blip r:embed="rId3"/>
          <a:stretch/>
        </p:blipFill>
        <p:spPr>
          <a:xfrm>
            <a:off x="8067600" y="44280"/>
            <a:ext cx="1027080" cy="702000"/>
          </a:xfrm>
          <a:prstGeom prst="rect">
            <a:avLst/>
          </a:prstGeom>
          <a:ln w="0">
            <a:noFill/>
          </a:ln>
        </p:spPr>
      </p:pic>
      <p:sp>
        <p:nvSpPr>
          <p:cNvPr id="815" name="PlaceHolder 1"/>
          <p:cNvSpPr>
            <a:spLocks noGrp="1"/>
          </p:cNvSpPr>
          <p:nvPr>
            <p:ph type="dt" idx="19"/>
          </p:nvPr>
        </p:nvSpPr>
        <p:spPr>
          <a:xfrm>
            <a:off x="68580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ftr" idx="20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 type="sldNum" idx="21"/>
          </p:nvPr>
        </p:nvSpPr>
        <p:spPr>
          <a:xfrm>
            <a:off x="655308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7D602-9B35-4276-9B49-7EBE41B9B46E}" type="slidenum">
              <a:rPr b="0" sz="24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4" name="Picture 4" descr="C:\Documents and Settings\Administrator\桌面\大课堂标志.png"/>
          <p:cNvPicPr/>
          <p:nvPr/>
        </p:nvPicPr>
        <p:blipFill>
          <a:blip r:embed="rId2"/>
          <a:stretch/>
        </p:blipFill>
        <p:spPr>
          <a:xfrm>
            <a:off x="8067600" y="44280"/>
            <a:ext cx="1027080" cy="70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1" name="Picture 138" descr="풍차2"/>
          <p:cNvPicPr/>
          <p:nvPr/>
        </p:nvPicPr>
        <p:blipFill>
          <a:blip r:embed="rId2"/>
          <a:srcRect l="3889" t="0" r="2962" b="4399"/>
          <a:stretch/>
        </p:blipFill>
        <p:spPr>
          <a:xfrm>
            <a:off x="4352760" y="3316320"/>
            <a:ext cx="4791240" cy="1827360"/>
          </a:xfrm>
          <a:prstGeom prst="rect">
            <a:avLst/>
          </a:prstGeom>
          <a:ln w="0">
            <a:noFill/>
          </a:ln>
        </p:spPr>
      </p:pic>
      <p:pic>
        <p:nvPicPr>
          <p:cNvPr id="892" name="Picture 4" descr="C:\Documents and Settings\Administrator\桌面\大课堂标志.png"/>
          <p:cNvPicPr/>
          <p:nvPr/>
        </p:nvPicPr>
        <p:blipFill>
          <a:blip r:embed="rId3"/>
          <a:stretch/>
        </p:blipFill>
        <p:spPr>
          <a:xfrm>
            <a:off x="8067600" y="44280"/>
            <a:ext cx="1027080" cy="702000"/>
          </a:xfrm>
          <a:prstGeom prst="rect">
            <a:avLst/>
          </a:prstGeom>
          <a:ln w="0">
            <a:noFill/>
          </a:ln>
        </p:spPr>
      </p:pic>
      <p:sp>
        <p:nvSpPr>
          <p:cNvPr id="893" name="PlaceHolder 1"/>
          <p:cNvSpPr>
            <a:spLocks noGrp="1"/>
          </p:cNvSpPr>
          <p:nvPr>
            <p:ph type="dt" idx="22"/>
          </p:nvPr>
        </p:nvSpPr>
        <p:spPr>
          <a:xfrm>
            <a:off x="68580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ftr" idx="23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 type="sldNum" idx="24"/>
          </p:nvPr>
        </p:nvSpPr>
        <p:spPr>
          <a:xfrm>
            <a:off x="655308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E3ADA-E54B-4B9E-BA6F-F835F321C753}" type="slidenum">
              <a:rPr b="0" sz="24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Picture 138" descr="풍차2"/>
          <p:cNvPicPr/>
          <p:nvPr/>
        </p:nvPicPr>
        <p:blipFill>
          <a:blip r:embed="rId2"/>
          <a:srcRect l="3889" t="0" r="2962" b="4399"/>
          <a:stretch/>
        </p:blipFill>
        <p:spPr>
          <a:xfrm>
            <a:off x="4352760" y="3316320"/>
            <a:ext cx="4791240" cy="182736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4" descr="C:\Documents and Settings\Administrator\桌面\大课堂标志.png"/>
          <p:cNvPicPr/>
          <p:nvPr/>
        </p:nvPicPr>
        <p:blipFill>
          <a:blip r:embed="rId3"/>
          <a:stretch/>
        </p:blipFill>
        <p:spPr>
          <a:xfrm>
            <a:off x="8067600" y="44280"/>
            <a:ext cx="1027080" cy="702000"/>
          </a:xfrm>
          <a:prstGeom prst="rect">
            <a:avLst/>
          </a:prstGeom>
          <a:ln w="0">
            <a:noFill/>
          </a:ln>
        </p:spPr>
      </p:pic>
      <p:sp>
        <p:nvSpPr>
          <p:cNvPr id="934" name="PlaceHolder 1"/>
          <p:cNvSpPr>
            <a:spLocks noGrp="1"/>
          </p:cNvSpPr>
          <p:nvPr>
            <p:ph type="dt" idx="25"/>
          </p:nvPr>
        </p:nvSpPr>
        <p:spPr>
          <a:xfrm>
            <a:off x="68580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 type="ftr" idx="26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 type="sldNum" idx="27"/>
          </p:nvPr>
        </p:nvSpPr>
        <p:spPr>
          <a:xfrm>
            <a:off x="655308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69EA5-3EAF-459F-9F2E-D6DC71D75DD5}" type="slidenum">
              <a:rPr b="0" sz="24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3" name="Picture 4" descr="C:\Documents and Settings\Administrator\桌面\大课堂标志.png"/>
          <p:cNvPicPr/>
          <p:nvPr/>
        </p:nvPicPr>
        <p:blipFill>
          <a:blip r:embed="rId2"/>
          <a:stretch/>
        </p:blipFill>
        <p:spPr>
          <a:xfrm>
            <a:off x="8067600" y="44280"/>
            <a:ext cx="1027080" cy="70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0" name="Picture 138" descr="풍차2"/>
          <p:cNvPicPr/>
          <p:nvPr/>
        </p:nvPicPr>
        <p:blipFill>
          <a:blip r:embed="rId2"/>
          <a:srcRect l="3889" t="0" r="2962" b="4399"/>
          <a:stretch/>
        </p:blipFill>
        <p:spPr>
          <a:xfrm>
            <a:off x="4352760" y="3316320"/>
            <a:ext cx="4791240" cy="182736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4" descr="C:\Documents and Settings\Administrator\桌面\大课堂标志.png"/>
          <p:cNvPicPr/>
          <p:nvPr/>
        </p:nvPicPr>
        <p:blipFill>
          <a:blip r:embed="rId3"/>
          <a:stretch/>
        </p:blipFill>
        <p:spPr>
          <a:xfrm>
            <a:off x="8067600" y="44280"/>
            <a:ext cx="1027080" cy="702000"/>
          </a:xfrm>
          <a:prstGeom prst="rect">
            <a:avLst/>
          </a:prstGeom>
          <a:ln w="0">
            <a:noFill/>
          </a:ln>
        </p:spPr>
      </p:pic>
      <p:sp>
        <p:nvSpPr>
          <p:cNvPr id="1012" name="PlaceHolder 1"/>
          <p:cNvSpPr>
            <a:spLocks noGrp="1"/>
          </p:cNvSpPr>
          <p:nvPr>
            <p:ph type="dt" idx="28"/>
          </p:nvPr>
        </p:nvSpPr>
        <p:spPr>
          <a:xfrm>
            <a:off x="68580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 type="ftr" idx="29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 type="sldNum" idx="30"/>
          </p:nvPr>
        </p:nvSpPr>
        <p:spPr>
          <a:xfrm>
            <a:off x="655308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17977-EDE2-4188-A978-C7B678A0242B}" type="slidenum">
              <a:rPr b="0" sz="24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Picture 138" descr="풍차2"/>
          <p:cNvPicPr/>
          <p:nvPr/>
        </p:nvPicPr>
        <p:blipFill>
          <a:blip r:embed="rId2"/>
          <a:srcRect l="3889" t="0" r="2962" b="4399"/>
          <a:stretch/>
        </p:blipFill>
        <p:spPr>
          <a:xfrm>
            <a:off x="4352760" y="3316320"/>
            <a:ext cx="4791240" cy="182736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4" descr="C:\Documents and Settings\Administrator\桌面\大课堂标志.png"/>
          <p:cNvPicPr/>
          <p:nvPr/>
        </p:nvPicPr>
        <p:blipFill>
          <a:blip r:embed="rId3"/>
          <a:stretch/>
        </p:blipFill>
        <p:spPr>
          <a:xfrm>
            <a:off x="8067600" y="44280"/>
            <a:ext cx="1027080" cy="702000"/>
          </a:xfrm>
          <a:prstGeom prst="rect">
            <a:avLst/>
          </a:prstGeom>
          <a:ln w="0">
            <a:noFill/>
          </a:ln>
        </p:spPr>
      </p:pic>
      <p:sp>
        <p:nvSpPr>
          <p:cNvPr id="1053" name="PlaceHolder 1"/>
          <p:cNvSpPr>
            <a:spLocks noGrp="1"/>
          </p:cNvSpPr>
          <p:nvPr>
            <p:ph type="dt" idx="31"/>
          </p:nvPr>
        </p:nvSpPr>
        <p:spPr>
          <a:xfrm>
            <a:off x="68580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 type="ftr" idx="32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 type="sldNum" idx="33"/>
          </p:nvPr>
        </p:nvSpPr>
        <p:spPr>
          <a:xfrm>
            <a:off x="655308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0B677-0B86-477D-81F6-12004DEA3F43}" type="slidenum">
              <a:rPr b="0" sz="24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2" name="Picture 4" descr="C:\Documents and Settings\Administrator\桌面\大课堂标志.png"/>
          <p:cNvPicPr/>
          <p:nvPr/>
        </p:nvPicPr>
        <p:blipFill>
          <a:blip r:embed="rId2"/>
          <a:stretch/>
        </p:blipFill>
        <p:spPr>
          <a:xfrm>
            <a:off x="8067600" y="44280"/>
            <a:ext cx="1027080" cy="70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38" descr="풍차2"/>
          <p:cNvPicPr/>
          <p:nvPr/>
        </p:nvPicPr>
        <p:blipFill>
          <a:blip r:embed="rId2"/>
          <a:srcRect l="3889" t="0" r="2962" b="4399"/>
          <a:stretch/>
        </p:blipFill>
        <p:spPr>
          <a:xfrm>
            <a:off x="4352760" y="3316320"/>
            <a:ext cx="4791240" cy="1827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C:\Documents and Settings\Administrator\桌面\大课堂标志.png"/>
          <p:cNvPicPr/>
          <p:nvPr/>
        </p:nvPicPr>
        <p:blipFill>
          <a:blip r:embed="rId3"/>
          <a:stretch/>
        </p:blipFill>
        <p:spPr>
          <a:xfrm>
            <a:off x="8067600" y="44280"/>
            <a:ext cx="1027080" cy="70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9" name="Picture 138" descr="풍차2"/>
          <p:cNvPicPr/>
          <p:nvPr/>
        </p:nvPicPr>
        <p:blipFill>
          <a:blip r:embed="rId2"/>
          <a:srcRect l="3889" t="0" r="2962" b="4399"/>
          <a:stretch/>
        </p:blipFill>
        <p:spPr>
          <a:xfrm>
            <a:off x="4352760" y="3316320"/>
            <a:ext cx="4791240" cy="182736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4" descr="C:\Documents and Settings\Administrator\桌面\大课堂标志.png"/>
          <p:cNvPicPr/>
          <p:nvPr/>
        </p:nvPicPr>
        <p:blipFill>
          <a:blip r:embed="rId3"/>
          <a:stretch/>
        </p:blipFill>
        <p:spPr>
          <a:xfrm>
            <a:off x="8067600" y="44280"/>
            <a:ext cx="1027080" cy="702000"/>
          </a:xfrm>
          <a:prstGeom prst="rect">
            <a:avLst/>
          </a:prstGeom>
          <a:ln w="0">
            <a:noFill/>
          </a:ln>
        </p:spPr>
      </p:pic>
      <p:sp>
        <p:nvSpPr>
          <p:cNvPr id="1131" name="PlaceHolder 1"/>
          <p:cNvSpPr>
            <a:spLocks noGrp="1"/>
          </p:cNvSpPr>
          <p:nvPr>
            <p:ph type="dt" idx="34"/>
          </p:nvPr>
        </p:nvSpPr>
        <p:spPr>
          <a:xfrm>
            <a:off x="68580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 type="ftr" idx="35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 type="sldNum" idx="36"/>
          </p:nvPr>
        </p:nvSpPr>
        <p:spPr>
          <a:xfrm>
            <a:off x="655308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F7366-3CC2-4F66-BC51-034FE23187C6}" type="slidenum">
              <a:rPr b="0" sz="24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0" name="Picture 138" descr="풍차2"/>
          <p:cNvPicPr/>
          <p:nvPr/>
        </p:nvPicPr>
        <p:blipFill>
          <a:blip r:embed="rId2"/>
          <a:srcRect l="3889" t="0" r="2962" b="4399"/>
          <a:stretch/>
        </p:blipFill>
        <p:spPr>
          <a:xfrm>
            <a:off x="4352760" y="3316320"/>
            <a:ext cx="4791240" cy="1827360"/>
          </a:xfrm>
          <a:prstGeom prst="rect">
            <a:avLst/>
          </a:prstGeom>
          <a:ln w="0">
            <a:noFill/>
          </a:ln>
        </p:spPr>
      </p:pic>
      <p:pic>
        <p:nvPicPr>
          <p:cNvPr id="1171" name="Picture 4" descr="C:\Documents and Settings\Administrator\桌面\大课堂标志.png"/>
          <p:cNvPicPr/>
          <p:nvPr/>
        </p:nvPicPr>
        <p:blipFill>
          <a:blip r:embed="rId3"/>
          <a:stretch/>
        </p:blipFill>
        <p:spPr>
          <a:xfrm>
            <a:off x="8067600" y="44280"/>
            <a:ext cx="1027080" cy="702000"/>
          </a:xfrm>
          <a:prstGeom prst="rect">
            <a:avLst/>
          </a:prstGeom>
          <a:ln w="0">
            <a:noFill/>
          </a:ln>
        </p:spPr>
      </p:pic>
      <p:sp>
        <p:nvSpPr>
          <p:cNvPr id="1172" name="PlaceHolder 1"/>
          <p:cNvSpPr>
            <a:spLocks noGrp="1"/>
          </p:cNvSpPr>
          <p:nvPr>
            <p:ph type="dt" idx="37"/>
          </p:nvPr>
        </p:nvSpPr>
        <p:spPr>
          <a:xfrm>
            <a:off x="68580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 type="ftr" idx="38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 type="sldNum" idx="39"/>
          </p:nvPr>
        </p:nvSpPr>
        <p:spPr>
          <a:xfrm>
            <a:off x="655308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7A3C5-46D5-4300-9BF3-2C121B458C4B}" type="slidenum">
              <a:rPr b="0" sz="24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1" name="Picture 4" descr="C:\Documents and Settings\Administrator\桌面\大课堂标志.png"/>
          <p:cNvPicPr/>
          <p:nvPr/>
        </p:nvPicPr>
        <p:blipFill>
          <a:blip r:embed="rId2"/>
          <a:stretch/>
        </p:blipFill>
        <p:spPr>
          <a:xfrm>
            <a:off x="8067600" y="44280"/>
            <a:ext cx="1027080" cy="70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8" name="Picture 138" descr="풍차2"/>
          <p:cNvPicPr/>
          <p:nvPr/>
        </p:nvPicPr>
        <p:blipFill>
          <a:blip r:embed="rId2"/>
          <a:srcRect l="3889" t="0" r="2962" b="4399"/>
          <a:stretch/>
        </p:blipFill>
        <p:spPr>
          <a:xfrm>
            <a:off x="4352760" y="3316320"/>
            <a:ext cx="4791240" cy="1827360"/>
          </a:xfrm>
          <a:prstGeom prst="rect">
            <a:avLst/>
          </a:prstGeom>
          <a:ln w="0">
            <a:noFill/>
          </a:ln>
        </p:spPr>
      </p:pic>
      <p:pic>
        <p:nvPicPr>
          <p:cNvPr id="1249" name="Picture 4" descr="C:\Documents and Settings\Administrator\桌面\大课堂标志.png"/>
          <p:cNvPicPr/>
          <p:nvPr/>
        </p:nvPicPr>
        <p:blipFill>
          <a:blip r:embed="rId3"/>
          <a:stretch/>
        </p:blipFill>
        <p:spPr>
          <a:xfrm>
            <a:off x="8067600" y="44280"/>
            <a:ext cx="1027080" cy="702000"/>
          </a:xfrm>
          <a:prstGeom prst="rect">
            <a:avLst/>
          </a:prstGeom>
          <a:ln w="0">
            <a:noFill/>
          </a:ln>
        </p:spPr>
      </p:pic>
      <p:sp>
        <p:nvSpPr>
          <p:cNvPr id="1250" name="PlaceHolder 1"/>
          <p:cNvSpPr>
            <a:spLocks noGrp="1"/>
          </p:cNvSpPr>
          <p:nvPr>
            <p:ph type="dt" idx="40"/>
          </p:nvPr>
        </p:nvSpPr>
        <p:spPr>
          <a:xfrm>
            <a:off x="68580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 type="ftr" idx="41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 type="sldNum" idx="42"/>
          </p:nvPr>
        </p:nvSpPr>
        <p:spPr>
          <a:xfrm>
            <a:off x="655308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C7627-5A5C-440E-8099-0EE2DC1D9DFF}" type="slidenum">
              <a:rPr b="0" sz="24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4"/>
    <p:sldLayoutId id="2147484066" r:id="rId5"/>
    <p:sldLayoutId id="2147484067" r:id="rId6"/>
    <p:sldLayoutId id="2147484068" r:id="rId7"/>
    <p:sldLayoutId id="2147484069" r:id="rId8"/>
    <p:sldLayoutId id="2147484070" r:id="rId9"/>
    <p:sldLayoutId id="2147484071" r:id="rId10"/>
    <p:sldLayoutId id="2147484072" r:id="rId11"/>
    <p:sldLayoutId id="2147484073" r:id="rId12"/>
    <p:sldLayoutId id="2147484074" r:id="rId13"/>
    <p:sldLayoutId id="2147484075" r:id="rId14"/>
    <p:sldLayoutId id="2147484076" r:id="rId15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9" name="Picture 138" descr="풍차2"/>
          <p:cNvPicPr/>
          <p:nvPr/>
        </p:nvPicPr>
        <p:blipFill>
          <a:blip r:embed="rId2"/>
          <a:srcRect l="3889" t="0" r="2962" b="4399"/>
          <a:stretch/>
        </p:blipFill>
        <p:spPr>
          <a:xfrm>
            <a:off x="4352760" y="3316320"/>
            <a:ext cx="4791240" cy="1827360"/>
          </a:xfrm>
          <a:prstGeom prst="rect">
            <a:avLst/>
          </a:prstGeom>
          <a:ln w="0">
            <a:noFill/>
          </a:ln>
        </p:spPr>
      </p:pic>
      <p:pic>
        <p:nvPicPr>
          <p:cNvPr id="1290" name="Picture 4" descr="C:\Documents and Settings\Administrator\桌面\大课堂标志.png"/>
          <p:cNvPicPr/>
          <p:nvPr/>
        </p:nvPicPr>
        <p:blipFill>
          <a:blip r:embed="rId3"/>
          <a:stretch/>
        </p:blipFill>
        <p:spPr>
          <a:xfrm>
            <a:off x="8067600" y="44280"/>
            <a:ext cx="1027080" cy="702000"/>
          </a:xfrm>
          <a:prstGeom prst="rect">
            <a:avLst/>
          </a:prstGeom>
          <a:ln w="0">
            <a:noFill/>
          </a:ln>
        </p:spPr>
      </p:pic>
      <p:sp>
        <p:nvSpPr>
          <p:cNvPr id="1291" name="PlaceHolder 1"/>
          <p:cNvSpPr>
            <a:spLocks noGrp="1"/>
          </p:cNvSpPr>
          <p:nvPr>
            <p:ph type="dt" idx="43"/>
          </p:nvPr>
        </p:nvSpPr>
        <p:spPr>
          <a:xfrm>
            <a:off x="68580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 type="ftr" idx="44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 type="sldNum" idx="45"/>
          </p:nvPr>
        </p:nvSpPr>
        <p:spPr>
          <a:xfrm>
            <a:off x="655308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70B52-EE04-42B6-95E1-870B90FFB306}" type="slidenum">
              <a:rPr b="0" sz="24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4"/>
    <p:sldLayoutId id="2147484079" r:id="rId5"/>
    <p:sldLayoutId id="2147484080" r:id="rId6"/>
    <p:sldLayoutId id="2147484081" r:id="rId7"/>
    <p:sldLayoutId id="2147484082" r:id="rId8"/>
    <p:sldLayoutId id="2147484083" r:id="rId9"/>
    <p:sldLayoutId id="2147484084" r:id="rId10"/>
    <p:sldLayoutId id="2147484085" r:id="rId11"/>
    <p:sldLayoutId id="2147484086" r:id="rId12"/>
    <p:sldLayoutId id="2147484087" r:id="rId13"/>
    <p:sldLayoutId id="2147484088" r:id="rId14"/>
    <p:sldLayoutId id="2147484089" r:id="rId15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 type="dt" idx="46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 type="ftr" idx="47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5"/>
          <p:cNvSpPr>
            <a:spLocks noGrp="1"/>
          </p:cNvSpPr>
          <p:nvPr>
            <p:ph type="sldNum" idx="48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000" spc="-1" strike="noStrike">
                <a:solidFill>
                  <a:srgbClr val="000000"/>
                </a:solidFill>
                <a:latin typeface="Times New Roman"/>
                <a:ea typeface="楷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CE5EF-C36F-4BA9-95D8-42B139CDFF42}" type="slidenum">
              <a:rPr b="0" sz="1000" spc="-1" strike="noStrike">
                <a:solidFill>
                  <a:srgbClr val="000000"/>
                </a:solidFill>
                <a:latin typeface="Times New Roman"/>
                <a:ea typeface="楷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 type="dt" idx="49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 type="ftr" idx="50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5"/>
          <p:cNvSpPr>
            <a:spLocks noGrp="1"/>
          </p:cNvSpPr>
          <p:nvPr>
            <p:ph type="sldNum" idx="51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000" spc="-1" strike="noStrike">
                <a:solidFill>
                  <a:srgbClr val="000000"/>
                </a:solidFill>
                <a:latin typeface="Times New Roman"/>
                <a:ea typeface="楷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D6F52-2CAE-404E-89B1-615A7A3243F8}" type="slidenum">
              <a:rPr b="0" sz="1000" spc="-1" strike="noStrike">
                <a:solidFill>
                  <a:srgbClr val="000000"/>
                </a:solidFill>
                <a:latin typeface="Times New Roman"/>
                <a:ea typeface="楷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 type="dt" idx="52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 type="ftr" idx="53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5"/>
          <p:cNvSpPr>
            <a:spLocks noGrp="1"/>
          </p:cNvSpPr>
          <p:nvPr>
            <p:ph type="sldNum" idx="54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000" spc="-1" strike="noStrike">
                <a:solidFill>
                  <a:srgbClr val="000000"/>
                </a:solidFill>
                <a:latin typeface="Times New Roman"/>
                <a:ea typeface="楷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1A443-A76C-45C3-9F08-5B333AB8BCF6}" type="slidenum">
              <a:rPr b="0" sz="1000" spc="-1" strike="noStrike">
                <a:solidFill>
                  <a:srgbClr val="000000"/>
                </a:solidFill>
                <a:latin typeface="Times New Roman"/>
                <a:ea typeface="楷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 type="dt" idx="55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 type="ftr" idx="56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5"/>
          <p:cNvSpPr>
            <a:spLocks noGrp="1"/>
          </p:cNvSpPr>
          <p:nvPr>
            <p:ph type="sldNum" idx="57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000" spc="-1" strike="noStrike">
                <a:solidFill>
                  <a:srgbClr val="000000"/>
                </a:solidFill>
                <a:latin typeface="Times New Roman"/>
                <a:ea typeface="楷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CEA2C-A94B-4A3A-9750-E10DDC67530C}" type="slidenum">
              <a:rPr b="0" sz="1000" spc="-1" strike="noStrike">
                <a:solidFill>
                  <a:srgbClr val="000000"/>
                </a:solidFill>
                <a:latin typeface="Times New Roman"/>
                <a:ea typeface="楷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 type="dt" idx="58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 type="ftr" idx="59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5"/>
          <p:cNvSpPr>
            <a:spLocks noGrp="1"/>
          </p:cNvSpPr>
          <p:nvPr>
            <p:ph type="sldNum" idx="60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000" spc="-1" strike="noStrike">
                <a:solidFill>
                  <a:srgbClr val="000000"/>
                </a:solidFill>
                <a:latin typeface="Times New Roman"/>
                <a:ea typeface="楷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1F0E6-CBD1-4E70-9507-CA9B2A6D347F}" type="slidenum">
              <a:rPr b="0" sz="1000" spc="-1" strike="noStrike">
                <a:solidFill>
                  <a:srgbClr val="000000"/>
                </a:solidFill>
                <a:latin typeface="Times New Roman"/>
                <a:ea typeface="楷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38" descr="풍차2"/>
          <p:cNvPicPr/>
          <p:nvPr/>
        </p:nvPicPr>
        <p:blipFill>
          <a:blip r:embed="rId2"/>
          <a:srcRect l="3889" t="0" r="2962" b="4399"/>
          <a:stretch/>
        </p:blipFill>
        <p:spPr>
          <a:xfrm>
            <a:off x="4352760" y="3316320"/>
            <a:ext cx="4791240" cy="182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C:\Documents and Settings\Administrator\桌面\大课堂标志.png"/>
          <p:cNvPicPr/>
          <p:nvPr/>
        </p:nvPicPr>
        <p:blipFill>
          <a:blip r:embed="rId3"/>
          <a:stretch/>
        </p:blipFill>
        <p:spPr>
          <a:xfrm>
            <a:off x="8067600" y="44280"/>
            <a:ext cx="1027080" cy="70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 type="dt" idx="6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 type="ftr" idx="6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5"/>
          <p:cNvSpPr>
            <a:spLocks noGrp="1"/>
          </p:cNvSpPr>
          <p:nvPr>
            <p:ph type="sldNum" idx="6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000" spc="-1" strike="noStrike">
                <a:solidFill>
                  <a:srgbClr val="000000"/>
                </a:solidFill>
                <a:latin typeface="Times New Roman"/>
                <a:ea typeface="楷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BFCCA-C208-430A-A906-25ED1D59CB0C}" type="slidenum">
              <a:rPr b="0" sz="1000" spc="-1" strike="noStrike">
                <a:solidFill>
                  <a:srgbClr val="000000"/>
                </a:solidFill>
                <a:latin typeface="Times New Roman"/>
                <a:ea typeface="楷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 type="dt" idx="64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 type="ftr" idx="6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5"/>
          <p:cNvSpPr>
            <a:spLocks noGrp="1"/>
          </p:cNvSpPr>
          <p:nvPr>
            <p:ph type="sldNum" idx="66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000" spc="-1" strike="noStrike">
                <a:solidFill>
                  <a:srgbClr val="000000"/>
                </a:solidFill>
                <a:latin typeface="Times New Roman"/>
                <a:ea typeface="楷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77B1F-61EA-4007-A7D3-453B2D474ED6}" type="slidenum">
              <a:rPr b="0" sz="1000" spc="-1" strike="noStrike">
                <a:solidFill>
                  <a:srgbClr val="000000"/>
                </a:solidFill>
                <a:latin typeface="Times New Roman"/>
                <a:ea typeface="楷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 type="dt" idx="67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 type="ftr" idx="68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5"/>
          <p:cNvSpPr>
            <a:spLocks noGrp="1"/>
          </p:cNvSpPr>
          <p:nvPr>
            <p:ph type="sldNum" idx="69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000" spc="-1" strike="noStrike">
                <a:solidFill>
                  <a:srgbClr val="000000"/>
                </a:solidFill>
                <a:latin typeface="Times New Roman"/>
                <a:ea typeface="楷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E8BCB-9B69-42C1-A85B-A0242D883D10}" type="slidenum">
              <a:rPr b="0" sz="1000" spc="-1" strike="noStrike">
                <a:solidFill>
                  <a:srgbClr val="000000"/>
                </a:solidFill>
                <a:latin typeface="Times New Roman"/>
                <a:ea typeface="楷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 type="dt" idx="70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 type="ftr" idx="71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PlaceHolder 5"/>
          <p:cNvSpPr>
            <a:spLocks noGrp="1"/>
          </p:cNvSpPr>
          <p:nvPr>
            <p:ph type="sldNum" idx="72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000" spc="-1" strike="noStrike">
                <a:solidFill>
                  <a:srgbClr val="000000"/>
                </a:solidFill>
                <a:latin typeface="Times New Roman"/>
                <a:ea typeface="楷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BE5D2-5CF4-4F88-A857-72D4F0D66263}" type="slidenum">
              <a:rPr b="0" sz="1000" spc="-1" strike="noStrike">
                <a:solidFill>
                  <a:srgbClr val="000000"/>
                </a:solidFill>
                <a:latin typeface="Times New Roman"/>
                <a:ea typeface="楷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 type="dt" idx="73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 type="ftr" idx="74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PlaceHolder 5"/>
          <p:cNvSpPr>
            <a:spLocks noGrp="1"/>
          </p:cNvSpPr>
          <p:nvPr>
            <p:ph type="sldNum" idx="75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000" spc="-1" strike="noStrike">
                <a:solidFill>
                  <a:srgbClr val="000000"/>
                </a:solidFill>
                <a:latin typeface="Times New Roman"/>
                <a:ea typeface="楷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07A7D-E96B-4420-A0EC-F9729C83A728}" type="slidenum">
              <a:rPr b="0" sz="1000" spc="-1" strike="noStrike">
                <a:solidFill>
                  <a:srgbClr val="000000"/>
                </a:solidFill>
                <a:latin typeface="Times New Roman"/>
                <a:ea typeface="楷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 type="dt" idx="76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 type="ftr" idx="77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5"/>
          <p:cNvSpPr>
            <a:spLocks noGrp="1"/>
          </p:cNvSpPr>
          <p:nvPr>
            <p:ph type="sldNum" idx="78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000" spc="-1" strike="noStrike">
                <a:solidFill>
                  <a:srgbClr val="000000"/>
                </a:solidFill>
                <a:latin typeface="Times New Roman"/>
                <a:ea typeface="楷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187F3-3287-4553-9A0D-0B206B892A79}" type="slidenum">
              <a:rPr b="0" sz="1000" spc="-1" strike="noStrike">
                <a:solidFill>
                  <a:srgbClr val="000000"/>
                </a:solidFill>
                <a:latin typeface="Times New Roman"/>
                <a:ea typeface="楷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38" descr="풍차2"/>
          <p:cNvPicPr/>
          <p:nvPr/>
        </p:nvPicPr>
        <p:blipFill>
          <a:blip r:embed="rId2"/>
          <a:srcRect l="3889" t="0" r="2962" b="4399"/>
          <a:stretch/>
        </p:blipFill>
        <p:spPr>
          <a:xfrm>
            <a:off x="4352760" y="3316320"/>
            <a:ext cx="4791240" cy="1827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C:\Documents and Settings\Administrator\桌面\大课堂标志.png"/>
          <p:cNvPicPr/>
          <p:nvPr/>
        </p:nvPicPr>
        <p:blipFill>
          <a:blip r:embed="rId3"/>
          <a:stretch/>
        </p:blipFill>
        <p:spPr>
          <a:xfrm>
            <a:off x="8067600" y="44280"/>
            <a:ext cx="1027080" cy="70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138" descr="풍차2"/>
          <p:cNvPicPr/>
          <p:nvPr/>
        </p:nvPicPr>
        <p:blipFill>
          <a:blip r:embed="rId2"/>
          <a:srcRect l="3889" t="0" r="2962" b="4399"/>
          <a:stretch/>
        </p:blipFill>
        <p:spPr>
          <a:xfrm>
            <a:off x="4352760" y="3316320"/>
            <a:ext cx="4791240" cy="1827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C:\Documents and Settings\Administrator\桌面\大课堂标志.png"/>
          <p:cNvPicPr/>
          <p:nvPr/>
        </p:nvPicPr>
        <p:blipFill>
          <a:blip r:embed="rId3"/>
          <a:stretch/>
        </p:blipFill>
        <p:spPr>
          <a:xfrm>
            <a:off x="8067600" y="44280"/>
            <a:ext cx="1027080" cy="70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138" descr="풍차2"/>
          <p:cNvPicPr/>
          <p:nvPr/>
        </p:nvPicPr>
        <p:blipFill>
          <a:blip r:embed="rId2"/>
          <a:srcRect l="3889" t="0" r="2962" b="4399"/>
          <a:stretch/>
        </p:blipFill>
        <p:spPr>
          <a:xfrm>
            <a:off x="4352760" y="3316320"/>
            <a:ext cx="4791240" cy="18273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C:\Documents and Settings\Administrator\桌面\大课堂标志.png"/>
          <p:cNvPicPr/>
          <p:nvPr/>
        </p:nvPicPr>
        <p:blipFill>
          <a:blip r:embed="rId3"/>
          <a:stretch/>
        </p:blipFill>
        <p:spPr>
          <a:xfrm>
            <a:off x="8067600" y="44280"/>
            <a:ext cx="1027080" cy="70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38" descr="풍차2"/>
          <p:cNvPicPr/>
          <p:nvPr/>
        </p:nvPicPr>
        <p:blipFill>
          <a:blip r:embed="rId2"/>
          <a:srcRect l="3889" t="0" r="2962" b="4399"/>
          <a:stretch/>
        </p:blipFill>
        <p:spPr>
          <a:xfrm>
            <a:off x="4352760" y="3316320"/>
            <a:ext cx="4791240" cy="18273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" descr="C:\Documents and Settings\Administrator\桌面\大课堂标志.png"/>
          <p:cNvPicPr/>
          <p:nvPr/>
        </p:nvPicPr>
        <p:blipFill>
          <a:blip r:embed="rId3"/>
          <a:stretch/>
        </p:blipFill>
        <p:spPr>
          <a:xfrm>
            <a:off x="8067600" y="44280"/>
            <a:ext cx="1027080" cy="70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138" descr="풍차2"/>
          <p:cNvPicPr/>
          <p:nvPr/>
        </p:nvPicPr>
        <p:blipFill>
          <a:blip r:embed="rId2"/>
          <a:srcRect l="3889" t="0" r="2962" b="4399"/>
          <a:stretch/>
        </p:blipFill>
        <p:spPr>
          <a:xfrm>
            <a:off x="4352760" y="3316320"/>
            <a:ext cx="4791240" cy="18273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C:\Documents and Settings\Administrator\桌面\大课堂标志.png"/>
          <p:cNvPicPr/>
          <p:nvPr/>
        </p:nvPicPr>
        <p:blipFill>
          <a:blip r:embed="rId3"/>
          <a:stretch/>
        </p:blipFill>
        <p:spPr>
          <a:xfrm>
            <a:off x="8067600" y="44280"/>
            <a:ext cx="1027080" cy="70200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46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jpeg"/><Relationship Id="rId9" Type="http://schemas.openxmlformats.org/officeDocument/2006/relationships/slideLayout" Target="../slideLayouts/slideLayout10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7.jpeg"/><Relationship Id="rId3" Type="http://schemas.openxmlformats.org/officeDocument/2006/relationships/slide" Target="slide20.xml"/><Relationship Id="rId4" Type="http://schemas.openxmlformats.org/officeDocument/2006/relationships/image" Target="../media/image27.jpeg"/><Relationship Id="rId5" Type="http://schemas.openxmlformats.org/officeDocument/2006/relationships/slide" Target="slide21.xml"/><Relationship Id="rId6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1" name="内容占位符 3" descr="16"/>
          <p:cNvPicPr/>
          <p:nvPr/>
        </p:nvPicPr>
        <p:blipFill>
          <a:blip r:embed="rId1"/>
          <a:stretch/>
        </p:blipFill>
        <p:spPr>
          <a:xfrm>
            <a:off x="0" y="-141120"/>
            <a:ext cx="9144000" cy="5449680"/>
          </a:xfrm>
          <a:prstGeom prst="rect">
            <a:avLst/>
          </a:prstGeom>
          <a:ln w="0">
            <a:noFill/>
          </a:ln>
        </p:spPr>
      </p:pic>
      <p:sp>
        <p:nvSpPr>
          <p:cNvPr id="1782" name="TextBox 3"/>
          <p:cNvSpPr/>
          <p:nvPr/>
        </p:nvSpPr>
        <p:spPr>
          <a:xfrm>
            <a:off x="1411200" y="3322800"/>
            <a:ext cx="514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"/>
                <a:ea typeface="楷体"/>
              </a:rPr>
              <a:t>下雪啦，下雪啦</a:t>
            </a:r>
            <a:r>
              <a:rPr b="1" lang="en-US" sz="5400" spc="-1" strike="noStrike">
                <a:solidFill>
                  <a:srgbClr val="ff0000"/>
                </a:solidFill>
                <a:latin typeface="楷体"/>
                <a:ea typeface="楷体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6" name="Picture 2" descr="雪地里的小画家4"/>
          <p:cNvPicPr/>
          <p:nvPr/>
        </p:nvPicPr>
        <p:blipFill>
          <a:blip r:embed="rId1"/>
          <a:stretch/>
        </p:blipFill>
        <p:spPr>
          <a:xfrm>
            <a:off x="4708440" y="1251000"/>
            <a:ext cx="2757600" cy="2457360"/>
          </a:xfrm>
          <a:prstGeom prst="rect">
            <a:avLst/>
          </a:prstGeom>
          <a:ln w="0">
            <a:noFill/>
          </a:ln>
        </p:spPr>
      </p:pic>
      <p:pic>
        <p:nvPicPr>
          <p:cNvPr id="1817" name="Picture 3" descr="雪地里的小画家7"/>
          <p:cNvPicPr/>
          <p:nvPr/>
        </p:nvPicPr>
        <p:blipFill>
          <a:blip r:embed="rId2"/>
          <a:stretch/>
        </p:blipFill>
        <p:spPr>
          <a:xfrm>
            <a:off x="1160640" y="376200"/>
            <a:ext cx="2778120" cy="2359080"/>
          </a:xfrm>
          <a:prstGeom prst="rect">
            <a:avLst/>
          </a:prstGeom>
          <a:ln w="0">
            <a:noFill/>
          </a:ln>
        </p:spPr>
      </p:pic>
      <p:pic>
        <p:nvPicPr>
          <p:cNvPr id="1818" name="图片 1" descr=""/>
          <p:cNvPicPr/>
          <p:nvPr/>
        </p:nvPicPr>
        <p:blipFill>
          <a:blip r:embed="rId3"/>
          <a:stretch/>
        </p:blipFill>
        <p:spPr>
          <a:xfrm>
            <a:off x="7742160" y="39600"/>
            <a:ext cx="1401840" cy="925560"/>
          </a:xfrm>
          <a:prstGeom prst="rect">
            <a:avLst/>
          </a:prstGeom>
          <a:ln w="0">
            <a:noFill/>
          </a:ln>
        </p:spPr>
      </p:pic>
      <p:sp>
        <p:nvSpPr>
          <p:cNvPr id="1819" name="文本框 99"/>
          <p:cNvSpPr/>
          <p:nvPr/>
        </p:nvSpPr>
        <p:spPr>
          <a:xfrm>
            <a:off x="1092240" y="3627360"/>
            <a:ext cx="762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因为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脚印像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所以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画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0" name="Picture 2" descr="雪地里的小画家5"/>
          <p:cNvPicPr/>
          <p:nvPr/>
        </p:nvPicPr>
        <p:blipFill>
          <a:blip r:embed="rId1"/>
          <a:stretch/>
        </p:blipFill>
        <p:spPr>
          <a:xfrm>
            <a:off x="5091120" y="195120"/>
            <a:ext cx="2914560" cy="2735280"/>
          </a:xfrm>
          <a:prstGeom prst="rect">
            <a:avLst/>
          </a:prstGeom>
          <a:ln w="0">
            <a:noFill/>
          </a:ln>
        </p:spPr>
      </p:pic>
      <p:pic>
        <p:nvPicPr>
          <p:cNvPr id="1821" name="Picture 3" descr="雪地里的小画家3"/>
          <p:cNvPicPr/>
          <p:nvPr/>
        </p:nvPicPr>
        <p:blipFill>
          <a:blip r:embed="rId2"/>
          <a:stretch/>
        </p:blipFill>
        <p:spPr>
          <a:xfrm>
            <a:off x="1440000" y="1725480"/>
            <a:ext cx="3143160" cy="2286000"/>
          </a:xfrm>
          <a:prstGeom prst="rect">
            <a:avLst/>
          </a:prstGeom>
          <a:ln w="0">
            <a:noFill/>
          </a:ln>
        </p:spPr>
      </p:pic>
      <p:pic>
        <p:nvPicPr>
          <p:cNvPr id="1822" name="图片 1" descr=""/>
          <p:cNvPicPr/>
          <p:nvPr/>
        </p:nvPicPr>
        <p:blipFill>
          <a:blip r:embed="rId3"/>
          <a:stretch/>
        </p:blipFill>
        <p:spPr>
          <a:xfrm>
            <a:off x="7945560" y="0"/>
            <a:ext cx="1198440" cy="793800"/>
          </a:xfrm>
          <a:prstGeom prst="rect">
            <a:avLst/>
          </a:prstGeom>
          <a:ln w="0">
            <a:noFill/>
          </a:ln>
        </p:spPr>
      </p:pic>
      <p:sp>
        <p:nvSpPr>
          <p:cNvPr id="1823" name="文本框 99"/>
          <p:cNvSpPr/>
          <p:nvPr/>
        </p:nvSpPr>
        <p:spPr>
          <a:xfrm>
            <a:off x="1069920" y="3844800"/>
            <a:ext cx="762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因为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脚印像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所以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画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4" name="Picture 3" descr="2007131203349734"/>
          <p:cNvPicPr/>
          <p:nvPr/>
        </p:nvPicPr>
        <p:blipFill>
          <a:blip r:embed="rId1"/>
          <a:stretch/>
        </p:blipFill>
        <p:spPr>
          <a:xfrm>
            <a:off x="0" y="-527040"/>
            <a:ext cx="9609120" cy="5819760"/>
          </a:xfrm>
          <a:prstGeom prst="rect">
            <a:avLst/>
          </a:prstGeom>
          <a:ln w="0">
            <a:noFill/>
          </a:ln>
        </p:spPr>
      </p:pic>
      <p:grpSp>
        <p:nvGrpSpPr>
          <p:cNvPr id="1825" name="组合 3"/>
          <p:cNvGrpSpPr/>
          <p:nvPr/>
        </p:nvGrpSpPr>
        <p:grpSpPr>
          <a:xfrm>
            <a:off x="601560" y="228600"/>
            <a:ext cx="4343400" cy="2212200"/>
            <a:chOff x="601560" y="228600"/>
            <a:chExt cx="4343400" cy="2212200"/>
          </a:xfrm>
        </p:grpSpPr>
        <p:sp>
          <p:nvSpPr>
            <p:cNvPr id="1826" name="矩形 1"/>
            <p:cNvSpPr/>
            <p:nvPr/>
          </p:nvSpPr>
          <p:spPr>
            <a:xfrm>
              <a:off x="601560" y="640440"/>
              <a:ext cx="43434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不</a:t>
              </a:r>
              <a:r>
                <a:rPr b="1" lang="en-US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用</a:t>
              </a:r>
              <a:r>
                <a:rPr b="1" lang="en-US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颜</a:t>
              </a:r>
              <a:r>
                <a:rPr b="1" lang="en-US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料</a:t>
              </a:r>
              <a:r>
                <a:rPr b="1" lang="en-US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不</a:t>
              </a:r>
              <a:r>
                <a:rPr b="1" lang="en-US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用</a:t>
              </a:r>
              <a:r>
                <a:rPr b="1" lang="en-US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笔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几 步</a:t>
              </a:r>
              <a:r>
                <a:rPr b="1" lang="en-US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就</a:t>
              </a:r>
              <a:r>
                <a:rPr b="1" lang="en-US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成</a:t>
              </a:r>
              <a:r>
                <a:rPr b="1" lang="en-US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一</a:t>
              </a:r>
              <a:r>
                <a:rPr b="1" lang="en-US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幅 画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矩形 2"/>
            <p:cNvSpPr/>
            <p:nvPr/>
          </p:nvSpPr>
          <p:spPr>
            <a:xfrm>
              <a:off x="639360" y="228600"/>
              <a:ext cx="4305600" cy="179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6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b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ú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 y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ò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n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ɡ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 y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á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n li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à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o b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ú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 y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ò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n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ɡ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 b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ǐ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6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j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ǐ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  b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ù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  ji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ù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 ch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é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n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ɡ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 y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ì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 f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ú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  hu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8" name="Picture 35" descr="图片2"/>
          <p:cNvPicPr/>
          <p:nvPr/>
        </p:nvPicPr>
        <p:blipFill>
          <a:blip r:embed="rId1"/>
          <a:stretch/>
        </p:blipFill>
        <p:spPr>
          <a:xfrm>
            <a:off x="54000" y="-1720800"/>
            <a:ext cx="9166320" cy="6875280"/>
          </a:xfrm>
          <a:prstGeom prst="rect">
            <a:avLst/>
          </a:prstGeom>
          <a:ln w="0">
            <a:noFill/>
          </a:ln>
        </p:spPr>
      </p:pic>
      <p:grpSp>
        <p:nvGrpSpPr>
          <p:cNvPr id="1829" name="组合 3"/>
          <p:cNvGrpSpPr/>
          <p:nvPr/>
        </p:nvGrpSpPr>
        <p:grpSpPr>
          <a:xfrm>
            <a:off x="3913200" y="1716120"/>
            <a:ext cx="4572000" cy="2319480"/>
            <a:chOff x="3913200" y="1716120"/>
            <a:chExt cx="4572000" cy="2319480"/>
          </a:xfrm>
        </p:grpSpPr>
        <p:sp>
          <p:nvSpPr>
            <p:cNvPr id="1830" name="矩形 1"/>
            <p:cNvSpPr/>
            <p:nvPr/>
          </p:nvSpPr>
          <p:spPr>
            <a:xfrm>
              <a:off x="3913200" y="1716120"/>
              <a:ext cx="4572000" cy="179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6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q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ī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n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ɡ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 w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ā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 w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è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i sh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é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n me  m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é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i c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ā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n ji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6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t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ā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  z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à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i d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ò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n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ɡ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 l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ǐ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 shu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ì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 zh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á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o  l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矩形 2"/>
            <p:cNvSpPr/>
            <p:nvPr/>
          </p:nvSpPr>
          <p:spPr>
            <a:xfrm>
              <a:off x="3913200" y="2235240"/>
              <a:ext cx="45720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青</a:t>
              </a:r>
              <a:r>
                <a:rPr b="1" lang="en-US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蛙</a:t>
              </a:r>
              <a:r>
                <a:rPr b="1" lang="en-US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为</a:t>
              </a:r>
              <a:r>
                <a:rPr b="1" lang="en-US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什</a:t>
              </a:r>
              <a:r>
                <a:rPr b="1" lang="en-US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么</a:t>
              </a:r>
              <a:r>
                <a:rPr b="1" lang="en-US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没 参</a:t>
              </a:r>
              <a:r>
                <a:rPr b="1" lang="en-US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加？他 在</a:t>
              </a:r>
              <a:r>
                <a:rPr b="1" lang="en-US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洞</a:t>
              </a:r>
              <a:r>
                <a:rPr b="1" lang="en-US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里</a:t>
              </a:r>
              <a:r>
                <a:rPr b="1" lang="en-US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睡</a:t>
              </a:r>
              <a:r>
                <a:rPr b="1" lang="en-US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 </a:t>
              </a: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着</a:t>
              </a:r>
              <a:r>
                <a:rPr b="1" lang="en-US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啦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2" name="Picture 35" descr="图片2"/>
          <p:cNvPicPr/>
          <p:nvPr/>
        </p:nvPicPr>
        <p:blipFill>
          <a:blip r:embed="rId1"/>
          <a:stretch/>
        </p:blipFill>
        <p:spPr>
          <a:xfrm>
            <a:off x="54000" y="-1720800"/>
            <a:ext cx="9166320" cy="6875280"/>
          </a:xfrm>
          <a:prstGeom prst="rect">
            <a:avLst/>
          </a:prstGeom>
          <a:ln w="0">
            <a:noFill/>
          </a:ln>
        </p:spPr>
      </p:pic>
      <p:grpSp>
        <p:nvGrpSpPr>
          <p:cNvPr id="1833" name="组合 3"/>
          <p:cNvGrpSpPr/>
          <p:nvPr/>
        </p:nvGrpSpPr>
        <p:grpSpPr>
          <a:xfrm>
            <a:off x="3116160" y="1579680"/>
            <a:ext cx="4572000" cy="2300040"/>
            <a:chOff x="3116160" y="1579680"/>
            <a:chExt cx="4572000" cy="2300040"/>
          </a:xfrm>
        </p:grpSpPr>
        <p:sp>
          <p:nvSpPr>
            <p:cNvPr id="1834" name="矩形 1"/>
            <p:cNvSpPr/>
            <p:nvPr/>
          </p:nvSpPr>
          <p:spPr>
            <a:xfrm>
              <a:off x="3116160" y="1579680"/>
              <a:ext cx="4572000" cy="179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6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q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ī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n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ɡ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 w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ā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 w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è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i sh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é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n me  m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é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i </a:t>
              </a:r>
              <a:r>
                <a:rPr b="1" lang="en-US" sz="2000" spc="-1" strike="noStrike">
                  <a:solidFill>
                    <a:srgbClr val="ff3300"/>
                  </a:solidFill>
                  <a:latin typeface="宋体"/>
                </a:rPr>
                <a:t>c</a:t>
              </a:r>
              <a:r>
                <a:rPr b="1" lang="zh-CN" sz="2000" spc="-1" strike="noStrike">
                  <a:solidFill>
                    <a:srgbClr val="ff3300"/>
                  </a:solidFill>
                  <a:latin typeface="宋体"/>
                </a:rPr>
                <a:t>ā</a:t>
              </a:r>
              <a:r>
                <a:rPr b="1" lang="en-US" sz="2000" spc="-1" strike="noStrike">
                  <a:solidFill>
                    <a:srgbClr val="ff3300"/>
                  </a:solidFill>
                  <a:latin typeface="宋体"/>
                </a:rPr>
                <a:t>n ji</a:t>
              </a:r>
              <a:r>
                <a:rPr b="1" lang="zh-CN" sz="2000" spc="-1" strike="noStrike">
                  <a:solidFill>
                    <a:srgbClr val="ff3300"/>
                  </a:solidFill>
                  <a:latin typeface="宋体"/>
                </a:rPr>
                <a:t>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6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t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ā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  z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à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i d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ò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n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ɡ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 l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ǐ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 shu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ì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 zh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á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o  l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矩形 2"/>
            <p:cNvSpPr/>
            <p:nvPr/>
          </p:nvSpPr>
          <p:spPr>
            <a:xfrm>
              <a:off x="3116160" y="2079360"/>
              <a:ext cx="45720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青</a:t>
              </a:r>
              <a:r>
                <a:rPr b="1" lang="en-US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蛙</a:t>
              </a:r>
              <a:r>
                <a:rPr b="1" lang="en-US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为</a:t>
              </a:r>
              <a:r>
                <a:rPr b="1" lang="en-US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什</a:t>
              </a:r>
              <a:r>
                <a:rPr b="1" lang="en-US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么</a:t>
              </a:r>
              <a:r>
                <a:rPr b="1" lang="en-US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没 </a:t>
              </a:r>
              <a:r>
                <a:rPr b="1" lang="zh-CN" sz="28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参</a:t>
              </a:r>
              <a:r>
                <a:rPr b="1" lang="en-US" sz="28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加</a:t>
              </a: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？他 在</a:t>
              </a:r>
              <a:r>
                <a:rPr b="1" lang="en-US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洞</a:t>
              </a:r>
              <a:r>
                <a:rPr b="1" lang="en-US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里</a:t>
              </a:r>
              <a:r>
                <a:rPr b="1" lang="en-US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睡</a:t>
              </a:r>
              <a:r>
                <a:rPr b="1" lang="en-US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 </a:t>
              </a: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着</a:t>
              </a:r>
              <a:r>
                <a:rPr b="1" lang="en-US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啦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6" name="Picture 35" descr="图片2"/>
          <p:cNvPicPr/>
          <p:nvPr/>
        </p:nvPicPr>
        <p:blipFill>
          <a:blip r:embed="rId1"/>
          <a:stretch/>
        </p:blipFill>
        <p:spPr>
          <a:xfrm>
            <a:off x="54000" y="-1720800"/>
            <a:ext cx="9166320" cy="6875280"/>
          </a:xfrm>
          <a:prstGeom prst="rect">
            <a:avLst/>
          </a:prstGeom>
          <a:ln w="0">
            <a:noFill/>
          </a:ln>
        </p:spPr>
      </p:pic>
      <p:grpSp>
        <p:nvGrpSpPr>
          <p:cNvPr id="1837" name="组合 3"/>
          <p:cNvGrpSpPr/>
          <p:nvPr/>
        </p:nvGrpSpPr>
        <p:grpSpPr>
          <a:xfrm>
            <a:off x="3746520" y="1314360"/>
            <a:ext cx="4572000" cy="2319480"/>
            <a:chOff x="3746520" y="1314360"/>
            <a:chExt cx="4572000" cy="2319480"/>
          </a:xfrm>
        </p:grpSpPr>
        <p:sp>
          <p:nvSpPr>
            <p:cNvPr id="1838" name="矩形 1"/>
            <p:cNvSpPr/>
            <p:nvPr/>
          </p:nvSpPr>
          <p:spPr>
            <a:xfrm>
              <a:off x="3746520" y="1314360"/>
              <a:ext cx="4572000" cy="179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6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q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ī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n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ɡ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 w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ā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 w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è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i sh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é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n me  m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é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i c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ā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n ji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6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t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ā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  z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à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i d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ò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n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ɡ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 l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ǐ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 shu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ì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 zh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á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o  l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矩形 2"/>
            <p:cNvSpPr/>
            <p:nvPr/>
          </p:nvSpPr>
          <p:spPr>
            <a:xfrm>
              <a:off x="3746520" y="1833480"/>
              <a:ext cx="45720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青</a:t>
              </a:r>
              <a:r>
                <a:rPr b="1" lang="en-US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蛙</a:t>
              </a:r>
              <a:r>
                <a:rPr b="1" lang="en-US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为</a:t>
              </a:r>
              <a:r>
                <a:rPr b="1" lang="en-US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什</a:t>
              </a:r>
              <a:r>
                <a:rPr b="1" lang="en-US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么</a:t>
              </a:r>
              <a:r>
                <a:rPr b="1" lang="en-US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没 参</a:t>
              </a:r>
              <a:r>
                <a:rPr b="1" lang="en-US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加？他 在</a:t>
              </a:r>
              <a:r>
                <a:rPr b="1" lang="en-US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洞</a:t>
              </a:r>
              <a:r>
                <a:rPr b="1" lang="en-US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里</a:t>
              </a:r>
              <a:r>
                <a:rPr b="1" lang="en-US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睡</a:t>
              </a:r>
              <a:r>
                <a:rPr b="1" lang="en-US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 </a:t>
              </a:r>
              <a:r>
                <a:rPr b="1" lang="zh-CN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着</a:t>
              </a:r>
              <a:r>
                <a:rPr b="1" lang="en-US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啦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0" name="Picture 35" descr="图片2"/>
          <p:cNvPicPr/>
          <p:nvPr/>
        </p:nvPicPr>
        <p:blipFill>
          <a:blip r:embed="rId1"/>
          <a:stretch/>
        </p:blipFill>
        <p:spPr>
          <a:xfrm>
            <a:off x="0" y="54000"/>
            <a:ext cx="9166320" cy="6875280"/>
          </a:xfrm>
          <a:prstGeom prst="rect">
            <a:avLst/>
          </a:prstGeom>
          <a:ln w="0">
            <a:noFill/>
          </a:ln>
        </p:spPr>
      </p:pic>
      <p:sp>
        <p:nvSpPr>
          <p:cNvPr id="1841" name="Text Box 5"/>
          <p:cNvSpPr/>
          <p:nvPr/>
        </p:nvSpPr>
        <p:spPr>
          <a:xfrm>
            <a:off x="2539800" y="149868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着 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Rectangle 6"/>
          <p:cNvSpPr/>
          <p:nvPr/>
        </p:nvSpPr>
        <p:spPr>
          <a:xfrm>
            <a:off x="2122560" y="109332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zháo hu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Text Box 7"/>
          <p:cNvSpPr/>
          <p:nvPr/>
        </p:nvSpPr>
        <p:spPr>
          <a:xfrm>
            <a:off x="4551840" y="149076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着 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Text Box 8"/>
          <p:cNvSpPr/>
          <p:nvPr/>
        </p:nvSpPr>
        <p:spPr>
          <a:xfrm>
            <a:off x="6674400" y="152712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着 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Text Box 9"/>
          <p:cNvSpPr/>
          <p:nvPr/>
        </p:nvSpPr>
        <p:spPr>
          <a:xfrm>
            <a:off x="2462040" y="28875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跟着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Text Box 10"/>
          <p:cNvSpPr/>
          <p:nvPr/>
        </p:nvSpPr>
        <p:spPr>
          <a:xfrm>
            <a:off x="4746960" y="28447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陪着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Rectangle 15"/>
          <p:cNvSpPr/>
          <p:nvPr/>
        </p:nvSpPr>
        <p:spPr>
          <a:xfrm>
            <a:off x="4311000" y="1022760"/>
            <a:ext cx="125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zháo j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Rectangle 16"/>
          <p:cNvSpPr/>
          <p:nvPr/>
        </p:nvSpPr>
        <p:spPr>
          <a:xfrm>
            <a:off x="6309720" y="1093320"/>
            <a:ext cx="183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zháo liá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Rectangle 17"/>
          <p:cNvSpPr/>
          <p:nvPr/>
        </p:nvSpPr>
        <p:spPr>
          <a:xfrm>
            <a:off x="2019600" y="249336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gēn zhe wǒ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Rectangle 18"/>
          <p:cNvSpPr/>
          <p:nvPr/>
        </p:nvSpPr>
        <p:spPr>
          <a:xfrm>
            <a:off x="3224520" y="2102760"/>
            <a:ext cx="226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Rectangle 19"/>
          <p:cNvSpPr/>
          <p:nvPr/>
        </p:nvSpPr>
        <p:spPr>
          <a:xfrm>
            <a:off x="906840" y="1374840"/>
            <a:ext cx="126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zhá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Rectangle 20"/>
          <p:cNvSpPr/>
          <p:nvPr/>
        </p:nvSpPr>
        <p:spPr>
          <a:xfrm>
            <a:off x="4430160" y="248220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péi zhe wǒ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Rectangle 21"/>
          <p:cNvSpPr/>
          <p:nvPr/>
        </p:nvSpPr>
        <p:spPr>
          <a:xfrm>
            <a:off x="1071720" y="2745000"/>
            <a:ext cx="101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zhe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矩形 1"/>
          <p:cNvSpPr/>
          <p:nvPr/>
        </p:nvSpPr>
        <p:spPr>
          <a:xfrm>
            <a:off x="272520" y="205884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5" name="Picture 35" descr="图片2"/>
          <p:cNvPicPr/>
          <p:nvPr/>
        </p:nvPicPr>
        <p:blipFill>
          <a:blip r:embed="rId1"/>
          <a:stretch/>
        </p:blipFill>
        <p:spPr>
          <a:xfrm>
            <a:off x="-11160" y="46080"/>
            <a:ext cx="9166320" cy="6875280"/>
          </a:xfrm>
          <a:prstGeom prst="rect">
            <a:avLst/>
          </a:prstGeom>
          <a:ln w="0">
            <a:noFill/>
          </a:ln>
        </p:spPr>
      </p:pic>
      <p:sp>
        <p:nvSpPr>
          <p:cNvPr id="1856" name="PlaceHolder 1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Text Box 7"/>
          <p:cNvSpPr/>
          <p:nvPr/>
        </p:nvSpPr>
        <p:spPr>
          <a:xfrm>
            <a:off x="1494000" y="627120"/>
            <a:ext cx="55083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8" name="Picture 2" descr="刺猬"/>
          <p:cNvPicPr/>
          <p:nvPr/>
        </p:nvPicPr>
        <p:blipFill>
          <a:blip r:embed="rId2"/>
          <a:stretch/>
        </p:blipFill>
        <p:spPr>
          <a:xfrm>
            <a:off x="457200" y="657360"/>
            <a:ext cx="2187720" cy="1815840"/>
          </a:xfrm>
          <a:prstGeom prst="rect">
            <a:avLst/>
          </a:prstGeom>
          <a:ln w="0">
            <a:noFill/>
          </a:ln>
        </p:spPr>
      </p:pic>
      <p:sp>
        <p:nvSpPr>
          <p:cNvPr id="1859" name="WordArt 6"/>
          <p:cNvSpPr txBox="1"/>
          <p:nvPr/>
        </p:nvSpPr>
        <p:spPr>
          <a:xfrm>
            <a:off x="1785960" y="277920"/>
            <a:ext cx="4800600" cy="685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宋体"/>
              </a:rPr>
              <a:t>你知道冬眠的动物还有哪些吗？</a:t>
            </a:r>
            <a:endParaRPr b="0" lang="en-US" sz="27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latin typeface="宋体"/>
              <a:ea typeface="宋体"/>
            </a:endParaRPr>
          </a:p>
        </p:txBody>
      </p:sp>
      <p:pic>
        <p:nvPicPr>
          <p:cNvPr id="1860" name="Picture 7" descr="P000005109"/>
          <p:cNvPicPr/>
          <p:nvPr/>
        </p:nvPicPr>
        <p:blipFill>
          <a:blip r:embed="rId3"/>
          <a:stretch/>
        </p:blipFill>
        <p:spPr>
          <a:xfrm>
            <a:off x="2638440" y="627120"/>
            <a:ext cx="2158920" cy="1781280"/>
          </a:xfrm>
          <a:prstGeom prst="rect">
            <a:avLst/>
          </a:prstGeom>
          <a:ln w="0">
            <a:noFill/>
          </a:ln>
        </p:spPr>
      </p:pic>
      <p:sp>
        <p:nvSpPr>
          <p:cNvPr id="1861" name="文本框 12"/>
          <p:cNvSpPr/>
          <p:nvPr/>
        </p:nvSpPr>
        <p:spPr>
          <a:xfrm>
            <a:off x="963720" y="4648320"/>
            <a:ext cx="771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矩形 1"/>
          <p:cNvSpPr/>
          <p:nvPr/>
        </p:nvSpPr>
        <p:spPr>
          <a:xfrm>
            <a:off x="939240" y="243828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刺猬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矩形 2"/>
          <p:cNvSpPr/>
          <p:nvPr/>
        </p:nvSpPr>
        <p:spPr>
          <a:xfrm>
            <a:off x="3193200" y="24145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蝙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矩形 3"/>
          <p:cNvSpPr/>
          <p:nvPr/>
        </p:nvSpPr>
        <p:spPr>
          <a:xfrm>
            <a:off x="5562000" y="238428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乌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5" name="图片 4" descr=""/>
          <p:cNvPicPr/>
          <p:nvPr/>
        </p:nvPicPr>
        <p:blipFill>
          <a:blip r:embed="rId4"/>
          <a:stretch/>
        </p:blipFill>
        <p:spPr>
          <a:xfrm>
            <a:off x="2665440" y="2911320"/>
            <a:ext cx="2154240" cy="1798920"/>
          </a:xfrm>
          <a:prstGeom prst="rect">
            <a:avLst/>
          </a:prstGeom>
          <a:ln w="0">
            <a:noFill/>
          </a:ln>
        </p:spPr>
      </p:pic>
      <p:sp>
        <p:nvSpPr>
          <p:cNvPr id="1866" name="文本框 5"/>
          <p:cNvSpPr/>
          <p:nvPr/>
        </p:nvSpPr>
        <p:spPr>
          <a:xfrm>
            <a:off x="3276000" y="462744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蜗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7" name="图片 13" descr=""/>
          <p:cNvPicPr/>
          <p:nvPr/>
        </p:nvPicPr>
        <p:blipFill>
          <a:blip r:embed="rId5"/>
          <a:stretch/>
        </p:blipFill>
        <p:spPr>
          <a:xfrm>
            <a:off x="4811760" y="2925720"/>
            <a:ext cx="2166840" cy="1784520"/>
          </a:xfrm>
          <a:prstGeom prst="rect">
            <a:avLst/>
          </a:prstGeom>
          <a:ln w="0">
            <a:noFill/>
          </a:ln>
        </p:spPr>
      </p:pic>
      <p:sp>
        <p:nvSpPr>
          <p:cNvPr id="1868" name="矩形 14"/>
          <p:cNvSpPr/>
          <p:nvPr/>
        </p:nvSpPr>
        <p:spPr>
          <a:xfrm>
            <a:off x="5668200" y="464328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松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9" name="图片 15" descr=""/>
          <p:cNvPicPr/>
          <p:nvPr/>
        </p:nvPicPr>
        <p:blipFill>
          <a:blip r:embed="rId6"/>
          <a:stretch/>
        </p:blipFill>
        <p:spPr>
          <a:xfrm>
            <a:off x="6978600" y="1528920"/>
            <a:ext cx="2098800" cy="2047680"/>
          </a:xfrm>
          <a:prstGeom prst="rect">
            <a:avLst/>
          </a:prstGeom>
          <a:ln w="0">
            <a:noFill/>
          </a:ln>
        </p:spPr>
      </p:pic>
      <p:sp>
        <p:nvSpPr>
          <p:cNvPr id="1870" name="矩形 16"/>
          <p:cNvSpPr/>
          <p:nvPr/>
        </p:nvSpPr>
        <p:spPr>
          <a:xfrm>
            <a:off x="7798680" y="3433680"/>
            <a:ext cx="40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1" name="图片 21" descr="e4dde71190ef76c664bb70ff9716fdfaae5167fd"/>
          <p:cNvPicPr/>
          <p:nvPr/>
        </p:nvPicPr>
        <p:blipFill>
          <a:blip r:embed="rId7"/>
          <a:srcRect l="24433" t="23185" r="0" b="0"/>
          <a:stretch/>
        </p:blipFill>
        <p:spPr>
          <a:xfrm>
            <a:off x="4890960" y="635040"/>
            <a:ext cx="1978200" cy="1741320"/>
          </a:xfrm>
          <a:prstGeom prst="rect">
            <a:avLst/>
          </a:prstGeom>
          <a:ln w="0">
            <a:noFill/>
          </a:ln>
        </p:spPr>
      </p:pic>
      <p:pic>
        <p:nvPicPr>
          <p:cNvPr id="1872" name="图片 22" descr="78310a55b319ebc4b0a4a8b48826cffc1e17163a"/>
          <p:cNvPicPr/>
          <p:nvPr/>
        </p:nvPicPr>
        <p:blipFill>
          <a:blip r:embed="rId8"/>
          <a:stretch/>
        </p:blipFill>
        <p:spPr>
          <a:xfrm>
            <a:off x="500040" y="2911320"/>
            <a:ext cx="216072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3" name="Picture 35" descr="图片2"/>
          <p:cNvPicPr/>
          <p:nvPr/>
        </p:nvPicPr>
        <p:blipFill>
          <a:blip r:embed="rId1"/>
          <a:stretch/>
        </p:blipFill>
        <p:spPr>
          <a:xfrm>
            <a:off x="-11160" y="46080"/>
            <a:ext cx="9166320" cy="6875280"/>
          </a:xfrm>
          <a:prstGeom prst="rect">
            <a:avLst/>
          </a:prstGeom>
          <a:ln w="0">
            <a:noFill/>
          </a:ln>
        </p:spPr>
      </p:pic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5" name="" descr=""/>
          <p:cNvPicPr/>
          <p:nvPr/>
        </p:nvPicPr>
        <p:blipFill>
          <a:blip r:embed="rId2"/>
          <a:stretch/>
        </p:blipFill>
        <p:spPr>
          <a:xfrm>
            <a:off x="457200" y="1200240"/>
            <a:ext cx="8229600" cy="3394080"/>
          </a:xfrm>
          <a:prstGeom prst="rect">
            <a:avLst/>
          </a:prstGeom>
          <a:ln w="0">
            <a:noFill/>
          </a:ln>
        </p:spPr>
      </p:pic>
      <p:sp>
        <p:nvSpPr>
          <p:cNvPr id="1876" name="文本框 24580"/>
          <p:cNvSpPr/>
          <p:nvPr/>
        </p:nvSpPr>
        <p:spPr>
          <a:xfrm>
            <a:off x="1925640" y="249120"/>
            <a:ext cx="556272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文本框 24581"/>
          <p:cNvSpPr/>
          <p:nvPr/>
        </p:nvSpPr>
        <p:spPr>
          <a:xfrm>
            <a:off x="1628640" y="0"/>
            <a:ext cx="6156360" cy="50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0000"/>
                </a:solidFill>
                <a:latin typeface="Arial"/>
              </a:rPr>
              <a:t>雪地里的小画家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下雪啦，下雪啦</a:t>
            </a: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  雪地里来了一群小画家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  小鸡画竹叶，小狗画梅花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  小鸭画枫叶，小马画月牙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  不用颜料不用笔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  几步就成一幅画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  青蛙为什么没参加</a:t>
            </a: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  他在洞里睡着啦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8" name="Picture 35" descr="图片2"/>
          <p:cNvPicPr/>
          <p:nvPr/>
        </p:nvPicPr>
        <p:blipFill>
          <a:blip r:embed="rId1"/>
          <a:stretch/>
        </p:blipFill>
        <p:spPr>
          <a:xfrm>
            <a:off x="0" y="115920"/>
            <a:ext cx="9166320" cy="6875280"/>
          </a:xfrm>
          <a:prstGeom prst="rect">
            <a:avLst/>
          </a:prstGeom>
          <a:ln w="0">
            <a:noFill/>
          </a:ln>
        </p:spPr>
      </p:pic>
      <p:grpSp>
        <p:nvGrpSpPr>
          <p:cNvPr id="1879" name="组合 2"/>
          <p:cNvGrpSpPr/>
          <p:nvPr/>
        </p:nvGrpSpPr>
        <p:grpSpPr>
          <a:xfrm>
            <a:off x="1911240" y="1440000"/>
            <a:ext cx="1887480" cy="2031840"/>
            <a:chOff x="1911240" y="1440000"/>
            <a:chExt cx="1887480" cy="2031840"/>
          </a:xfrm>
        </p:grpSpPr>
        <p:pic>
          <p:nvPicPr>
            <p:cNvPr id="1880" name="图片 2" descr=""/>
            <p:cNvPicPr/>
            <p:nvPr/>
          </p:nvPicPr>
          <p:blipFill>
            <a:blip r:embed="rId2"/>
            <a:stretch/>
          </p:blipFill>
          <p:spPr>
            <a:xfrm>
              <a:off x="1911240" y="1584360"/>
              <a:ext cx="1887480" cy="18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1" name="TextBox 4">
              <a:hlinkClick r:id="rId3" action="ppaction://hlinksldjump"/>
            </p:cNvPr>
            <p:cNvSpPr/>
            <p:nvPr/>
          </p:nvSpPr>
          <p:spPr>
            <a:xfrm>
              <a:off x="1911240" y="1440000"/>
              <a:ext cx="183816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马</a:t>
              </a:r>
              <a:endParaRPr b="0" lang="en-US" sz="1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2" name="TextBox 24"/>
          <p:cNvSpPr/>
          <p:nvPr/>
        </p:nvSpPr>
        <p:spPr>
          <a:xfrm>
            <a:off x="23760" y="46080"/>
            <a:ext cx="208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会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3" name="组合 2"/>
          <p:cNvGrpSpPr/>
          <p:nvPr/>
        </p:nvGrpSpPr>
        <p:grpSpPr>
          <a:xfrm>
            <a:off x="5002200" y="1349280"/>
            <a:ext cx="1933560" cy="2081160"/>
            <a:chOff x="5002200" y="1349280"/>
            <a:chExt cx="1933560" cy="2081160"/>
          </a:xfrm>
        </p:grpSpPr>
        <p:pic>
          <p:nvPicPr>
            <p:cNvPr id="1884" name="图片 2" descr=""/>
            <p:cNvPicPr/>
            <p:nvPr/>
          </p:nvPicPr>
          <p:blipFill>
            <a:blip r:embed="rId4"/>
            <a:stretch/>
          </p:blipFill>
          <p:spPr>
            <a:xfrm>
              <a:off x="5002200" y="1544760"/>
              <a:ext cx="1888560" cy="188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5" name="TextBox 4">
              <a:hlinkClick r:id="rId5" action="ppaction://hlinksldjump"/>
            </p:cNvPr>
            <p:cNvSpPr/>
            <p:nvPr/>
          </p:nvSpPr>
          <p:spPr>
            <a:xfrm>
              <a:off x="5096520" y="1349280"/>
              <a:ext cx="183924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用</a:t>
              </a:r>
              <a:endParaRPr b="0" lang="en-US" sz="1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6" name="矩形 18"/>
          <p:cNvSpPr/>
          <p:nvPr/>
        </p:nvSpPr>
        <p:spPr>
          <a:xfrm>
            <a:off x="4952880" y="560520"/>
            <a:ext cx="16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宋体"/>
              </a:rPr>
              <a:t>yòn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矩形 19"/>
          <p:cNvSpPr/>
          <p:nvPr/>
        </p:nvSpPr>
        <p:spPr>
          <a:xfrm>
            <a:off x="2256480" y="560520"/>
            <a:ext cx="114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宋体"/>
              </a:rPr>
              <a:t>m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3" name="图片 1" descr=""/>
          <p:cNvPicPr/>
          <p:nvPr/>
        </p:nvPicPr>
        <p:blipFill>
          <a:blip r:embed="rId1"/>
          <a:stretch/>
        </p:blipFill>
        <p:spPr>
          <a:xfrm>
            <a:off x="7856640" y="-157320"/>
            <a:ext cx="1752480" cy="924120"/>
          </a:xfrm>
          <a:prstGeom prst="rect">
            <a:avLst/>
          </a:prstGeom>
          <a:ln w="0">
            <a:noFill/>
          </a:ln>
        </p:spPr>
      </p:pic>
      <p:pic>
        <p:nvPicPr>
          <p:cNvPr id="1784" name="Picture 3" descr="2007131203349734"/>
          <p:cNvPicPr/>
          <p:nvPr/>
        </p:nvPicPr>
        <p:blipFill>
          <a:blip r:embed="rId2"/>
          <a:stretch/>
        </p:blipFill>
        <p:spPr>
          <a:xfrm>
            <a:off x="0" y="-527040"/>
            <a:ext cx="9609120" cy="5819760"/>
          </a:xfrm>
          <a:prstGeom prst="rect">
            <a:avLst/>
          </a:prstGeom>
          <a:ln w="0">
            <a:noFill/>
          </a:ln>
        </p:spPr>
      </p:pic>
      <p:sp>
        <p:nvSpPr>
          <p:cNvPr id="1785" name="文本框 3076"/>
          <p:cNvSpPr/>
          <p:nvPr/>
        </p:nvSpPr>
        <p:spPr>
          <a:xfrm>
            <a:off x="1150920" y="738360"/>
            <a:ext cx="636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12   </a:t>
            </a: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雪地里的小画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8" name="Picture 35" descr="图片2"/>
          <p:cNvPicPr/>
          <p:nvPr/>
        </p:nvPicPr>
        <p:blipFill>
          <a:blip r:embed="rId1"/>
          <a:stretch/>
        </p:blipFill>
        <p:spPr>
          <a:xfrm>
            <a:off x="-11160" y="46080"/>
            <a:ext cx="9166320" cy="6875280"/>
          </a:xfrm>
          <a:prstGeom prst="rect">
            <a:avLst/>
          </a:prstGeom>
          <a:ln w="0">
            <a:noFill/>
          </a:ln>
        </p:spPr>
      </p:pic>
      <p:grpSp>
        <p:nvGrpSpPr>
          <p:cNvPr id="1889" name="组合 2"/>
          <p:cNvGrpSpPr/>
          <p:nvPr/>
        </p:nvGrpSpPr>
        <p:grpSpPr>
          <a:xfrm>
            <a:off x="6175440" y="720720"/>
            <a:ext cx="1900080" cy="2043000"/>
            <a:chOff x="6175440" y="720720"/>
            <a:chExt cx="1900080" cy="2043000"/>
          </a:xfrm>
        </p:grpSpPr>
        <p:pic>
          <p:nvPicPr>
            <p:cNvPr id="1890" name="图片 2" descr=""/>
            <p:cNvPicPr/>
            <p:nvPr/>
          </p:nvPicPr>
          <p:blipFill>
            <a:blip r:embed="rId2"/>
            <a:stretch/>
          </p:blipFill>
          <p:spPr>
            <a:xfrm>
              <a:off x="6188400" y="876240"/>
              <a:ext cx="1887120" cy="18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1" name="TextBox 4"/>
            <p:cNvSpPr/>
            <p:nvPr/>
          </p:nvSpPr>
          <p:spPr>
            <a:xfrm>
              <a:off x="6175440" y="720720"/>
              <a:ext cx="183780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马</a:t>
              </a:r>
              <a:endParaRPr b="0" lang="en-US" sz="1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2" name="TextBox 24"/>
          <p:cNvSpPr/>
          <p:nvPr/>
        </p:nvSpPr>
        <p:spPr>
          <a:xfrm>
            <a:off x="23760" y="46080"/>
            <a:ext cx="208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会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3" name="图片 2" descr=""/>
          <p:cNvPicPr/>
          <p:nvPr/>
        </p:nvPicPr>
        <p:blipFill>
          <a:blip r:embed="rId3"/>
          <a:stretch/>
        </p:blipFill>
        <p:spPr>
          <a:xfrm>
            <a:off x="495360" y="1149480"/>
            <a:ext cx="1139760" cy="1271520"/>
          </a:xfrm>
          <a:prstGeom prst="rect">
            <a:avLst/>
          </a:prstGeom>
          <a:ln w="0">
            <a:noFill/>
          </a:ln>
        </p:spPr>
      </p:pic>
      <p:pic>
        <p:nvPicPr>
          <p:cNvPr id="1894" name="图片 3" descr=""/>
          <p:cNvPicPr/>
          <p:nvPr/>
        </p:nvPicPr>
        <p:blipFill>
          <a:blip r:embed="rId4"/>
          <a:stretch/>
        </p:blipFill>
        <p:spPr>
          <a:xfrm>
            <a:off x="2416320" y="1149480"/>
            <a:ext cx="1035000" cy="1220760"/>
          </a:xfrm>
          <a:prstGeom prst="rect">
            <a:avLst/>
          </a:prstGeom>
          <a:ln w="0">
            <a:noFill/>
          </a:ln>
        </p:spPr>
      </p:pic>
      <p:pic>
        <p:nvPicPr>
          <p:cNvPr id="1895" name="图片 4" descr=""/>
          <p:cNvPicPr/>
          <p:nvPr/>
        </p:nvPicPr>
        <p:blipFill>
          <a:blip r:embed="rId5"/>
          <a:stretch/>
        </p:blipFill>
        <p:spPr>
          <a:xfrm>
            <a:off x="4297320" y="1149480"/>
            <a:ext cx="993960" cy="1220760"/>
          </a:xfrm>
          <a:prstGeom prst="rect">
            <a:avLst/>
          </a:prstGeom>
          <a:ln w="0">
            <a:noFill/>
          </a:ln>
        </p:spPr>
      </p:pic>
      <p:cxnSp>
        <p:nvCxnSpPr>
          <p:cNvPr id="1896" name="直接箭头连接符 6"/>
          <p:cNvCxnSpPr/>
          <p:nvPr/>
        </p:nvCxnSpPr>
        <p:spPr>
          <a:xfrm flipV="1">
            <a:off x="1736280" y="1777320"/>
            <a:ext cx="538920" cy="118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897" name="直接箭头连接符 7"/>
          <p:cNvCxnSpPr/>
          <p:nvPr/>
        </p:nvCxnSpPr>
        <p:spPr>
          <a:xfrm flipV="1">
            <a:off x="3606840" y="1788480"/>
            <a:ext cx="536760" cy="118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898" name="直接箭头连接符 8"/>
          <p:cNvCxnSpPr/>
          <p:nvPr/>
        </p:nvCxnSpPr>
        <p:spPr>
          <a:xfrm flipV="1">
            <a:off x="5509800" y="1799640"/>
            <a:ext cx="538920" cy="133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9" name="Picture 35" descr="图片2"/>
          <p:cNvPicPr/>
          <p:nvPr/>
        </p:nvPicPr>
        <p:blipFill>
          <a:blip r:embed="rId1"/>
          <a:stretch/>
        </p:blipFill>
        <p:spPr>
          <a:xfrm>
            <a:off x="-11160" y="46080"/>
            <a:ext cx="9166320" cy="6875280"/>
          </a:xfrm>
          <a:prstGeom prst="rect">
            <a:avLst/>
          </a:prstGeom>
          <a:ln w="0">
            <a:noFill/>
          </a:ln>
        </p:spPr>
      </p:pic>
      <p:grpSp>
        <p:nvGrpSpPr>
          <p:cNvPr id="1900" name="组合 2"/>
          <p:cNvGrpSpPr/>
          <p:nvPr/>
        </p:nvGrpSpPr>
        <p:grpSpPr>
          <a:xfrm>
            <a:off x="3389400" y="808200"/>
            <a:ext cx="1887480" cy="2022480"/>
            <a:chOff x="3389400" y="808200"/>
            <a:chExt cx="1887480" cy="2022480"/>
          </a:xfrm>
        </p:grpSpPr>
        <p:pic>
          <p:nvPicPr>
            <p:cNvPr id="1901" name="图片 2" descr=""/>
            <p:cNvPicPr/>
            <p:nvPr/>
          </p:nvPicPr>
          <p:blipFill>
            <a:blip r:embed="rId2"/>
            <a:stretch/>
          </p:blipFill>
          <p:spPr>
            <a:xfrm>
              <a:off x="3389400" y="942480"/>
              <a:ext cx="1887480" cy="188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2" name="TextBox 4"/>
            <p:cNvSpPr/>
            <p:nvPr/>
          </p:nvSpPr>
          <p:spPr>
            <a:xfrm>
              <a:off x="3438360" y="808200"/>
              <a:ext cx="18385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用</a:t>
              </a:r>
              <a:endParaRPr b="0" lang="en-US" sz="1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3" name="TextBox 24"/>
          <p:cNvSpPr/>
          <p:nvPr/>
        </p:nvSpPr>
        <p:spPr>
          <a:xfrm>
            <a:off x="23760" y="46080"/>
            <a:ext cx="208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会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4" name="图片 1" descr=""/>
          <p:cNvPicPr/>
          <p:nvPr/>
        </p:nvPicPr>
        <p:blipFill>
          <a:blip r:embed="rId3"/>
          <a:stretch/>
        </p:blipFill>
        <p:spPr>
          <a:xfrm>
            <a:off x="7742160" y="-112680"/>
            <a:ext cx="175284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5" name="Picture 35" descr="图片2"/>
          <p:cNvPicPr/>
          <p:nvPr/>
        </p:nvPicPr>
        <p:blipFill>
          <a:blip r:embed="rId1"/>
          <a:stretch/>
        </p:blipFill>
        <p:spPr>
          <a:xfrm>
            <a:off x="-17640" y="-536400"/>
            <a:ext cx="9179280" cy="5143320"/>
          </a:xfrm>
          <a:prstGeom prst="rect">
            <a:avLst/>
          </a:prstGeom>
          <a:ln w="0">
            <a:noFill/>
          </a:ln>
        </p:spPr>
      </p:pic>
      <p:sp>
        <p:nvSpPr>
          <p:cNvPr id="1906" name="Rectangle 3"/>
          <p:cNvSpPr/>
          <p:nvPr/>
        </p:nvSpPr>
        <p:spPr>
          <a:xfrm>
            <a:off x="2036880" y="3247920"/>
            <a:ext cx="73483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编一编：</a:t>
            </a:r>
            <a:r>
              <a:rPr b="1" lang="zh-CN" sz="2800" spc="-1" strike="noStrike">
                <a:solidFill>
                  <a:srgbClr val="0000cc"/>
                </a:solidFill>
                <a:latin typeface="楷体"/>
                <a:ea typeface="楷体"/>
              </a:rPr>
              <a:t>还有哪些小动物也会来画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"/>
                <a:ea typeface="楷体"/>
              </a:rPr>
              <a:t>        </a:t>
            </a:r>
            <a:r>
              <a:rPr b="1" lang="zh-CN" sz="2800" spc="-1" strike="noStrike">
                <a:solidFill>
                  <a:srgbClr val="0000cc"/>
                </a:solidFill>
                <a:latin typeface="楷体"/>
                <a:ea typeface="楷体"/>
              </a:rPr>
              <a:t>会画些什么呢？把它编进诗歌吧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Text Box 7"/>
          <p:cNvSpPr/>
          <p:nvPr/>
        </p:nvSpPr>
        <p:spPr>
          <a:xfrm>
            <a:off x="1801800" y="266760"/>
            <a:ext cx="610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请把你喜欢的作业带回家吧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Text Box 11"/>
          <p:cNvSpPr/>
          <p:nvPr/>
        </p:nvSpPr>
        <p:spPr>
          <a:xfrm>
            <a:off x="2036880" y="2725560"/>
            <a:ext cx="639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背一背：</a:t>
            </a:r>
            <a:r>
              <a:rPr b="1" lang="zh-CN" sz="2800" spc="-1" strike="noStrike">
                <a:solidFill>
                  <a:srgbClr val="0000cc"/>
                </a:solidFill>
                <a:latin typeface="楷体"/>
                <a:ea typeface="楷体"/>
              </a:rPr>
              <a:t>把这首诗歌背给爸妈听一听吧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9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7" name="" descr=""/>
          <p:cNvPicPr/>
          <p:nvPr/>
        </p:nvPicPr>
        <p:blipFill>
          <a:blip r:embed="rId1"/>
          <a:stretch/>
        </p:blipFill>
        <p:spPr>
          <a:xfrm>
            <a:off x="457200" y="1200240"/>
            <a:ext cx="8229600" cy="3394080"/>
          </a:xfrm>
          <a:prstGeom prst="rect">
            <a:avLst/>
          </a:prstGeom>
          <a:ln w="0">
            <a:noFill/>
          </a:ln>
        </p:spPr>
      </p:pic>
      <p:pic>
        <p:nvPicPr>
          <p:cNvPr id="1788" name="图片 3075" descr="图片1"/>
          <p:cNvPicPr/>
          <p:nvPr/>
        </p:nvPicPr>
        <p:blipFill>
          <a:blip r:embed="rId2"/>
          <a:stretch/>
        </p:blipFill>
        <p:spPr>
          <a:xfrm>
            <a:off x="0" y="0"/>
            <a:ext cx="9245520" cy="6502320"/>
          </a:xfrm>
          <a:prstGeom prst="rect">
            <a:avLst/>
          </a:prstGeom>
          <a:ln w="0">
            <a:noFill/>
          </a:ln>
        </p:spPr>
      </p:pic>
      <p:sp>
        <p:nvSpPr>
          <p:cNvPr id="1789" name="TextBox 2"/>
          <p:cNvSpPr/>
          <p:nvPr/>
        </p:nvSpPr>
        <p:spPr>
          <a:xfrm>
            <a:off x="650880" y="343080"/>
            <a:ext cx="737244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自读要求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声音响亮地读一遍课文，要求读准字音，           读通句子，不多字不少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想一想小画家是谁？（用横线划出来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他们分别画了什么？（用波浪线划出来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0" name="Picture 35" descr="图片2"/>
          <p:cNvPicPr/>
          <p:nvPr/>
        </p:nvPicPr>
        <p:blipFill>
          <a:blip r:embed="rId1"/>
          <a:stretch/>
        </p:blipFill>
        <p:spPr>
          <a:xfrm>
            <a:off x="-11160" y="46080"/>
            <a:ext cx="9166320" cy="6875280"/>
          </a:xfrm>
          <a:prstGeom prst="rect">
            <a:avLst/>
          </a:prstGeom>
          <a:ln w="0">
            <a:noFill/>
          </a:ln>
        </p:spPr>
      </p:pic>
      <p:sp>
        <p:nvSpPr>
          <p:cNvPr id="1791" name="Text Box 3"/>
          <p:cNvSpPr/>
          <p:nvPr/>
        </p:nvSpPr>
        <p:spPr>
          <a:xfrm>
            <a:off x="1969920" y="577800"/>
            <a:ext cx="580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雪地里来了一群小画家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2" name="Picture 35" descr="图片2"/>
          <p:cNvPicPr/>
          <p:nvPr/>
        </p:nvPicPr>
        <p:blipFill>
          <a:blip r:embed="rId1"/>
          <a:stretch/>
        </p:blipFill>
        <p:spPr>
          <a:xfrm>
            <a:off x="-11160" y="46080"/>
            <a:ext cx="9166320" cy="6875280"/>
          </a:xfrm>
          <a:prstGeom prst="rect">
            <a:avLst/>
          </a:prstGeom>
          <a:ln w="0">
            <a:noFill/>
          </a:ln>
        </p:spPr>
      </p:pic>
      <p:sp>
        <p:nvSpPr>
          <p:cNvPr id="1793" name="Text Box 3"/>
          <p:cNvSpPr/>
          <p:nvPr/>
        </p:nvSpPr>
        <p:spPr>
          <a:xfrm>
            <a:off x="1969920" y="577800"/>
            <a:ext cx="580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雪地里来了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一群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小画家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4" name="Picture 35" descr="图片2"/>
          <p:cNvPicPr/>
          <p:nvPr/>
        </p:nvPicPr>
        <p:blipFill>
          <a:blip r:embed="rId1"/>
          <a:stretch/>
        </p:blipFill>
        <p:spPr>
          <a:xfrm>
            <a:off x="-11160" y="46080"/>
            <a:ext cx="9166320" cy="6875280"/>
          </a:xfrm>
          <a:prstGeom prst="rect">
            <a:avLst/>
          </a:prstGeom>
          <a:ln w="0">
            <a:noFill/>
          </a:ln>
        </p:spPr>
      </p:pic>
      <p:pic>
        <p:nvPicPr>
          <p:cNvPr id="1795" name="图片 1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23760"/>
          </a:xfrm>
          <a:prstGeom prst="rect">
            <a:avLst/>
          </a:prstGeom>
          <a:ln w="0">
            <a:noFill/>
          </a:ln>
        </p:spPr>
      </p:pic>
      <p:grpSp>
        <p:nvGrpSpPr>
          <p:cNvPr id="1796" name="组合 4"/>
          <p:cNvGrpSpPr/>
          <p:nvPr/>
        </p:nvGrpSpPr>
        <p:grpSpPr>
          <a:xfrm>
            <a:off x="1089000" y="1235160"/>
            <a:ext cx="7188120" cy="2402280"/>
            <a:chOff x="1089000" y="1235160"/>
            <a:chExt cx="7188120" cy="2402280"/>
          </a:xfrm>
        </p:grpSpPr>
        <p:sp>
          <p:nvSpPr>
            <p:cNvPr id="1797" name="矩形 1"/>
            <p:cNvSpPr/>
            <p:nvPr/>
          </p:nvSpPr>
          <p:spPr>
            <a:xfrm>
              <a:off x="1152360" y="1593720"/>
              <a:ext cx="68396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小</a:t>
              </a:r>
              <a:r>
                <a:rPr b="1" lang="en-US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鸡 画</a:t>
              </a:r>
              <a:r>
                <a:rPr b="1" lang="en-US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竹</a:t>
              </a:r>
              <a:r>
                <a:rPr b="1" lang="en-US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叶，小</a:t>
              </a:r>
              <a:r>
                <a:rPr b="1" lang="en-US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狗</a:t>
              </a:r>
              <a:r>
                <a:rPr b="1" lang="en-US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画</a:t>
              </a:r>
              <a:r>
                <a:rPr b="1" lang="en-US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梅</a:t>
              </a:r>
              <a:r>
                <a:rPr b="1" lang="en-US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花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小</a:t>
              </a:r>
              <a:r>
                <a:rPr b="1" lang="en-US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鸭 画</a:t>
              </a:r>
              <a:r>
                <a:rPr b="1" lang="en-US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枫 叶，小</a:t>
              </a:r>
              <a:r>
                <a:rPr b="1" lang="en-US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马</a:t>
              </a:r>
              <a:r>
                <a:rPr b="1" lang="en-US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画</a:t>
              </a:r>
              <a:r>
                <a:rPr b="1" lang="en-US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月 牙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矩形 3"/>
            <p:cNvSpPr/>
            <p:nvPr/>
          </p:nvSpPr>
          <p:spPr>
            <a:xfrm>
              <a:off x="1089000" y="1235160"/>
              <a:ext cx="7188120" cy="179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6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xi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ǎ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o j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ī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hu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à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zh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ú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y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è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 xi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ǎ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o 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ɡǒ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u hu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à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m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é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i hu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6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xi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ǎ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o y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ā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hu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à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f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ē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n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ɡ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y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è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xi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ǎ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o m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ǎ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hu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à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yu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è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y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9" name="Picture 35" descr="图片2"/>
          <p:cNvPicPr/>
          <p:nvPr/>
        </p:nvPicPr>
        <p:blipFill>
          <a:blip r:embed="rId1"/>
          <a:stretch/>
        </p:blipFill>
        <p:spPr>
          <a:xfrm>
            <a:off x="-11160" y="46080"/>
            <a:ext cx="9166320" cy="6875280"/>
          </a:xfrm>
          <a:prstGeom prst="rect">
            <a:avLst/>
          </a:prstGeom>
          <a:ln w="0">
            <a:noFill/>
          </a:ln>
        </p:spPr>
      </p:pic>
      <p:pic>
        <p:nvPicPr>
          <p:cNvPr id="1800" name="图片 1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23760"/>
          </a:xfrm>
          <a:prstGeom prst="rect">
            <a:avLst/>
          </a:prstGeom>
          <a:ln w="0">
            <a:noFill/>
          </a:ln>
        </p:spPr>
      </p:pic>
      <p:grpSp>
        <p:nvGrpSpPr>
          <p:cNvPr id="1801" name="组合 4"/>
          <p:cNvGrpSpPr/>
          <p:nvPr/>
        </p:nvGrpSpPr>
        <p:grpSpPr>
          <a:xfrm>
            <a:off x="631800" y="1036800"/>
            <a:ext cx="7188120" cy="2398320"/>
            <a:chOff x="631800" y="1036800"/>
            <a:chExt cx="7188120" cy="2398320"/>
          </a:xfrm>
        </p:grpSpPr>
        <p:sp>
          <p:nvSpPr>
            <p:cNvPr id="1802" name="矩形 1"/>
            <p:cNvSpPr/>
            <p:nvPr/>
          </p:nvSpPr>
          <p:spPr>
            <a:xfrm>
              <a:off x="721080" y="1391400"/>
              <a:ext cx="68396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小</a:t>
              </a:r>
              <a:r>
                <a:rPr b="1" lang="en-US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鸡 画</a:t>
              </a:r>
              <a:r>
                <a:rPr b="1" lang="en-US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竹</a:t>
              </a:r>
              <a:r>
                <a:rPr b="1" lang="en-US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叶，小</a:t>
              </a:r>
              <a:r>
                <a:rPr b="1" lang="en-US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狗</a:t>
              </a:r>
              <a:r>
                <a:rPr b="1" lang="en-US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画</a:t>
              </a:r>
              <a:r>
                <a:rPr b="1" lang="en-US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梅</a:t>
              </a:r>
              <a:r>
                <a:rPr b="1" lang="en-US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花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小</a:t>
              </a:r>
              <a:r>
                <a:rPr b="1" lang="en-US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鸭 画</a:t>
              </a:r>
              <a:r>
                <a:rPr b="1" lang="en-US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枫 叶，小</a:t>
              </a:r>
              <a:r>
                <a:rPr b="1" lang="en-US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马</a:t>
              </a:r>
              <a:r>
                <a:rPr b="1" lang="en-US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画</a:t>
              </a:r>
              <a:r>
                <a:rPr b="1" lang="en-US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月 牙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矩形 3"/>
            <p:cNvSpPr/>
            <p:nvPr/>
          </p:nvSpPr>
          <p:spPr>
            <a:xfrm>
              <a:off x="631800" y="1036800"/>
              <a:ext cx="7188120" cy="179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6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xi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ǎ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o j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ī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hu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à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zh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ú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y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è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 xi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ǎ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o 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ɡǒ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u hu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à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m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é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i hu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6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xi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ǎ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o y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ā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hu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à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f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ē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n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ɡ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y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è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xi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ǎ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o m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ǎ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hu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à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yu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è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y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4" name="直接连接符 2"/>
          <p:cNvSpPr/>
          <p:nvPr/>
        </p:nvSpPr>
        <p:spPr>
          <a:xfrm flipH="1">
            <a:off x="2469960" y="1697040"/>
            <a:ext cx="137880" cy="6094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5" name="图片 4" descr=""/>
          <p:cNvPicPr/>
          <p:nvPr/>
        </p:nvPicPr>
        <p:blipFill>
          <a:blip r:embed="rId3"/>
          <a:stretch/>
        </p:blipFill>
        <p:spPr>
          <a:xfrm>
            <a:off x="5781600" y="1708200"/>
            <a:ext cx="171360" cy="635040"/>
          </a:xfrm>
          <a:prstGeom prst="rect">
            <a:avLst/>
          </a:prstGeom>
          <a:ln w="0">
            <a:noFill/>
          </a:ln>
        </p:spPr>
      </p:pic>
      <p:pic>
        <p:nvPicPr>
          <p:cNvPr id="1806" name="图片 5" descr=""/>
          <p:cNvPicPr/>
          <p:nvPr/>
        </p:nvPicPr>
        <p:blipFill>
          <a:blip r:embed="rId4"/>
          <a:stretch/>
        </p:blipFill>
        <p:spPr>
          <a:xfrm>
            <a:off x="2471760" y="2693880"/>
            <a:ext cx="169920" cy="635040"/>
          </a:xfrm>
          <a:prstGeom prst="rect">
            <a:avLst/>
          </a:prstGeom>
          <a:ln w="0">
            <a:noFill/>
          </a:ln>
        </p:spPr>
      </p:pic>
      <p:pic>
        <p:nvPicPr>
          <p:cNvPr id="1807" name="图片 6" descr=""/>
          <p:cNvPicPr/>
          <p:nvPr/>
        </p:nvPicPr>
        <p:blipFill>
          <a:blip r:embed="rId5"/>
          <a:stretch/>
        </p:blipFill>
        <p:spPr>
          <a:xfrm>
            <a:off x="5695920" y="2617920"/>
            <a:ext cx="171360" cy="6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8" name="Picture 5" descr="雪地里的小画家8"/>
          <p:cNvPicPr/>
          <p:nvPr/>
        </p:nvPicPr>
        <p:blipFill>
          <a:blip r:embed="rId1"/>
          <a:stretch/>
        </p:blipFill>
        <p:spPr>
          <a:xfrm>
            <a:off x="1204920" y="399960"/>
            <a:ext cx="2382840" cy="2381400"/>
          </a:xfrm>
          <a:prstGeom prst="rect">
            <a:avLst/>
          </a:prstGeom>
          <a:ln w="0">
            <a:noFill/>
          </a:ln>
        </p:spPr>
      </p:pic>
      <p:pic>
        <p:nvPicPr>
          <p:cNvPr id="1809" name="Picture 6" descr="雪地里的小画家2"/>
          <p:cNvPicPr/>
          <p:nvPr/>
        </p:nvPicPr>
        <p:blipFill>
          <a:blip r:embed="rId2"/>
          <a:stretch/>
        </p:blipFill>
        <p:spPr>
          <a:xfrm>
            <a:off x="4660920" y="1600200"/>
            <a:ext cx="2293920" cy="1827360"/>
          </a:xfrm>
          <a:prstGeom prst="rect">
            <a:avLst/>
          </a:prstGeom>
          <a:ln w="0">
            <a:noFill/>
          </a:ln>
        </p:spPr>
      </p:pic>
      <p:pic>
        <p:nvPicPr>
          <p:cNvPr id="1810" name="图片 1" descr=""/>
          <p:cNvPicPr/>
          <p:nvPr/>
        </p:nvPicPr>
        <p:blipFill>
          <a:blip r:embed="rId3"/>
          <a:stretch/>
        </p:blipFill>
        <p:spPr>
          <a:xfrm>
            <a:off x="7745400" y="28440"/>
            <a:ext cx="1398600" cy="924120"/>
          </a:xfrm>
          <a:prstGeom prst="rect">
            <a:avLst/>
          </a:prstGeom>
          <a:ln w="0">
            <a:noFill/>
          </a:ln>
        </p:spPr>
      </p:pic>
      <p:sp>
        <p:nvSpPr>
          <p:cNvPr id="1811" name="文本框 99"/>
          <p:cNvSpPr/>
          <p:nvPr/>
        </p:nvSpPr>
        <p:spPr>
          <a:xfrm>
            <a:off x="604800" y="3311640"/>
            <a:ext cx="76294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y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īn w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è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i     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jiǎo y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Ìn                               su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ǒ y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因为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脚印像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所以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画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2" name="Picture 2" descr="雪地里的小画家1"/>
          <p:cNvPicPr/>
          <p:nvPr/>
        </p:nvPicPr>
        <p:blipFill>
          <a:blip r:embed="rId1"/>
          <a:stretch/>
        </p:blipFill>
        <p:spPr>
          <a:xfrm>
            <a:off x="1386000" y="1735200"/>
            <a:ext cx="3271680" cy="1674720"/>
          </a:xfrm>
          <a:prstGeom prst="rect">
            <a:avLst/>
          </a:prstGeom>
          <a:ln w="0">
            <a:noFill/>
          </a:ln>
        </p:spPr>
      </p:pic>
      <p:pic>
        <p:nvPicPr>
          <p:cNvPr id="1813" name="Picture 3" descr="雪地里的小画家6"/>
          <p:cNvPicPr/>
          <p:nvPr/>
        </p:nvPicPr>
        <p:blipFill>
          <a:blip r:embed="rId2"/>
          <a:stretch/>
        </p:blipFill>
        <p:spPr>
          <a:xfrm>
            <a:off x="5232240" y="519120"/>
            <a:ext cx="2914920" cy="2628720"/>
          </a:xfrm>
          <a:prstGeom prst="rect">
            <a:avLst/>
          </a:prstGeom>
          <a:ln w="0">
            <a:noFill/>
          </a:ln>
        </p:spPr>
      </p:pic>
      <p:pic>
        <p:nvPicPr>
          <p:cNvPr id="1814" name="图片 1" descr=""/>
          <p:cNvPicPr/>
          <p:nvPr/>
        </p:nvPicPr>
        <p:blipFill>
          <a:blip r:embed="rId3"/>
          <a:stretch/>
        </p:blipFill>
        <p:spPr>
          <a:xfrm>
            <a:off x="7386480" y="0"/>
            <a:ext cx="1752840" cy="923760"/>
          </a:xfrm>
          <a:prstGeom prst="rect">
            <a:avLst/>
          </a:prstGeom>
          <a:ln w="0">
            <a:noFill/>
          </a:ln>
        </p:spPr>
      </p:pic>
      <p:sp>
        <p:nvSpPr>
          <p:cNvPr id="1815" name="文本框 99"/>
          <p:cNvSpPr/>
          <p:nvPr/>
        </p:nvSpPr>
        <p:spPr>
          <a:xfrm>
            <a:off x="1046160" y="3751200"/>
            <a:ext cx="762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因为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脚印像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所以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画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4T07:05:12Z</dcterms:created>
  <dc:creator>User</dc:creator>
  <dc:description/>
  <dc:language>en-US</dc:language>
  <cp:lastModifiedBy>jiang</cp:lastModifiedBy>
  <dcterms:modified xsi:type="dcterms:W3CDTF">2018-12-10T14:30:29Z</dcterms:modified>
  <cp:revision>46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</Properties>
</file>