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AC41-8EF3-4B67-9CCC-C1374D9D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5858-2A3F-44AC-BAF7-CE893396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D9E-6D0E-401E-B883-FF9B3A08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4D2-12E7-4288-9C70-6A0383A1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E525-5824-46FF-A294-01939FBD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F387-F939-458E-AC79-FBFEB5E2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3E55-4F15-4780-AA45-7A200FD1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ECA6-D3A7-4CC7-ADD1-15DAAB81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895C-F244-4B2C-BCA1-A3C079A7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2D44-3459-40A1-9B52-17BA7011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AEDB-61B5-4604-8EC4-1563F1D2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E95D-A4A4-4822-A059-B28DD96D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64F0-5E8A-40F4-9C10-67EEE0C7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CEF2-35EC-4138-95D8-92FF0D05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27F7-7236-470F-8FFC-07AC7F80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FEC0-D13E-493C-93A2-019E5D68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557C-402D-4AA9-ACA9-62B9DC6F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072-E389-4A27-A3ED-8EF1B730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B10F-584C-432D-9097-137712D3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13FF-9DC1-427C-94E0-66CB9868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654-60ED-4726-BCCA-429741A2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64BE-2330-4E20-B150-B51E1C1E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3258-CC3B-4E62-9C8A-5EEE8B0D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0233-AE91-41FA-ABF5-71A3DAD1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任意多边形 1027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直接连接符 102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E8A6-86AE-4BE2-97C8-9AAD21855AA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任意多边形 2054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714E-A660-42E9-B82B-77191FAB22D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2920" y="2637000"/>
            <a:ext cx="70563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礼河实验学校校车安全工作会议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矩形 4098"/>
          <p:cNvSpPr/>
          <p:nvPr/>
        </p:nvSpPr>
        <p:spPr>
          <a:xfrm>
            <a:off x="1187280" y="1484280"/>
            <a:ext cx="72280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明确要求 保证安全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文本框 4099"/>
          <p:cNvSpPr/>
          <p:nvPr/>
        </p:nvSpPr>
        <p:spPr>
          <a:xfrm>
            <a:off x="1187280" y="472428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201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84000" y="764640"/>
            <a:ext cx="5077080" cy="6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校车安全、责任重大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校车公司：强化运营管理、规范车主行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校车车主：保障车辆安全、关心司机生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学      校：加强人车管理、提供后勤保障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司      机：遵守交通法规、平安驾驶校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文本框 5123"/>
          <p:cNvSpPr/>
          <p:nvPr/>
        </p:nvSpPr>
        <p:spPr>
          <a:xfrm>
            <a:off x="792000" y="450072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</a:rPr>
              <a:t>各单位、各工作人员各负其责，严格执行上级文件精神，确保校车安全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、行车前安全规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车辆状况：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、认真检查车辆状况，刹车、轮胎气压、转向灯等重要部件每天必检，开车前热车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分钟，检查汽车状况，确保车辆不带病上路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学生状况：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、点清上车人数，不得超过车辆核载人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、严格要求学生刷卡上下车，戴好安全小黄帽，每天都要提醒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、学生上车后要求学生做好并系好安全带，提醒学生头、手不伸出窗外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、确认车辆周围无人员逗留后再发车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、随车照管人员最后一个上车后确保每位学生都有座位并有序就坐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司机状况：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、禁止酒后驾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、禁止疲劳驾驶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、禁止随意找无资质的驾驶员替代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二、行驶中安全规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车辆安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严格遵守《道路交通安全法》，控制车速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行驶途中禁止接打电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行驶途中礼让为先，不开赌气车，安全第一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司机与照管人员密切配合，照看好车上学生状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车辆到站后再开车门，学生下车后照管人员需确认车辆周围安全后再上车，司机再发车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遇到雨雪冰冻等恶劣天气时特别注意减速慢行，确保安全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学生安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照管人员严格监视车上学生情况，不允许学生随便走动，不许将头、手伸出窗外，不得在行驶途中嬉戏打闹，不得玩危险玩具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车辆到站未停稳前不得让学生离开座位。等车辆停稳后才能起身下车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学生下车时照管人员应先下车，待下车的学生全部下车并由家长接走后再上车关门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二、行驶中安全规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三、行车结束安全规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车辆安全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最后一趟车结束后认真检查车内是否还有学生滞留，确认无人滞留后再锁车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行车结束后履行交接手续，并认真检查车辆状况，有问题及时处理，确保第二天正常出车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每天做好车内清卫工作，确保学生乘车环境整洁、卫生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四、安全总结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11080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学生安全重于天，安全在你们手中、安全在你们脚下，安全在于每个人的安全意识中，只有加强安全规范，明确职责，按规范操作，才能确保安全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另外，校车管理公司、校车车主、学校和司机四位一体，大家紧密配合，团结一致，严格按照教育局和交警中队要求规范操作，认真做好各种台账资料，确保校车安全运行每一天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文本框 10243"/>
          <p:cNvSpPr/>
          <p:nvPr/>
        </p:nvSpPr>
        <p:spPr>
          <a:xfrm>
            <a:off x="2340000" y="5438880"/>
            <a:ext cx="44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Verdana"/>
              </a:rPr>
              <a:t>谢  谢！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00:00:23Z</dcterms:created>
  <dc:creator>Microsoft</dc:creator>
  <dc:description/>
  <cp:keywords/>
  <dc:language>en-US</dc:language>
  <cp:lastModifiedBy>Admin</cp:lastModifiedBy>
  <dcterms:modified xsi:type="dcterms:W3CDTF">2018-03-01T02:15:12Z</dcterms:modified>
  <cp:revision>12</cp:revision>
  <dc:subject/>
  <dc:title>——礼河实验学校校车安全工作会议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8</vt:lpwstr>
  </property>
</Properties>
</file>