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777-68C5-4326-A1DA-634523C8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4EA-BF1F-4CAA-892B-9CD0795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002-2F4E-49DA-AB3F-120FD9D9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E7D-16C8-4537-8C11-ABACFF9D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FCC-4D0A-47C2-818F-A6F40D32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2B0-2F12-4626-BA62-5FA543FE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C0F-8173-46D2-84B2-8099734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4B4-BD3E-45D3-8199-B79B9C0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AC4-D391-454E-A202-07A6527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AC3-D3D3-4DF0-BAD9-38477BC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511-49BF-4AC8-9423-0AC50BA5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366-4C38-4350-87AC-98A4D3D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E4A3-77D0-48EB-BCDD-053A48444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2205000"/>
            <a:ext cx="734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四则混合运算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676680" cy="4695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3686040" cy="4657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2700360" y="62064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女生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V 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男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00656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问题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71640" y="162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新华纺织厂一共有男女职工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42920" y="3860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新华纺织厂男职工比女职工少多少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2256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问题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39640" y="1268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一组比第二组多割草多少千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500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2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一组比第二组平均每人多割草多少千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22256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问题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39640" y="1268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合唱组的人数是美术组的几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3500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2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用同样的速度，他从家到少年宫要走多少分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079640" y="404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条件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9640" y="1413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航模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人，美术组人数是航模组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39640" y="3789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2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男职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4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人，女职工的人数比男职工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倍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3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79640" y="404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条件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9640" y="1413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一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人，平均每人割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千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9640" y="3789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2.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一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人，共割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15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千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561960"/>
            <a:ext cx="7777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920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13:54:31Z</dcterms:created>
  <dc:creator>微软用户</dc:creator>
  <dc:description/>
  <dc:language>en-US</dc:language>
  <cp:lastModifiedBy>微软用户</cp:lastModifiedBy>
  <dcterms:modified xsi:type="dcterms:W3CDTF">2015-11-16T14:09:12Z</dcterms:modified>
  <cp:revision>3</cp:revision>
  <dc:subject/>
  <dc:title>幻灯片 1</dc:title>
</cp:coreProperties>
</file>