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B3E-095D-4650-B5FC-2B6D16FD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6B6-3DE7-4A76-AFF1-93857348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223-1D0F-4F9E-BB7D-03C69A68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BDE-6DD3-4E86-84A2-86681B19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0E9-BDEB-4B8F-B351-E971CC4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388-ADEC-4109-9BAC-ED681A1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656-5EAE-4980-ADD1-8A9555DC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955-2704-45DE-B4CB-4E452B2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05B-2845-404B-B0EC-E243EE9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36A-9CB7-41F5-B58A-C3666DE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736-020C-4452-A309-D3212A7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B82-73D2-45D5-AF20-E57D8FB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38D-8C04-4E01-8F08-F49E894B4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91628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简单的统计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6142" t="40602" r="18340" b="9505"/>
          <a:stretch/>
        </p:blipFill>
        <p:spPr>
          <a:xfrm>
            <a:off x="1258920" y="981000"/>
            <a:ext cx="6335640" cy="86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6676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4920" y="333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班同学最喜欢的电视节目，调查结果记录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2348" t="15256" r="4930" b="2912"/>
          <a:stretch/>
        </p:blipFill>
        <p:spPr>
          <a:xfrm>
            <a:off x="1835280" y="1916280"/>
            <a:ext cx="5113080" cy="3819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14706" t="0" r="6931" b="78768"/>
          <a:stretch/>
        </p:blipFill>
        <p:spPr>
          <a:xfrm>
            <a:off x="216000" y="1125360"/>
            <a:ext cx="892800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98160" y="1341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5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773360"/>
            <a:ext cx="115092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8887" t="35323" r="12760" b="2912"/>
          <a:stretch/>
        </p:blipFill>
        <p:spPr>
          <a:xfrm>
            <a:off x="250920" y="333360"/>
            <a:ext cx="8569080" cy="571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4292640"/>
            <a:ext cx="57492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4292640"/>
            <a:ext cx="0" cy="1224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4292640"/>
            <a:ext cx="0" cy="1224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4292640"/>
            <a:ext cx="57492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744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0360" y="198900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画顶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1800" y="981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5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27813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画边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58640" y="3502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涂阴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8640" y="436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标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2492280"/>
            <a:ext cx="6476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2492280"/>
            <a:ext cx="0" cy="3024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2492280"/>
            <a:ext cx="1800" cy="2952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2492280"/>
            <a:ext cx="647640" cy="3024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5080" y="1844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59280" y="3139560"/>
            <a:ext cx="576360" cy="1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139920"/>
            <a:ext cx="0" cy="2376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139920"/>
            <a:ext cx="1440" cy="2376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141720"/>
            <a:ext cx="576360" cy="237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9080" y="2492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2924280"/>
            <a:ext cx="64764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2924280"/>
            <a:ext cx="0" cy="2592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2924280"/>
            <a:ext cx="0" cy="2592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2924280"/>
            <a:ext cx="647640" cy="25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1440" y="2349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19300" t="0" r="7953" b="18611"/>
          <a:stretch/>
        </p:blipFill>
        <p:spPr>
          <a:xfrm>
            <a:off x="250920" y="260280"/>
            <a:ext cx="6408720" cy="619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0280" y="476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5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32920" y="23414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5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272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表格呈现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108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直条呈现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1080" y="3789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更形象、直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便于比较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5800" y="134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能看出合计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97440" y="2602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新坝中心小学四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班最喜欢的电视节目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24720" cy="10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7921440" cy="457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38520" y="17654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新坝中心小学四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班最喜欢的电视节目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04000" y="27813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画顶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35733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画边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2280" y="4294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涂阴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2280" y="5157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标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4054" t="1529" r="4446" b="0"/>
          <a:stretch/>
        </p:blipFill>
        <p:spPr>
          <a:xfrm>
            <a:off x="250920" y="1054080"/>
            <a:ext cx="8642160" cy="489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58920" y="260280"/>
            <a:ext cx="6769080" cy="642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个星期平均每天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496360" cy="581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学期大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周，估计这一学期用水多少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5051" t="0" r="0" b="0"/>
          <a:stretch/>
        </p:blipFill>
        <p:spPr>
          <a:xfrm>
            <a:off x="250920" y="18900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32720" y="306864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26560" y="3068640"/>
            <a:ext cx="590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826560" y="3357720"/>
            <a:ext cx="590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068640"/>
            <a:ext cx="590580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765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5758" t="372" r="0" b="0"/>
          <a:stretch/>
        </p:blipFill>
        <p:spPr>
          <a:xfrm>
            <a:off x="144360" y="333360"/>
            <a:ext cx="8820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03:05:08Z</dcterms:created>
  <dc:creator>任海莉</dc:creator>
  <dc:description/>
  <dc:language>en-US</dc:language>
  <cp:lastModifiedBy>任海莉</cp:lastModifiedBy>
  <dcterms:modified xsi:type="dcterms:W3CDTF">2015-10-15T06:17:52Z</dcterms:modified>
  <cp:revision>3</cp:revision>
  <dc:subject/>
  <dc:title>幻灯片 1</dc:title>
</cp:coreProperties>
</file>