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D12-B0EE-4250-BB5C-83CA9F7F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6DB-6811-40A3-A5A1-04A36EAF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E71-FB56-470D-8B23-F603DEA0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C54-77CF-4A9F-94C4-0E27B98F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95FF-8E6D-413E-A9EC-DEFA56C8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4608-15FD-4F97-884A-26282AAD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0159-2489-41C6-A599-F5E02A97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795A-4EF0-4B0E-AAAB-0363ECED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589C-6D92-42C5-94F5-345FB041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0"/>
            <a:ext cx="7128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5B0C-0C92-4FD3-AC47-8C2030C0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BFE1-BCEA-49DA-8D71-68F23352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B95-5FFB-45D7-88C2-B6468C0C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5C4B-0805-4391-BCF3-B45CC4C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F2F5-05FD-49F0-9D22-6B2D41EA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3D3F-FA6A-4AF9-9A55-22396BC2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000E-D8FC-4FA0-8691-E62895B8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4A0D-25D6-4EBC-957D-90102335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5A8-92B7-4D09-A93F-D0071F28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4C0-C6B7-4387-A4C1-E94DEA6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CF0-46AE-48DA-B7F6-E205F4E8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0"/>
            <a:ext cx="7128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237-D6E0-4D64-A402-F8EEC5BC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4AC-48AF-4F20-A530-AFC1F3D1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60D-A62F-4B17-95C8-2D7958E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78C-AB6F-4143-9C6D-CDA6E77D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5970-4AE6-422C-92C8-8ECBC9D1F453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32C-DACF-4C3D-82C4-F6F1B844C74E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三位数除以两位数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395280" y="6165720"/>
            <a:ext cx="1152360" cy="576360"/>
          </a:xfrm>
          <a:custGeom>
            <a:avLst/>
            <a:gdLst>
              <a:gd name="textAreaLeft" fmla="*/ 0 w 1152360"/>
              <a:gd name="textAreaRight" fmla="*/ 1152360 w 1152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>
              <a:alpha val="80000"/>
            </a:srgbClr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86" name="Text Box 7">
            <a:hlinkClick r:id="rId1" action="ppaction://hlinksldjump"/>
          </p:cNvPr>
          <p:cNvSpPr/>
          <p:nvPr/>
        </p:nvSpPr>
        <p:spPr>
          <a:xfrm>
            <a:off x="611280" y="62118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引 入</a:t>
            </a:r>
            <a:endParaRPr b="1" lang="en-US" sz="2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843280" y="6165720"/>
            <a:ext cx="1152360" cy="576360"/>
          </a:xfrm>
          <a:custGeom>
            <a:avLst/>
            <a:gdLst>
              <a:gd name="textAreaLeft" fmla="*/ 0 w 1152360"/>
              <a:gd name="textAreaRight" fmla="*/ 1152360 w 1152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ff33">
              <a:alpha val="80000"/>
            </a:srgbClr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88" name="Text Box 6">
            <a:hlinkClick r:id="rId2" action="ppaction://hlinksldjump"/>
          </p:cNvPr>
          <p:cNvSpPr/>
          <p:nvPr/>
        </p:nvSpPr>
        <p:spPr>
          <a:xfrm>
            <a:off x="3059280" y="6237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新 授</a:t>
            </a:r>
            <a:endParaRPr b="1" lang="en-US" sz="2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5148360" y="6165720"/>
            <a:ext cx="1152360" cy="576360"/>
          </a:xfrm>
          <a:custGeom>
            <a:avLst/>
            <a:gdLst>
              <a:gd name="textAreaLeft" fmla="*/ 0 w 1152360"/>
              <a:gd name="textAreaRight" fmla="*/ 1152360 w 1152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0" name="Text Box 8">
            <a:hlinkClick r:id="rId3" action="ppaction://hlinksldjump"/>
          </p:cNvPr>
          <p:cNvSpPr/>
          <p:nvPr/>
        </p:nvSpPr>
        <p:spPr>
          <a:xfrm>
            <a:off x="5364000" y="6211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练习</a:t>
            </a:r>
            <a:endParaRPr b="1" lang="en-US" sz="2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7380360" y="6165720"/>
            <a:ext cx="1152360" cy="576360"/>
          </a:xfrm>
          <a:custGeom>
            <a:avLst/>
            <a:gdLst>
              <a:gd name="textAreaLeft" fmla="*/ 0 w 1152360"/>
              <a:gd name="textAreaRight" fmla="*/ 1152360 w 1152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00ff">
              <a:alpha val="80000"/>
            </a:srgbClr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2" name="Text Box 9">
            <a:hlinkClick r:id="rId4" action="ppaction://hlinksldjump"/>
          </p:cNvPr>
          <p:cNvSpPr/>
          <p:nvPr/>
        </p:nvSpPr>
        <p:spPr>
          <a:xfrm>
            <a:off x="7308720" y="623736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Arial"/>
                <a:ea typeface="黑体"/>
              </a:rPr>
              <a:t>巩固练习</a:t>
            </a:r>
            <a:endParaRPr b="1" lang="en-US" sz="2200" spc="-1" strike="noStrike">
              <a:solidFill>
                <a:srgbClr val="6600cc"/>
              </a:solidFill>
              <a:latin typeface="楷体_GB2312"/>
            </a:endParaRPr>
          </a:p>
        </p:txBody>
      </p:sp>
      <p:pic>
        <p:nvPicPr>
          <p:cNvPr id="93" name="Picture 18" descr="B_2008-11-23-11-06-392787"/>
          <p:cNvPicPr/>
          <p:nvPr/>
        </p:nvPicPr>
        <p:blipFill>
          <a:blip r:embed="rId5"/>
          <a:stretch/>
        </p:blipFill>
        <p:spPr>
          <a:xfrm>
            <a:off x="-324000" y="-316080"/>
            <a:ext cx="9792000" cy="7490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9"/>
          <p:cNvSpPr/>
          <p:nvPr/>
        </p:nvSpPr>
        <p:spPr>
          <a:xfrm>
            <a:off x="900000" y="1484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两三位数除以两位数</a:t>
            </a:r>
            <a:endParaRPr b="1" lang="en-US" sz="60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3276720" y="26370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（四舍调商）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3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2321640" y="24922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2566080" y="25322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2940120" y="246204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3036960" y="2633760"/>
            <a:ext cx="1774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3157560" y="253044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2 7 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399040" y="2133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686320" y="2133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3185280" y="31399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3761640" y="31417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0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3049560" y="3875040"/>
            <a:ext cx="1728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4309200" y="31464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6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3" name="AutoShape 30"/>
          <p:cNvSpPr/>
          <p:nvPr/>
        </p:nvSpPr>
        <p:spPr>
          <a:xfrm rot="17481000">
            <a:off x="4805280" y="3114360"/>
            <a:ext cx="803520" cy="714240"/>
          </a:xfrm>
          <a:custGeom>
            <a:avLst/>
            <a:gdLst>
              <a:gd name="textAreaLeft" fmla="*/ 150840 w 803520"/>
              <a:gd name="textAreaRight" fmla="*/ 514440 w 80352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16" hR="21600" stAng="10800000" swAng="-5400000"/>
                <a:lnTo>
                  <a:pt x="9771" y="21600"/>
                </a:lnTo>
                <a:arcTo wR="8116" hR="21600" stAng="5400000" swAng="-2898291"/>
                <a:lnTo>
                  <a:pt x="21180" y="6856"/>
                </a:lnTo>
                <a:lnTo>
                  <a:pt x="17060" y="0"/>
                </a:lnTo>
                <a:lnTo>
                  <a:pt x="12099" y="6856"/>
                </a:lnTo>
                <a:lnTo>
                  <a:pt x="15812" y="6856"/>
                </a:lnTo>
                <a:arcTo wR="8116" hR="21600" stAng="2501709" swAng="2765965"/>
                <a:lnTo>
                  <a:pt x="8944" y="21487"/>
                </a:lnTo>
                <a:arcTo wR="8116" hR="21600" stAng="5532325" swAng="5267675"/>
                <a:close/>
              </a:path>
              <a:path fill="darkenLess" w="21600" h="21600">
                <a:moveTo>
                  <a:pt x="0" y="0"/>
                </a:moveTo>
                <a:arcTo wR="8116" hR="21600" stAng="10800000" swAng="-5400000"/>
                <a:lnTo>
                  <a:pt x="9771" y="21600"/>
                </a:lnTo>
                <a:arcTo wR="8116" hR="21600" stAng="5400000" swAng="132325"/>
                <a:lnTo>
                  <a:pt x="8944" y="21487"/>
                </a:lnTo>
                <a:arcTo wR="8116" hR="21600" stAng="5532325" swAng="5267675"/>
                <a:close/>
              </a:path>
            </a:pathLst>
          </a:custGeom>
          <a:solidFill>
            <a:srgbClr val="eeb00b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4356000" y="1844640"/>
            <a:ext cx="503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5" name="Text Box 32"/>
          <p:cNvSpPr/>
          <p:nvPr/>
        </p:nvSpPr>
        <p:spPr>
          <a:xfrm>
            <a:off x="4932360" y="184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初商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547640" y="836640"/>
            <a:ext cx="424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72 ÷ 34 =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645640" y="24940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040920" y="24922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48000" y="242100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3492360" y="2637000"/>
            <a:ext cx="17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635280" y="249228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 7 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772880" y="18892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648520" y="19843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040920" y="19890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3663000" y="31021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4239360" y="310356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3527280" y="3836880"/>
            <a:ext cx="17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772880" y="31082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684360" y="41497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试商时，初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什么偏大了？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怎样来解决初商不合适的题？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4863960" y="1295280"/>
            <a:ext cx="1079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6169680" y="90792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2" name="Line 19"/>
          <p:cNvSpPr/>
          <p:nvPr/>
        </p:nvSpPr>
        <p:spPr>
          <a:xfrm flipV="1">
            <a:off x="2590920" y="215892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1403280" y="234936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变小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3581280" y="23623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3564000" y="162864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偏大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5651640" y="162864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调小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5715000" y="23623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6977880" y="19051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9" name="AutoShape 28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0" name="AutoShape 31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1" name="AutoShape 32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2627280" y="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调  商</a:t>
            </a:r>
            <a:endParaRPr b="1" lang="en-US" sz="60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619280" y="692280"/>
            <a:ext cx="424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72 ÷ 34 =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43760" y="23479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142280" y="23479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15960" y="227808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1612800" y="2449440"/>
            <a:ext cx="17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1692360" y="234936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 7 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871000" y="17431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746640" y="183816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1145160" y="183816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728000" y="295596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2337480" y="29574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1625760" y="369108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2872440" y="29624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pic>
        <p:nvPicPr>
          <p:cNvPr id="236" name="Picture 16" descr="qiezi"/>
          <p:cNvPicPr/>
          <p:nvPr/>
        </p:nvPicPr>
        <p:blipFill>
          <a:blip r:embed="rId1"/>
          <a:stretch/>
        </p:blipFill>
        <p:spPr>
          <a:xfrm>
            <a:off x="755640" y="4005360"/>
            <a:ext cx="1335240" cy="152388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7"/>
          <p:cNvSpPr/>
          <p:nvPr/>
        </p:nvSpPr>
        <p:spPr>
          <a:xfrm>
            <a:off x="2209680" y="3933720"/>
            <a:ext cx="4449960" cy="1295640"/>
          </a:xfrm>
          <a:prstGeom prst="wedgeEllipseCallout">
            <a:avLst>
              <a:gd name="adj1" fmla="val -58347"/>
              <a:gd name="adj2" fmla="val 21814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2700360" y="4149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继续用竖式计算。再验算，看看算的对不对</a:t>
            </a:r>
            <a:endParaRPr b="1" lang="en-US" sz="2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9" name="AutoShape 20"/>
          <p:cNvSpPr/>
          <p:nvPr/>
        </p:nvSpPr>
        <p:spPr>
          <a:xfrm>
            <a:off x="3733920" y="274320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5083920" y="23479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5482440" y="23479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5856120" y="227808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3" name="Line 25"/>
          <p:cNvSpPr/>
          <p:nvPr/>
        </p:nvSpPr>
        <p:spPr>
          <a:xfrm>
            <a:off x="5952960" y="2449440"/>
            <a:ext cx="177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6084720" y="234936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 7 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5" name="Line 27"/>
          <p:cNvSpPr/>
          <p:nvPr/>
        </p:nvSpPr>
        <p:spPr>
          <a:xfrm>
            <a:off x="4761000" y="1338120"/>
            <a:ext cx="107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5993640" y="70632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黑体"/>
                <a:ea typeface="黑体"/>
              </a:rPr>
              <a:t>(   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3708360" y="20606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调商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8" name="AutoShape 32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9" name="AutoShape 35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0" name="AutoShape 36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1" name="Text Box 37"/>
          <p:cNvSpPr/>
          <p:nvPr/>
        </p:nvSpPr>
        <p:spPr>
          <a:xfrm>
            <a:off x="7177680" y="17002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2"/>
          <p:cNvSpPr/>
          <p:nvPr/>
        </p:nvSpPr>
        <p:spPr>
          <a:xfrm>
            <a:off x="3276720" y="2421000"/>
            <a:ext cx="165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 7 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1447920" y="762120"/>
            <a:ext cx="424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72 ÷ 34 =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4761000" y="1338120"/>
            <a:ext cx="107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993640" y="70632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002920" y="6714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258240" y="789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本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64400" y="24192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662920" y="24192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036960" y="234936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Dotum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3132000" y="2565360"/>
            <a:ext cx="17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4407480" y="182880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3146400" y="3762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4407480" y="37195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1042920" y="4365720"/>
            <a:ext cx="67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答：四年级一班平均每人借               书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8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本。 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6" name="AutoShape 24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7" name="AutoShape 28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3276720" y="2997360"/>
            <a:ext cx="180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 7 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</a:rPr>
              <a:t>小结</a:t>
            </a:r>
            <a:endParaRPr b="1" lang="en-US" sz="40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     </a:t>
            </a:r>
            <a:r>
              <a:rPr b="1" lang="zh-CN" sz="3200" spc="-1" strike="noStrike">
                <a:solidFill>
                  <a:srgbClr val="200b5b"/>
                </a:solidFill>
                <a:latin typeface="楷体_GB2312"/>
              </a:rPr>
              <a:t>除数是两位数的除法，试商时应先看被除数的前两位，当除数的个位是</a:t>
            </a:r>
            <a:r>
              <a:rPr b="1" lang="en-US" sz="3200" spc="-1" strike="noStrike">
                <a:solidFill>
                  <a:srgbClr val="200b5b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200b5b"/>
                </a:solidFill>
                <a:latin typeface="楷体_GB2312"/>
              </a:rPr>
              <a:t>或比</a:t>
            </a:r>
            <a:r>
              <a:rPr b="1" lang="en-US" sz="3200" spc="-1" strike="noStrike">
                <a:solidFill>
                  <a:srgbClr val="200b5b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200b5b"/>
                </a:solidFill>
                <a:latin typeface="楷体_GB2312"/>
              </a:rPr>
              <a:t>小时，可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四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200b5b"/>
                </a:solidFill>
                <a:latin typeface="楷体_GB2312"/>
              </a:rPr>
              <a:t>法试商，即去掉除数的尾数，把除数当作整十数。由于这时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除数看小</a:t>
            </a:r>
            <a:r>
              <a:rPr b="1" lang="zh-CN" sz="3200" spc="-1" strike="noStrike">
                <a:solidFill>
                  <a:srgbClr val="200b5b"/>
                </a:solidFill>
                <a:latin typeface="楷体_GB2312"/>
              </a:rPr>
              <a:t>了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商往往偏大</a:t>
            </a:r>
            <a:r>
              <a:rPr b="1" lang="zh-CN" sz="3200" spc="-1" strike="noStrike">
                <a:solidFill>
                  <a:srgbClr val="200b5b"/>
                </a:solidFill>
                <a:latin typeface="楷体_GB2312"/>
              </a:rPr>
              <a:t>。初商后，必须将商与原来除数相乘，如果乘积大于被除数，就说明初商偏大，应该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初商调小（通常是把初商减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）</a:t>
            </a:r>
            <a:r>
              <a:rPr b="1" lang="zh-CN" sz="3200" spc="-1" strike="noStrike">
                <a:solidFill>
                  <a:srgbClr val="200b5b"/>
                </a:solidFill>
                <a:latin typeface="楷体_GB2312"/>
              </a:rPr>
              <a:t>再试，直至余数小于除数为止。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95280" y="692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、根据试商情况，说出各题准确的商</a:t>
            </a: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76360" y="1628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8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2268360" y="1773360"/>
            <a:ext cx="86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2268360" y="1773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547640" y="126828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楷体_GB2312"/>
              </a:rPr>
              <a:t>20</a:t>
            </a: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627280" y="112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2411280" y="21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92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2268360" y="27082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28472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67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356000" y="13399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楷体_GB2312"/>
              </a:rPr>
              <a:t>20</a:t>
            </a: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5435640" y="1197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219640" y="21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72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5076720" y="27795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5148360" y="184464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1547640" y="400536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156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1619280" y="3645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楷体_GB2312"/>
              </a:rPr>
              <a:t>30</a:t>
            </a: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2916360" y="3500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2484360" y="443700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60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9" name="Line 24"/>
          <p:cNvSpPr/>
          <p:nvPr/>
        </p:nvSpPr>
        <p:spPr>
          <a:xfrm>
            <a:off x="2484360" y="5084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0" name="Line 25"/>
          <p:cNvSpPr/>
          <p:nvPr/>
        </p:nvSpPr>
        <p:spPr>
          <a:xfrm>
            <a:off x="2340000" y="4149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4427640" y="400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3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309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4427640" y="3645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楷体_GB2312"/>
              </a:rPr>
              <a:t>50</a:t>
            </a: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796000" y="3500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4" name="Text Box 30"/>
          <p:cNvSpPr/>
          <p:nvPr/>
        </p:nvSpPr>
        <p:spPr>
          <a:xfrm>
            <a:off x="5364000" y="443700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1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5" name="Line 31"/>
          <p:cNvSpPr/>
          <p:nvPr/>
        </p:nvSpPr>
        <p:spPr>
          <a:xfrm>
            <a:off x="5292720" y="5084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6" name="Line 33"/>
          <p:cNvSpPr/>
          <p:nvPr/>
        </p:nvSpPr>
        <p:spPr>
          <a:xfrm>
            <a:off x="5292720" y="41497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2627280" y="112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8" name="Text Box 35"/>
          <p:cNvSpPr/>
          <p:nvPr/>
        </p:nvSpPr>
        <p:spPr>
          <a:xfrm>
            <a:off x="2411280" y="21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69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5435640" y="1197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5219640" y="21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291636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2" name="Text Box 39"/>
          <p:cNvSpPr/>
          <p:nvPr/>
        </p:nvSpPr>
        <p:spPr>
          <a:xfrm>
            <a:off x="2484360" y="443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2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3" name="Text Box 40"/>
          <p:cNvSpPr/>
          <p:nvPr/>
        </p:nvSpPr>
        <p:spPr>
          <a:xfrm>
            <a:off x="579600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4" name="Text Box 41"/>
          <p:cNvSpPr/>
          <p:nvPr/>
        </p:nvSpPr>
        <p:spPr>
          <a:xfrm>
            <a:off x="5364000" y="4437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65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411280" y="2637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6" name="Text Box 43"/>
          <p:cNvSpPr/>
          <p:nvPr/>
        </p:nvSpPr>
        <p:spPr>
          <a:xfrm>
            <a:off x="5219640" y="2708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7" name="Text Box 44"/>
          <p:cNvSpPr/>
          <p:nvPr/>
        </p:nvSpPr>
        <p:spPr>
          <a:xfrm>
            <a:off x="2700360" y="5013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8" name="Text Box 45"/>
          <p:cNvSpPr/>
          <p:nvPr/>
        </p:nvSpPr>
        <p:spPr>
          <a:xfrm>
            <a:off x="5580000" y="501336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4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9" name="Text Box 46"/>
          <p:cNvSpPr/>
          <p:nvPr/>
        </p:nvSpPr>
        <p:spPr>
          <a:xfrm>
            <a:off x="468360" y="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</a:rPr>
              <a:t>想想做做：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324000" y="404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、先找出错在哪里，再改正</a:t>
            </a: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1692360" y="191628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 3 0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680040" y="19144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1078560" y="19144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1547640" y="191628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Dotum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5" name="Line 17"/>
          <p:cNvSpPr/>
          <p:nvPr/>
        </p:nvSpPr>
        <p:spPr>
          <a:xfrm>
            <a:off x="1692360" y="2060640"/>
            <a:ext cx="17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1562040" y="3257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1692360" y="2492280"/>
            <a:ext cx="180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 3 6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2916360" y="1268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2843280" y="3213000"/>
            <a:ext cx="86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5435640" y="198900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 0 9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4423320" y="198756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4821840" y="198756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5195880" y="191772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Dotum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4" name="Line 26"/>
          <p:cNvSpPr/>
          <p:nvPr/>
        </p:nvSpPr>
        <p:spPr>
          <a:xfrm>
            <a:off x="5291280" y="2133720"/>
            <a:ext cx="17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5305320" y="3330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5435640" y="2565360"/>
            <a:ext cx="180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 1 8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588000" y="141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8" name="Rectangle 30"/>
          <p:cNvSpPr/>
          <p:nvPr/>
        </p:nvSpPr>
        <p:spPr>
          <a:xfrm>
            <a:off x="6012000" y="3284640"/>
            <a:ext cx="104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1 1  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2916360" y="126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1692360" y="249228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 9 4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2268360" y="321300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3 6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6588000" y="14130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5435640" y="2637000"/>
            <a:ext cx="187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2 6 5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6012000" y="3357720"/>
            <a:ext cx="10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4 4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日期占位符 3"/>
          <p:cNvSpPr/>
          <p:nvPr/>
        </p:nvSpPr>
        <p:spPr>
          <a:xfrm>
            <a:off x="45720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81CF-217C-408C-887C-6DBCF4967C20}" type="datetime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26/7/29</a:t>
            </a:fld>
            <a:endParaRPr b="1" lang="en-US" sz="1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324000" y="18900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总结认识</a:t>
            </a:r>
            <a:endParaRPr b="1" lang="en-US" sz="28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4302000" y="14842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楷体_GB2312"/>
                <a:ea typeface="黑体"/>
              </a:rPr>
              <a:t>除数看小，商偏大。</a:t>
            </a:r>
            <a:endParaRPr b="1" lang="en-US" sz="60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4302000" y="342900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楷体_GB2312"/>
                <a:ea typeface="黑体"/>
              </a:rPr>
              <a:t>商偏大了，要调小。</a:t>
            </a:r>
            <a:endParaRPr b="1" lang="en-US" sz="60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4"/>
          <p:cNvSpPr txBox="1"/>
          <p:nvPr/>
        </p:nvSpPr>
        <p:spPr>
          <a:xfrm>
            <a:off x="468360" y="476280"/>
            <a:ext cx="2303280" cy="817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解决问题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332000" y="1413000"/>
            <a:ext cx="6265800" cy="2016000"/>
          </a:xfrm>
          <a:prstGeom prst="wedgeRectCallout">
            <a:avLst>
              <a:gd name="adj1" fmla="val -42449"/>
              <a:gd name="adj2" fmla="val 86222"/>
            </a:avLst>
          </a:prstGeom>
          <a:gradFill rotWithShape="0">
            <a:gsLst>
              <a:gs pos="0">
                <a:srgbClr val="33ccff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楷体_GB2312"/>
              </a:rPr>
              <a:t>   </a:t>
            </a:r>
            <a:r>
              <a:rPr b="1" lang="zh-CN" sz="3600" spc="-1" strike="noStrike">
                <a:solidFill>
                  <a:srgbClr val="200b5b"/>
                </a:solidFill>
                <a:latin typeface="楷体_GB2312"/>
              </a:rPr>
              <a:t>三年级</a:t>
            </a:r>
            <a:r>
              <a:rPr b="1" lang="en-US" sz="3600" spc="-1" strike="noStrike">
                <a:solidFill>
                  <a:srgbClr val="200b5b"/>
                </a:solidFill>
                <a:latin typeface="楷体_GB2312"/>
              </a:rPr>
              <a:t>23</a:t>
            </a:r>
            <a:r>
              <a:rPr b="1" lang="zh-CN" sz="3600" spc="-1" strike="noStrike">
                <a:solidFill>
                  <a:srgbClr val="200b5b"/>
                </a:solidFill>
                <a:latin typeface="楷体_GB2312"/>
              </a:rPr>
              <a:t>个少先队员去栽树，一共栽了</a:t>
            </a:r>
            <a:r>
              <a:rPr b="1" lang="en-US" sz="3600" spc="-1" strike="noStrike">
                <a:solidFill>
                  <a:srgbClr val="200b5b"/>
                </a:solidFill>
                <a:latin typeface="楷体_GB2312"/>
              </a:rPr>
              <a:t>184</a:t>
            </a:r>
            <a:r>
              <a:rPr b="1" lang="zh-CN" sz="3600" spc="-1" strike="noStrike">
                <a:solidFill>
                  <a:srgbClr val="200b5b"/>
                </a:solidFill>
                <a:latin typeface="楷体_GB2312"/>
              </a:rPr>
              <a:t>棵，平均每个少先队员栽多少棵？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pic>
        <p:nvPicPr>
          <p:cNvPr id="341" name="Picture 7" descr="ren04"/>
          <p:cNvPicPr/>
          <p:nvPr/>
        </p:nvPicPr>
        <p:blipFill>
          <a:blip r:embed="rId1"/>
          <a:stretch/>
        </p:blipFill>
        <p:spPr>
          <a:xfrm>
            <a:off x="539640" y="3789360"/>
            <a:ext cx="13431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116000" y="2708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84÷ 23 =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本）  </a:t>
            </a:r>
            <a:endParaRPr b="1" lang="en-US" sz="40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3" name="AutoShape 3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4" name="AutoShape 4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900000" y="692280"/>
            <a:ext cx="6265800" cy="2016000"/>
          </a:xfrm>
          <a:prstGeom prst="wedgeRectCallout">
            <a:avLst>
              <a:gd name="adj1" fmla="val -49342"/>
              <a:gd name="adj2" fmla="val 7638"/>
            </a:avLst>
          </a:prstGeom>
          <a:gradFill rotWithShape="0">
            <a:gsLst>
              <a:gs pos="0">
                <a:srgbClr val="33ccff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楷体_GB2312"/>
              </a:rPr>
              <a:t>   </a:t>
            </a:r>
            <a:r>
              <a:rPr b="1" lang="zh-CN" sz="3600" spc="-1" strike="noStrike">
                <a:solidFill>
                  <a:srgbClr val="200b5b"/>
                </a:solidFill>
                <a:latin typeface="楷体_GB2312"/>
              </a:rPr>
              <a:t>三年级</a:t>
            </a:r>
            <a:r>
              <a:rPr b="1" lang="en-US" sz="3600" spc="-1" strike="noStrike">
                <a:solidFill>
                  <a:srgbClr val="200b5b"/>
                </a:solidFill>
                <a:latin typeface="楷体_GB2312"/>
              </a:rPr>
              <a:t>23</a:t>
            </a:r>
            <a:r>
              <a:rPr b="1" lang="zh-CN" sz="3600" spc="-1" strike="noStrike">
                <a:solidFill>
                  <a:srgbClr val="200b5b"/>
                </a:solidFill>
                <a:latin typeface="楷体_GB2312"/>
              </a:rPr>
              <a:t>个少先队员去栽树，一共栽了</a:t>
            </a:r>
            <a:r>
              <a:rPr b="1" lang="en-US" sz="3600" spc="-1" strike="noStrike">
                <a:solidFill>
                  <a:srgbClr val="200b5b"/>
                </a:solidFill>
                <a:latin typeface="楷体_GB2312"/>
              </a:rPr>
              <a:t>184</a:t>
            </a:r>
            <a:r>
              <a:rPr b="1" lang="zh-CN" sz="3600" spc="-1" strike="noStrike">
                <a:solidFill>
                  <a:srgbClr val="200b5b"/>
                </a:solidFill>
                <a:latin typeface="楷体_GB2312"/>
              </a:rPr>
              <a:t>棵，平均每个少先队员栽多少棵？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1954080" y="38606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2352600" y="38606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2698920" y="3789360"/>
            <a:ext cx="93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9" name="Line 11"/>
          <p:cNvSpPr/>
          <p:nvPr/>
        </p:nvSpPr>
        <p:spPr>
          <a:xfrm>
            <a:off x="2843280" y="3933720"/>
            <a:ext cx="17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2987640" y="386244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18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3635280" y="3284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2987640" y="4365720"/>
            <a:ext cx="10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18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3" name="Line 16"/>
          <p:cNvSpPr/>
          <p:nvPr/>
        </p:nvSpPr>
        <p:spPr>
          <a:xfrm>
            <a:off x="2843280" y="508644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3635280" y="5013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4413600" y="270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6" name="Rectangle 19"/>
          <p:cNvSpPr/>
          <p:nvPr/>
        </p:nvSpPr>
        <p:spPr>
          <a:xfrm>
            <a:off x="755640" y="544500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答：平均每个少先队员栽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棵。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7" name="WordArt 20"/>
          <p:cNvSpPr txBox="1"/>
          <p:nvPr/>
        </p:nvSpPr>
        <p:spPr>
          <a:xfrm rot="21387000">
            <a:off x="324000" y="333000"/>
            <a:ext cx="2303280" cy="817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解决问题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71280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</a:rPr>
              <a:t>下面各题最大填几</a:t>
            </a:r>
            <a:endParaRPr b="1" lang="en-US" sz="2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700280"/>
            <a:ext cx="713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30×</a:t>
            </a:r>
            <a:r>
              <a:rPr b="0" lang="zh-CN" sz="3200" spc="-1" strike="noStrike">
                <a:solidFill>
                  <a:srgbClr val="200b5b"/>
                </a:solidFill>
                <a:latin typeface="楷体_GB2312"/>
              </a:rPr>
              <a:t>（）﹤</a:t>
            </a: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263       40 ×</a:t>
            </a:r>
            <a:r>
              <a:rPr b="0" lang="zh-CN" sz="3200" spc="-1" strike="noStrike">
                <a:solidFill>
                  <a:srgbClr val="200b5b"/>
                </a:solidFill>
                <a:latin typeface="楷体_GB2312"/>
              </a:rPr>
              <a:t>（）﹤</a:t>
            </a: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218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70 ×</a:t>
            </a:r>
            <a:r>
              <a:rPr b="0" lang="zh-CN" sz="3200" spc="-1" strike="noStrike">
                <a:solidFill>
                  <a:srgbClr val="200b5b"/>
                </a:solidFill>
                <a:latin typeface="楷体_GB2312"/>
              </a:rPr>
              <a:t>（）﹤</a:t>
            </a: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502      50 ×</a:t>
            </a:r>
            <a:r>
              <a:rPr b="0" lang="zh-CN" sz="3200" spc="-1" strike="noStrike">
                <a:solidFill>
                  <a:srgbClr val="200b5b"/>
                </a:solidFill>
                <a:latin typeface="楷体_GB2312"/>
              </a:rPr>
              <a:t>（）﹤</a:t>
            </a: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320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60 ×</a:t>
            </a:r>
            <a:r>
              <a:rPr b="0" lang="zh-CN" sz="3200" spc="-1" strike="noStrike">
                <a:solidFill>
                  <a:srgbClr val="200b5b"/>
                </a:solidFill>
                <a:latin typeface="楷体_GB2312"/>
              </a:rPr>
              <a:t>（）﹤</a:t>
            </a: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103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403280" y="17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5076720" y="17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5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547640" y="2852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7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5076720" y="2852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6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547640" y="400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5"/>
          <p:cNvSpPr txBox="1"/>
          <p:nvPr/>
        </p:nvSpPr>
        <p:spPr>
          <a:xfrm>
            <a:off x="1332000" y="1484280"/>
            <a:ext cx="5400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+mn-ea"/>
              </a:rPr>
              <a:t>敬请指教！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+mn-ea"/>
              <a:ea typeface="+mn-ea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animClr clrSpc="rgb">
                                      <p:cBhvr>
                                        <p:cTn id="505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506" dur="1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</a:rPr>
              <a:t>根据第一题的结果，判断圈里最大填几？</a:t>
            </a:r>
            <a:endParaRPr b="1" lang="en-US" sz="2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125360"/>
            <a:ext cx="7129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35 ×4=140               74 ×5=370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35 ×</a:t>
            </a:r>
            <a:r>
              <a:rPr b="0" lang="zh-CN" sz="3200" spc="-1" strike="noStrike">
                <a:solidFill>
                  <a:srgbClr val="200b5b"/>
                </a:solidFill>
                <a:latin typeface="楷体_GB2312"/>
              </a:rPr>
              <a:t>（）﹤</a:t>
            </a: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135         74 ×</a:t>
            </a:r>
            <a:r>
              <a:rPr b="0" lang="zh-CN" sz="3200" spc="-1" strike="noStrike">
                <a:solidFill>
                  <a:srgbClr val="200b5b"/>
                </a:solidFill>
                <a:latin typeface="楷体_GB2312"/>
              </a:rPr>
              <a:t>（）﹤</a:t>
            </a: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360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43 ×6=258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43 ×</a:t>
            </a:r>
            <a:r>
              <a:rPr b="0" lang="zh-CN" sz="3200" spc="-1" strike="noStrike">
                <a:solidFill>
                  <a:srgbClr val="200b5b"/>
                </a:solidFill>
                <a:latin typeface="楷体_GB2312"/>
              </a:rPr>
              <a:t>（） ﹤</a:t>
            </a: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250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547640" y="17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3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435640" y="17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4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547640" y="400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5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71640" y="2997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44 ÷ 43 =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本）  </a:t>
            </a:r>
            <a:endParaRPr b="1" lang="en-US" sz="40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9" name="AutoShape 3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0" name="AutoShape 4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71640" y="206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四年级三班平均每人借书多少本？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pic>
        <p:nvPicPr>
          <p:cNvPr id="112" name="Picture 6" descr="ren04"/>
          <p:cNvPicPr/>
          <p:nvPr/>
        </p:nvPicPr>
        <p:blipFill>
          <a:blip r:embed="rId1"/>
          <a:stretch/>
        </p:blipFill>
        <p:spPr>
          <a:xfrm>
            <a:off x="0" y="692280"/>
            <a:ext cx="134316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1619280" y="260280"/>
            <a:ext cx="6121440" cy="1341360"/>
          </a:xfrm>
          <a:prstGeom prst="wedgeRectCallout">
            <a:avLst>
              <a:gd name="adj1" fmla="val -58740"/>
              <a:gd name="adj2" fmla="val 63490"/>
            </a:avLst>
          </a:prstGeom>
          <a:gradFill rotWithShape="0">
            <a:gsLst>
              <a:gs pos="0">
                <a:srgbClr val="33ccff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们四年级三班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，共借书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4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。</a:t>
            </a:r>
            <a:endParaRPr b="1" lang="en-US" sz="40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882800" y="41482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281320" y="41482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27280" y="407664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771640" y="4221000"/>
            <a:ext cx="17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2916360" y="4149720"/>
            <a:ext cx="165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4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979640" y="371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40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3564000" y="364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916360" y="4653000"/>
            <a:ext cx="107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4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771640" y="537372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3564000" y="5300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4413600" y="2997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539640" y="566100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答：四年级二班平均每人借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本。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684360" y="1989000"/>
            <a:ext cx="66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除数是两位数的除法，我们通常把除数看作与它接近的整十数来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试商</a:t>
            </a:r>
            <a:r>
              <a:rPr b="1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。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971640" y="4508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72 ÷ 34 =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）  </a:t>
            </a:r>
            <a:endParaRPr b="1" lang="en-US" sz="40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8" name="AutoShape 7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68360" y="32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四年级一班平均每人借书多少本？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pic>
        <p:nvPicPr>
          <p:cNvPr id="131" name="Picture 14" descr="ren04"/>
          <p:cNvPicPr/>
          <p:nvPr/>
        </p:nvPicPr>
        <p:blipFill>
          <a:blip r:embed="rId1"/>
          <a:stretch/>
        </p:blipFill>
        <p:spPr>
          <a:xfrm>
            <a:off x="179280" y="1413000"/>
            <a:ext cx="1343160" cy="2016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1"/>
          <p:cNvSpPr/>
          <p:nvPr/>
        </p:nvSpPr>
        <p:spPr>
          <a:xfrm>
            <a:off x="1979640" y="1268280"/>
            <a:ext cx="5834160" cy="1871640"/>
          </a:xfrm>
          <a:prstGeom prst="wedgeRectCallout">
            <a:avLst>
              <a:gd name="adj1" fmla="val -60421"/>
              <a:gd name="adj2" fmla="val -4708"/>
            </a:avLst>
          </a:prstGeom>
          <a:gradFill rotWithShape="0">
            <a:gsLst>
              <a:gs pos="0">
                <a:srgbClr val="33ccff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们四年级一班有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，共借书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7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本。</a:t>
            </a:r>
            <a:endParaRPr b="1" lang="en-US" sz="48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0"/>
          <p:cNvGrpSpPr/>
          <p:nvPr/>
        </p:nvGrpSpPr>
        <p:grpSpPr>
          <a:xfrm>
            <a:off x="684360" y="3573360"/>
            <a:ext cx="8152920" cy="1726920"/>
            <a:chOff x="684360" y="3573360"/>
            <a:chExt cx="8152920" cy="1726920"/>
          </a:xfrm>
        </p:grpSpPr>
        <p:pic>
          <p:nvPicPr>
            <p:cNvPr id="134" name="Picture 11" descr="qiezi"/>
            <p:cNvPicPr/>
            <p:nvPr/>
          </p:nvPicPr>
          <p:blipFill>
            <a:blip r:embed="rId1"/>
            <a:stretch/>
          </p:blipFill>
          <p:spPr>
            <a:xfrm>
              <a:off x="684360" y="3573360"/>
              <a:ext cx="133488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12"/>
            <p:cNvSpPr/>
            <p:nvPr/>
          </p:nvSpPr>
          <p:spPr>
            <a:xfrm>
              <a:off x="2589120" y="3918600"/>
              <a:ext cx="5562360" cy="1381680"/>
            </a:xfrm>
            <a:prstGeom prst="wedgeEllipseCallout">
              <a:avLst>
                <a:gd name="adj1" fmla="val -56675"/>
                <a:gd name="adj2" fmla="val -20833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6600cc"/>
                </a:solidFill>
                <a:latin typeface="楷体_GB2312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179520" y="3905640"/>
              <a:ext cx="565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以怎样试商？</a:t>
              </a:r>
              <a:endParaRPr b="1" lang="en-US" sz="3600" spc="-1" strike="noStrike">
                <a:solidFill>
                  <a:srgbClr val="6600cc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估计商几？</a:t>
              </a:r>
              <a:endParaRPr b="1" lang="en-US" sz="3600" spc="-1" strike="noStrike">
                <a:solidFill>
                  <a:srgbClr val="6600cc"/>
                </a:solidFill>
                <a:latin typeface="楷体_GB2312"/>
              </a:endParaRPr>
            </a:p>
          </p:txBody>
        </p:sp>
      </p:grpSp>
      <p:sp>
        <p:nvSpPr>
          <p:cNvPr id="137" name="Text Box 2"/>
          <p:cNvSpPr/>
          <p:nvPr/>
        </p:nvSpPr>
        <p:spPr>
          <a:xfrm>
            <a:off x="1619280" y="692280"/>
            <a:ext cx="424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72 ÷ 34 =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883520" y="23479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2040" y="23479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627280" y="227664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71640" y="2421000"/>
            <a:ext cx="17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916360" y="2349360"/>
            <a:ext cx="165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 7 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3" name="AutoShape 18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4" name="AutoShape 21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5" name="AutoShape 22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4861080" y="1341360"/>
            <a:ext cx="107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993640" y="70632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(   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619280" y="692280"/>
            <a:ext cx="424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272 ÷ 34 =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883520" y="23479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3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82040" y="23479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4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27280" y="2276640"/>
            <a:ext cx="93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00b5b"/>
                </a:solidFill>
                <a:latin typeface="Times New Roman"/>
                <a:ea typeface="Dotum"/>
              </a:rPr>
              <a:t>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2724120" y="2492280"/>
            <a:ext cx="17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843280" y="234936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2 7 2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977280" y="17002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00b5b"/>
                </a:solidFill>
                <a:latin typeface="黑体"/>
                <a:ea typeface="黑体"/>
              </a:rPr>
              <a:t>9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1889640" y="1844640"/>
            <a:ext cx="906840" cy="779760"/>
            <a:chOff x="1889640" y="1844640"/>
            <a:chExt cx="906840" cy="779760"/>
          </a:xfrm>
        </p:grpSpPr>
        <p:sp>
          <p:nvSpPr>
            <p:cNvPr id="156" name="Text Box 11"/>
            <p:cNvSpPr/>
            <p:nvPr/>
          </p:nvSpPr>
          <p:spPr>
            <a:xfrm>
              <a:off x="1889640" y="1844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1" lang="en-US" sz="4500" spc="-1" strike="noStrike">
                <a:solidFill>
                  <a:srgbClr val="6600cc"/>
                </a:solidFill>
                <a:latin typeface="楷体_GB2312"/>
              </a:endParaRPr>
            </a:p>
          </p:txBody>
        </p:sp>
        <p:sp>
          <p:nvSpPr>
            <p:cNvPr id="157" name="Text Box 12"/>
            <p:cNvSpPr/>
            <p:nvPr/>
          </p:nvSpPr>
          <p:spPr>
            <a:xfrm>
              <a:off x="2288160" y="1844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0</a:t>
              </a:r>
              <a:endParaRPr b="1" lang="en-US" sz="4500" spc="-1" strike="noStrike">
                <a:solidFill>
                  <a:srgbClr val="6600cc"/>
                </a:solidFill>
                <a:latin typeface="楷体_GB2312"/>
              </a:endParaRPr>
            </a:p>
          </p:txBody>
        </p:sp>
      </p:grpSp>
      <p:sp>
        <p:nvSpPr>
          <p:cNvPr id="158" name="Line 13"/>
          <p:cNvSpPr/>
          <p:nvPr/>
        </p:nvSpPr>
        <p:spPr>
          <a:xfrm>
            <a:off x="4861080" y="1341360"/>
            <a:ext cx="107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5993640" y="70632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(   )</a:t>
            </a:r>
            <a:endParaRPr b="1" lang="en-US" sz="45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0" name="AutoShape 17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1" name="AutoShape 20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2" name="AutoShape 21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619280" y="69228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黑体"/>
                <a:ea typeface="黑体"/>
              </a:rPr>
              <a:t>272 ÷ 34 =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884240" y="2362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黑体"/>
                <a:ea typeface="黑体"/>
              </a:rPr>
              <a:t>3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2760" y="2362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黑体"/>
                <a:ea typeface="黑体"/>
              </a:rPr>
              <a:t>4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655720" y="22780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0b5b"/>
                </a:solidFill>
                <a:latin typeface="Times New Roman"/>
                <a:ea typeface="Dotum"/>
              </a:rPr>
              <a:t>)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752560" y="2449440"/>
            <a:ext cx="177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916360" y="2349360"/>
            <a:ext cx="16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黑体"/>
                <a:ea typeface="黑体"/>
              </a:rPr>
              <a:t>2 7 2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011480" y="17575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黑体"/>
                <a:ea typeface="黑体"/>
              </a:rPr>
              <a:t>9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887480" y="18525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286000" y="18525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pic>
        <p:nvPicPr>
          <p:cNvPr id="172" name="Picture 12" descr="qiezi"/>
          <p:cNvPicPr/>
          <p:nvPr/>
        </p:nvPicPr>
        <p:blipFill>
          <a:blip r:embed="rId1"/>
          <a:stretch/>
        </p:blipFill>
        <p:spPr>
          <a:xfrm>
            <a:off x="762120" y="3962520"/>
            <a:ext cx="133488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3"/>
          <p:cNvSpPr/>
          <p:nvPr/>
        </p:nvSpPr>
        <p:spPr>
          <a:xfrm>
            <a:off x="2590920" y="3573360"/>
            <a:ext cx="5005440" cy="2376720"/>
          </a:xfrm>
          <a:prstGeom prst="wedgeEllipseCallout">
            <a:avLst>
              <a:gd name="adj1" fmla="val -62050"/>
              <a:gd name="adj2" fmla="val -8050"/>
            </a:avLst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132000" y="386064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Arial"/>
                <a:ea typeface="华文中宋"/>
              </a:rPr>
              <a:t>先计算，看能发现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Arial"/>
                <a:ea typeface="华文中宋"/>
              </a:rPr>
              <a:t>什么问题，出现问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Arial"/>
                <a:ea typeface="华文中宋"/>
              </a:rPr>
              <a:t>题的原因是什么？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61000" y="1338120"/>
            <a:ext cx="107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989320" y="720720"/>
            <a:ext cx="9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(   )</a:t>
            </a:r>
            <a:endParaRPr b="1" lang="en-US" sz="44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7" name="AutoShape 19">
            <a:hlinkClick r:id="" action="ppaction://hlinkshowjump?jump=firstslide"/>
          </p:cNvPr>
          <p:cNvSpPr/>
          <p:nvPr/>
        </p:nvSpPr>
        <p:spPr>
          <a:xfrm>
            <a:off x="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8" name="AutoShape 22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9" name="AutoShape 23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0:14:50Z</dcterms:created>
  <dc:creator>凌秋红</dc:creator>
  <dc:description/>
  <dc:language>en-US</dc:language>
  <cp:lastModifiedBy>Administrator</cp:lastModifiedBy>
  <dcterms:modified xsi:type="dcterms:W3CDTF">2018-09-17T23:03:00Z</dcterms:modified>
  <cp:revision>94</cp:revision>
  <dc:subject/>
  <dc:title>幻灯片 1</dc:title>
</cp:coreProperties>
</file>