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EBF-B7B1-4883-AE5A-6BD40033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27960"/>
            <a:ext cx="8915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0ED-508F-4BC6-9F68-7679279B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2796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2796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FAB-2A24-495B-98EF-7AF42F7E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27960"/>
            <a:ext cx="287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27960"/>
            <a:ext cx="287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27960"/>
            <a:ext cx="287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5D1-4CBB-4F7B-93E2-442B8FED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225-5622-4E79-8876-225D5DE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60A-7866-4461-B7DC-3E3AE90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AF9-B5C3-429C-B256-36410D1E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BFC-B2BF-4147-A8F0-3D22BB6E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160" y="102960"/>
            <a:ext cx="893124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CC4-48CD-46A9-B4D9-756D6DEF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2796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5FB-FC5B-40BC-A4CB-3714163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2796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A33-A9F5-465E-A13D-847B826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27960"/>
            <a:ext cx="8915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67D-2CAD-4244-82EA-3EDD67A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4F46-8D84-4529-8812-3E173C322C02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无标题"/>
          <p:cNvPicPr/>
          <p:nvPr/>
        </p:nvPicPr>
        <p:blipFill>
          <a:blip r:embed="rId1"/>
          <a:srcRect l="0" t="0" r="4429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2219400" y="1517760"/>
            <a:ext cx="700380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tn.mp3" descr=""/>
          <p:cNvPicPr/>
          <p:nvPr/>
        </p:nvPicPr>
        <p:blipFill>
          <a:blip r:embed="rId3"/>
          <a:stretch/>
        </p:blipFill>
        <p:spPr>
          <a:xfrm>
            <a:off x="414036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12" dur="2008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920880" y="476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不同的运动方式对脉搏的影响相同吗？原地蹲起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秒钟，按前面的步骤进行实验，并填写下表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20880" y="1916280"/>
          <a:ext cx="6984720" cy="3911400"/>
        </p:xfrm>
        <a:graphic>
          <a:graphicData uri="http://schemas.openxmlformats.org/drawingml/2006/table">
            <a:tbl>
              <a:tblPr/>
              <a:tblGrid>
                <a:gridCol w="2330280"/>
                <a:gridCol w="2325600"/>
                <a:gridCol w="232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运动前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运动后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平均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5440" y="47592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小组讨论：</a:t>
            </a:r>
            <a:br>
              <a:rPr sz="4400"/>
            </a:b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通过两次实验，你有什么发现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440" y="2205000"/>
            <a:ext cx="8915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Verdana"/>
              </a:rPr>
              <a:t>运动时间的长短和运动方式的不同都会引起脉搏的变化，变化的结果也是不同的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160" y="404640"/>
            <a:ext cx="89326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你知道吗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412640"/>
            <a:ext cx="8915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四年级学生体育课上每分钟脉搏次数达到多少比较合适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92160" y="2708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身体正在生长发育阶段。运动量不易太大。一般运动量保持在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左右为宜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83628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课后活动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8520" y="2565360"/>
            <a:ext cx="8915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测量你在不同运动前后每分钟的呼吸次数，记录下来制成统计表，与同学交流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16160" y="1844640"/>
            <a:ext cx="6264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Adobe 明體 Std L"/>
              </a:rPr>
              <a:t>运动我身体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Adobe 明體 Std L"/>
              </a:rPr>
              <a:t>快乐我身心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u=510605445,727844855&amp;fm=90&amp;gp=0"/>
          <p:cNvPicPr/>
          <p:nvPr/>
        </p:nvPicPr>
        <p:blipFill>
          <a:blip r:embed="rId1"/>
          <a:stretch/>
        </p:blipFill>
        <p:spPr>
          <a:xfrm>
            <a:off x="344520" y="360360"/>
            <a:ext cx="8424720" cy="561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u=966888347,3571640874&amp;fm=21&amp;gp=0"/>
          <p:cNvPicPr/>
          <p:nvPr/>
        </p:nvPicPr>
        <p:blipFill>
          <a:blip r:embed="rId2"/>
          <a:stretch/>
        </p:blipFill>
        <p:spPr>
          <a:xfrm>
            <a:off x="415800" y="404640"/>
            <a:ext cx="8353440" cy="556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u=1156014300,932820006&amp;fm=90&amp;gp=0"/>
          <p:cNvPicPr/>
          <p:nvPr/>
        </p:nvPicPr>
        <p:blipFill>
          <a:blip r:embed="rId3"/>
          <a:stretch/>
        </p:blipFill>
        <p:spPr>
          <a:xfrm>
            <a:off x="344520" y="374760"/>
            <a:ext cx="8280360" cy="5487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u=2165339306,3171549092&amp;fm=21&amp;gp=0"/>
          <p:cNvPicPr/>
          <p:nvPr/>
        </p:nvPicPr>
        <p:blipFill>
          <a:blip r:embed="rId4"/>
          <a:stretch/>
        </p:blipFill>
        <p:spPr>
          <a:xfrm>
            <a:off x="344520" y="404640"/>
            <a:ext cx="8210520" cy="547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u=2856615446,2642720771&amp;fm=23&amp;gp=0"/>
          <p:cNvPicPr/>
          <p:nvPr/>
        </p:nvPicPr>
        <p:blipFill>
          <a:blip r:embed="rId5"/>
          <a:stretch/>
        </p:blipFill>
        <p:spPr>
          <a:xfrm>
            <a:off x="344520" y="390600"/>
            <a:ext cx="8210520" cy="548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u=3846482444,266150931&amp;fm=21&amp;gp=0"/>
          <p:cNvPicPr/>
          <p:nvPr/>
        </p:nvPicPr>
        <p:blipFill>
          <a:blip r:embed="rId6"/>
          <a:stretch/>
        </p:blipFill>
        <p:spPr>
          <a:xfrm>
            <a:off x="344520" y="401760"/>
            <a:ext cx="8210520" cy="551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u=4203191060,2361496948&amp;fm=23&amp;gp=0"/>
          <p:cNvPicPr/>
          <p:nvPr/>
        </p:nvPicPr>
        <p:blipFill>
          <a:blip r:embed="rId7"/>
          <a:stretch/>
        </p:blipFill>
        <p:spPr>
          <a:xfrm>
            <a:off x="344520" y="409680"/>
            <a:ext cx="8137440" cy="552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u=4282948266,2147917705&amp;fm=21&amp;gp=0"/>
          <p:cNvPicPr/>
          <p:nvPr/>
        </p:nvPicPr>
        <p:blipFill>
          <a:blip r:embed="rId8"/>
          <a:stretch/>
        </p:blipFill>
        <p:spPr>
          <a:xfrm>
            <a:off x="344520" y="452520"/>
            <a:ext cx="8137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R3023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849240" y="2924280"/>
            <a:ext cx="829152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Verdana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6699"/>
                </a:solidFill>
                <a:latin typeface="Verdana"/>
                <a:ea typeface="隶书"/>
              </a:rPr>
              <a:t>你知道在运动后，身体会</a:t>
            </a:r>
            <a:br>
              <a:rPr sz="4400"/>
            </a:br>
            <a:r>
              <a:rPr b="1" lang="zh-CN" sz="4400" spc="-1" strike="noStrike">
                <a:solidFill>
                  <a:srgbClr val="006699"/>
                </a:solidFill>
                <a:latin typeface="Verdana"/>
                <a:ea typeface="隶书"/>
              </a:rPr>
              <a:t>发生哪些变化吗？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97240" y="2852640"/>
            <a:ext cx="30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身上会出汗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脉搏跳动会加快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呼吸加快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352520" y="2492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运动与身体变化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9160" y="102960"/>
            <a:ext cx="89312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Verdana"/>
                <a:ea typeface="隶书"/>
              </a:rPr>
              <a:t>学习目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560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巩固有关平均数的基础知识和技能。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6699"/>
                </a:solidFill>
                <a:latin typeface="隶书"/>
                <a:ea typeface="隶书"/>
              </a:rPr>
              <a:t>.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实验讨论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阶段，培养探讨研究问题的科学态度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66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6699"/>
                </a:solidFill>
                <a:latin typeface="隶书"/>
                <a:ea typeface="隶书"/>
              </a:rPr>
              <a:t>运用所学的统计知识研究，解决问题的实践活动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u=619845107,3261632731&amp;fm=116&amp;gp=0"/>
          <p:cNvPicPr/>
          <p:nvPr/>
        </p:nvPicPr>
        <p:blipFill>
          <a:blip r:embed="rId1"/>
          <a:stretch/>
        </p:blipFill>
        <p:spPr>
          <a:xfrm>
            <a:off x="415800" y="351000"/>
            <a:ext cx="5761080" cy="423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233000" y="4723920"/>
            <a:ext cx="40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岁每分钟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90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8 0 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次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4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岁以上每分钟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80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70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次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161040" y="692280"/>
            <a:ext cx="374508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数脉搏时，用自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己的食指、中指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和无名指按在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腕的动脉处，其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压力大小以摸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脉搏跳动为准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312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实验探究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836640"/>
            <a:ext cx="8202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活动要求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四人一组，按以下步骤进行实验，把每次得到的数据填入下表，并算出平均数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、测出运动前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分钟脉搏的次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、原地高抬腿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秒后，立即测出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分钟脉搏的次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、休息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分钟后，再测出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分钟脉搏的次数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、原地高抬腿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秒后，立即测出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分钟脉搏的次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、四人一组完成实验表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7240" y="-524160"/>
            <a:ext cx="850572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Verdana"/>
                <a:ea typeface="隶书"/>
              </a:rPr>
              <a:t>四人一组做实验，把得到的数据填入表格里，并求出小组每次测量脉博的平均数。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12880" y="1628640"/>
          <a:ext cx="6624720" cy="3889440"/>
        </p:xfrm>
        <a:graphic>
          <a:graphicData uri="http://schemas.openxmlformats.org/drawingml/2006/table">
            <a:tbl>
              <a:tblPr/>
              <a:tblGrid>
                <a:gridCol w="1441440"/>
                <a:gridCol w="1798560"/>
                <a:gridCol w="1800360"/>
                <a:gridCol w="1584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运动前</a:t>
                      </a: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运动后</a:t>
                      </a: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休息后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平均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1773360"/>
            <a:ext cx="8001000" cy="15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Verdana"/>
                <a:ea typeface="隶书"/>
              </a:rPr>
              <a:t>运动后脉博发生了怎样的变化？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6666"/>
                </a:solidFill>
                <a:latin typeface="Verdana"/>
                <a:ea typeface="隶书"/>
              </a:rPr>
              <a:t>两次的变化相同吗？为什么？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12:05:20Z</dcterms:created>
  <dc:creator>cly</dc:creator>
  <dc:description/>
  <cp:keywords/>
  <dc:language>en-US</dc:language>
  <cp:lastModifiedBy>Administrator</cp:lastModifiedBy>
  <cp:lastPrinted>1899-12-30T00:00:00Z</cp:lastPrinted>
  <dcterms:modified xsi:type="dcterms:W3CDTF">2018-10-24T23:41:31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_TemplateID">
    <vt:lpwstr>TC010721252052</vt:lpwstr>
  </property>
</Properties>
</file>