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1.jpeg" ContentType="image/jpeg"/>
  <Override PartName="/ppt/media/image8.png" ContentType="image/png"/>
  <Override PartName="/ppt/media/image5.png" ContentType="image/png"/>
  <Override PartName="/ppt/media/image3.png" ContentType="image/png"/>
  <Override PartName="/ppt/media/image4.png" ContentType="image/png"/>
  <Override PartName="/ppt/media/REMINDER.WAV" ContentType="audio/x-wav"/>
  <Override PartName="/ppt/media/image6.png" ContentType="image/png"/>
  <Override PartName="/ppt/media/image1.jpeg" ContentType="image/jpeg"/>
  <Override PartName="/ppt/media/image7.png" ContentType="image/png"/>
  <Override PartName="/ppt/media/hammer.wav" ContentType="audio/x-wav"/>
  <Override PartName="/ppt/media/suction.wav" ContentType="audio/x-wav"/>
  <Override PartName="/ppt/media/image2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CEF-ECFC-41BA-93A0-321C9E2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ACE-DB20-4E16-86B1-769F46F1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E04-29BE-4142-8627-9B54F781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BB8-DCE9-47EE-AEE5-94D81AF8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0BD-6DA4-4652-A0E9-76B1BCE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A3D-9D98-4D4D-94A1-37D8BFF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555-0A1F-4353-83E6-F4D43FE4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A71-1715-4F50-95E9-279EAC0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D02-4011-432C-BB70-2EB064C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AB0-2E15-48BC-B532-6E3C7E9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FD9-79AB-4647-A1CA-F092A14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CD0-4B76-4B98-BAF5-B819658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33C-2839-433D-BF8A-F24A1BA5F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REMIND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1197000"/>
            <a:ext cx="41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Comic Sans MS"/>
              </a:rPr>
              <a:t>射线、直线和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263700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州市三河口小学   朱新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56000" y="476280"/>
            <a:ext cx="6121440" cy="1584360"/>
          </a:xfrm>
          <a:prstGeom prst="cloudCallout">
            <a:avLst>
              <a:gd name="adj1" fmla="val -63046"/>
              <a:gd name="adj2" fmla="val 1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704160" y="942840"/>
            <a:ext cx="9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同时经过两点可以画几条直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4920" y="3357720"/>
            <a:ext cx="14436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6920" y="3284640"/>
            <a:ext cx="14436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974880" cy="11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611280" y="3357720"/>
            <a:ext cx="4248000" cy="142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365720"/>
            <a:ext cx="4321080" cy="914400"/>
          </a:xfrm>
          <a:custGeom>
            <a:avLst/>
            <a:gdLst>
              <a:gd name="textAreaLeft" fmla="*/ 0 w 4321080"/>
              <a:gd name="textAreaRight" fmla="*/ 4321440 w 43210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经过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两点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只能画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一条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5796000" y="2205000"/>
          <a:ext cx="3097080" cy="28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2205000"/>
                    <a:ext cx="3097080" cy="28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4"/>
          <p:cNvSpPr/>
          <p:nvPr/>
        </p:nvSpPr>
        <p:spPr>
          <a:xfrm>
            <a:off x="2340000" y="3429000"/>
            <a:ext cx="438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 rot="720600">
            <a:off x="2340000" y="2977920"/>
            <a:ext cx="4295880" cy="1530360"/>
          </a:xfrm>
          <a:custGeom>
            <a:avLst/>
            <a:gdLst>
              <a:gd name="textAreaLeft" fmla="*/ 0 w 4295880"/>
              <a:gd name="textAreaRight" fmla="*/ 4296240 w 429588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951" h="703">
                <a:moveTo>
                  <a:pt x="0" y="408"/>
                </a:moveTo>
                <a:cubicBezTo>
                  <a:pt x="314" y="555"/>
                  <a:pt x="628" y="703"/>
                  <a:pt x="953" y="635"/>
                </a:cubicBezTo>
                <a:cubicBezTo>
                  <a:pt x="1278" y="567"/>
                  <a:pt x="1785" y="106"/>
                  <a:pt x="1951" y="0"/>
                </a:cubicBezTo>
              </a:path>
            </a:pathLst>
          </a:custGeom>
          <a:noFill/>
          <a:ln w="25560">
            <a:solidFill>
              <a:srgbClr val="f92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2351160" y="2204640"/>
            <a:ext cx="4380840" cy="1190520"/>
            <a:chOff x="2351160" y="2204640"/>
            <a:chExt cx="4380840" cy="1190520"/>
          </a:xfrm>
        </p:grpSpPr>
        <p:sp>
          <p:nvSpPr>
            <p:cNvPr id="153" name="Line 7"/>
            <p:cNvSpPr/>
            <p:nvPr/>
          </p:nvSpPr>
          <p:spPr>
            <a:xfrm flipV="1">
              <a:off x="2351160" y="2629800"/>
              <a:ext cx="1030320" cy="7653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3381480" y="2629800"/>
              <a:ext cx="687600" cy="2545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 flipV="1">
              <a:off x="4069080" y="2204640"/>
              <a:ext cx="1546920" cy="6793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5616360" y="2205000"/>
              <a:ext cx="1115640" cy="11901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11"/>
          <p:cNvSpPr/>
          <p:nvPr/>
        </p:nvSpPr>
        <p:spPr>
          <a:xfrm>
            <a:off x="2268360" y="3357720"/>
            <a:ext cx="142920" cy="142560"/>
          </a:xfrm>
          <a:prstGeom prst="ellipse">
            <a:avLst/>
          </a:prstGeom>
          <a:solidFill>
            <a:srgbClr val="f92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659640" y="3357720"/>
            <a:ext cx="144360" cy="142560"/>
          </a:xfrm>
          <a:prstGeom prst="ellipse">
            <a:avLst/>
          </a:prstGeom>
          <a:solidFill>
            <a:srgbClr val="f92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2268360" y="2781360"/>
            <a:ext cx="5977080" cy="142920"/>
            <a:chOff x="2268360" y="2781360"/>
            <a:chExt cx="5977080" cy="142920"/>
          </a:xfrm>
        </p:grpSpPr>
        <p:sp>
          <p:nvSpPr>
            <p:cNvPr id="160" name="Line 15"/>
            <p:cNvSpPr/>
            <p:nvPr/>
          </p:nvSpPr>
          <p:spPr>
            <a:xfrm>
              <a:off x="2339640" y="2852640"/>
              <a:ext cx="590580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2268360" y="2781360"/>
              <a:ext cx="142920" cy="142920"/>
            </a:xfrm>
            <a:prstGeom prst="ellipse">
              <a:avLst/>
            </a:prstGeom>
            <a:solidFill>
              <a:srgbClr val="f92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8100720" y="2781360"/>
              <a:ext cx="142920" cy="142920"/>
            </a:xfrm>
            <a:prstGeom prst="ellipse">
              <a:avLst/>
            </a:prstGeom>
            <a:solidFill>
              <a:srgbClr val="f92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2268360" y="3860640"/>
            <a:ext cx="5470560" cy="142920"/>
            <a:chOff x="2268360" y="3860640"/>
            <a:chExt cx="5470560" cy="142920"/>
          </a:xfrm>
        </p:grpSpPr>
        <p:sp>
          <p:nvSpPr>
            <p:cNvPr id="164" name="Line 16"/>
            <p:cNvSpPr/>
            <p:nvPr/>
          </p:nvSpPr>
          <p:spPr>
            <a:xfrm>
              <a:off x="2268360" y="3933720"/>
              <a:ext cx="532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8"/>
            <p:cNvSpPr/>
            <p:nvPr/>
          </p:nvSpPr>
          <p:spPr>
            <a:xfrm>
              <a:off x="7596000" y="3860640"/>
              <a:ext cx="142920" cy="142920"/>
            </a:xfrm>
            <a:prstGeom prst="ellipse">
              <a:avLst/>
            </a:prstGeom>
            <a:solidFill>
              <a:srgbClr val="f92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>
              <a:off x="2268360" y="3860640"/>
              <a:ext cx="142920" cy="142920"/>
            </a:xfrm>
            <a:prstGeom prst="ellipse">
              <a:avLst/>
            </a:prstGeom>
            <a:solidFill>
              <a:srgbClr val="f92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2"/>
          <p:cNvSpPr/>
          <p:nvPr/>
        </p:nvSpPr>
        <p:spPr>
          <a:xfrm>
            <a:off x="1068480" y="463680"/>
            <a:ext cx="78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A.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点的三条线，哪条最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1908000" y="3141720"/>
            <a:ext cx="6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6804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"/>
          <p:cNvSpPr/>
          <p:nvPr/>
        </p:nvSpPr>
        <p:spPr>
          <a:xfrm>
            <a:off x="2340000" y="3429000"/>
            <a:ext cx="4381560" cy="0"/>
          </a:xfrm>
          <a:prstGeom prst="line">
            <a:avLst/>
          </a:prstGeom>
          <a:ln w="38160">
            <a:solidFill>
              <a:srgbClr val="0f1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 rot="720600">
            <a:off x="2340000" y="2977920"/>
            <a:ext cx="4295880" cy="1530360"/>
          </a:xfrm>
          <a:custGeom>
            <a:avLst/>
            <a:gdLst>
              <a:gd name="textAreaLeft" fmla="*/ 0 w 4295880"/>
              <a:gd name="textAreaRight" fmla="*/ 4296240 w 429588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951" h="703">
                <a:moveTo>
                  <a:pt x="0" y="408"/>
                </a:moveTo>
                <a:cubicBezTo>
                  <a:pt x="314" y="555"/>
                  <a:pt x="628" y="703"/>
                  <a:pt x="953" y="635"/>
                </a:cubicBezTo>
                <a:cubicBezTo>
                  <a:pt x="1278" y="567"/>
                  <a:pt x="1785" y="106"/>
                  <a:pt x="1951" y="0"/>
                </a:cubicBezTo>
              </a:path>
            </a:pathLst>
          </a:custGeom>
          <a:noFill/>
          <a:ln w="25560">
            <a:solidFill>
              <a:srgbClr val="f92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351160" y="2204640"/>
            <a:ext cx="4380840" cy="1190520"/>
            <a:chOff x="2351160" y="2204640"/>
            <a:chExt cx="4380840" cy="1190520"/>
          </a:xfrm>
        </p:grpSpPr>
        <p:sp>
          <p:nvSpPr>
            <p:cNvPr id="173" name="Line 5"/>
            <p:cNvSpPr/>
            <p:nvPr/>
          </p:nvSpPr>
          <p:spPr>
            <a:xfrm flipV="1">
              <a:off x="2351160" y="2629800"/>
              <a:ext cx="1030320" cy="7653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3381480" y="2629800"/>
              <a:ext cx="687600" cy="2545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 flipV="1">
              <a:off x="4069080" y="2204640"/>
              <a:ext cx="1546920" cy="6793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5616360" y="2205000"/>
              <a:ext cx="1115640" cy="119016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Oval 9"/>
          <p:cNvSpPr/>
          <p:nvPr/>
        </p:nvSpPr>
        <p:spPr>
          <a:xfrm>
            <a:off x="2268360" y="3357720"/>
            <a:ext cx="142920" cy="142560"/>
          </a:xfrm>
          <a:prstGeom prst="ellipse">
            <a:avLst/>
          </a:prstGeom>
          <a:solidFill>
            <a:srgbClr val="f9280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6659640" y="3357720"/>
            <a:ext cx="144360" cy="142560"/>
          </a:xfrm>
          <a:prstGeom prst="ellipse">
            <a:avLst/>
          </a:prstGeom>
          <a:solidFill>
            <a:srgbClr val="f92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717200" y="30686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6766920" y="3141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042920" y="4581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两点间所有的连线中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线段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最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042920" y="537372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连接两点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线段的长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叫作这两点间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812960" y="476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A.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点的三条线，哪条最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41"/>
          <p:cNvSpPr/>
          <p:nvPr/>
        </p:nvSpPr>
        <p:spPr>
          <a:xfrm>
            <a:off x="2411280" y="3429000"/>
            <a:ext cx="72072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43"/>
          <p:cNvSpPr/>
          <p:nvPr/>
        </p:nvSpPr>
        <p:spPr>
          <a:xfrm flipV="1">
            <a:off x="3132000" y="3716280"/>
            <a:ext cx="719280" cy="4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45"/>
          <p:cNvSpPr/>
          <p:nvPr/>
        </p:nvSpPr>
        <p:spPr>
          <a:xfrm>
            <a:off x="3851280" y="3716280"/>
            <a:ext cx="86508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47"/>
          <p:cNvSpPr/>
          <p:nvPr/>
        </p:nvSpPr>
        <p:spPr>
          <a:xfrm flipV="1">
            <a:off x="4716360" y="3432240"/>
            <a:ext cx="2016360" cy="9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52"/>
          <p:cNvSpPr/>
          <p:nvPr/>
        </p:nvSpPr>
        <p:spPr>
          <a:xfrm flipV="1">
            <a:off x="2340000" y="2492280"/>
            <a:ext cx="863640" cy="865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54"/>
          <p:cNvSpPr/>
          <p:nvPr/>
        </p:nvSpPr>
        <p:spPr>
          <a:xfrm>
            <a:off x="3203640" y="2492280"/>
            <a:ext cx="288720" cy="64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56"/>
          <p:cNvSpPr/>
          <p:nvPr/>
        </p:nvSpPr>
        <p:spPr>
          <a:xfrm flipV="1">
            <a:off x="3492360" y="2276280"/>
            <a:ext cx="432000" cy="865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58"/>
          <p:cNvSpPr/>
          <p:nvPr/>
        </p:nvSpPr>
        <p:spPr>
          <a:xfrm>
            <a:off x="3924360" y="2276640"/>
            <a:ext cx="360360" cy="64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60"/>
          <p:cNvSpPr/>
          <p:nvPr/>
        </p:nvSpPr>
        <p:spPr>
          <a:xfrm flipV="1">
            <a:off x="4284720" y="2637000"/>
            <a:ext cx="1295280" cy="287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62"/>
          <p:cNvSpPr/>
          <p:nvPr/>
        </p:nvSpPr>
        <p:spPr>
          <a:xfrm>
            <a:off x="5580000" y="2637000"/>
            <a:ext cx="1224000" cy="792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38360" y="403920"/>
            <a:ext cx="32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发可以画几条射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227664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-252360" y="2349000"/>
            <a:ext cx="2952720" cy="142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843280" y="980640"/>
            <a:ext cx="223344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2349360"/>
            <a:ext cx="2233800" cy="792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1197000"/>
            <a:ext cx="1081080" cy="1150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71640" y="980640"/>
            <a:ext cx="720720" cy="1366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71640" y="836640"/>
            <a:ext cx="1657440" cy="1511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92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3860640"/>
            <a:ext cx="5543640" cy="908280"/>
          </a:xfrm>
          <a:custGeom>
            <a:avLst/>
            <a:gdLst>
              <a:gd name="textAreaLeft" fmla="*/ 0 w 5543640"/>
              <a:gd name="textAreaRight" fmla="*/ 5543640 w 5543640"/>
              <a:gd name="textAreaTop" fmla="*/ 117720 h 908280"/>
              <a:gd name="textAreaBottom" fmla="*/ 79056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经过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一点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可以画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无数条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射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55640" y="2349360"/>
            <a:ext cx="2016000" cy="64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58920" y="2421000"/>
            <a:ext cx="1440000" cy="100800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21000"/>
            <a:ext cx="1295280" cy="136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771640" y="2204640"/>
            <a:ext cx="3024360" cy="14436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042920" y="1773360"/>
            <a:ext cx="1728720" cy="57600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473920" y="333360"/>
            <a:ext cx="35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从一点起画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两条射线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会是什么图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476360" y="2924280"/>
            <a:ext cx="2232000" cy="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37840" y="1279080"/>
            <a:ext cx="1519920" cy="1636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5080" y="285264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1184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836640"/>
            <a:ext cx="2341440" cy="1441440"/>
          </a:xfrm>
          <a:custGeom>
            <a:avLst/>
            <a:gdLst>
              <a:gd name="textAreaLeft" fmla="*/ 534600 w 2341440"/>
              <a:gd name="textAreaRight" fmla="*/ 1806840 w 234144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9800" y="242100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440" y="27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omic Sans MS"/>
              </a:rPr>
              <a:t>顶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65440" y="1773360"/>
            <a:ext cx="1135080" cy="1663560"/>
            <a:chOff x="1765440" y="1773360"/>
            <a:chExt cx="1135080" cy="1663560"/>
          </a:xfrm>
        </p:grpSpPr>
        <p:sp>
          <p:nvSpPr>
            <p:cNvPr id="218" name=""/>
            <p:cNvSpPr/>
            <p:nvPr/>
          </p:nvSpPr>
          <p:spPr>
            <a:xfrm>
              <a:off x="1765440" y="1773360"/>
              <a:ext cx="4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4720" y="3068640"/>
              <a:ext cx="41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315520" y="206064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4920" y="5985000"/>
            <a:ext cx="457200" cy="380880"/>
            <a:chOff x="3274920" y="5985000"/>
            <a:chExt cx="457200" cy="380880"/>
          </a:xfrm>
        </p:grpSpPr>
        <p:sp>
          <p:nvSpPr>
            <p:cNvPr id="222" name=""/>
            <p:cNvSpPr/>
            <p:nvPr/>
          </p:nvSpPr>
          <p:spPr>
            <a:xfrm>
              <a:off x="3274920" y="636588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88960" y="5985000"/>
              <a:ext cx="30492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67440" y="5956200"/>
            <a:ext cx="457200" cy="533520"/>
            <a:chOff x="5167440" y="5956200"/>
            <a:chExt cx="457200" cy="533520"/>
          </a:xfrm>
        </p:grpSpPr>
        <p:sp>
          <p:nvSpPr>
            <p:cNvPr id="225" name=""/>
            <p:cNvSpPr/>
            <p:nvPr/>
          </p:nvSpPr>
          <p:spPr>
            <a:xfrm>
              <a:off x="5167440" y="6337080"/>
              <a:ext cx="45720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181840" y="5956200"/>
              <a:ext cx="304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122480" y="6359400"/>
            <a:ext cx="70102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67280" y="1413000"/>
            <a:ext cx="3889080" cy="1941480"/>
            <a:chOff x="4067280" y="1413000"/>
            <a:chExt cx="3889080" cy="1941480"/>
          </a:xfrm>
        </p:grpSpPr>
        <p:grpSp>
          <p:nvGrpSpPr>
            <p:cNvPr id="229" name=""/>
            <p:cNvGrpSpPr/>
            <p:nvPr/>
          </p:nvGrpSpPr>
          <p:grpSpPr>
            <a:xfrm>
              <a:off x="4067280" y="1413000"/>
              <a:ext cx="3889080" cy="1512720"/>
              <a:chOff x="4067280" y="1413000"/>
              <a:chExt cx="3889080" cy="1512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067280" y="2925720"/>
                <a:ext cx="20890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56360" y="1413000"/>
                <a:ext cx="1800000" cy="1512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5578560" y="2492280"/>
              <a:ext cx="2018160" cy="8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2840" y="2108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cc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804000" y="2349360"/>
            <a:ext cx="1000800" cy="779760"/>
            <a:chOff x="6804000" y="2349360"/>
            <a:chExt cx="1000800" cy="779760"/>
          </a:xfrm>
        </p:grpSpPr>
        <p:grpSp>
          <p:nvGrpSpPr>
            <p:cNvPr id="235" name=""/>
            <p:cNvGrpSpPr/>
            <p:nvPr/>
          </p:nvGrpSpPr>
          <p:grpSpPr>
            <a:xfrm>
              <a:off x="6804000" y="2565360"/>
              <a:ext cx="457200" cy="380880"/>
              <a:chOff x="6804000" y="2565360"/>
              <a:chExt cx="457200" cy="380880"/>
            </a:xfrm>
          </p:grpSpPr>
          <p:sp>
            <p:nvSpPr>
              <p:cNvPr id="236" name=""/>
              <p:cNvSpPr/>
              <p:nvPr/>
            </p:nvSpPr>
            <p:spPr>
              <a:xfrm>
                <a:off x="6804000" y="2946240"/>
                <a:ext cx="4572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818040" y="2565360"/>
                <a:ext cx="304920" cy="3808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281000" y="2349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763640" y="3357720"/>
            <a:ext cx="5396400" cy="2151360"/>
            <a:chOff x="1763640" y="3357720"/>
            <a:chExt cx="5396400" cy="2151360"/>
          </a:xfrm>
        </p:grpSpPr>
        <p:sp>
          <p:nvSpPr>
            <p:cNvPr id="240" name=""/>
            <p:cNvSpPr/>
            <p:nvPr/>
          </p:nvSpPr>
          <p:spPr>
            <a:xfrm>
              <a:off x="1968120" y="3357720"/>
              <a:ext cx="519192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角通常用符号“  ”来表示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图的角可以记作“  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“  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”</a:t>
              </a:r>
              <a:r>
                <a:rPr b="1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读作“角一”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012000" y="4220640"/>
              <a:ext cx="457200" cy="380880"/>
              <a:chOff x="6012000" y="4220640"/>
              <a:chExt cx="457200" cy="380880"/>
            </a:xfrm>
          </p:grpSpPr>
          <p:sp>
            <p:nvSpPr>
              <p:cNvPr id="242" name=""/>
              <p:cNvSpPr/>
              <p:nvPr/>
            </p:nvSpPr>
            <p:spPr>
              <a:xfrm>
                <a:off x="6012000" y="4601520"/>
                <a:ext cx="457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026040" y="4220640"/>
                <a:ext cx="30492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763640" y="4885920"/>
              <a:ext cx="457200" cy="380880"/>
              <a:chOff x="1763640" y="4885920"/>
              <a:chExt cx="457200" cy="380880"/>
            </a:xfrm>
          </p:grpSpPr>
          <p:sp>
            <p:nvSpPr>
              <p:cNvPr id="245" name=""/>
              <p:cNvSpPr/>
              <p:nvPr/>
            </p:nvSpPr>
            <p:spPr>
              <a:xfrm>
                <a:off x="1763640" y="5266800"/>
                <a:ext cx="457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1777680" y="4885920"/>
                <a:ext cx="30492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861080" y="3542760"/>
              <a:ext cx="457200" cy="380880"/>
              <a:chOff x="4861080" y="3542760"/>
              <a:chExt cx="457200" cy="380880"/>
            </a:xfrm>
          </p:grpSpPr>
          <p:sp>
            <p:nvSpPr>
              <p:cNvPr id="248" name=""/>
              <p:cNvSpPr/>
              <p:nvPr/>
            </p:nvSpPr>
            <p:spPr>
              <a:xfrm>
                <a:off x="4861080" y="3923640"/>
                <a:ext cx="457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875120" y="3542760"/>
                <a:ext cx="30492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74" dur="10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5" dur="10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10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mph" presetID="27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485" dur="1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486" dur="1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87" dur="15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489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490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491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4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03640" y="3429000"/>
            <a:ext cx="2089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92720" y="1700280"/>
            <a:ext cx="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92720" y="1916280"/>
            <a:ext cx="180036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76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ahoma"/>
              </a:rPr>
              <a:t>火眼金睛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下图中有几条射线，组成了几个角？它们各是什么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4653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直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锐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4869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钝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31400" y="2732040"/>
            <a:ext cx="661320" cy="696960"/>
            <a:chOff x="4631400" y="2732040"/>
            <a:chExt cx="661320" cy="696960"/>
          </a:xfrm>
        </p:grpSpPr>
        <p:grpSp>
          <p:nvGrpSpPr>
            <p:cNvPr id="260" name=""/>
            <p:cNvGrpSpPr/>
            <p:nvPr/>
          </p:nvGrpSpPr>
          <p:grpSpPr>
            <a:xfrm>
              <a:off x="4932360" y="3068640"/>
              <a:ext cx="360360" cy="360360"/>
              <a:chOff x="4932360" y="3068640"/>
              <a:chExt cx="360360" cy="360360"/>
            </a:xfrm>
          </p:grpSpPr>
          <p:sp>
            <p:nvSpPr>
              <p:cNvPr id="261" name=""/>
              <p:cNvSpPr/>
              <p:nvPr/>
            </p:nvSpPr>
            <p:spPr>
              <a:xfrm>
                <a:off x="4932360" y="306864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32360" y="3068640"/>
                <a:ext cx="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631400" y="2732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619440" y="1842120"/>
            <a:ext cx="6736680" cy="5728320"/>
            <a:chOff x="3619440" y="1842120"/>
            <a:chExt cx="6736680" cy="5728320"/>
          </a:xfrm>
        </p:grpSpPr>
        <p:sp>
          <p:nvSpPr>
            <p:cNvPr id="265" name=""/>
            <p:cNvSpPr/>
            <p:nvPr/>
          </p:nvSpPr>
          <p:spPr>
            <a:xfrm flipH="1" rot="1566600">
              <a:off x="4107600" y="2927520"/>
              <a:ext cx="5758920" cy="355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56" y="2068"/>
                  </a:moveTo>
                  <a:arcTo wR="10800" hR="10800" stAng="-3236942" swAng="323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56" y="2068"/>
                  </a:moveTo>
                  <a:arcTo wR="10800" hR="10800" stAng="-3236942" swAng="3236942"/>
                </a:path>
              </a:pathLst>
            </a:cu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65400" y="2421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61440" y="2637000"/>
            <a:ext cx="1036440" cy="718560"/>
            <a:chOff x="4861440" y="2637000"/>
            <a:chExt cx="1036440" cy="718560"/>
          </a:xfrm>
        </p:grpSpPr>
        <p:sp>
          <p:nvSpPr>
            <p:cNvPr id="268" name=""/>
            <p:cNvSpPr/>
            <p:nvPr/>
          </p:nvSpPr>
          <p:spPr>
            <a:xfrm>
              <a:off x="4861440" y="2781360"/>
              <a:ext cx="8625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6120" y="2637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826920" y="3789360"/>
            <a:ext cx="2089080" cy="1728720"/>
            <a:chOff x="826920" y="3789360"/>
            <a:chExt cx="2089080" cy="1728720"/>
          </a:xfrm>
        </p:grpSpPr>
        <p:grpSp>
          <p:nvGrpSpPr>
            <p:cNvPr id="271" name=""/>
            <p:cNvGrpSpPr/>
            <p:nvPr/>
          </p:nvGrpSpPr>
          <p:grpSpPr>
            <a:xfrm>
              <a:off x="826920" y="3789360"/>
              <a:ext cx="2089080" cy="1728720"/>
              <a:chOff x="826920" y="3789360"/>
              <a:chExt cx="2089080" cy="17287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826920" y="3789360"/>
                <a:ext cx="2089080" cy="1728720"/>
                <a:chOff x="826920" y="3789360"/>
                <a:chExt cx="2089080" cy="17287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26920" y="5518080"/>
                  <a:ext cx="20890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916000" y="3789360"/>
                  <a:ext cx="0" cy="1728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555640" y="5157720"/>
                <a:ext cx="360360" cy="360000"/>
                <a:chOff x="2555640" y="5157720"/>
                <a:chExt cx="360360" cy="360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555640" y="5157720"/>
                  <a:ext cx="360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55640" y="5157720"/>
                  <a:ext cx="0" cy="360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>
              <a:off x="2183040" y="4870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6000" y="3933720"/>
            <a:ext cx="2231280" cy="1728720"/>
            <a:chOff x="3636000" y="3933720"/>
            <a:chExt cx="2231280" cy="1728720"/>
          </a:xfrm>
        </p:grpSpPr>
        <p:grpSp>
          <p:nvGrpSpPr>
            <p:cNvPr id="280" name=""/>
            <p:cNvGrpSpPr/>
            <p:nvPr/>
          </p:nvGrpSpPr>
          <p:grpSpPr>
            <a:xfrm>
              <a:off x="4067280" y="3933720"/>
              <a:ext cx="1800000" cy="1728720"/>
              <a:chOff x="4067280" y="3933720"/>
              <a:chExt cx="1800000" cy="172872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4067280" y="3933720"/>
                <a:ext cx="0" cy="1728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067280" y="4149720"/>
                <a:ext cx="1800000" cy="1512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636000" y="5013360"/>
              <a:ext cx="8625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7760" y="479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54560" y="3931200"/>
            <a:ext cx="7262280" cy="5728320"/>
            <a:chOff x="5254560" y="3931200"/>
            <a:chExt cx="7262280" cy="5728320"/>
          </a:xfrm>
        </p:grpSpPr>
        <p:grpSp>
          <p:nvGrpSpPr>
            <p:cNvPr id="286" name=""/>
            <p:cNvGrpSpPr/>
            <p:nvPr/>
          </p:nvGrpSpPr>
          <p:grpSpPr>
            <a:xfrm>
              <a:off x="5254560" y="4005360"/>
              <a:ext cx="3889080" cy="1512720"/>
              <a:chOff x="5254560" y="4005360"/>
              <a:chExt cx="3889080" cy="1512720"/>
            </a:xfrm>
          </p:grpSpPr>
          <p:sp>
            <p:nvSpPr>
              <p:cNvPr id="287" name=""/>
              <p:cNvSpPr/>
              <p:nvPr/>
            </p:nvSpPr>
            <p:spPr>
              <a:xfrm>
                <a:off x="5254560" y="5518080"/>
                <a:ext cx="20890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7343640" y="4005360"/>
                <a:ext cx="1800000" cy="1512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 flipH="1" rot="1566600">
              <a:off x="6268320" y="5016600"/>
              <a:ext cx="5758920" cy="355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56" y="2068"/>
                  </a:moveTo>
                  <a:arcTo wR="10800" hR="10800" stAng="-3236942" swAng="323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56" y="2068"/>
                  </a:moveTo>
                  <a:arcTo wR="10800" hR="10800" stAng="-3236942" swAng="3236942"/>
                </a:path>
              </a:pathLst>
            </a:cu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4480" y="4653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400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直线比射线长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479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角的两条边越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角越大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5334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把一条线段，向两端无限延长，得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是一条直线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955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凡是有两个端点的线都叫线段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533520" y="2193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小明画了一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厘米长的射线。（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63760" y="838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ahoma"/>
              </a:rPr>
              <a:t>小小判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37520" y="20574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80160" y="289548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ahoma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3581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34280" y="5791320"/>
            <a:ext cx="10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√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51080" y="4342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7391520" y="3124080"/>
            <a:ext cx="12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4500720" y="2924280"/>
            <a:ext cx="4327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488680" y="898560"/>
            <a:ext cx="3513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ahoma"/>
              </a:rPr>
              <a:t>猜猜我是谁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打一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线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159520" y="2441520"/>
            <a:ext cx="2992680" cy="642600"/>
            <a:chOff x="5159520" y="2441520"/>
            <a:chExt cx="2992680" cy="642600"/>
          </a:xfrm>
        </p:grpSpPr>
        <p:grpSp>
          <p:nvGrpSpPr>
            <p:cNvPr id="306" name=""/>
            <p:cNvGrpSpPr/>
            <p:nvPr/>
          </p:nvGrpSpPr>
          <p:grpSpPr>
            <a:xfrm>
              <a:off x="6994080" y="2593800"/>
              <a:ext cx="1158120" cy="76320"/>
              <a:chOff x="6994080" y="2593800"/>
              <a:chExt cx="1158120" cy="7632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7053120" y="2626920"/>
                <a:ext cx="1046520" cy="6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94080" y="2593800"/>
                <a:ext cx="525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099640" y="2593800"/>
                <a:ext cx="525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159520" y="2441520"/>
              <a:ext cx="135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ahoma"/>
                </a:rPr>
                <a:t>线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159520" y="5516640"/>
            <a:ext cx="3283920" cy="642600"/>
            <a:chOff x="5159520" y="5516640"/>
            <a:chExt cx="3283920" cy="642600"/>
          </a:xfrm>
        </p:grpSpPr>
        <p:sp>
          <p:nvSpPr>
            <p:cNvPr id="312" name=""/>
            <p:cNvSpPr/>
            <p:nvPr/>
          </p:nvSpPr>
          <p:spPr>
            <a:xfrm>
              <a:off x="6897960" y="5790960"/>
              <a:ext cx="1545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59520" y="5516640"/>
              <a:ext cx="135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ahoma"/>
                </a:rPr>
                <a:t>直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59520" y="4068720"/>
            <a:ext cx="3378960" cy="642600"/>
            <a:chOff x="5159520" y="4068720"/>
            <a:chExt cx="3378960" cy="642600"/>
          </a:xfrm>
        </p:grpSpPr>
        <p:grpSp>
          <p:nvGrpSpPr>
            <p:cNvPr id="315" name=""/>
            <p:cNvGrpSpPr/>
            <p:nvPr/>
          </p:nvGrpSpPr>
          <p:grpSpPr>
            <a:xfrm>
              <a:off x="6897600" y="4419720"/>
              <a:ext cx="1640880" cy="76320"/>
              <a:chOff x="6897600" y="4419720"/>
              <a:chExt cx="1640880" cy="7632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6939360" y="4444920"/>
                <a:ext cx="1599120" cy="1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97600" y="4419720"/>
                <a:ext cx="3708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159520" y="4068720"/>
              <a:ext cx="135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ahoma"/>
                </a:rPr>
                <a:t>射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33520" y="1955880"/>
            <a:ext cx="4495320" cy="1481040"/>
            <a:chOff x="533520" y="1955880"/>
            <a:chExt cx="4495320" cy="1481040"/>
          </a:xfrm>
        </p:grpSpPr>
        <p:sp>
          <p:nvSpPr>
            <p:cNvPr id="320" name=""/>
            <p:cNvSpPr/>
            <p:nvPr/>
          </p:nvSpPr>
          <p:spPr>
            <a:xfrm>
              <a:off x="1315440" y="2259000"/>
              <a:ext cx="2650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66"/>
                  </a:solidFill>
                  <a:latin typeface="Tahoma"/>
                </a:rPr>
                <a:t>有始有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1955880"/>
              <a:ext cx="4495320" cy="1481040"/>
            </a:xfrm>
            <a:prstGeom prst="irregularSeal2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80880" y="3581280"/>
            <a:ext cx="4647960" cy="1481040"/>
            <a:chOff x="380880" y="3581280"/>
            <a:chExt cx="4647960" cy="1481040"/>
          </a:xfrm>
        </p:grpSpPr>
        <p:sp>
          <p:nvSpPr>
            <p:cNvPr id="323" name=""/>
            <p:cNvSpPr/>
            <p:nvPr/>
          </p:nvSpPr>
          <p:spPr>
            <a:xfrm>
              <a:off x="1803600" y="388764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66"/>
                  </a:solidFill>
                  <a:latin typeface="Tahoma"/>
                </a:rPr>
                <a:t>有始无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880" y="3581280"/>
              <a:ext cx="4647960" cy="1481040"/>
            </a:xfrm>
            <a:prstGeom prst="irregularSeal2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880" y="5106960"/>
            <a:ext cx="4647960" cy="1481040"/>
            <a:chOff x="380880" y="5106960"/>
            <a:chExt cx="4647960" cy="1481040"/>
          </a:xfrm>
        </p:grpSpPr>
        <p:sp>
          <p:nvSpPr>
            <p:cNvPr id="326" name=""/>
            <p:cNvSpPr/>
            <p:nvPr/>
          </p:nvSpPr>
          <p:spPr>
            <a:xfrm>
              <a:off x="1784880" y="538812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66"/>
                  </a:solidFill>
                  <a:latin typeface="Tahoma"/>
                </a:rPr>
                <a:t>无始无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5106960"/>
              <a:ext cx="4647960" cy="1481040"/>
            </a:xfrm>
            <a:prstGeom prst="irregularSeal2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26440" y="1218960"/>
            <a:ext cx="39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将一张正方形纸，用剪刀剪下一个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角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剩下的图形有几个角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45720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ahoma"/>
              </a:rPr>
              <a:t>动手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2852640"/>
            <a:ext cx="3429000" cy="342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416560" y="5227560"/>
            <a:ext cx="12891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62120" y="2286000"/>
            <a:ext cx="861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9999"/>
                </a:solidFill>
                <a:latin typeface="Tahoma"/>
                <a:ea typeface="楷体_GB2312"/>
              </a:rPr>
              <a:t>有始有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77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77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77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26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526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90920" y="-1224000"/>
            <a:ext cx="1724040" cy="112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19640" y="33130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70920" y="1657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390920" y="1657440"/>
            <a:ext cx="3024360" cy="172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537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段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两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点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以测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长度。能测量出长度，在数学上我们叫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限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0.01271 L 0.51216 0.3063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能说说生活中还有哪些可以近似地看作线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46040" y="177336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如：拉直的鞋带，拉直的毛线，书的边，课桌的边，信封的边等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526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7380360" y="1080720"/>
            <a:ext cx="1079280" cy="576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17080" y="433080"/>
            <a:ext cx="1223640" cy="7189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936720"/>
            <a:ext cx="1724040" cy="112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3213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27640" y="404640"/>
            <a:ext cx="5113080" cy="288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303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射线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点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法测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长度。不能测量出长度，在数学上我们叫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限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6185E-006 L 0.33073 0.0733 E">
                                      <p:cBhvr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7080" y="1844640"/>
            <a:ext cx="22320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177156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8520" y="1844640"/>
            <a:ext cx="2228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17715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7440" y="184464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844640"/>
            <a:ext cx="3529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3500280"/>
            <a:ext cx="22320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29080" y="3500280"/>
            <a:ext cx="388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0" y="3500280"/>
            <a:ext cx="3562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419640" y="3429000"/>
            <a:ext cx="2376360" cy="142560"/>
            <a:chOff x="3419640" y="3429000"/>
            <a:chExt cx="2376360" cy="142560"/>
          </a:xfrm>
        </p:grpSpPr>
        <p:sp>
          <p:nvSpPr>
            <p:cNvPr id="70" name=""/>
            <p:cNvSpPr/>
            <p:nvPr/>
          </p:nvSpPr>
          <p:spPr>
            <a:xfrm>
              <a:off x="3419640" y="3429000"/>
              <a:ext cx="1443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1640" y="3429000"/>
              <a:ext cx="1443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9280" y="44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点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法测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长度。是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限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19640" y="3068640"/>
            <a:ext cx="2232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3068640"/>
            <a:ext cx="3888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68640"/>
            <a:ext cx="3562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4560" y="2421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492280"/>
            <a:ext cx="22320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7002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7640" y="1773360"/>
            <a:ext cx="2232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17002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6280"/>
            <a:ext cx="741672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比较一下线段、射线和直线有什么相同的地方和不同的地方？（小组内讨论一下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237360"/>
            <a:ext cx="9302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5516640"/>
            <a:ext cx="1537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589720"/>
            <a:ext cx="6015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4724280"/>
            <a:ext cx="155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797360"/>
            <a:ext cx="38736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724280"/>
            <a:ext cx="1555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284640"/>
          <a:ext cx="8209080" cy="3344760"/>
        </p:xfrm>
        <a:graphic>
          <a:graphicData uri="http://schemas.openxmlformats.org/drawingml/2006/table">
            <a:tbl>
              <a:tblPr/>
              <a:tblGrid>
                <a:gridCol w="1008000"/>
                <a:gridCol w="1368720"/>
                <a:gridCol w="1279440"/>
                <a:gridCol w="1793880"/>
                <a:gridCol w="1535040"/>
                <a:gridCol w="12240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两个端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可以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限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射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一个端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法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限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有端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法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限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28800" y="5143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8584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00720" y="50007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451640" y="3635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143840" y="54291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28760" y="214200"/>
            <a:ext cx="237636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找一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1979640" y="3141720"/>
            <a:ext cx="410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979640" y="3141720"/>
            <a:ext cx="4105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IO@@R5(GBL}VCB(7DPY31"/>
          <p:cNvPicPr/>
          <p:nvPr/>
        </p:nvPicPr>
        <p:blipFill>
          <a:blip r:embed="rId1"/>
          <a:stretch/>
        </p:blipFill>
        <p:spPr>
          <a:xfrm>
            <a:off x="3132000" y="3068640"/>
            <a:ext cx="101880" cy="14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RIO@@R5(GBL}VCB(7DPY31"/>
          <p:cNvPicPr/>
          <p:nvPr/>
        </p:nvPicPr>
        <p:blipFill>
          <a:blip r:embed="rId2"/>
          <a:stretch/>
        </p:blipFill>
        <p:spPr>
          <a:xfrm>
            <a:off x="4572000" y="3068640"/>
            <a:ext cx="101520" cy="14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857160" y="857160"/>
            <a:ext cx="7215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图中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线段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射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直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86080" y="2500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Times New Roman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86080" y="2500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348000" y="3286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233880" y="3144960"/>
            <a:ext cx="1368360" cy="0"/>
          </a:xfrm>
          <a:prstGeom prst="line">
            <a:avLst/>
          </a:prstGeom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714240" y="4000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线段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一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2214720" y="40006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射线、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00040" y="48578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射线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一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357280" y="4786200"/>
            <a:ext cx="16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2857680" y="785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5357880" y="773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1428840" y="15588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6"/>
          <p:cNvGrpSpPr/>
          <p:nvPr/>
        </p:nvGrpSpPr>
        <p:grpSpPr>
          <a:xfrm>
            <a:off x="1928880" y="3429000"/>
            <a:ext cx="1244520" cy="144360"/>
            <a:chOff x="1928880" y="3429000"/>
            <a:chExt cx="1244520" cy="144360"/>
          </a:xfrm>
        </p:grpSpPr>
        <p:sp>
          <p:nvSpPr>
            <p:cNvPr id="113" name="Line 10"/>
            <p:cNvSpPr/>
            <p:nvPr/>
          </p:nvSpPr>
          <p:spPr>
            <a:xfrm>
              <a:off x="1928880" y="3502080"/>
              <a:ext cx="122400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4" descr="BRIO@@R5(GBL}VCB(7DPY31"/>
            <p:cNvPicPr/>
            <p:nvPr/>
          </p:nvPicPr>
          <p:blipFill>
            <a:blip r:embed="rId3"/>
            <a:stretch/>
          </p:blipFill>
          <p:spPr>
            <a:xfrm>
              <a:off x="3071880" y="3429000"/>
              <a:ext cx="10152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组合 25"/>
          <p:cNvGrpSpPr/>
          <p:nvPr/>
        </p:nvGrpSpPr>
        <p:grpSpPr>
          <a:xfrm>
            <a:off x="4613400" y="3429000"/>
            <a:ext cx="1431720" cy="144360"/>
            <a:chOff x="4613400" y="3429000"/>
            <a:chExt cx="1431720" cy="144360"/>
          </a:xfrm>
        </p:grpSpPr>
        <p:sp>
          <p:nvSpPr>
            <p:cNvPr id="116" name="Line 11"/>
            <p:cNvSpPr/>
            <p:nvPr/>
          </p:nvSpPr>
          <p:spPr>
            <a:xfrm>
              <a:off x="4643280" y="3500280"/>
              <a:ext cx="1401840" cy="108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4" descr="BRIO@@R5(GBL}VCB(7DPY31"/>
            <p:cNvPicPr/>
            <p:nvPr/>
          </p:nvPicPr>
          <p:blipFill>
            <a:blip r:embed="rId4"/>
            <a:stretch/>
          </p:blipFill>
          <p:spPr>
            <a:xfrm>
              <a:off x="4613400" y="3429000"/>
              <a:ext cx="10152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7"/>
          <p:cNvGrpSpPr/>
          <p:nvPr/>
        </p:nvGrpSpPr>
        <p:grpSpPr>
          <a:xfrm>
            <a:off x="1733400" y="2786040"/>
            <a:ext cx="2909880" cy="144360"/>
            <a:chOff x="1733400" y="2786040"/>
            <a:chExt cx="2909880" cy="144360"/>
          </a:xfrm>
        </p:grpSpPr>
        <p:sp>
          <p:nvSpPr>
            <p:cNvPr id="119" name="Line 12"/>
            <p:cNvSpPr/>
            <p:nvPr/>
          </p:nvSpPr>
          <p:spPr>
            <a:xfrm>
              <a:off x="1733400" y="2859120"/>
              <a:ext cx="280836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BRIO@@R5(GBL}VCB(7DPY31"/>
            <p:cNvPicPr/>
            <p:nvPr/>
          </p:nvPicPr>
          <p:blipFill>
            <a:blip r:embed="rId5"/>
            <a:stretch/>
          </p:blipFill>
          <p:spPr>
            <a:xfrm>
              <a:off x="4541760" y="2786040"/>
              <a:ext cx="10152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组合 28"/>
          <p:cNvGrpSpPr/>
          <p:nvPr/>
        </p:nvGrpSpPr>
        <p:grpSpPr>
          <a:xfrm>
            <a:off x="3143160" y="2570040"/>
            <a:ext cx="3022560" cy="144720"/>
            <a:chOff x="3143160" y="2570040"/>
            <a:chExt cx="3022560" cy="144720"/>
          </a:xfrm>
        </p:grpSpPr>
        <p:sp>
          <p:nvSpPr>
            <p:cNvPr id="122" name="Line 14"/>
            <p:cNvSpPr/>
            <p:nvPr/>
          </p:nvSpPr>
          <p:spPr>
            <a:xfrm>
              <a:off x="3214440" y="2643120"/>
              <a:ext cx="295128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BRIO@@R5(GBL}VCB(7DPY31"/>
            <p:cNvPicPr/>
            <p:nvPr/>
          </p:nvPicPr>
          <p:blipFill>
            <a:blip r:embed="rId6"/>
            <a:stretch/>
          </p:blipFill>
          <p:spPr>
            <a:xfrm>
              <a:off x="3143160" y="2570040"/>
              <a:ext cx="10152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2970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5400000">
            <a:off x="4357440" y="-2189160"/>
            <a:ext cx="1368360" cy="7851960"/>
          </a:xfrm>
          <a:prstGeom prst="cloudCallout">
            <a:avLst>
              <a:gd name="adj1" fmla="val 2768"/>
              <a:gd name="adj2" fmla="val -2147483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同学们真爱动脑筋，我要考考大家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经过一点可以画几条直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4581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95640" y="4581000"/>
            <a:ext cx="2952720" cy="142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43280" y="3860640"/>
            <a:ext cx="2233440" cy="136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84360" y="4149360"/>
            <a:ext cx="3024360" cy="863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2640"/>
            <a:ext cx="2233440" cy="792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933720"/>
            <a:ext cx="1081080" cy="11509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3716280"/>
            <a:ext cx="720720" cy="20178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3573360"/>
            <a:ext cx="0" cy="194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276720" y="3573000"/>
            <a:ext cx="1150920" cy="187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59280" y="3789360"/>
            <a:ext cx="1657080" cy="1511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587700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589720"/>
            <a:ext cx="5543640" cy="907920"/>
          </a:xfrm>
          <a:custGeom>
            <a:avLst/>
            <a:gdLst>
              <a:gd name="textAreaLeft" fmla="*/ 0 w 5543640"/>
              <a:gd name="textAreaRight" fmla="*/ 5543640 w 5543640"/>
              <a:gd name="textAreaTop" fmla="*/ 117720 h 907920"/>
              <a:gd name="textAreaBottom" fmla="*/ 79020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经过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一点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可以画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无数条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ShockwaveFlash1"/>
          <p:cNvGraphicFramePr/>
          <p:nvPr/>
        </p:nvGraphicFramePr>
        <p:xfrm>
          <a:off x="5651640" y="2781360"/>
          <a:ext cx="3097080" cy="28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3097080" cy="28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1:27:01Z</dcterms:created>
  <dc:creator>承叶</dc:creator>
  <dc:description/>
  <dc:language>en-US</dc:language>
  <cp:lastModifiedBy>承叶</cp:lastModifiedBy>
  <dcterms:modified xsi:type="dcterms:W3CDTF">2015-12-06T12:05:44Z</dcterms:modified>
  <cp:revision>92</cp:revision>
  <dc:subject/>
  <dc:title>幻灯片 1</dc:title>
</cp:coreProperties>
</file>