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18342-B559-4445-9FAC-C145EF916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ED518-A472-4326-A280-2C8200A01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DBCCD-7539-4CD9-97B5-4D9866D8D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8A7E0-4F75-4104-B34E-8585AEF71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B3D55-BF42-4608-BE99-E5160D0D7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EEE61-0C0E-40F5-9FC2-A0D112E16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0280A-0B85-45ED-B0D5-C9D11EB4E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4C0B2-5DFA-4551-A29E-009D7089A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84765-77D0-4AEC-91AB-9BCF41236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25530-7C4F-4EF9-B92B-CFCBB5D69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9DE7B-6380-4285-AD2D-797C9FE53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F408C-68C7-4652-AE72-095F42B5A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1C2E5-FA50-4138-BD9A-88711E4817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481640" y="2438280"/>
            <a:ext cx="2619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ff"/>
                </a:solidFill>
                <a:latin typeface="Times New Roman"/>
              </a:rPr>
              <a:t>角的分类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4259160" y="1066680"/>
            <a:ext cx="5113440" cy="2448000"/>
          </a:xfrm>
          <a:prstGeom prst="rtTriangle">
            <a:avLst/>
          </a:prstGeom>
          <a:solidFill>
            <a:srgbClr val="bbe0e3"/>
          </a:solidFill>
          <a:ln w="25560">
            <a:solidFill>
              <a:srgbClr val="cda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211640" y="3500280"/>
            <a:ext cx="309708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4211640" y="692280"/>
            <a:ext cx="720720" cy="280800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rot="3025200">
            <a:off x="3509640" y="2770560"/>
            <a:ext cx="1613880" cy="1564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3774" y="2598"/>
                </a:moveTo>
                <a:arcTo wR="10800" hR="10800" stAng="-7834934" swAng="4556317"/>
                <a:lnTo>
                  <a:pt x="10800" y="10800"/>
                </a:lnTo>
                <a:close/>
              </a:path>
              <a:path fill="none" w="21600" h="21600">
                <a:moveTo>
                  <a:pt x="3774" y="2598"/>
                </a:moveTo>
                <a:arcTo wR="10800" hR="10800" stAng="-7834934" swAng="4556317"/>
              </a:path>
            </a:pathLst>
          </a:custGeom>
          <a:noFill/>
          <a:ln w="572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1640" y="3209760"/>
            <a:ext cx="32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093680" y="4495680"/>
            <a:ext cx="2314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新宋体"/>
              </a:rPr>
              <a:t>比直角小的角叫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3886200"/>
            <a:ext cx="2737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ruì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</a:rPr>
              <a:t>锐 角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-771480" y="-347760"/>
            <a:ext cx="10690200" cy="755820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19280" y="188640"/>
            <a:ext cx="5184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宋体"/>
                <a:ea typeface="宋体"/>
              </a:rPr>
              <a:t>锐角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26920" y="3428640"/>
            <a:ext cx="734544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你能说说锐角的度数在什么范围吗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28720" y="2060640"/>
            <a:ext cx="6048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用活动角摆一个锐角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6838200" y="1233720"/>
            <a:ext cx="2058840" cy="1440000"/>
            <a:chOff x="6838200" y="1233720"/>
            <a:chExt cx="2058840" cy="1440000"/>
          </a:xfrm>
        </p:grpSpPr>
        <p:sp>
          <p:nvSpPr>
            <p:cNvPr id="95" name=""/>
            <p:cNvSpPr/>
            <p:nvPr/>
          </p:nvSpPr>
          <p:spPr>
            <a:xfrm rot="2254800">
              <a:off x="6867360" y="2500200"/>
              <a:ext cx="144360" cy="14436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938280" y="2572560"/>
              <a:ext cx="1958760" cy="52920"/>
            </a:xfrm>
            <a:prstGeom prst="line">
              <a:avLst/>
            </a:prstGeom>
            <a:ln w="127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V="1">
              <a:off x="6938640" y="1233720"/>
              <a:ext cx="1212480" cy="1338480"/>
            </a:xfrm>
            <a:prstGeom prst="line">
              <a:avLst/>
            </a:prstGeom>
            <a:ln w="127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"/>
          <p:cNvSpPr/>
          <p:nvPr/>
        </p:nvSpPr>
        <p:spPr>
          <a:xfrm>
            <a:off x="1836720" y="4726080"/>
            <a:ext cx="5184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宋体"/>
                <a:ea typeface="宋体"/>
              </a:rPr>
              <a:t>0</a:t>
            </a:r>
            <a:r>
              <a:rPr b="0" lang="en-US" sz="6000" spc="-1" strike="noStrike">
                <a:solidFill>
                  <a:srgbClr val="ff0000"/>
                </a:solidFill>
                <a:latin typeface="宋体"/>
                <a:ea typeface="宋体"/>
              </a:rPr>
              <a:t>º</a:t>
            </a:r>
            <a:r>
              <a:rPr b="0" lang="zh-CN" sz="6000" spc="-1" strike="noStrike">
                <a:solidFill>
                  <a:srgbClr val="ff0000"/>
                </a:solidFill>
                <a:latin typeface="宋体"/>
                <a:ea typeface="宋体"/>
              </a:rPr>
              <a:t>-</a:t>
            </a:r>
            <a:r>
              <a:rPr b="0" lang="en-US" sz="6000" spc="-1" strike="noStrike">
                <a:solidFill>
                  <a:srgbClr val="ff0000"/>
                </a:solidFill>
                <a:latin typeface="宋体"/>
                <a:ea typeface="宋体"/>
              </a:rPr>
              <a:t>90º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2" dur="80"/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3" dur="80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" dur="80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9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4" dur="8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5" dur="8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" dur="8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1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6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4211640" y="3500280"/>
            <a:ext cx="309708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4211640" y="692280"/>
            <a:ext cx="720720" cy="280800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rot="3025200">
            <a:off x="3509640" y="2770560"/>
            <a:ext cx="1613880" cy="1564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3774" y="2598"/>
                </a:moveTo>
                <a:arcTo wR="10800" hR="10800" stAng="-7834934" swAng="4556317"/>
                <a:lnTo>
                  <a:pt x="10800" y="10800"/>
                </a:lnTo>
                <a:close/>
              </a:path>
              <a:path fill="none" w="21600" h="21600">
                <a:moveTo>
                  <a:pt x="3774" y="2598"/>
                </a:moveTo>
                <a:arcTo wR="10800" hR="10800" stAng="-7834934" swAng="4556317"/>
              </a:path>
            </a:pathLst>
          </a:custGeom>
          <a:noFill/>
          <a:ln w="572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121640" y="3209760"/>
            <a:ext cx="32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4211640" y="3500280"/>
            <a:ext cx="309708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4211640" y="692280"/>
            <a:ext cx="0" cy="280800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rot="3025200">
            <a:off x="3505320" y="2768040"/>
            <a:ext cx="1614960" cy="1564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742" y="4919"/>
                </a:moveTo>
                <a:arcTo wR="10800" hR="10800" stAng="-8820361" swAng="5541744"/>
                <a:lnTo>
                  <a:pt x="10800" y="10800"/>
                </a:lnTo>
                <a:close/>
              </a:path>
              <a:path fill="none" w="21600" h="21600">
                <a:moveTo>
                  <a:pt x="1742" y="4919"/>
                </a:moveTo>
                <a:arcTo wR="10800" hR="10800" stAng="-8820361" swAng="5541744"/>
              </a:path>
            </a:pathLst>
          </a:custGeom>
          <a:noFill/>
          <a:ln w="572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21640" y="3209760"/>
            <a:ext cx="32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057400" y="4648320"/>
            <a:ext cx="1752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直角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4211640" y="3500280"/>
            <a:ext cx="309708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 flipV="1">
            <a:off x="3708360" y="907560"/>
            <a:ext cx="503280" cy="259236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rot="3025200">
            <a:off x="3499920" y="2762640"/>
            <a:ext cx="1616040" cy="1564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14" y="6232"/>
                </a:moveTo>
                <a:arcTo wR="10800" hR="10800" stAng="-9298611" swAng="6019994"/>
                <a:lnTo>
                  <a:pt x="10800" y="10800"/>
                </a:lnTo>
                <a:close/>
              </a:path>
              <a:path fill="none" w="21600" h="21600">
                <a:moveTo>
                  <a:pt x="1014" y="6232"/>
                </a:moveTo>
                <a:arcTo wR="10800" hR="10800" stAng="-9298611" swAng="6019994"/>
              </a:path>
            </a:pathLst>
          </a:custGeom>
          <a:noFill/>
          <a:ln w="572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121640" y="3209760"/>
            <a:ext cx="32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4211640" y="3500280"/>
            <a:ext cx="309708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H="1" flipV="1">
            <a:off x="2916360" y="981000"/>
            <a:ext cx="1295280" cy="251928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rot="3025200">
            <a:off x="3493080" y="2756520"/>
            <a:ext cx="1616760" cy="1564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50" y="9006"/>
                </a:moveTo>
                <a:arcTo wR="10800" hR="10800" stAng="-10226220" swAng="6947603"/>
                <a:lnTo>
                  <a:pt x="10800" y="10800"/>
                </a:lnTo>
                <a:close/>
              </a:path>
              <a:path fill="none" w="21600" h="21600">
                <a:moveTo>
                  <a:pt x="150" y="9006"/>
                </a:moveTo>
                <a:arcTo wR="10800" hR="10800" stAng="-10226220" swAng="6947603"/>
              </a:path>
            </a:pathLst>
          </a:custGeom>
          <a:noFill/>
          <a:ln w="572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121640" y="3209760"/>
            <a:ext cx="32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4211640" y="3500280"/>
            <a:ext cx="309708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 flipV="1">
            <a:off x="2339640" y="1557000"/>
            <a:ext cx="1871640" cy="194292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rot="3025200">
            <a:off x="3490200" y="2751480"/>
            <a:ext cx="1616760" cy="1565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8" y="12456"/>
                </a:moveTo>
                <a:arcTo wR="10800" hR="10800" stAng="10270752" swAng="8050631"/>
                <a:lnTo>
                  <a:pt x="10800" y="10800"/>
                </a:lnTo>
                <a:close/>
              </a:path>
              <a:path fill="none" w="21600" h="21600">
                <a:moveTo>
                  <a:pt x="128" y="12456"/>
                </a:moveTo>
                <a:arcTo wR="10800" hR="10800" stAng="10270752" swAng="8050631"/>
              </a:path>
            </a:pathLst>
          </a:custGeom>
          <a:noFill/>
          <a:ln w="572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121640" y="3209760"/>
            <a:ext cx="32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4211640" y="3500280"/>
            <a:ext cx="309708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H="1" flipV="1">
            <a:off x="1834920" y="2060280"/>
            <a:ext cx="2376360" cy="143964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rot="3025200">
            <a:off x="3487680" y="2749680"/>
            <a:ext cx="1616760" cy="1566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41" y="15208"/>
                </a:moveTo>
                <a:arcTo wR="10800" hR="10800" stAng="9354531" swAng="8966852"/>
                <a:lnTo>
                  <a:pt x="10800" y="10800"/>
                </a:lnTo>
                <a:close/>
              </a:path>
              <a:path fill="none" w="21600" h="21600">
                <a:moveTo>
                  <a:pt x="941" y="15208"/>
                </a:moveTo>
                <a:arcTo wR="10800" hR="10800" stAng="9354531" swAng="8966852"/>
              </a:path>
            </a:pathLst>
          </a:custGeom>
          <a:noFill/>
          <a:ln w="572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121640" y="3209760"/>
            <a:ext cx="32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4230720" y="2133720"/>
            <a:ext cx="3313080" cy="1368360"/>
          </a:xfrm>
          <a:prstGeom prst="rtTriangl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11640" y="3500280"/>
            <a:ext cx="309708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1476360" y="2852280"/>
            <a:ext cx="2735280" cy="64764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rot="3025200">
            <a:off x="3485520" y="2746440"/>
            <a:ext cx="1616400" cy="1567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46" y="17125"/>
                </a:moveTo>
                <a:arcTo wR="10800" hR="10800" stAng="8649250" swAng="9672133"/>
                <a:lnTo>
                  <a:pt x="10800" y="10800"/>
                </a:lnTo>
                <a:close/>
              </a:path>
              <a:path fill="none" w="21600" h="21600">
                <a:moveTo>
                  <a:pt x="2046" y="17125"/>
                </a:moveTo>
                <a:arcTo wR="10800" hR="10800" stAng="8649250" swAng="9672133"/>
              </a:path>
            </a:pathLst>
          </a:custGeom>
          <a:noFill/>
          <a:ln w="572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121640" y="3209760"/>
            <a:ext cx="32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838080" y="4572000"/>
            <a:ext cx="41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新宋体"/>
              </a:rPr>
              <a:t>比直角大的角叫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930200" y="4419720"/>
            <a:ext cx="11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66"/>
                </a:solidFill>
                <a:latin typeface="Arial"/>
              </a:rPr>
              <a:t>钝 角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-771480" y="-347760"/>
            <a:ext cx="10690200" cy="755820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42560" y="620280"/>
            <a:ext cx="547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宋体"/>
                <a:ea typeface="宋体"/>
              </a:rPr>
              <a:t>钝角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26920" y="3573000"/>
            <a:ext cx="7632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你能说说钝角的度数在什么范围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28720" y="2060640"/>
            <a:ext cx="6048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用活动角摆一个钝角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5866920" y="1773360"/>
            <a:ext cx="2737440" cy="1080720"/>
            <a:chOff x="5866920" y="1773360"/>
            <a:chExt cx="2737440" cy="1080720"/>
          </a:xfrm>
        </p:grpSpPr>
        <p:sp>
          <p:nvSpPr>
            <p:cNvPr id="136" name=""/>
            <p:cNvSpPr/>
            <p:nvPr/>
          </p:nvSpPr>
          <p:spPr>
            <a:xfrm>
              <a:off x="7406280" y="2740320"/>
              <a:ext cx="114120" cy="113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 flipH="1">
              <a:off x="5866920" y="2797920"/>
              <a:ext cx="1596600" cy="0"/>
            </a:xfrm>
            <a:prstGeom prst="line">
              <a:avLst/>
            </a:prstGeom>
            <a:ln w="127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7463880" y="1773360"/>
              <a:ext cx="1140480" cy="1024560"/>
            </a:xfrm>
            <a:prstGeom prst="line">
              <a:avLst/>
            </a:prstGeom>
            <a:ln w="127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"/>
          <p:cNvSpPr/>
          <p:nvPr/>
        </p:nvSpPr>
        <p:spPr>
          <a:xfrm>
            <a:off x="2209680" y="4648320"/>
            <a:ext cx="5472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宋体"/>
                <a:ea typeface="宋体"/>
              </a:rPr>
              <a:t>90º</a:t>
            </a:r>
            <a:r>
              <a:rPr b="1" lang="zh-CN" sz="4800" spc="-1" strike="noStrike">
                <a:solidFill>
                  <a:srgbClr val="ff0000"/>
                </a:solidFill>
                <a:latin typeface="宋体"/>
                <a:ea typeface="宋体"/>
              </a:rPr>
              <a:t>-180</a:t>
            </a:r>
            <a:r>
              <a:rPr b="1" lang="en-US" sz="4800" spc="-1" strike="noStrike">
                <a:solidFill>
                  <a:srgbClr val="ff0000"/>
                </a:solidFill>
                <a:latin typeface="宋体"/>
                <a:ea typeface="宋体"/>
              </a:rPr>
              <a:t>º</a:t>
            </a:r>
            <a:r>
              <a:rPr b="1" lang="zh-CN" sz="4800" spc="-1" strike="noStrike">
                <a:solidFill>
                  <a:srgbClr val="ff0000"/>
                </a:solidFill>
                <a:latin typeface="宋体"/>
                <a:ea typeface="宋体"/>
              </a:rPr>
              <a:t>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7" dur="8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8" dur="8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9" dur="8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4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9" dur="8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0" dur="8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1" dur="8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6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1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219320" y="457200"/>
            <a:ext cx="6048360" cy="34671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4211640" y="3500280"/>
            <a:ext cx="309708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211640" y="692280"/>
            <a:ext cx="0" cy="280800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rot="3025200">
            <a:off x="3505320" y="2768040"/>
            <a:ext cx="1614960" cy="1564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742" y="4919"/>
                </a:moveTo>
                <a:arcTo wR="10800" hR="10800" stAng="-8820361" swAng="5541744"/>
                <a:lnTo>
                  <a:pt x="10800" y="10800"/>
                </a:lnTo>
                <a:close/>
              </a:path>
              <a:path fill="none" w="21600" h="21600">
                <a:moveTo>
                  <a:pt x="1742" y="4919"/>
                </a:moveTo>
                <a:arcTo wR="10800" hR="10800" stAng="-8820361" swAng="5541744"/>
              </a:path>
            </a:pathLst>
          </a:custGeom>
          <a:noFill/>
          <a:ln w="572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21640" y="3209760"/>
            <a:ext cx="32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267080" y="1371600"/>
            <a:ext cx="2089440" cy="2087640"/>
          </a:xfrm>
          <a:prstGeom prst="rtTriangle">
            <a:avLst/>
          </a:prstGeom>
          <a:solidFill>
            <a:srgbClr val="cc99ff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057400" y="4648320"/>
            <a:ext cx="1752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直角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657600" y="4724280"/>
            <a:ext cx="2438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等于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90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5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4211640" y="3500280"/>
            <a:ext cx="309708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1476360" y="2852280"/>
            <a:ext cx="2735280" cy="64764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rot="3025200">
            <a:off x="3485520" y="2746440"/>
            <a:ext cx="1616400" cy="1567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46" y="17125"/>
                </a:moveTo>
                <a:arcTo wR="10800" hR="10800" stAng="8649250" swAng="9672133"/>
                <a:lnTo>
                  <a:pt x="10800" y="10800"/>
                </a:lnTo>
                <a:close/>
              </a:path>
              <a:path fill="none" w="21600" h="21600">
                <a:moveTo>
                  <a:pt x="2046" y="17125"/>
                </a:moveTo>
                <a:arcTo wR="10800" hR="10800" stAng="8649250" swAng="9672133"/>
              </a:path>
            </a:pathLst>
          </a:custGeom>
          <a:noFill/>
          <a:ln w="572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121640" y="3209760"/>
            <a:ext cx="32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4211640" y="3500280"/>
            <a:ext cx="309708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1692360" y="3500280"/>
            <a:ext cx="251928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rot="3025200">
            <a:off x="3480120" y="2741760"/>
            <a:ext cx="1616400" cy="1566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3998" y="19189"/>
                </a:moveTo>
                <a:arcTo wR="10800" hR="10800" stAng="7742065" swAng="10579318"/>
                <a:lnTo>
                  <a:pt x="10800" y="10800"/>
                </a:lnTo>
                <a:close/>
              </a:path>
              <a:path fill="none" w="21600" h="21600">
                <a:moveTo>
                  <a:pt x="3998" y="19189"/>
                </a:moveTo>
                <a:arcTo wR="10800" hR="10800" stAng="7742065" swAng="10579318"/>
              </a:path>
            </a:pathLst>
          </a:custGeom>
          <a:noFill/>
          <a:ln w="572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121640" y="3209760"/>
            <a:ext cx="32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9480" y="4114800"/>
            <a:ext cx="80661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角的两条边在一条直线上时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这样的角叫做</a:t>
            </a:r>
            <a:r>
              <a:rPr b="1" lang="zh-CN" sz="3600" spc="-1" strike="noStrike" u="sng">
                <a:solidFill>
                  <a:srgbClr val="ff3300"/>
                </a:solidFill>
                <a:uFillTx/>
                <a:latin typeface="Arial"/>
              </a:rPr>
              <a:t>平角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105520" y="4876920"/>
            <a:ext cx="228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Arial"/>
              </a:rPr>
              <a:t>180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5943600"/>
            <a:ext cx="624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平角里包含了几个直角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562720" y="5943600"/>
            <a:ext cx="33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平角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=2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直角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4211640" y="3500280"/>
            <a:ext cx="309708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1692360" y="3500280"/>
            <a:ext cx="251928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rot="3025200">
            <a:off x="3480120" y="2741760"/>
            <a:ext cx="1616400" cy="1566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3998" y="19189"/>
                </a:moveTo>
                <a:arcTo wR="10800" hR="10800" stAng="7742065" swAng="10579318"/>
                <a:lnTo>
                  <a:pt x="10800" y="10800"/>
                </a:lnTo>
                <a:close/>
              </a:path>
              <a:path fill="none" w="21600" h="21600">
                <a:moveTo>
                  <a:pt x="3998" y="19189"/>
                </a:moveTo>
                <a:arcTo wR="10800" hR="10800" stAng="7742065" swAng="10579318"/>
              </a:path>
            </a:pathLst>
          </a:custGeom>
          <a:noFill/>
          <a:ln w="572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121640" y="3209760"/>
            <a:ext cx="32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4211640" y="3500280"/>
            <a:ext cx="309708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1692360" y="3500280"/>
            <a:ext cx="2519280" cy="86544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rot="3025200">
            <a:off x="3476880" y="2738160"/>
            <a:ext cx="1616400" cy="156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845" y="20850"/>
                </a:moveTo>
                <a:arcTo wR="10800" hR="10800" stAng="6688926" swAng="11632457"/>
                <a:lnTo>
                  <a:pt x="10800" y="10800"/>
                </a:lnTo>
                <a:close/>
              </a:path>
              <a:path fill="none" w="21600" h="21600">
                <a:moveTo>
                  <a:pt x="6845" y="20850"/>
                </a:moveTo>
                <a:arcTo wR="10800" hR="10800" stAng="6688926" swAng="11632457"/>
              </a:path>
            </a:pathLst>
          </a:custGeom>
          <a:noFill/>
          <a:ln w="572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121640" y="3209760"/>
            <a:ext cx="32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4211640" y="3500280"/>
            <a:ext cx="309708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1907640" y="3500280"/>
            <a:ext cx="2303640" cy="151308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rot="3025200">
            <a:off x="3476880" y="2737080"/>
            <a:ext cx="1616760" cy="1567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913" y="21434"/>
                </a:moveTo>
                <a:arcTo wR="10800" hR="10800" stAng="6003766" swAng="12317617"/>
                <a:lnTo>
                  <a:pt x="10800" y="10800"/>
                </a:lnTo>
                <a:close/>
              </a:path>
              <a:path fill="none" w="21600" h="21600">
                <a:moveTo>
                  <a:pt x="8913" y="21434"/>
                </a:moveTo>
                <a:arcTo wR="10800" hR="10800" stAng="6003766" swAng="12317617"/>
              </a:path>
            </a:pathLst>
          </a:custGeom>
          <a:noFill/>
          <a:ln w="572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121640" y="3209760"/>
            <a:ext cx="32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4211640" y="3500280"/>
            <a:ext cx="309708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2555640" y="3500280"/>
            <a:ext cx="1655640" cy="201636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rot="3025200">
            <a:off x="3476520" y="2737800"/>
            <a:ext cx="1616760" cy="1567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647" y="21567"/>
                </a:moveTo>
                <a:arcTo wR="10800" hR="10800" stAng="5130225" swAng="13191158"/>
                <a:lnTo>
                  <a:pt x="10800" y="10800"/>
                </a:lnTo>
                <a:close/>
              </a:path>
              <a:path fill="none" w="21600" h="21600">
                <a:moveTo>
                  <a:pt x="11647" y="21567"/>
                </a:moveTo>
                <a:arcTo wR="10800" hR="10800" stAng="5130225" swAng="13191158"/>
              </a:path>
            </a:pathLst>
          </a:custGeom>
          <a:noFill/>
          <a:ln w="572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121640" y="3209760"/>
            <a:ext cx="32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211640" y="3500280"/>
            <a:ext cx="309708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3131640" y="3500280"/>
            <a:ext cx="1079640" cy="237672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rot="3025200">
            <a:off x="3476520" y="2737800"/>
            <a:ext cx="1616760" cy="1567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339" y="21004"/>
                </a:moveTo>
                <a:arcTo wR="10800" hR="10800" stAng="4252216" swAng="14069167"/>
                <a:lnTo>
                  <a:pt x="10800" y="10800"/>
                </a:lnTo>
                <a:close/>
              </a:path>
              <a:path fill="none" w="21600" h="21600">
                <a:moveTo>
                  <a:pt x="14339" y="21004"/>
                </a:moveTo>
                <a:arcTo wR="10800" hR="10800" stAng="4252216" swAng="14069167"/>
              </a:path>
            </a:pathLst>
          </a:custGeom>
          <a:noFill/>
          <a:ln w="572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121640" y="3209760"/>
            <a:ext cx="32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4211640" y="3500280"/>
            <a:ext cx="309708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3779640" y="3500280"/>
            <a:ext cx="431640" cy="259272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rot="3025200">
            <a:off x="3476520" y="2737800"/>
            <a:ext cx="1616760" cy="1567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535" y="19951"/>
                </a:moveTo>
                <a:arcTo wR="10800" hR="10800" stAng="3475411" swAng="14845972"/>
                <a:lnTo>
                  <a:pt x="10800" y="10800"/>
                </a:lnTo>
                <a:close/>
              </a:path>
              <a:path fill="none" w="21600" h="21600">
                <a:moveTo>
                  <a:pt x="16535" y="19951"/>
                </a:moveTo>
                <a:arcTo wR="10800" hR="10800" stAng="3475411" swAng="14845972"/>
              </a:path>
            </a:pathLst>
          </a:custGeom>
          <a:noFill/>
          <a:ln w="572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121640" y="3209760"/>
            <a:ext cx="32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4211640" y="3500280"/>
            <a:ext cx="309708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211640" y="3500280"/>
            <a:ext cx="73080" cy="273708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rot="3025200">
            <a:off x="3477240" y="2738160"/>
            <a:ext cx="1616760" cy="1568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8741" y="18120"/>
                </a:moveTo>
                <a:arcTo wR="10800" hR="10800" stAng="2560004" swAng="15761379"/>
                <a:lnTo>
                  <a:pt x="10800" y="10800"/>
                </a:lnTo>
                <a:close/>
              </a:path>
              <a:path fill="none" w="21600" h="21600">
                <a:moveTo>
                  <a:pt x="18741" y="18120"/>
                </a:moveTo>
                <a:arcTo wR="10800" hR="10800" stAng="2560004" swAng="15761379"/>
              </a:path>
            </a:pathLst>
          </a:custGeom>
          <a:noFill/>
          <a:ln w="572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121640" y="3209760"/>
            <a:ext cx="32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4211640" y="3500280"/>
            <a:ext cx="309708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211640" y="3500280"/>
            <a:ext cx="792000" cy="273708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rot="3025200">
            <a:off x="3475800" y="2736720"/>
            <a:ext cx="1618200" cy="1568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168" y="16175"/>
                </a:moveTo>
                <a:arcTo wR="10800" hR="10800" stAng="1790771" swAng="16530612"/>
                <a:lnTo>
                  <a:pt x="10800" y="10800"/>
                </a:lnTo>
                <a:close/>
              </a:path>
              <a:path fill="none" w="21600" h="21600">
                <a:moveTo>
                  <a:pt x="20168" y="16175"/>
                </a:moveTo>
                <a:arcTo wR="10800" hR="10800" stAng="1790771" swAng="16530612"/>
              </a:path>
            </a:pathLst>
          </a:custGeom>
          <a:noFill/>
          <a:ln w="572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121640" y="3209760"/>
            <a:ext cx="32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-771480" y="-347760"/>
            <a:ext cx="10690200" cy="75582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38040" y="345960"/>
            <a:ext cx="722124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宋体"/>
                <a:ea typeface="宋体"/>
              </a:rPr>
              <a:t>直角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971640" y="3429000"/>
            <a:ext cx="76788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闭着眼睛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用手摸摸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谈谈感受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  <a:ea typeface="宋体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900000" y="2205000"/>
            <a:ext cx="65534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用活动角摆一个直角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971640" y="4437000"/>
            <a:ext cx="76788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用三角尺上的直角验证摆的角是不是直角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661080" y="1700280"/>
            <a:ext cx="1655640" cy="1584360"/>
            <a:chOff x="6661080" y="1700280"/>
            <a:chExt cx="1655640" cy="1584360"/>
          </a:xfrm>
        </p:grpSpPr>
        <p:sp>
          <p:nvSpPr>
            <p:cNvPr id="57" name=""/>
            <p:cNvSpPr/>
            <p:nvPr/>
          </p:nvSpPr>
          <p:spPr>
            <a:xfrm>
              <a:off x="6661080" y="3171240"/>
              <a:ext cx="114120" cy="113400"/>
            </a:xfrm>
            <a:prstGeom prst="ellipse">
              <a:avLst/>
            </a:prstGeom>
            <a:solidFill>
              <a:srgbClr val="6600ff"/>
            </a:solidFill>
            <a:ln w="9360">
              <a:solidFill>
                <a:srgbClr val="66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718680" y="1700280"/>
              <a:ext cx="0" cy="1470960"/>
            </a:xfrm>
            <a:prstGeom prst="line">
              <a:avLst/>
            </a:prstGeom>
            <a:ln w="127080">
              <a:solidFill>
                <a:srgbClr val="66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718680" y="3228480"/>
              <a:ext cx="1598040" cy="0"/>
            </a:xfrm>
            <a:prstGeom prst="line">
              <a:avLst/>
            </a:prstGeom>
            <a:ln w="127080">
              <a:solidFill>
                <a:srgbClr val="66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8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" dur="8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" dur="8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" dur="8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" dur="8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" dur="8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" dur="8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4211640" y="3500280"/>
            <a:ext cx="309708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211640" y="3500280"/>
            <a:ext cx="1440000" cy="252108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rot="3025200">
            <a:off x="3475080" y="2737440"/>
            <a:ext cx="1618560" cy="1568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323" y="13229"/>
                </a:moveTo>
                <a:arcTo wR="10800" hR="10800" stAng="779927" swAng="17541456"/>
                <a:lnTo>
                  <a:pt x="10800" y="10800"/>
                </a:lnTo>
                <a:close/>
              </a:path>
              <a:path fill="none" w="21600" h="21600">
                <a:moveTo>
                  <a:pt x="21323" y="13229"/>
                </a:moveTo>
                <a:arcTo wR="10800" hR="10800" stAng="779927" swAng="17541456"/>
              </a:path>
            </a:pathLst>
          </a:custGeom>
          <a:noFill/>
          <a:ln w="572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121640" y="3209760"/>
            <a:ext cx="32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4211640" y="3500280"/>
            <a:ext cx="309708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211640" y="3500280"/>
            <a:ext cx="2016000" cy="208944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rot="3025200">
            <a:off x="3471840" y="2733480"/>
            <a:ext cx="1618920" cy="1567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599" y="10957"/>
                </a:moveTo>
                <a:arcTo wR="10800" hR="10800" stAng="50009" swAng="18271374"/>
                <a:lnTo>
                  <a:pt x="10800" y="10800"/>
                </a:lnTo>
                <a:close/>
              </a:path>
              <a:path fill="none" w="21600" h="21600">
                <a:moveTo>
                  <a:pt x="21599" y="10957"/>
                </a:moveTo>
                <a:arcTo wR="10800" hR="10800" stAng="50009" swAng="18271374"/>
              </a:path>
            </a:pathLst>
          </a:custGeom>
          <a:noFill/>
          <a:ln w="572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121640" y="3209760"/>
            <a:ext cx="32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4211640" y="3500280"/>
            <a:ext cx="309708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11640" y="3500280"/>
            <a:ext cx="2521080" cy="144144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rot="3025200">
            <a:off x="3471840" y="2733480"/>
            <a:ext cx="1618920" cy="1567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081" y="7492"/>
                </a:moveTo>
                <a:arcTo wR="10800" hR="10800" stAng="-1070110" swAng="19391493"/>
                <a:lnTo>
                  <a:pt x="10800" y="10800"/>
                </a:lnTo>
                <a:close/>
              </a:path>
              <a:path fill="none" w="21600" h="21600">
                <a:moveTo>
                  <a:pt x="21081" y="7492"/>
                </a:moveTo>
                <a:arcTo wR="10800" hR="10800" stAng="-1070110" swAng="19391493"/>
              </a:path>
            </a:pathLst>
          </a:custGeom>
          <a:noFill/>
          <a:ln w="572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121640" y="3209760"/>
            <a:ext cx="32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4211640" y="3500280"/>
            <a:ext cx="309708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211640" y="3500280"/>
            <a:ext cx="2881440" cy="86544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rot="3025200">
            <a:off x="3470040" y="2733480"/>
            <a:ext cx="1618920" cy="1568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9835" y="4883"/>
                </a:moveTo>
                <a:arcTo wR="10800" hR="10800" stAng="-1993443" swAng="20314826"/>
                <a:lnTo>
                  <a:pt x="10800" y="10800"/>
                </a:lnTo>
                <a:close/>
              </a:path>
              <a:path fill="none" w="21600" h="21600">
                <a:moveTo>
                  <a:pt x="19835" y="4883"/>
                </a:moveTo>
                <a:arcTo wR="10800" hR="10800" stAng="-1993443" swAng="20314826"/>
              </a:path>
            </a:pathLst>
          </a:custGeom>
          <a:noFill/>
          <a:ln w="572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121640" y="3209760"/>
            <a:ext cx="32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4211640" y="3500280"/>
            <a:ext cx="309708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211640" y="3500280"/>
            <a:ext cx="3024360" cy="43344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rot="3025200">
            <a:off x="3460680" y="2724120"/>
            <a:ext cx="1618560" cy="1568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8778" y="3521"/>
                </a:moveTo>
                <a:arcTo wR="10800" hR="10800" stAng="-2542622" swAng="20864005"/>
                <a:lnTo>
                  <a:pt x="10800" y="10800"/>
                </a:lnTo>
                <a:close/>
              </a:path>
              <a:path fill="none" w="21600" h="21600">
                <a:moveTo>
                  <a:pt x="18778" y="3521"/>
                </a:moveTo>
                <a:arcTo wR="10800" hR="10800" stAng="-2542622" swAng="20864005"/>
              </a:path>
            </a:pathLst>
          </a:custGeom>
          <a:noFill/>
          <a:ln w="572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121640" y="3209760"/>
            <a:ext cx="32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4211640" y="3500280"/>
            <a:ext cx="309708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211640" y="3500280"/>
            <a:ext cx="316872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rot="3025200">
            <a:off x="3457440" y="2724120"/>
            <a:ext cx="1618560" cy="1568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7330" y="2198"/>
                </a:moveTo>
                <a:arcTo wR="10800" hR="10800" stAng="-3167893" swAng="21489276"/>
                <a:lnTo>
                  <a:pt x="10800" y="10800"/>
                </a:lnTo>
                <a:close/>
              </a:path>
              <a:path fill="none" w="21600" h="21600">
                <a:moveTo>
                  <a:pt x="17330" y="2198"/>
                </a:moveTo>
                <a:arcTo wR="10800" hR="10800" stAng="-3167893" swAng="21489276"/>
              </a:path>
            </a:pathLst>
          </a:custGeom>
          <a:noFill/>
          <a:ln w="572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121640" y="3209760"/>
            <a:ext cx="32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24000" y="5734080"/>
            <a:ext cx="1584000" cy="863640"/>
          </a:xfrm>
          <a:custGeom>
            <a:avLst/>
            <a:gdLst>
              <a:gd name="textAreaLeft" fmla="*/ 53640 w 1584000"/>
              <a:gd name="textAreaRight" fmla="*/ 1530360 w 1584000"/>
              <a:gd name="textAreaTop" fmla="*/ 53640 h 863640"/>
              <a:gd name="textAreaBottom" fmla="*/ 810000 h 863640"/>
            </a:gdLst>
            <a:ahLst/>
            <a:rect l="textAreaLeft" t="textAreaTop" r="textAreaRight" b="textAreaBottom"/>
            <a:pathLst>
              <a:path w="39609" h="21600">
                <a:moveTo>
                  <a:pt x="0" y="0"/>
                </a:moveTo>
                <a:lnTo>
                  <a:pt x="39609" y="0"/>
                </a:lnTo>
                <a:lnTo>
                  <a:pt x="39609" y="21600"/>
                </a:lnTo>
                <a:lnTo>
                  <a:pt x="0" y="21600"/>
                </a:lnTo>
                <a:close/>
              </a:path>
              <a:path fill="lightenLess" w="39609" h="21600">
                <a:moveTo>
                  <a:pt x="0" y="0"/>
                </a:moveTo>
                <a:lnTo>
                  <a:pt x="39609" y="0"/>
                </a:lnTo>
                <a:lnTo>
                  <a:pt x="38259" y="1350"/>
                </a:lnTo>
                <a:lnTo>
                  <a:pt x="1350" y="1350"/>
                </a:lnTo>
                <a:close/>
              </a:path>
              <a:path fill="darken" w="39609" h="21600">
                <a:moveTo>
                  <a:pt x="39609" y="0"/>
                </a:moveTo>
                <a:lnTo>
                  <a:pt x="39609" y="21600"/>
                </a:lnTo>
                <a:lnTo>
                  <a:pt x="38259" y="20250"/>
                </a:lnTo>
                <a:lnTo>
                  <a:pt x="38259" y="1350"/>
                </a:lnTo>
                <a:close/>
              </a:path>
              <a:path fill="darkenLess" w="39609" h="21600">
                <a:moveTo>
                  <a:pt x="39609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38259" y="20250"/>
                </a:lnTo>
                <a:close/>
              </a:path>
              <a:path fill="lighten" w="39609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</a:pathLst>
          </a:custGeom>
          <a:solidFill>
            <a:srgbClr val="ffffff">
              <a:alpha val="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934920" y="685800"/>
            <a:ext cx="820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角的一条边绕着它的顶点旋转一周后，和另一条边重合。这样的角叫做</a:t>
            </a:r>
            <a:r>
              <a:rPr b="1" lang="zh-CN" sz="3600" spc="-1" strike="noStrike" u="sng">
                <a:solidFill>
                  <a:srgbClr val="ff3300"/>
                </a:solidFill>
                <a:uFillTx/>
                <a:latin typeface="宋体"/>
              </a:rPr>
              <a:t>周角</a:t>
            </a:r>
            <a:r>
              <a:rPr b="0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57200" y="4800600"/>
            <a:ext cx="792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周角里包含了几个平角？几个直角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905120" y="5638680"/>
            <a:ext cx="6192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宋体"/>
                <a:ea typeface="Times New Roman"/>
              </a:rPr>
              <a:t>1</a:t>
            </a:r>
            <a:r>
              <a:rPr b="1" lang="zh-CN" sz="4800" spc="-1" strike="noStrike">
                <a:solidFill>
                  <a:srgbClr val="ff0000"/>
                </a:solidFill>
                <a:latin typeface="宋体"/>
              </a:rPr>
              <a:t>周角＝</a:t>
            </a:r>
            <a:r>
              <a:rPr b="1" lang="en-US" sz="4800" spc="-1" strike="noStrike">
                <a:solidFill>
                  <a:srgbClr val="ff0000"/>
                </a:solidFill>
                <a:latin typeface="宋体"/>
              </a:rPr>
              <a:t>2</a:t>
            </a:r>
            <a:r>
              <a:rPr b="1" lang="zh-CN" sz="4800" spc="-1" strike="noStrike">
                <a:solidFill>
                  <a:srgbClr val="ff0000"/>
                </a:solidFill>
                <a:latin typeface="宋体"/>
              </a:rPr>
              <a:t>平角＝</a:t>
            </a:r>
            <a:r>
              <a:rPr b="1" lang="en-US" sz="4800" spc="-1" strike="noStrike">
                <a:solidFill>
                  <a:srgbClr val="ff0000"/>
                </a:solidFill>
                <a:latin typeface="宋体"/>
              </a:rPr>
              <a:t>4</a:t>
            </a:r>
            <a:r>
              <a:rPr b="1" lang="zh-CN" sz="4800" spc="-1" strike="noStrike">
                <a:solidFill>
                  <a:srgbClr val="ff0000"/>
                </a:solidFill>
                <a:latin typeface="宋体"/>
              </a:rPr>
              <a:t>直角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02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2217960" y="149400"/>
            <a:ext cx="5209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a50021"/>
                </a:solidFill>
                <a:latin typeface="Arial"/>
              </a:rPr>
              <a:t>指出下面的角是什么角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476360" y="1268280"/>
            <a:ext cx="1584360" cy="1079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250920" y="1268280"/>
            <a:ext cx="1224000" cy="10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3564000" y="1557360"/>
            <a:ext cx="1368360" cy="1008000"/>
            <a:chOff x="3564000" y="1557360"/>
            <a:chExt cx="1368360" cy="1008000"/>
          </a:xfrm>
        </p:grpSpPr>
        <p:grpSp>
          <p:nvGrpSpPr>
            <p:cNvPr id="216" name=""/>
            <p:cNvGrpSpPr/>
            <p:nvPr/>
          </p:nvGrpSpPr>
          <p:grpSpPr>
            <a:xfrm>
              <a:off x="3564000" y="1557360"/>
              <a:ext cx="1368360" cy="1008000"/>
              <a:chOff x="3564000" y="1557360"/>
              <a:chExt cx="1368360" cy="1008000"/>
            </a:xfrm>
          </p:grpSpPr>
          <p:sp>
            <p:nvSpPr>
              <p:cNvPr id="217" name=""/>
              <p:cNvSpPr/>
              <p:nvPr/>
            </p:nvSpPr>
            <p:spPr>
              <a:xfrm>
                <a:off x="3564000" y="1557360"/>
                <a:ext cx="1152360" cy="1008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3564000" y="1557360"/>
                <a:ext cx="13683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9" name=""/>
            <p:cNvSpPr/>
            <p:nvPr/>
          </p:nvSpPr>
          <p:spPr>
            <a:xfrm>
              <a:off x="3851280" y="1557360"/>
              <a:ext cx="73080" cy="216000"/>
            </a:xfrm>
            <a:custGeom>
              <a:avLst/>
              <a:gdLst/>
              <a:ahLst/>
              <a:rect l="l" t="t" r="r" b="b"/>
              <a:pathLst>
                <a:path w="46" h="136">
                  <a:moveTo>
                    <a:pt x="46" y="0"/>
                  </a:moveTo>
                  <a:cubicBezTo>
                    <a:pt x="46" y="0"/>
                    <a:pt x="0" y="136"/>
                    <a:pt x="0" y="136"/>
                  </a:cubicBezTo>
                  <a:cubicBezTo>
                    <a:pt x="0" y="136"/>
                    <a:pt x="46" y="0"/>
                    <a:pt x="46" y="0"/>
                  </a:cubicBezTo>
                  <a:close/>
                </a:path>
              </a:pathLst>
            </a:custGeom>
            <a:solidFill>
              <a:srgbClr val="bbe0e3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6227640" y="4220640"/>
            <a:ext cx="2158920" cy="1656000"/>
            <a:chOff x="6227640" y="4220640"/>
            <a:chExt cx="2158920" cy="1656000"/>
          </a:xfrm>
        </p:grpSpPr>
        <p:grpSp>
          <p:nvGrpSpPr>
            <p:cNvPr id="221" name=""/>
            <p:cNvGrpSpPr/>
            <p:nvPr/>
          </p:nvGrpSpPr>
          <p:grpSpPr>
            <a:xfrm>
              <a:off x="6227640" y="4220640"/>
              <a:ext cx="2158920" cy="1656000"/>
              <a:chOff x="6227640" y="4220640"/>
              <a:chExt cx="2158920" cy="1656000"/>
            </a:xfrm>
          </p:grpSpPr>
          <p:sp>
            <p:nvSpPr>
              <p:cNvPr id="222" name=""/>
              <p:cNvSpPr/>
              <p:nvPr/>
            </p:nvSpPr>
            <p:spPr>
              <a:xfrm flipH="1">
                <a:off x="6227640" y="4797360"/>
                <a:ext cx="649440" cy="1079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flipV="1">
                <a:off x="6875280" y="4220640"/>
                <a:ext cx="1511280" cy="576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4" name=""/>
            <p:cNvSpPr/>
            <p:nvPr/>
          </p:nvSpPr>
          <p:spPr>
            <a:xfrm>
              <a:off x="6715080" y="4709880"/>
              <a:ext cx="449280" cy="363600"/>
            </a:xfrm>
            <a:custGeom>
              <a:avLst/>
              <a:gdLst/>
              <a:ahLst/>
              <a:rect l="l" t="t" r="r" b="b"/>
              <a:pathLst>
                <a:path w="283" h="229">
                  <a:moveTo>
                    <a:pt x="283" y="0"/>
                  </a:moveTo>
                  <a:cubicBezTo>
                    <a:pt x="255" y="84"/>
                    <a:pt x="197" y="216"/>
                    <a:pt x="91" y="226"/>
                  </a:cubicBezTo>
                  <a:cubicBezTo>
                    <a:pt x="61" y="229"/>
                    <a:pt x="30" y="226"/>
                    <a:pt x="0" y="226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" name=""/>
          <p:cNvSpPr/>
          <p:nvPr/>
        </p:nvSpPr>
        <p:spPr>
          <a:xfrm>
            <a:off x="5796000" y="1557360"/>
            <a:ext cx="2087640" cy="1368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659640" y="1989000"/>
            <a:ext cx="476280" cy="370080"/>
          </a:xfrm>
          <a:custGeom>
            <a:avLst/>
            <a:gdLst/>
            <a:ahLst/>
            <a:rect l="l" t="t" r="r" b="b"/>
            <a:pathLst>
              <a:path w="300" h="233">
                <a:moveTo>
                  <a:pt x="237" y="233"/>
                </a:moveTo>
                <a:cubicBezTo>
                  <a:pt x="300" y="140"/>
                  <a:pt x="277" y="53"/>
                  <a:pt x="169" y="18"/>
                </a:cubicBezTo>
                <a:cubicBezTo>
                  <a:pt x="43" y="28"/>
                  <a:pt x="41" y="0"/>
                  <a:pt x="0" y="86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6659280" y="2060640"/>
            <a:ext cx="73080" cy="730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694920" y="1916280"/>
            <a:ext cx="32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rot="3025200">
            <a:off x="442800" y="2949480"/>
            <a:ext cx="1618920" cy="1568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7330" y="2198"/>
                </a:moveTo>
                <a:arcTo wR="10800" hR="10800" stAng="-3167893" swAng="21489276"/>
                <a:lnTo>
                  <a:pt x="10800" y="10800"/>
                </a:lnTo>
                <a:close/>
              </a:path>
              <a:path fill="none" w="21600" h="21600">
                <a:moveTo>
                  <a:pt x="17330" y="2198"/>
                </a:moveTo>
                <a:arcTo wR="10800" hR="10800" stAng="-3167893" swAng="21489276"/>
              </a:path>
            </a:pathLst>
          </a:custGeom>
          <a:noFill/>
          <a:ln w="572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332000" y="3716280"/>
            <a:ext cx="2376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332000" y="3716280"/>
            <a:ext cx="2376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151640" y="3429000"/>
            <a:ext cx="32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5292720" y="2852640"/>
            <a:ext cx="1152360" cy="1224000"/>
            <a:chOff x="5292720" y="2852640"/>
            <a:chExt cx="1152360" cy="1224000"/>
          </a:xfrm>
        </p:grpSpPr>
        <p:sp>
          <p:nvSpPr>
            <p:cNvPr id="234" name=""/>
            <p:cNvSpPr/>
            <p:nvPr/>
          </p:nvSpPr>
          <p:spPr>
            <a:xfrm>
              <a:off x="5292720" y="4076640"/>
              <a:ext cx="1152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5" name=""/>
            <p:cNvGrpSpPr/>
            <p:nvPr/>
          </p:nvGrpSpPr>
          <p:grpSpPr>
            <a:xfrm>
              <a:off x="5292720" y="2852640"/>
              <a:ext cx="287280" cy="1224000"/>
              <a:chOff x="5292720" y="2852640"/>
              <a:chExt cx="287280" cy="1224000"/>
            </a:xfrm>
          </p:grpSpPr>
          <p:sp>
            <p:nvSpPr>
              <p:cNvPr id="236" name=""/>
              <p:cNvSpPr/>
              <p:nvPr/>
            </p:nvSpPr>
            <p:spPr>
              <a:xfrm>
                <a:off x="5292720" y="2852640"/>
                <a:ext cx="0" cy="1224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5292720" y="3789360"/>
                <a:ext cx="287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5580000" y="3789360"/>
                <a:ext cx="0" cy="287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39" name=""/>
          <p:cNvGrpSpPr/>
          <p:nvPr/>
        </p:nvGrpSpPr>
        <p:grpSpPr>
          <a:xfrm>
            <a:off x="1116000" y="4941720"/>
            <a:ext cx="1582560" cy="792000"/>
            <a:chOff x="1116000" y="4941720"/>
            <a:chExt cx="1582560" cy="792000"/>
          </a:xfrm>
        </p:grpSpPr>
        <p:grpSp>
          <p:nvGrpSpPr>
            <p:cNvPr id="240" name=""/>
            <p:cNvGrpSpPr/>
            <p:nvPr/>
          </p:nvGrpSpPr>
          <p:grpSpPr>
            <a:xfrm>
              <a:off x="1116000" y="4941720"/>
              <a:ext cx="1582560" cy="792000"/>
              <a:chOff x="1116000" y="4941720"/>
              <a:chExt cx="1582560" cy="792000"/>
            </a:xfrm>
          </p:grpSpPr>
          <p:sp>
            <p:nvSpPr>
              <p:cNvPr id="241" name=""/>
              <p:cNvSpPr/>
              <p:nvPr/>
            </p:nvSpPr>
            <p:spPr>
              <a:xfrm>
                <a:off x="1187280" y="4941720"/>
                <a:ext cx="1511280" cy="792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1116000" y="5733720"/>
                <a:ext cx="15825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3" name=""/>
            <p:cNvSpPr/>
            <p:nvPr/>
          </p:nvSpPr>
          <p:spPr>
            <a:xfrm>
              <a:off x="2195640" y="5518080"/>
              <a:ext cx="63360" cy="196920"/>
            </a:xfrm>
            <a:custGeom>
              <a:avLst/>
              <a:gdLst/>
              <a:ahLst/>
              <a:rect l="l" t="t" r="r" b="b"/>
              <a:pathLst>
                <a:path w="40" h="124">
                  <a:moveTo>
                    <a:pt x="40" y="0"/>
                  </a:moveTo>
                  <a:cubicBezTo>
                    <a:pt x="0" y="59"/>
                    <a:pt x="17" y="20"/>
                    <a:pt x="17" y="124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3820680" y="4887720"/>
            <a:ext cx="1335600" cy="1267200"/>
            <a:chOff x="3820680" y="4887720"/>
            <a:chExt cx="1335600" cy="1267200"/>
          </a:xfrm>
        </p:grpSpPr>
        <p:sp>
          <p:nvSpPr>
            <p:cNvPr id="245" name=""/>
            <p:cNvSpPr/>
            <p:nvPr/>
          </p:nvSpPr>
          <p:spPr>
            <a:xfrm flipH="1" flipV="1">
              <a:off x="3820680" y="4887720"/>
              <a:ext cx="1335600" cy="78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6" name=""/>
            <p:cNvGrpSpPr/>
            <p:nvPr/>
          </p:nvGrpSpPr>
          <p:grpSpPr>
            <a:xfrm>
              <a:off x="4854600" y="4928040"/>
              <a:ext cx="301680" cy="1226880"/>
              <a:chOff x="4854600" y="4928040"/>
              <a:chExt cx="301680" cy="1226880"/>
            </a:xfrm>
          </p:grpSpPr>
          <p:sp>
            <p:nvSpPr>
              <p:cNvPr id="247" name=""/>
              <p:cNvSpPr/>
              <p:nvPr/>
            </p:nvSpPr>
            <p:spPr>
              <a:xfrm flipH="1">
                <a:off x="5091480" y="4965840"/>
                <a:ext cx="64800" cy="1189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flipH="1">
                <a:off x="4854600" y="4928040"/>
                <a:ext cx="1440" cy="245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4854960" y="5172840"/>
                <a:ext cx="300240" cy="37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0" name=""/>
          <p:cNvSpPr/>
          <p:nvPr/>
        </p:nvSpPr>
        <p:spPr>
          <a:xfrm>
            <a:off x="1320120" y="160488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933360" y="153180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059240" y="175752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018880" y="318924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568480" y="341460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701360" y="530064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611240" y="507060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7059240" y="477360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1244520" y="1440000"/>
            <a:ext cx="447840" cy="74520"/>
          </a:xfrm>
          <a:custGeom>
            <a:avLst/>
            <a:gdLst/>
            <a:ahLst/>
            <a:rect l="l" t="t" r="r" b="b"/>
            <a:pathLst>
              <a:path w="282" h="47">
                <a:moveTo>
                  <a:pt x="0" y="37"/>
                </a:moveTo>
                <a:cubicBezTo>
                  <a:pt x="123" y="30"/>
                  <a:pt x="189" y="47"/>
                  <a:pt x="282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-771480" y="-347760"/>
            <a:ext cx="10690200" cy="7558200"/>
          </a:xfrm>
          <a:prstGeom prst="rect">
            <a:avLst/>
          </a:prstGeom>
          <a:ln w="0">
            <a:noFill/>
          </a:ln>
        </p:spPr>
      </p:pic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4560" y="189000"/>
            <a:ext cx="316692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帮角找家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7082640" y="2481120"/>
            <a:ext cx="120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9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868680" y="1495440"/>
            <a:ext cx="645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5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872360" y="1495440"/>
            <a:ext cx="120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105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389040" y="1452600"/>
            <a:ext cx="92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20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613040" y="1422360"/>
            <a:ext cx="92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90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5691960" y="1422360"/>
            <a:ext cx="120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150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205400" y="1422360"/>
            <a:ext cx="92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91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745920" y="2451240"/>
            <a:ext cx="92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45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894680" y="2451240"/>
            <a:ext cx="120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180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327120" y="2481120"/>
            <a:ext cx="92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39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562280" y="2451240"/>
            <a:ext cx="92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89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714280" y="2481120"/>
            <a:ext cx="120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360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5440" y="3902040"/>
            <a:ext cx="1656000" cy="16556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855800" y="3902040"/>
            <a:ext cx="1655640" cy="16556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656160" y="3973680"/>
            <a:ext cx="1655640" cy="16556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5508720" y="4006800"/>
            <a:ext cx="1655640" cy="16556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236000" y="3933720"/>
            <a:ext cx="1655640" cy="16560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324000" y="5661000"/>
            <a:ext cx="122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锐角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195640" y="5589720"/>
            <a:ext cx="122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钝角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924360" y="5589720"/>
            <a:ext cx="122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直角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651640" y="5661000"/>
            <a:ext cx="122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平角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451640" y="5589720"/>
            <a:ext cx="122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周角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62275E-006 L -0.06337 0.33102 E">
                                      <p:cBhvr>
                                        <p:cTn id="22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1.62275E-006 L -0.01476 0.35183 E">
                                      <p:cBhvr>
                                        <p:cTn id="224" dur="2000" fill="hold"/>
                                        <p:tgtEl>
                                          <p:spTgt spid="2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E-006 -0.012964 L -0.29132 0.345106 E">
                                      <p:cBhvr>
                                        <p:cTn id="228" dur="2000" fill="hold"/>
                                        <p:tgtEl>
                                          <p:spTgt spid="2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1.75682E-006 L -0.07083 0.37309 E">
                                      <p:cBhvr>
                                        <p:cTn id="232" dur="2000" fill="hold"/>
                                        <p:tgtEl>
                                          <p:spTgt spid="2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2.3902E-006 L -0.37796 0.40892 E">
                                      <p:cBhvr>
                                        <p:cTn id="236" dur="2000" fill="hold"/>
                                        <p:tgtEl>
                                          <p:spTgt spid="2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1.71059E-007 L -0.58264 0.4718 E">
                                      <p:cBhvr>
                                        <p:cTn id="240" dur="2000" fill="hold"/>
                                        <p:tgtEl>
                                          <p:spTgt spid="2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1E-006 L -0.07882 0.29357 E">
                                      <p:cBhvr>
                                        <p:cTn id="244" dur="2000" fill="hold"/>
                                        <p:tgtEl>
                                          <p:spTgt spid="2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4.91447E-006 L 0.40173 0.23069 E">
                                      <p:cBhvr>
                                        <p:cTn id="248" dur="2000" fill="hold"/>
                                        <p:tgtEl>
                                          <p:spTgt spid="2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2227 -0.048147 L -0.284896 0.277088 E">
                                      <p:cBhvr>
                                        <p:cTn id="252" dur="2000" fill="hold"/>
                                        <p:tgtEl>
                                          <p:spTgt spid="2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8058 0.044445 L -0.462323 0.359058 E">
                                      <p:cBhvr>
                                        <p:cTn id="256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E-006 1.36385E-006 L 0.15747 0.22007 E">
                                      <p:cBhvr>
                                        <p:cTn id="260" dur="2000" fill="hold"/>
                                        <p:tgtEl>
                                          <p:spTgt spid="2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4.7804E-006 L -0.504 0.34604 E">
                                      <p:cBhvr>
                                        <p:cTn id="264" dur="2000" fill="hold"/>
                                        <p:tgtEl>
                                          <p:spTgt spid="2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41972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488520" y="304812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直角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2164680" y="304812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平角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993480" y="304812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锐角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5517720" y="304812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周角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7422480" y="304812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钝角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1371600" y="4267080"/>
            <a:ext cx="6851520" cy="7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周角</a:t>
            </a:r>
            <a:r>
              <a:rPr b="1" lang="en-US" sz="4000" spc="-1" strike="noStrike">
                <a:solidFill>
                  <a:srgbClr val="ff0000"/>
                </a:solidFill>
                <a:latin typeface="宋体"/>
              </a:rPr>
              <a:t>&gt;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平角</a:t>
            </a:r>
            <a:r>
              <a:rPr b="1" lang="en-US" sz="4000" spc="-1" strike="noStrike">
                <a:solidFill>
                  <a:srgbClr val="ff0000"/>
                </a:solidFill>
                <a:latin typeface="宋体"/>
              </a:rPr>
              <a:t>&gt;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钝角</a:t>
            </a:r>
            <a:r>
              <a:rPr b="1" lang="en-US" sz="4000" spc="-1" strike="noStrike">
                <a:solidFill>
                  <a:srgbClr val="ff0000"/>
                </a:solidFill>
                <a:latin typeface="宋体"/>
              </a:rPr>
              <a:t>&gt;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直角</a:t>
            </a:r>
            <a:r>
              <a:rPr b="1" lang="en-US" sz="4000" spc="-1" strike="noStrike">
                <a:solidFill>
                  <a:srgbClr val="ff0000"/>
                </a:solidFill>
                <a:latin typeface="宋体"/>
              </a:rPr>
              <a:t>&gt;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锐角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3787920" y="5013360"/>
            <a:ext cx="3527280" cy="0"/>
          </a:xfrm>
          <a:prstGeom prst="line">
            <a:avLst/>
          </a:prstGeom>
          <a:ln w="1144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2" name=""/>
          <p:cNvGrpSpPr/>
          <p:nvPr/>
        </p:nvGrpSpPr>
        <p:grpSpPr>
          <a:xfrm>
            <a:off x="1031760" y="397800"/>
            <a:ext cx="2109960" cy="3398400"/>
            <a:chOff x="1031760" y="397800"/>
            <a:chExt cx="2109960" cy="3398400"/>
          </a:xfrm>
        </p:grpSpPr>
        <p:sp>
          <p:nvSpPr>
            <p:cNvPr id="293" name=""/>
            <p:cNvSpPr/>
            <p:nvPr/>
          </p:nvSpPr>
          <p:spPr>
            <a:xfrm flipH="1" rot="22800">
              <a:off x="1042560" y="404280"/>
              <a:ext cx="2087640" cy="3384720"/>
            </a:xfrm>
            <a:prstGeom prst="rtTriangl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 rot="22200">
              <a:off x="1971360" y="2546280"/>
              <a:ext cx="792360" cy="79200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5" name=""/>
          <p:cNvSpPr/>
          <p:nvPr/>
        </p:nvSpPr>
        <p:spPr>
          <a:xfrm flipV="1">
            <a:off x="3780000" y="2204640"/>
            <a:ext cx="1800000" cy="2808360"/>
          </a:xfrm>
          <a:prstGeom prst="line">
            <a:avLst/>
          </a:prstGeom>
          <a:ln w="1144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4429800" y="4076640"/>
            <a:ext cx="918720" cy="739800"/>
            <a:chOff x="4429800" y="4076640"/>
            <a:chExt cx="918720" cy="739800"/>
          </a:xfrm>
        </p:grpSpPr>
        <p:sp>
          <p:nvSpPr>
            <p:cNvPr id="297" name=""/>
            <p:cNvSpPr/>
            <p:nvPr/>
          </p:nvSpPr>
          <p:spPr>
            <a:xfrm>
              <a:off x="4429800" y="4113000"/>
              <a:ext cx="744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6600ff"/>
                  </a:solidFill>
                  <a:latin typeface="Arial"/>
                  <a:ea typeface="黑体"/>
                </a:rPr>
                <a:t>60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025960" y="407664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6600ff"/>
                  </a:solidFill>
                  <a:latin typeface="Arial"/>
                  <a:ea typeface="黑体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9" name=""/>
          <p:cNvSpPr/>
          <p:nvPr/>
        </p:nvSpPr>
        <p:spPr>
          <a:xfrm>
            <a:off x="3733920" y="838080"/>
            <a:ext cx="5943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你能画一个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60°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的角吗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0" name=""/>
          <p:cNvGrpSpPr/>
          <p:nvPr/>
        </p:nvGrpSpPr>
        <p:grpSpPr>
          <a:xfrm>
            <a:off x="0" y="0"/>
            <a:ext cx="3657240" cy="1445040"/>
            <a:chOff x="0" y="0"/>
            <a:chExt cx="3657240" cy="1445040"/>
          </a:xfrm>
        </p:grpSpPr>
        <p:pic>
          <p:nvPicPr>
            <p:cNvPr id="301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3657240" cy="88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2" name=""/>
            <p:cNvSpPr/>
            <p:nvPr/>
          </p:nvSpPr>
          <p:spPr>
            <a:xfrm>
              <a:off x="244800" y="132120"/>
              <a:ext cx="259236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    </a:t>
              </a: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画    角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2.96296E-006 L 0.31129 0.17315 E">
                                      <p:cBhvr>
                                        <p:cTn id="323" dur="2000" fill="hold"/>
                                        <p:tgtEl>
                                          <p:spTgt spid="2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5" dur="1000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37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4211640" y="3500280"/>
            <a:ext cx="309708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211640" y="3500280"/>
            <a:ext cx="309708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121640" y="3209760"/>
            <a:ext cx="32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/>
          <p:cNvPicPr/>
          <p:nvPr/>
        </p:nvPicPr>
        <p:blipFill>
          <a:blip r:embed="rId2"/>
          <a:stretch/>
        </p:blipFill>
        <p:spPr>
          <a:xfrm>
            <a:off x="1332000" y="2087640"/>
            <a:ext cx="5564160" cy="3132000"/>
          </a:xfrm>
          <a:prstGeom prst="rect">
            <a:avLst/>
          </a:prstGeom>
          <a:ln w="0">
            <a:noFill/>
          </a:ln>
        </p:spPr>
      </p:pic>
      <p:sp>
        <p:nvSpPr>
          <p:cNvPr id="305" name=""/>
          <p:cNvSpPr/>
          <p:nvPr/>
        </p:nvSpPr>
        <p:spPr>
          <a:xfrm>
            <a:off x="4211640" y="4869000"/>
            <a:ext cx="2521080" cy="0"/>
          </a:xfrm>
          <a:prstGeom prst="line">
            <a:avLst/>
          </a:prstGeom>
          <a:ln w="1144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364000" y="2852640"/>
            <a:ext cx="144720" cy="14616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 flipH="1">
            <a:off x="4211640" y="2386080"/>
            <a:ext cx="1555920" cy="2482920"/>
          </a:xfrm>
          <a:prstGeom prst="line">
            <a:avLst/>
          </a:prstGeom>
          <a:ln w="1144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79280" y="246240"/>
            <a:ext cx="266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我会用量角器画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60°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角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4718520" y="4059360"/>
            <a:ext cx="918720" cy="739440"/>
            <a:chOff x="4718520" y="4059360"/>
            <a:chExt cx="918720" cy="739440"/>
          </a:xfrm>
        </p:grpSpPr>
        <p:sp>
          <p:nvSpPr>
            <p:cNvPr id="310" name=""/>
            <p:cNvSpPr/>
            <p:nvPr/>
          </p:nvSpPr>
          <p:spPr>
            <a:xfrm>
              <a:off x="4718520" y="4095360"/>
              <a:ext cx="744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6600ff"/>
                  </a:solidFill>
                  <a:latin typeface="Arial"/>
                  <a:ea typeface="黑体"/>
                </a:rPr>
                <a:t>60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5314680" y="405936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6600ff"/>
                  </a:solidFill>
                  <a:latin typeface="Arial"/>
                  <a:ea typeface="黑体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2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7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371" dur="2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2" name=""/>
          <p:cNvGrpSpPr/>
          <p:nvPr/>
        </p:nvGrpSpPr>
        <p:grpSpPr>
          <a:xfrm>
            <a:off x="1476360" y="376200"/>
            <a:ext cx="5400720" cy="2981520"/>
            <a:chOff x="1476360" y="376200"/>
            <a:chExt cx="5400720" cy="2981520"/>
          </a:xfrm>
        </p:grpSpPr>
        <p:pic>
          <p:nvPicPr>
            <p:cNvPr id="313" name="" descr=""/>
            <p:cNvPicPr/>
            <p:nvPr/>
          </p:nvPicPr>
          <p:blipFill>
            <a:blip r:embed="rId1"/>
            <a:stretch/>
          </p:blipFill>
          <p:spPr>
            <a:xfrm>
              <a:off x="1476360" y="376200"/>
              <a:ext cx="5400720" cy="298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4" name=""/>
            <p:cNvSpPr/>
            <p:nvPr/>
          </p:nvSpPr>
          <p:spPr>
            <a:xfrm>
              <a:off x="4129560" y="3115440"/>
              <a:ext cx="62640" cy="6480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4162320" y="3154320"/>
            <a:ext cx="3176640" cy="0"/>
          </a:xfrm>
          <a:prstGeom prst="line">
            <a:avLst/>
          </a:prstGeom>
          <a:ln w="38160">
            <a:solidFill>
              <a:srgbClr val="ff0066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5236560" y="380880"/>
            <a:ext cx="366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V="1">
            <a:off x="4191120" y="609120"/>
            <a:ext cx="1371600" cy="25146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826920" y="3346560"/>
            <a:ext cx="820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1)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画一条射线，使量角器的中心和射线的端点重合，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0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刻度线和射线重合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826920" y="4221000"/>
            <a:ext cx="820908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33"/>
                </a:solidFill>
                <a:latin typeface="黑体"/>
                <a:ea typeface="黑体"/>
              </a:rPr>
              <a:t>(2)</a:t>
            </a:r>
            <a:r>
              <a:rPr b="1" lang="zh-CN" sz="2800" spc="-1" strike="noStrike">
                <a:solidFill>
                  <a:srgbClr val="660033"/>
                </a:solidFill>
                <a:latin typeface="黑体"/>
                <a:ea typeface="黑体"/>
              </a:rPr>
              <a:t>在量角器 </a:t>
            </a:r>
            <a:r>
              <a:rPr b="1" lang="zh-CN" sz="2800" spc="-1" strike="noStrike">
                <a:solidFill>
                  <a:srgbClr val="660033"/>
                </a:solidFill>
                <a:latin typeface="黑体"/>
                <a:ea typeface="黑体"/>
              </a:rPr>
              <a:t>60°</a:t>
            </a:r>
            <a:r>
              <a:rPr b="1" lang="zh-CN" sz="2800" spc="-1" strike="noStrike">
                <a:solidFill>
                  <a:srgbClr val="660033"/>
                </a:solidFill>
                <a:latin typeface="黑体"/>
                <a:ea typeface="黑体"/>
              </a:rPr>
              <a:t>刻度线的地方点一个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826920" y="4859280"/>
            <a:ext cx="820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3)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以画出的射线的端点为端点，通过刚画的点，再画一条射线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 flipH="1" rot="4678800">
            <a:off x="4115160" y="2865960"/>
            <a:ext cx="416160" cy="414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3242" y="3085"/>
                </a:moveTo>
                <a:arcTo wR="10800" hR="10800" stAng="-8064514" swAng="8064514"/>
                <a:lnTo>
                  <a:pt x="10800" y="10800"/>
                </a:lnTo>
                <a:close/>
              </a:path>
              <a:path fill="none" w="21600" h="21600">
                <a:moveTo>
                  <a:pt x="3242" y="3085"/>
                </a:moveTo>
                <a:arcTo wR="10800" hR="10800" stAng="-8064514" swAng="8064514"/>
              </a:path>
            </a:pathLst>
          </a:custGeom>
          <a:noFill/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489560" y="2577960"/>
            <a:ext cx="12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 Black"/>
                <a:ea typeface="黑体"/>
              </a:rPr>
              <a:t>6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826920" y="5789520"/>
            <a:ext cx="820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33"/>
                </a:solidFill>
                <a:latin typeface="黑体"/>
                <a:ea typeface="黑体"/>
              </a:rPr>
              <a:t>(4) </a:t>
            </a:r>
            <a:r>
              <a:rPr b="1" lang="zh-CN" sz="2800" spc="-1" strike="noStrike">
                <a:solidFill>
                  <a:srgbClr val="660033"/>
                </a:solidFill>
                <a:latin typeface="黑体"/>
                <a:ea typeface="黑体"/>
              </a:rPr>
              <a:t>画完后在角上标上符号，写出度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4" name=""/>
          <p:cNvGrpSpPr/>
          <p:nvPr/>
        </p:nvGrpSpPr>
        <p:grpSpPr>
          <a:xfrm>
            <a:off x="0" y="-225360"/>
            <a:ext cx="3047760" cy="1350720"/>
            <a:chOff x="0" y="-225360"/>
            <a:chExt cx="3047760" cy="1350720"/>
          </a:xfrm>
        </p:grpSpPr>
        <p:pic>
          <p:nvPicPr>
            <p:cNvPr id="325" name="" descr=""/>
            <p:cNvPicPr/>
            <p:nvPr/>
          </p:nvPicPr>
          <p:blipFill>
            <a:blip r:embed="rId2"/>
            <a:stretch/>
          </p:blipFill>
          <p:spPr>
            <a:xfrm>
              <a:off x="0" y="-225360"/>
              <a:ext cx="3047760" cy="106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6" name=""/>
            <p:cNvSpPr/>
            <p:nvPr/>
          </p:nvSpPr>
          <p:spPr>
            <a:xfrm>
              <a:off x="203760" y="-65880"/>
              <a:ext cx="2160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    </a:t>
              </a: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画    角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7" name=""/>
          <p:cNvSpPr/>
          <p:nvPr/>
        </p:nvSpPr>
        <p:spPr>
          <a:xfrm>
            <a:off x="4724280" y="-74520"/>
            <a:ext cx="48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怎样画一个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60°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角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5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0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0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5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0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24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5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3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-771480" y="-347760"/>
            <a:ext cx="10690200" cy="755820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>
            <a:off x="108000" y="844560"/>
            <a:ext cx="799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小组内讨论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1042920" y="2060640"/>
            <a:ext cx="741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你能说说用量角器画角的步骤吗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确定顶点和一条边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两重合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量角器的中心与角的顶点重合，量角器的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刻度线与已画的角的一边重合）→</a:t>
            </a: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找刻度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找角的另一条边所对的刻度）、</a:t>
            </a: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描点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连线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/>
          <p:nvPr/>
        </p:nvSpPr>
        <p:spPr>
          <a:xfrm>
            <a:off x="1547640" y="907920"/>
            <a:ext cx="64533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 Black"/>
                <a:ea typeface="黑体"/>
              </a:rPr>
              <a:t>试画</a:t>
            </a:r>
            <a:r>
              <a:rPr b="1" lang="zh-CN" sz="4000" spc="-1" strike="noStrike">
                <a:solidFill>
                  <a:srgbClr val="000000"/>
                </a:solidFill>
                <a:latin typeface="Arial Black"/>
                <a:ea typeface="黑体"/>
              </a:rPr>
              <a:t>30°</a:t>
            </a:r>
            <a:r>
              <a:rPr b="1" lang="zh-CN" sz="4000" spc="-1" strike="noStrike">
                <a:solidFill>
                  <a:srgbClr val="000000"/>
                </a:solidFill>
                <a:latin typeface="Arial Black"/>
                <a:ea typeface="黑体"/>
              </a:rPr>
              <a:t>、</a:t>
            </a:r>
            <a:r>
              <a:rPr b="1" lang="zh-CN" sz="4000" spc="-1" strike="noStrike">
                <a:solidFill>
                  <a:srgbClr val="000000"/>
                </a:solidFill>
                <a:latin typeface="Arial Black"/>
                <a:ea typeface="黑体"/>
              </a:rPr>
              <a:t>45°</a:t>
            </a:r>
            <a:r>
              <a:rPr b="1" lang="zh-CN" sz="4000" spc="-1" strike="noStrike">
                <a:solidFill>
                  <a:srgbClr val="000000"/>
                </a:solidFill>
                <a:latin typeface="Arial Black"/>
                <a:ea typeface="黑体"/>
              </a:rPr>
              <a:t>、</a:t>
            </a:r>
            <a:r>
              <a:rPr b="1" lang="zh-CN" sz="4000" spc="-1" strike="noStrike">
                <a:solidFill>
                  <a:srgbClr val="000000"/>
                </a:solidFill>
                <a:latin typeface="Arial Black"/>
                <a:ea typeface="黑体"/>
              </a:rPr>
              <a:t>90° </a:t>
            </a:r>
            <a:r>
              <a:rPr b="1" lang="zh-CN" sz="4000" spc="-1" strike="noStrike">
                <a:solidFill>
                  <a:srgbClr val="000000"/>
                </a:solidFill>
                <a:latin typeface="Arial Black"/>
                <a:ea typeface="黑体"/>
              </a:rPr>
              <a:t>的角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4" name=""/>
          <p:cNvGrpSpPr/>
          <p:nvPr/>
        </p:nvGrpSpPr>
        <p:grpSpPr>
          <a:xfrm>
            <a:off x="1332000" y="2060640"/>
            <a:ext cx="6481440" cy="3600000"/>
            <a:chOff x="1332000" y="2060640"/>
            <a:chExt cx="6481440" cy="3600000"/>
          </a:xfrm>
        </p:grpSpPr>
        <p:pic>
          <p:nvPicPr>
            <p:cNvPr id="335" name="" descr=""/>
            <p:cNvPicPr/>
            <p:nvPr/>
          </p:nvPicPr>
          <p:blipFill>
            <a:blip r:embed="rId1"/>
            <a:stretch/>
          </p:blipFill>
          <p:spPr>
            <a:xfrm>
              <a:off x="1332000" y="2060640"/>
              <a:ext cx="6481440" cy="360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6" name=""/>
            <p:cNvSpPr/>
            <p:nvPr/>
          </p:nvSpPr>
          <p:spPr>
            <a:xfrm>
              <a:off x="4516200" y="5368320"/>
              <a:ext cx="75240" cy="7812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7" name=""/>
          <p:cNvSpPr/>
          <p:nvPr/>
        </p:nvSpPr>
        <p:spPr>
          <a:xfrm>
            <a:off x="4572000" y="5416560"/>
            <a:ext cx="4203720" cy="1440"/>
          </a:xfrm>
          <a:prstGeom prst="line">
            <a:avLst/>
          </a:prstGeom>
          <a:ln w="38160">
            <a:solidFill>
              <a:srgbClr val="ff0066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7139880" y="3352680"/>
            <a:ext cx="366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4572000" y="3733920"/>
            <a:ext cx="2819520" cy="166824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 flipH="1" rot="6538800">
            <a:off x="4971240" y="5079960"/>
            <a:ext cx="451800" cy="456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658" y="467"/>
                </a:moveTo>
                <a:arcTo wR="10800" hR="10800" stAng="-6414852" swAng="8193906"/>
                <a:lnTo>
                  <a:pt x="10800" y="10800"/>
                </a:lnTo>
                <a:close/>
              </a:path>
              <a:path fill="none" w="21600" h="21600">
                <a:moveTo>
                  <a:pt x="7658" y="467"/>
                </a:moveTo>
                <a:arcTo wR="10800" hR="10800" stAng="-6414852" swAng="8193906"/>
              </a:path>
            </a:pathLst>
          </a:custGeom>
          <a:noFill/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5791320" y="4724280"/>
            <a:ext cx="16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 Black"/>
                <a:ea typeface="黑体"/>
              </a:rPr>
              <a:t>3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2987640" y="0"/>
            <a:ext cx="5832360" cy="703440"/>
          </a:xfrm>
          <a:prstGeom prst="rect">
            <a:avLst/>
          </a:prstGeom>
          <a:solidFill>
            <a:srgbClr val="cc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66"/>
                </a:solidFill>
                <a:latin typeface="Arial Black"/>
                <a:ea typeface="黑体"/>
              </a:rPr>
              <a:t>练习画角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0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5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0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64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0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8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/>
          <p:nvPr/>
        </p:nvSpPr>
        <p:spPr>
          <a:xfrm>
            <a:off x="1371600" y="907920"/>
            <a:ext cx="75549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 Black"/>
                <a:ea typeface="黑体"/>
              </a:rPr>
              <a:t>试画</a:t>
            </a:r>
            <a:r>
              <a:rPr b="1" lang="zh-CN" sz="4000" spc="-1" strike="noStrike">
                <a:solidFill>
                  <a:srgbClr val="000000"/>
                </a:solidFill>
                <a:latin typeface="Arial Black"/>
                <a:ea typeface="黑体"/>
              </a:rPr>
              <a:t>30°</a:t>
            </a:r>
            <a:r>
              <a:rPr b="1" lang="zh-CN" sz="4000" spc="-1" strike="noStrike">
                <a:solidFill>
                  <a:srgbClr val="000000"/>
                </a:solidFill>
                <a:latin typeface="Arial Black"/>
                <a:ea typeface="黑体"/>
              </a:rPr>
              <a:t>、</a:t>
            </a:r>
            <a:r>
              <a:rPr b="1" lang="zh-CN" sz="4000" spc="-1" strike="noStrike">
                <a:solidFill>
                  <a:srgbClr val="000000"/>
                </a:solidFill>
                <a:latin typeface="Arial Black"/>
                <a:ea typeface="黑体"/>
              </a:rPr>
              <a:t>45°</a:t>
            </a:r>
            <a:r>
              <a:rPr b="1" lang="zh-CN" sz="4000" spc="-1" strike="noStrike">
                <a:solidFill>
                  <a:srgbClr val="000000"/>
                </a:solidFill>
                <a:latin typeface="Arial Black"/>
                <a:ea typeface="黑体"/>
              </a:rPr>
              <a:t>、</a:t>
            </a:r>
            <a:r>
              <a:rPr b="1" lang="zh-CN" sz="4000" spc="-1" strike="noStrike">
                <a:solidFill>
                  <a:srgbClr val="000000"/>
                </a:solidFill>
                <a:latin typeface="Arial Black"/>
                <a:ea typeface="黑体"/>
              </a:rPr>
              <a:t>90° </a:t>
            </a:r>
            <a:r>
              <a:rPr b="1" lang="zh-CN" sz="4000" spc="-1" strike="noStrike">
                <a:solidFill>
                  <a:srgbClr val="000000"/>
                </a:solidFill>
                <a:latin typeface="Arial Black"/>
                <a:ea typeface="黑体"/>
              </a:rPr>
              <a:t>的角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987640" y="0"/>
            <a:ext cx="5832360" cy="703440"/>
          </a:xfrm>
          <a:prstGeom prst="rect">
            <a:avLst/>
          </a:prstGeom>
          <a:solidFill>
            <a:srgbClr val="cc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66"/>
                </a:solidFill>
                <a:latin typeface="Arial Black"/>
                <a:ea typeface="黑体"/>
              </a:rPr>
              <a:t>练习画角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5" name=""/>
          <p:cNvGrpSpPr/>
          <p:nvPr/>
        </p:nvGrpSpPr>
        <p:grpSpPr>
          <a:xfrm>
            <a:off x="1332000" y="2060640"/>
            <a:ext cx="6481440" cy="3600000"/>
            <a:chOff x="1332000" y="2060640"/>
            <a:chExt cx="6481440" cy="3600000"/>
          </a:xfrm>
        </p:grpSpPr>
        <p:pic>
          <p:nvPicPr>
            <p:cNvPr id="346" name="" descr=""/>
            <p:cNvPicPr/>
            <p:nvPr/>
          </p:nvPicPr>
          <p:blipFill>
            <a:blip r:embed="rId1"/>
            <a:stretch/>
          </p:blipFill>
          <p:spPr>
            <a:xfrm>
              <a:off x="1332000" y="2060640"/>
              <a:ext cx="6481440" cy="360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7" name=""/>
            <p:cNvSpPr/>
            <p:nvPr/>
          </p:nvSpPr>
          <p:spPr>
            <a:xfrm>
              <a:off x="4516200" y="5368320"/>
              <a:ext cx="75240" cy="7812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8" name=""/>
          <p:cNvSpPr/>
          <p:nvPr/>
        </p:nvSpPr>
        <p:spPr>
          <a:xfrm>
            <a:off x="4557600" y="5416560"/>
            <a:ext cx="4203720" cy="1440"/>
          </a:xfrm>
          <a:prstGeom prst="line">
            <a:avLst/>
          </a:prstGeom>
          <a:ln w="38160">
            <a:solidFill>
              <a:srgbClr val="ff0066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706800" y="2581200"/>
            <a:ext cx="366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 flipV="1">
            <a:off x="4572000" y="2923920"/>
            <a:ext cx="2376360" cy="247644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 flipH="1" rot="4678800">
            <a:off x="4669920" y="5166360"/>
            <a:ext cx="338040" cy="288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3242" y="3085"/>
                </a:moveTo>
                <a:arcTo wR="10800" hR="10800" stAng="-8064514" swAng="8064514"/>
                <a:lnTo>
                  <a:pt x="10800" y="10800"/>
                </a:lnTo>
                <a:close/>
              </a:path>
              <a:path fill="none" w="21600" h="21600">
                <a:moveTo>
                  <a:pt x="3242" y="3085"/>
                </a:moveTo>
                <a:arcTo wR="10800" hR="10800" stAng="-8064514" swAng="8064514"/>
              </a:path>
            </a:pathLst>
          </a:custGeom>
          <a:noFill/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002200" y="4883040"/>
            <a:ext cx="16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 Black"/>
                <a:ea typeface="黑体"/>
              </a:rPr>
              <a:t>45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5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0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5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99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5" dur="1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0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3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/>
          <p:nvPr/>
        </p:nvSpPr>
        <p:spPr>
          <a:xfrm>
            <a:off x="1547640" y="907920"/>
            <a:ext cx="64533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 Black"/>
                <a:ea typeface="黑体"/>
              </a:rPr>
              <a:t>试画</a:t>
            </a:r>
            <a:r>
              <a:rPr b="1" lang="zh-CN" sz="4000" spc="-1" strike="noStrike">
                <a:solidFill>
                  <a:srgbClr val="000000"/>
                </a:solidFill>
                <a:latin typeface="Arial Black"/>
                <a:ea typeface="黑体"/>
              </a:rPr>
              <a:t>30°</a:t>
            </a:r>
            <a:r>
              <a:rPr b="1" lang="zh-CN" sz="4000" spc="-1" strike="noStrike">
                <a:solidFill>
                  <a:srgbClr val="000000"/>
                </a:solidFill>
                <a:latin typeface="Arial Black"/>
                <a:ea typeface="黑体"/>
              </a:rPr>
              <a:t>、</a:t>
            </a:r>
            <a:r>
              <a:rPr b="1" lang="zh-CN" sz="4000" spc="-1" strike="noStrike">
                <a:solidFill>
                  <a:srgbClr val="000000"/>
                </a:solidFill>
                <a:latin typeface="Arial Black"/>
                <a:ea typeface="黑体"/>
              </a:rPr>
              <a:t>45°</a:t>
            </a:r>
            <a:r>
              <a:rPr b="1" lang="zh-CN" sz="4000" spc="-1" strike="noStrike">
                <a:solidFill>
                  <a:srgbClr val="000000"/>
                </a:solidFill>
                <a:latin typeface="Arial Black"/>
                <a:ea typeface="黑体"/>
              </a:rPr>
              <a:t>、</a:t>
            </a:r>
            <a:r>
              <a:rPr b="1" lang="zh-CN" sz="4000" spc="-1" strike="noStrike">
                <a:solidFill>
                  <a:srgbClr val="000000"/>
                </a:solidFill>
                <a:latin typeface="Arial Black"/>
                <a:ea typeface="黑体"/>
              </a:rPr>
              <a:t>90° </a:t>
            </a:r>
            <a:r>
              <a:rPr b="1" lang="zh-CN" sz="4000" spc="-1" strike="noStrike">
                <a:solidFill>
                  <a:srgbClr val="000000"/>
                </a:solidFill>
                <a:latin typeface="Arial Black"/>
                <a:ea typeface="黑体"/>
              </a:rPr>
              <a:t>的角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4" name=""/>
          <p:cNvGrpSpPr/>
          <p:nvPr/>
        </p:nvGrpSpPr>
        <p:grpSpPr>
          <a:xfrm>
            <a:off x="1371600" y="2057400"/>
            <a:ext cx="6481440" cy="3600000"/>
            <a:chOff x="1371600" y="2057400"/>
            <a:chExt cx="6481440" cy="3600000"/>
          </a:xfrm>
        </p:grpSpPr>
        <p:pic>
          <p:nvPicPr>
            <p:cNvPr id="355" name="" descr=""/>
            <p:cNvPicPr/>
            <p:nvPr/>
          </p:nvPicPr>
          <p:blipFill>
            <a:blip r:embed="rId1"/>
            <a:stretch/>
          </p:blipFill>
          <p:spPr>
            <a:xfrm>
              <a:off x="1371600" y="2057400"/>
              <a:ext cx="6481440" cy="360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6" name=""/>
            <p:cNvSpPr/>
            <p:nvPr/>
          </p:nvSpPr>
          <p:spPr>
            <a:xfrm>
              <a:off x="4555800" y="5365080"/>
              <a:ext cx="75240" cy="7812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7" name=""/>
          <p:cNvSpPr/>
          <p:nvPr/>
        </p:nvSpPr>
        <p:spPr>
          <a:xfrm>
            <a:off x="4572000" y="5416560"/>
            <a:ext cx="4203720" cy="1440"/>
          </a:xfrm>
          <a:prstGeom prst="line">
            <a:avLst/>
          </a:prstGeom>
          <a:ln w="38160">
            <a:solidFill>
              <a:srgbClr val="ff0066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4374720" y="1658880"/>
            <a:ext cx="366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 flipV="1">
            <a:off x="4572000" y="2057040"/>
            <a:ext cx="0" cy="33526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410080" y="4343400"/>
            <a:ext cx="16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 Black"/>
                <a:ea typeface="黑体"/>
              </a:rPr>
              <a:t>9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2987640" y="0"/>
            <a:ext cx="5832360" cy="703440"/>
          </a:xfrm>
          <a:prstGeom prst="rect">
            <a:avLst/>
          </a:prstGeom>
          <a:solidFill>
            <a:srgbClr val="cc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66"/>
                </a:solidFill>
                <a:latin typeface="Arial Black"/>
                <a:ea typeface="黑体"/>
              </a:rPr>
              <a:t>练习画角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4572000" y="5029200"/>
            <a:ext cx="304920" cy="144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4876920" y="5029200"/>
            <a:ext cx="0" cy="38088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5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0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34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0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1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5" name="" descr=""/>
          <p:cNvPicPr/>
          <p:nvPr/>
        </p:nvPicPr>
        <p:blipFill>
          <a:blip r:embed="rId1"/>
          <a:stretch/>
        </p:blipFill>
        <p:spPr>
          <a:xfrm>
            <a:off x="152280" y="533520"/>
            <a:ext cx="883944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67" name=""/>
          <p:cNvSpPr/>
          <p:nvPr/>
        </p:nvSpPr>
        <p:spPr>
          <a:xfrm>
            <a:off x="380880" y="2057400"/>
            <a:ext cx="746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同学们今天的学习有什么收获啊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457200" y="3124080"/>
            <a:ext cx="59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画角的步骤是怎样的啊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211640" y="3500280"/>
            <a:ext cx="309708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4211640" y="3141720"/>
            <a:ext cx="3024360" cy="35856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rot="3025200">
            <a:off x="3517200" y="2777760"/>
            <a:ext cx="1612080" cy="1566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5946" y="1305"/>
                </a:moveTo>
                <a:arcTo wR="10800" hR="10800" stAng="-3692780" swAng="414163"/>
                <a:lnTo>
                  <a:pt x="10800" y="10800"/>
                </a:lnTo>
                <a:close/>
              </a:path>
              <a:path fill="none" w="21600" h="21600">
                <a:moveTo>
                  <a:pt x="15946" y="1305"/>
                </a:moveTo>
                <a:arcTo wR="10800" hR="10800" stAng="-3692780" swAng="414163"/>
              </a:path>
            </a:pathLst>
          </a:custGeom>
          <a:noFill/>
          <a:ln w="572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121640" y="3209760"/>
            <a:ext cx="32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4211640" y="3500280"/>
            <a:ext cx="309708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4211640" y="2781000"/>
            <a:ext cx="3024360" cy="71892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rot="3025200">
            <a:off x="3517560" y="2776680"/>
            <a:ext cx="1612080" cy="156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603" y="692"/>
                </a:moveTo>
                <a:arcTo wR="10800" hR="10800" stAng="-4163040" swAng="884423"/>
                <a:lnTo>
                  <a:pt x="10800" y="10800"/>
                </a:lnTo>
                <a:close/>
              </a:path>
              <a:path fill="none" w="21600" h="21600">
                <a:moveTo>
                  <a:pt x="14603" y="692"/>
                </a:moveTo>
                <a:arcTo wR="10800" hR="10800" stAng="-4163040" swAng="884423"/>
              </a:path>
            </a:pathLst>
          </a:custGeom>
          <a:noFill/>
          <a:ln w="572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121640" y="3209760"/>
            <a:ext cx="32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4211640" y="3500280"/>
            <a:ext cx="309708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4211640" y="2133720"/>
            <a:ext cx="2665440" cy="136656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rot="3025200">
            <a:off x="3516480" y="2777400"/>
            <a:ext cx="1613160" cy="1565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013" y="68"/>
                </a:moveTo>
                <a:arcTo wR="10800" hR="10800" stAng="-5013012" swAng="1734395"/>
                <a:lnTo>
                  <a:pt x="10800" y="10800"/>
                </a:lnTo>
                <a:close/>
              </a:path>
              <a:path fill="none" w="21600" h="21600">
                <a:moveTo>
                  <a:pt x="12013" y="68"/>
                </a:moveTo>
                <a:arcTo wR="10800" hR="10800" stAng="-5013012" swAng="1734395"/>
              </a:path>
            </a:pathLst>
          </a:custGeom>
          <a:noFill/>
          <a:ln w="572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121640" y="3209760"/>
            <a:ext cx="32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4211640" y="3500280"/>
            <a:ext cx="309708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4211640" y="1413000"/>
            <a:ext cx="2232000" cy="208728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3025200">
            <a:off x="3516480" y="2775960"/>
            <a:ext cx="1611360" cy="1564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882" y="172"/>
                </a:moveTo>
                <a:arcTo wR="10800" hR="10800" stAng="-6013691" swAng="2735074"/>
                <a:lnTo>
                  <a:pt x="10800" y="10800"/>
                </a:lnTo>
                <a:close/>
              </a:path>
              <a:path fill="none" w="21600" h="21600">
                <a:moveTo>
                  <a:pt x="8882" y="172"/>
                </a:moveTo>
                <a:arcTo wR="10800" hR="10800" stAng="-6013691" swAng="2735074"/>
              </a:path>
            </a:pathLst>
          </a:custGeom>
          <a:noFill/>
          <a:ln w="572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121640" y="3209760"/>
            <a:ext cx="32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4211640" y="3500280"/>
            <a:ext cx="309708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4211640" y="907560"/>
            <a:ext cx="1655640" cy="259236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rot="3025200">
            <a:off x="3512880" y="2774520"/>
            <a:ext cx="1613520" cy="1564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190" y="1033"/>
                </a:moveTo>
                <a:arcTo wR="10800" hR="10800" stAng="-6915910" swAng="3637293"/>
                <a:lnTo>
                  <a:pt x="10800" y="10800"/>
                </a:lnTo>
                <a:close/>
              </a:path>
              <a:path fill="none" w="21600" h="21600">
                <a:moveTo>
                  <a:pt x="6190" y="1033"/>
                </a:moveTo>
                <a:arcTo wR="10800" hR="10800" stAng="-6915910" swAng="3637293"/>
              </a:path>
            </a:pathLst>
          </a:custGeom>
          <a:noFill/>
          <a:ln w="572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21640" y="3209760"/>
            <a:ext cx="32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29T04:26:33Z</dcterms:created>
  <dc:creator/>
  <dc:description/>
  <dc:language>en-US</dc:language>
  <cp:lastModifiedBy>User</cp:lastModifiedBy>
  <dcterms:modified xsi:type="dcterms:W3CDTF">2014-11-29T07:34:05Z</dcterms:modified>
  <cp:revision>4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  <property fmtid="{D5CDD505-2E9C-101B-9397-08002B2CF9AE}" pid="3" name="Version">
    <vt:r8>1</vt:r8>
  </property>
</Properties>
</file>