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5E02-A2ED-4891-ACEA-039A0E8F237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918E-C211-44CF-921F-1D90D20C5DE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5637-689E-4F9F-BE6E-63013D0E179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0C90-B9AF-4DC5-97C3-76E01232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DD0-5A63-40E3-ABBC-772CDAB3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7D10A-881B-4BC0-A7CB-7F2971DE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5EEE9-6D70-4E20-9BB6-76729312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EB399-A95A-4E98-97B6-1DDC3192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0F140-45FB-4BE8-801D-0F85B1C6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56B5B-0B78-4649-A94C-B8EC394E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E2980-6FFE-4701-BF3D-A4EF619D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48357-B80D-484F-BBC7-49299748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030D2-0D6F-44FC-8A92-D7B741AF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5B98B-F4C6-4759-9905-5B8F7AA2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76BB1-7887-48DE-BD08-80264C86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E70-A816-4A67-90E7-74DC9149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94DA8-D018-478B-98C6-59EEC905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F4721-16ED-4BF6-AC11-77409873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CA79E-6816-4D69-83E4-C36C1F98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71EA8-639D-444C-A902-9F8B6C79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81BD4-2CFC-4CD9-8B2E-5C155554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8510D-6DE1-4EFD-BC11-BDB3DAD5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E76D3-ACBB-4BD7-852F-575ABB85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32A48-3E05-401D-BE99-CA7F2C25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9193C-6AB0-4863-8BAF-90BE826E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A1B71-340C-4353-A91B-BFB54323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2FAE-0136-4956-A34F-CEC3047A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42D54-14CE-47CE-A15A-034C4769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D0ACA-B516-4CA3-95A8-B5D6FD1E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D9115-2DF0-490B-BC44-BC148A72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FC788-6ED9-4487-9C42-56B162D0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80D91-08DE-482B-8D17-7CCACDE4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F9A88-052B-4516-97D5-12EF4C19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A99F4-4F3E-462E-BD3F-5BF64E47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02BA8-DF0F-4910-BBB8-EC1575A1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742BC-7C0D-4EFB-9697-A583F5DA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C2981-3B62-4D47-ADFC-6AEC9EFB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ABDA-BBA8-4D86-BB8C-D5F9F8DA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2915E-23C9-4CF9-85A6-58A708E5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5B2BA-7523-482A-A669-6E77A3C1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1E76B-8715-4772-83D4-B43A6BE5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6A3A4-025F-4F9F-9EFE-4F7572D1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B2989-AE1E-41A9-8D62-AE980192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851F7-540B-494A-B878-8203A161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8862C-B81D-4B8D-8782-EC9D704E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70542-C074-44D0-B97C-5C46928C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04EA2-4769-4303-A6E0-0C0889F7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1E77A-5B8A-4DB2-8A34-5FFEDB9C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5BB9-C1C5-4D2D-898B-8CF1F4C6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2A3D2-2633-420C-900E-DFA43BF8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D76BA-B3CA-4683-BB8B-7E69B4F5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5F13F-DCCD-4732-880B-2E9FFA21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2BA68-96F0-4447-B27F-8E6CB7D2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BA722-83A9-4D13-91D2-7755CCE6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9EE7-029D-421C-A425-47EB268C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8614-8D42-4431-A06C-53577952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4AA6-10FA-46A2-A2B3-5014DE2B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13AC-3A6A-4721-8196-81B9E8CD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58FE-34EA-4F69-AFA9-D1EB94FC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6DA-2F41-4DE2-A8B9-5681F5ED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8BCB-3BB0-44CA-BE1E-2877E9E3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4FB2-C7CD-4326-AF50-202C7158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4AF1-647C-4219-B5C7-4BE9A77A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B9C3-3C28-4CD1-BA3C-CC315FA8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E07E-6D51-4D55-B689-4182A1F4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28AA8-16B9-4138-BCAB-B8C48F01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878A3-52C7-45F2-AFEE-8037EDB5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38386-15E7-4934-9E4F-F9BF18E9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54A5F-50E9-4F88-AC97-42592CDE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A4D1F-B7C9-4DF5-9777-1595C53E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13A-A86D-4DB8-97DF-6C97A483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EE80E-86A4-4F2A-964B-B8EB2D1F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F6665-B92B-42E3-8795-A0C4749A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9BF81-BD81-4693-B530-68286A89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2A0B1-1B86-4BA0-B1AC-AF2DDC5A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FE008-F116-429F-A30A-1E2E1CB6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3C5EA-4E5E-4CA3-B272-575447BE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06B0F-2F50-4A16-9FE4-69FC12A8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E2B90-8FC6-48F1-8D4B-CE5AECDA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A41E9-4B0F-47AD-A5CB-20C05FD2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72078-1CFD-4EEC-A84D-B5EB70DD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737-EA63-4BA4-9E02-F88BBA92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C0DAF-A1C6-44C1-AA37-FE218417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061B4-6B81-47A5-8E05-9AA27C4B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EB0FF-6CB6-453B-BE63-BEA1FA49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F8BCB-C094-4EB6-B237-DC30E093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826D0-B2D8-44A3-83E6-7EBE3A8F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0E634-DECE-4A22-B7B6-B4DE2A58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9BB5D-A8F6-4C8B-B2A8-887BC605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84687-D7B9-47C8-A1BD-B0105B1E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AC3DE-7DA6-4C3E-99B6-A54EFAA0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E22D9-F77A-4BEB-B3FD-B9C68071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FAB-8822-41C1-B42B-C787A892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7521C-CEB4-4272-93A9-0C0C7E69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47120-55AC-4E78-952E-A2C96454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0C282-3EA9-44B2-A8C7-A5AECEC2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914E3-C789-43E1-A12E-48FAE22B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8260B-9CEB-4D94-B1A4-A6C9B534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80317-6B35-4629-8F06-A35DB364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03686-D46B-4D19-AC99-EB3273E4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1CB76-79B3-4C39-84EF-1B3B180D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2C0ED-EADE-4F89-BA91-CDDC1405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A479E-3B7B-4F05-AB49-3B5C51EE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C6ED-D7A5-46E0-9DBC-9218AA64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92303-014A-410F-A7A7-D4CF09D2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73452-B0A9-4F79-BEE7-3EC79C61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BCBFD-1950-4C0A-A86E-CE79369E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B15BD-5BA9-49CA-A48F-ED697838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FF29B-9F05-4521-B81E-9DE2556C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C5CCF-7BE2-4816-A981-226AACDF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B6F42-8689-4B5E-8C4C-222DC0C1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776B4-7CAE-4D4B-B842-E3E849B9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147E0-4AA1-4BB0-BA96-67F5A712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9A480-3AB3-4AB9-B53D-C9C202AA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8574-F84E-48BA-929A-8811288B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85CAF-9068-400F-97D9-416B8E06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EDCF3-481A-4E01-B8BE-A9E3A7E5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6AEC2-86DC-44D5-B3D4-3568F019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1BEB4-F7DB-473F-8833-BC935794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BD844-0322-4395-897D-EFF1C6BC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88975-4BD3-41EE-A18D-2F6542DE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39D46-BEC8-46F1-BBD6-9B620CCE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3EAA8-7F12-491C-94FD-F954E6B3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98D8C-131D-41FF-BE43-D7B6A63C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E65F9-0B59-4A2D-8510-EF6C3260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C9D-72FC-436F-9D4B-AD561A37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18850-2C6D-412F-BDD2-06195B22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9358D-4A54-4C92-902E-8E341780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4A808-4128-4BA0-8857-7939E96F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53363-30F6-4AF1-8DA8-FEE2AC8E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5CEAC-73F6-4CDF-8A29-565F0978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69EC8-A11B-463C-8F81-DB135313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A4167-C5D2-4F28-B312-16B44860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444BA-1C30-4C18-A440-B56E75C9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D4B7D-7CE8-430C-9E11-AD2998E0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AE1EB-EA52-4D80-A758-A204B756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6AB8-E5AE-45C9-9F05-C936D7A5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EA1F5-E3F8-4A39-9C0D-F8A73FF2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79C67-5AE9-40CF-8B63-15FB96F3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69509-0B73-4AC0-85D3-2C56C2A2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6241D-2FFA-477F-9040-83EEA2A6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D8207-926B-495B-9425-7479D735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3FBFF-A61E-418D-A5DC-E68731B2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66A7B-A22A-4DE8-8D84-53AE93B4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0961D-D3CD-4144-A020-0D1CBF67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124F3-F66F-4EED-B375-823C3BC8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76645-A8E3-4C0C-B2BE-215AB75E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8B0A-544C-413B-841E-A0588745206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A57D-C72A-4EF5-B144-35389EB00B3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D0DC-16D6-4C34-88B3-225A977288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A1D3-85BA-42F4-B28B-7BE51C6368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5B52-701D-4ECA-AF9C-71D1C2B7EC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47FB-D449-479C-98AE-6FB3C877FC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99D4-5BC1-41A9-954E-4FDC526073C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B315-3DEE-4DFD-9DCD-874EA15F93A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A006-3156-4ACE-AA2D-82AE92ECDF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7A53-09DA-465B-A235-E6042280143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AFFC-C38B-4AB2-9BF8-A610C715DD9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D91A-6250-41F4-8127-D511A668817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WordArt 2"/>
          <p:cNvSpPr txBox="1"/>
          <p:nvPr/>
        </p:nvSpPr>
        <p:spPr>
          <a:xfrm>
            <a:off x="685800" y="638280"/>
            <a:ext cx="78487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latin typeface="隶书"/>
              </a:rPr>
              <a:t>科学饮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7c80"/>
              </a:solidFill>
              <a:latin typeface="隶书"/>
              <a:ea typeface="隶书"/>
            </a:endParaRPr>
          </a:p>
        </p:txBody>
      </p:sp>
      <p:pic>
        <p:nvPicPr>
          <p:cNvPr id="501" name="Picture 5" descr="bar1"/>
          <p:cNvPicPr/>
          <p:nvPr/>
        </p:nvPicPr>
        <p:blipFill>
          <a:blip r:embed="rId2"/>
          <a:stretch/>
        </p:blipFill>
        <p:spPr>
          <a:xfrm>
            <a:off x="0" y="3722760"/>
            <a:ext cx="914400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bar1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387360"/>
          </a:xfrm>
          <a:prstGeom prst="rect">
            <a:avLst/>
          </a:prstGeom>
          <a:ln w="0">
            <a:noFill/>
          </a:ln>
        </p:spPr>
      </p:pic>
      <p:sp>
        <p:nvSpPr>
          <p:cNvPr id="541" name="WordArt 6"/>
          <p:cNvSpPr txBox="1"/>
          <p:nvPr/>
        </p:nvSpPr>
        <p:spPr>
          <a:xfrm>
            <a:off x="1827360" y="189000"/>
            <a:ext cx="553536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7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★ 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科学饮水时间表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228600" y="1808280"/>
            <a:ext cx="8534520" cy="47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cc"/>
                </a:solidFill>
                <a:latin typeface="隶书"/>
                <a:ea typeface="隶书"/>
              </a:rPr>
              <a:t>14</a:t>
            </a:r>
            <a:r>
              <a:rPr b="1" lang="zh-CN" sz="3000" spc="-1" strike="noStrike">
                <a:solidFill>
                  <a:srgbClr val="ff99cc"/>
                </a:solidFill>
                <a:latin typeface="隶书"/>
                <a:ea typeface="隶书"/>
              </a:rPr>
              <a:t>：</a:t>
            </a:r>
            <a:r>
              <a:rPr b="1" lang="en-US" sz="3000" spc="-1" strike="noStrike">
                <a:solidFill>
                  <a:srgbClr val="ff99cc"/>
                </a:solidFill>
                <a:latin typeface="隶书"/>
                <a:ea typeface="隶书"/>
              </a:rPr>
              <a:t>00  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上班前喝杯清茶消除疲劳，给身体充充电，这一杯水很重要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2d050"/>
                </a:solidFill>
                <a:latin typeface="隶书"/>
                <a:ea typeface="隶书"/>
              </a:rPr>
              <a:t>17</a:t>
            </a:r>
            <a:r>
              <a:rPr b="1" lang="zh-CN" sz="3000" spc="-1" strike="noStrike">
                <a:solidFill>
                  <a:srgbClr val="92d050"/>
                </a:solidFill>
                <a:latin typeface="隶书"/>
                <a:ea typeface="隶书"/>
              </a:rPr>
              <a:t>：</a:t>
            </a:r>
            <a:r>
              <a:rPr b="1" lang="en-US" sz="3000" spc="-1" strike="noStrike">
                <a:solidFill>
                  <a:srgbClr val="92d050"/>
                </a:solidFill>
                <a:latin typeface="隶书"/>
                <a:ea typeface="隶书"/>
              </a:rPr>
              <a:t>00  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下班前喝一杯，忙了一天，身体里的水分也消耗得差不多了，这时候补水还能带来肠胃的饱胀感，减少晚餐食量，这一招特别适用于想减肥的人士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隶书"/>
                <a:ea typeface="隶书"/>
              </a:rPr>
              <a:t>22</a:t>
            </a:r>
            <a:r>
              <a:rPr b="1" lang="zh-CN" sz="3000" spc="-1" strike="noStrike">
                <a:solidFill>
                  <a:srgbClr val="ff3300"/>
                </a:solidFill>
                <a:latin typeface="隶书"/>
                <a:ea typeface="隶书"/>
              </a:rPr>
              <a:t>：</a:t>
            </a:r>
            <a:r>
              <a:rPr b="1" lang="en-US" sz="3000" spc="-1" strike="noStrike">
                <a:solidFill>
                  <a:srgbClr val="ff3300"/>
                </a:solidFill>
                <a:latin typeface="隶书"/>
                <a:ea typeface="隶书"/>
              </a:rPr>
              <a:t>00  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睡前喝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毫升水，降低血液黏稠度才能睡得更好，这样你就完成了每天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00-2800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毫升的补水量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3"/>
          <p:cNvSpPr/>
          <p:nvPr/>
        </p:nvSpPr>
        <p:spPr>
          <a:xfrm>
            <a:off x="566640" y="1719360"/>
            <a:ext cx="8010720" cy="48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1.</a:t>
            </a:r>
            <a:r>
              <a:rPr b="1" lang="zh-TW" sz="3000" spc="-1" strike="noStrike">
                <a:solidFill>
                  <a:srgbClr val="ff0000"/>
                </a:solidFill>
                <a:latin typeface="隶书"/>
                <a:ea typeface="隶书"/>
              </a:rPr>
              <a:t>千</a:t>
            </a:r>
            <a:r>
              <a:rPr b="1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万</a:t>
            </a:r>
            <a:r>
              <a:rPr b="1" lang="zh-TW" sz="3000" spc="-1" strike="noStrike">
                <a:solidFill>
                  <a:srgbClr val="ff0000"/>
                </a:solidFill>
                <a:latin typeface="隶书"/>
                <a:ea typeface="隶书"/>
              </a:rPr>
              <a:t>別等到口渴了才喝水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隶书"/>
                <a:ea typeface="隶书"/>
              </a:rPr>
              <a:t>若等到口渴才喝水，表示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体</a:t>
            </a:r>
            <a:r>
              <a:rPr b="0" lang="zh-TW" sz="2800" spc="-1" strike="noStrike">
                <a:solidFill>
                  <a:srgbClr val="000000"/>
                </a:solidFill>
                <a:latin typeface="隶书"/>
                <a:ea typeface="隶书"/>
              </a:rPr>
              <a:t>內已有失水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现</a:t>
            </a:r>
            <a:r>
              <a:rPr b="0" lang="zh-TW" sz="2800" spc="-1" strike="noStrike">
                <a:solidFill>
                  <a:srgbClr val="000000"/>
                </a:solidFill>
                <a:latin typeface="隶书"/>
                <a:ea typeface="隶书"/>
              </a:rPr>
              <a:t>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.</a:t>
            </a:r>
            <a:r>
              <a:rPr b="1" lang="zh-TW" sz="3000" spc="-1" strike="noStrike">
                <a:solidFill>
                  <a:srgbClr val="ff0000"/>
                </a:solidFill>
                <a:latin typeface="隶书"/>
                <a:ea typeface="隶书"/>
              </a:rPr>
              <a:t>喝水先含一含再喝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隶书"/>
                <a:ea typeface="隶书"/>
              </a:rPr>
              <a:t>此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动</a:t>
            </a:r>
            <a:r>
              <a:rPr b="0" lang="zh-TW" sz="2800" spc="-1" strike="noStrike">
                <a:solidFill>
                  <a:srgbClr val="000000"/>
                </a:solidFill>
                <a:latin typeface="隶书"/>
                <a:ea typeface="隶书"/>
              </a:rPr>
              <a:t>作將使入口的水溫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变</a:t>
            </a:r>
            <a:r>
              <a:rPr b="0" lang="zh-TW" sz="2800" spc="-1" strike="noStrike">
                <a:solidFill>
                  <a:srgbClr val="000000"/>
                </a:solidFill>
                <a:latin typeface="隶书"/>
                <a:ea typeface="隶书"/>
              </a:rPr>
              <a:t>得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0" lang="zh-TW" sz="2800" spc="-1" strike="noStrike">
                <a:solidFill>
                  <a:srgbClr val="000000"/>
                </a:solidFill>
                <a:latin typeface="隶书"/>
                <a:ea typeface="隶书"/>
              </a:rPr>
              <a:t>人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体</a:t>
            </a:r>
            <a:r>
              <a:rPr b="0" lang="zh-TW" sz="2800" spc="-1" strike="noStrike">
                <a:solidFill>
                  <a:srgbClr val="000000"/>
                </a:solidFill>
                <a:latin typeface="隶书"/>
                <a:ea typeface="隶书"/>
              </a:rPr>
              <a:t>溫相同，而不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会过</a:t>
            </a:r>
            <a:r>
              <a:rPr b="0" lang="zh-TW" sz="2800" spc="-1" strike="noStrike">
                <a:solidFill>
                  <a:srgbClr val="000000"/>
                </a:solidFill>
                <a:latin typeface="隶书"/>
                <a:ea typeface="隶书"/>
              </a:rPr>
              <a:t>冷或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热</a:t>
            </a:r>
            <a:r>
              <a:rPr b="0" lang="zh-TW" sz="2800" spc="-1" strike="noStrike">
                <a:solidFill>
                  <a:srgbClr val="000000"/>
                </a:solidFill>
                <a:latin typeface="隶书"/>
                <a:ea typeface="隶书"/>
              </a:rPr>
              <a:t>，也能使口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粘</a:t>
            </a:r>
            <a:r>
              <a:rPr b="0" lang="zh-TW" sz="2800" spc="-1" strike="noStrike">
                <a:solidFill>
                  <a:srgbClr val="000000"/>
                </a:solidFill>
                <a:latin typeface="隶书"/>
                <a:ea typeface="隶书"/>
              </a:rPr>
              <a:t>膜有更多的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间</a:t>
            </a:r>
            <a:r>
              <a:rPr b="0" lang="zh-TW" sz="2800" spc="-1" strike="noStrike">
                <a:solidFill>
                  <a:srgbClr val="000000"/>
                </a:solidFill>
                <a:latin typeface="隶书"/>
                <a:ea typeface="隶书"/>
              </a:rPr>
              <a:t>來接受水分的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润</a:t>
            </a:r>
            <a:r>
              <a:rPr b="0" lang="zh-TW" sz="2800" spc="-1" strike="noStrike">
                <a:solidFill>
                  <a:srgbClr val="000000"/>
                </a:solidFill>
                <a:latin typeface="隶书"/>
                <a:ea typeface="隶书"/>
              </a:rPr>
              <a:t>，以解除口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3.</a:t>
            </a:r>
            <a:r>
              <a:rPr b="1" lang="zh-TW" sz="3000" spc="-1" strike="noStrike">
                <a:solidFill>
                  <a:srgbClr val="ff0000"/>
                </a:solidFill>
                <a:latin typeface="隶书"/>
                <a:ea typeface="隶书"/>
              </a:rPr>
              <a:t>冬天依然要喝水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隶书"/>
                <a:ea typeface="隶书"/>
              </a:rPr>
              <a:t>冬天天氣冷，不易感覺口渴，並不表示水可以不喝，其實，若未適度保持身體水分，體內的養分運輸、排泄廢物與代謝功能會不順暢，對身體的健康影響非常大。</a:t>
            </a:r>
            <a:r>
              <a:rPr b="1" lang="zh-TW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4" descr="bar1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387360"/>
          </a:xfrm>
          <a:prstGeom prst="rect">
            <a:avLst/>
          </a:prstGeom>
          <a:ln w="0">
            <a:noFill/>
          </a:ln>
        </p:spPr>
      </p:pic>
      <p:sp>
        <p:nvSpPr>
          <p:cNvPr id="545" name="WordArt 6"/>
          <p:cNvSpPr txBox="1"/>
          <p:nvPr/>
        </p:nvSpPr>
        <p:spPr>
          <a:xfrm>
            <a:off x="1827360" y="279360"/>
            <a:ext cx="55353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7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★ 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喝水该注意的事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ff99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3"/>
          <p:cNvSpPr/>
          <p:nvPr/>
        </p:nvSpPr>
        <p:spPr>
          <a:xfrm>
            <a:off x="657360" y="1719360"/>
            <a:ext cx="7875360" cy="44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4.</a:t>
            </a:r>
            <a:r>
              <a:rPr b="1" lang="zh-TW" sz="3000" spc="-1" strike="noStrike">
                <a:solidFill>
                  <a:srgbClr val="ff0000"/>
                </a:solidFill>
                <a:latin typeface="隶书"/>
                <a:ea typeface="隶书"/>
              </a:rPr>
              <a:t>勿以「喝水</a:t>
            </a:r>
            <a:r>
              <a:rPr b="1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会常去厕所</a:t>
            </a:r>
            <a:r>
              <a:rPr b="1" lang="zh-TW" sz="3000" spc="-1" strike="noStrike">
                <a:solidFill>
                  <a:srgbClr val="ff0000"/>
                </a:solidFill>
                <a:latin typeface="隶书"/>
                <a:ea typeface="隶书"/>
              </a:rPr>
              <a:t>」</a:t>
            </a:r>
            <a:r>
              <a:rPr b="1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为</a:t>
            </a:r>
            <a:r>
              <a:rPr b="1" lang="zh-TW" sz="3000" spc="-1" strike="noStrike">
                <a:solidFill>
                  <a:srgbClr val="ff0000"/>
                </a:solidFill>
                <a:latin typeface="隶书"/>
                <a:ea typeface="隶书"/>
              </a:rPr>
              <a:t>理由而不喝水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隶书"/>
                <a:ea typeface="隶书"/>
              </a:rPr>
              <a:t>此種錯誤的行為長年累積，不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膀胱和肾都会受损</a:t>
            </a:r>
            <a:r>
              <a:rPr b="0" lang="zh-TW" sz="2800" spc="-1" strike="noStrike">
                <a:solidFill>
                  <a:srgbClr val="000000"/>
                </a:solidFill>
                <a:latin typeface="隶书"/>
                <a:ea typeface="隶书"/>
              </a:rPr>
              <a:t> ，也易引起腰酸背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5.</a:t>
            </a:r>
            <a:r>
              <a:rPr b="1" lang="zh-TW" sz="3000" spc="-1" strike="noStrike">
                <a:solidFill>
                  <a:srgbClr val="ff0000"/>
                </a:solidFill>
                <a:latin typeface="隶书"/>
                <a:ea typeface="隶书"/>
              </a:rPr>
              <a:t>晨起空腹先喝一杯水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经过</a:t>
            </a:r>
            <a:r>
              <a:rPr b="0" lang="zh-TW" sz="2800" spc="-1" strike="noStrike">
                <a:solidFill>
                  <a:srgbClr val="000000"/>
                </a:solidFill>
                <a:latin typeface="隶书"/>
                <a:ea typeface="隶书"/>
              </a:rPr>
              <a:t>一夜的睡眠，身體會藉著流汗及皮膚蒸發而排出一些水分，開始缺水，需要即時補充水分。而一早喝水，水分進入體內可以讓胃腸開始蠕動，也可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促进排</a:t>
            </a:r>
            <a:r>
              <a:rPr b="0" lang="zh-TW" sz="2800" spc="-1" strike="noStrike">
                <a:solidFill>
                  <a:srgbClr val="000000"/>
                </a:solidFill>
                <a:latin typeface="隶书"/>
                <a:ea typeface="隶书"/>
              </a:rPr>
              <a:t>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" descr="bar1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387360"/>
          </a:xfrm>
          <a:prstGeom prst="rect">
            <a:avLst/>
          </a:prstGeom>
          <a:ln w="0">
            <a:noFill/>
          </a:ln>
        </p:spPr>
      </p:pic>
      <p:sp>
        <p:nvSpPr>
          <p:cNvPr id="548" name="WordArt 6"/>
          <p:cNvSpPr txBox="1"/>
          <p:nvPr/>
        </p:nvSpPr>
        <p:spPr>
          <a:xfrm>
            <a:off x="1827360" y="189000"/>
            <a:ext cx="553536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7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★ 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喝水该注意的事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3"/>
          <p:cNvSpPr/>
          <p:nvPr/>
        </p:nvSpPr>
        <p:spPr>
          <a:xfrm>
            <a:off x="657360" y="1719360"/>
            <a:ext cx="787536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6.</a:t>
            </a:r>
            <a:r>
              <a:rPr b="1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运动过后</a:t>
            </a:r>
            <a:r>
              <a:rPr b="1" lang="zh-TW" sz="3000" spc="-1" strike="noStrike">
                <a:solidFill>
                  <a:srgbClr val="ff0000"/>
                </a:solidFill>
                <a:latin typeface="隶书"/>
                <a:ea typeface="隶书"/>
              </a:rPr>
              <a:t>，大量流汗，要</a:t>
            </a:r>
            <a:r>
              <a:rPr b="1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补充</a:t>
            </a:r>
            <a:r>
              <a:rPr b="1" lang="zh-TW" sz="3000" spc="-1" strike="noStrike">
                <a:solidFill>
                  <a:srgbClr val="ff0000"/>
                </a:solidFill>
                <a:latin typeface="隶书"/>
                <a:ea typeface="隶书"/>
              </a:rPr>
              <a:t>水分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隶书"/>
                <a:ea typeface="隶书"/>
              </a:rPr>
              <a:t>口渴，是身體給你的警訊，一定要補充水份，運動後即使沒有立刻感覺口渴，也要記得喝水。醫生及營養專家認為不一定要在運動之後喝運動飲料，只要喝一般的白開水就可以，避免攝取運動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饮</a:t>
            </a:r>
            <a:r>
              <a:rPr b="0" lang="zh-TW" sz="2800" spc="-1" strike="noStrike">
                <a:solidFill>
                  <a:srgbClr val="000000"/>
                </a:solidFill>
                <a:latin typeface="隶书"/>
                <a:ea typeface="隶书"/>
              </a:rPr>
              <a:t>料裡所含的多餘熱量及糖分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4" descr="bar1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387360"/>
          </a:xfrm>
          <a:prstGeom prst="rect">
            <a:avLst/>
          </a:prstGeom>
          <a:ln w="0">
            <a:noFill/>
          </a:ln>
        </p:spPr>
      </p:pic>
      <p:sp>
        <p:nvSpPr>
          <p:cNvPr id="551" name="WordArt 6"/>
          <p:cNvSpPr txBox="1"/>
          <p:nvPr/>
        </p:nvSpPr>
        <p:spPr>
          <a:xfrm>
            <a:off x="1827360" y="189000"/>
            <a:ext cx="553536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7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★ 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喝水该注意的事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ff99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自驾车郊游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WordArt 2"/>
          <p:cNvSpPr txBox="1"/>
          <p:nvPr/>
        </p:nvSpPr>
        <p:spPr>
          <a:xfrm>
            <a:off x="685800" y="638280"/>
            <a:ext cx="78487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latin typeface="隶书"/>
              </a:rPr>
              <a:t>拿起水杯一起喝水吧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7c8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WordArt 6"/>
          <p:cNvSpPr txBox="1"/>
          <p:nvPr/>
        </p:nvSpPr>
        <p:spPr>
          <a:xfrm>
            <a:off x="297000" y="2138400"/>
            <a:ext cx="441000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7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人是水做的！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736560" y="4869000"/>
            <a:ext cx="7651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隶书"/>
                <a:ea typeface="隶书"/>
              </a:rPr>
              <a:t>水是人体内含量</a:t>
            </a: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最多</a:t>
            </a:r>
            <a:r>
              <a:rPr b="0" lang="zh-CN" sz="4400" spc="-1" strike="noStrike">
                <a:solidFill>
                  <a:srgbClr val="00b050"/>
                </a:solidFill>
                <a:latin typeface="隶书"/>
                <a:ea typeface="隶书"/>
              </a:rPr>
              <a:t>的物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隶书"/>
                <a:ea typeface="隶书"/>
              </a:rPr>
              <a:t>  </a:t>
            </a:r>
            <a:r>
              <a:rPr b="0" lang="zh-CN" sz="4400" spc="-1" strike="noStrike">
                <a:solidFill>
                  <a:srgbClr val="00b050"/>
                </a:solidFill>
                <a:latin typeface="隶书"/>
                <a:ea typeface="隶书"/>
              </a:rPr>
              <a:t>占我们身体重量的</a:t>
            </a:r>
            <a:r>
              <a:rPr b="0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50%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～</a:t>
            </a:r>
            <a:r>
              <a:rPr b="0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70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Picture 7" descr="运动后要学会科学饮水才更健康"/>
          <p:cNvPicPr/>
          <p:nvPr/>
        </p:nvPicPr>
        <p:blipFill>
          <a:blip r:embed="rId2"/>
          <a:stretch/>
        </p:blipFill>
        <p:spPr>
          <a:xfrm>
            <a:off x="4900680" y="1089000"/>
            <a:ext cx="3962160" cy="31050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" descr="bar1"/>
          <p:cNvPicPr/>
          <p:nvPr/>
        </p:nvPicPr>
        <p:blipFill>
          <a:blip r:embed="rId3"/>
          <a:stretch/>
        </p:blipFill>
        <p:spPr>
          <a:xfrm>
            <a:off x="-9360" y="324000"/>
            <a:ext cx="914400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304920" y="2057400"/>
            <a:ext cx="49878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生命的每一刻都离不开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一切新陈代谢反应的媒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输送养分  排泄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调节体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润滑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一切的生化反应都是在水中进行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5" descr="bar1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387360"/>
          </a:xfrm>
          <a:prstGeom prst="rect">
            <a:avLst/>
          </a:prstGeom>
          <a:ln w="0">
            <a:noFill/>
          </a:ln>
        </p:spPr>
      </p:pic>
      <p:sp>
        <p:nvSpPr>
          <p:cNvPr id="508" name="WordArt 6"/>
          <p:cNvSpPr txBox="1"/>
          <p:nvPr/>
        </p:nvSpPr>
        <p:spPr>
          <a:xfrm>
            <a:off x="1871640" y="331920"/>
            <a:ext cx="567072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7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水在生命中的作用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ff99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09" name="Picture 4" descr="http://www.city-pure.com/uploadfile/201303/20130310200723117.jpg"/>
          <p:cNvPicPr/>
          <p:nvPr/>
        </p:nvPicPr>
        <p:blipFill>
          <a:blip r:embed="rId3"/>
          <a:stretch/>
        </p:blipFill>
        <p:spPr>
          <a:xfrm>
            <a:off x="5381640" y="2017800"/>
            <a:ext cx="3333600" cy="22669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老年人科学饮水有哪些好处"/>
          <p:cNvPicPr/>
          <p:nvPr/>
        </p:nvPicPr>
        <p:blipFill>
          <a:blip r:embed="rId4"/>
          <a:stretch/>
        </p:blipFill>
        <p:spPr>
          <a:xfrm>
            <a:off x="5381640" y="4284720"/>
            <a:ext cx="33336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066680" y="5029200"/>
            <a:ext cx="7239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黑体"/>
              </a:rPr>
              <a:t>缺水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黑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黑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黑体"/>
              </a:rPr>
              <a:t>出现口渴、缺水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黑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黑体"/>
              </a:rPr>
              <a:t>出现烦躁缺水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黑体"/>
              </a:rPr>
              <a:t>15%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黑体"/>
              </a:rPr>
              <a:t>出现昏迷、缺水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黑体"/>
              </a:rPr>
              <a:t>20%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黑体"/>
              </a:rPr>
              <a:t>危及生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2"/>
          <a:stretch/>
        </p:blipFill>
        <p:spPr>
          <a:xfrm>
            <a:off x="1131840" y="2514600"/>
            <a:ext cx="2001960" cy="35211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3"/>
          <a:stretch/>
        </p:blipFill>
        <p:spPr>
          <a:xfrm>
            <a:off x="3662280" y="2514600"/>
            <a:ext cx="2048040" cy="34448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4"/>
          <a:stretch/>
        </p:blipFill>
        <p:spPr>
          <a:xfrm>
            <a:off x="6237360" y="2514600"/>
            <a:ext cx="1965240" cy="34354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bar1"/>
          <p:cNvPicPr/>
          <p:nvPr/>
        </p:nvPicPr>
        <p:blipFill>
          <a:blip r:embed="rId5"/>
          <a:stretch/>
        </p:blipFill>
        <p:spPr>
          <a:xfrm>
            <a:off x="0" y="1295280"/>
            <a:ext cx="9144000" cy="387360"/>
          </a:xfrm>
          <a:prstGeom prst="rect">
            <a:avLst/>
          </a:prstGeom>
          <a:ln w="0">
            <a:noFill/>
          </a:ln>
        </p:spPr>
      </p:pic>
      <p:sp>
        <p:nvSpPr>
          <p:cNvPr id="516" name="WordArt 6"/>
          <p:cNvSpPr txBox="1"/>
          <p:nvPr/>
        </p:nvSpPr>
        <p:spPr>
          <a:xfrm>
            <a:off x="1781280" y="233280"/>
            <a:ext cx="58957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7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缺水对健康的影响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716280" y="1808280"/>
            <a:ext cx="50468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中国居民膳食指南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2007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）建议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温和气候下生活的轻体力活动的成年人每日最少饮水量为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1200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毫升，相当于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杯水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Picture 4" descr="bar1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387360"/>
          </a:xfrm>
          <a:prstGeom prst="rect">
            <a:avLst/>
          </a:prstGeom>
          <a:ln w="0">
            <a:noFill/>
          </a:ln>
        </p:spPr>
      </p:pic>
      <p:sp>
        <p:nvSpPr>
          <p:cNvPr id="519" name="WordArt 6"/>
          <p:cNvSpPr txBox="1"/>
          <p:nvPr/>
        </p:nvSpPr>
        <p:spPr>
          <a:xfrm>
            <a:off x="1646280" y="189000"/>
            <a:ext cx="589608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7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★ 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我们需要多少水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ff99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20" name="Picture 6" descr="中国居民膳食指南"/>
          <p:cNvPicPr/>
          <p:nvPr/>
        </p:nvPicPr>
        <p:blipFill>
          <a:blip r:embed="rId3"/>
          <a:stretch/>
        </p:blipFill>
        <p:spPr>
          <a:xfrm>
            <a:off x="341280" y="1778040"/>
            <a:ext cx="324792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41280" y="1628640"/>
            <a:ext cx="842184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白开水最符合人体需要的饮用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原因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去除细菌和有害的有机化合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原因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改善高硬度水质，保证某些矿物质不流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原因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最容易透过细胞进入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促进人体的新陈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增强机体免疫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消除疲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温馨提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当天烧开的水当天喝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喝自然冷却、搁置时间不超过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时的白开水，对人体健康最有利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4" descr="bar1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387360"/>
          </a:xfrm>
          <a:prstGeom prst="rect">
            <a:avLst/>
          </a:prstGeom>
          <a:ln w="0">
            <a:noFill/>
          </a:ln>
        </p:spPr>
      </p:pic>
      <p:sp>
        <p:nvSpPr>
          <p:cNvPr id="523" name="WordArt 6"/>
          <p:cNvSpPr txBox="1"/>
          <p:nvPr/>
        </p:nvSpPr>
        <p:spPr>
          <a:xfrm>
            <a:off x="1646280" y="142920"/>
            <a:ext cx="58960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7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★ 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我们需要什么样的水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24" name="右箭头 1"/>
          <p:cNvSpPr/>
          <p:nvPr/>
        </p:nvSpPr>
        <p:spPr>
          <a:xfrm>
            <a:off x="1106640" y="3654360"/>
            <a:ext cx="539640" cy="147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右箭头 6"/>
          <p:cNvSpPr/>
          <p:nvPr/>
        </p:nvSpPr>
        <p:spPr>
          <a:xfrm>
            <a:off x="1093680" y="4508640"/>
            <a:ext cx="540000" cy="14904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右箭头 7"/>
          <p:cNvSpPr/>
          <p:nvPr/>
        </p:nvSpPr>
        <p:spPr>
          <a:xfrm>
            <a:off x="1093680" y="4091040"/>
            <a:ext cx="540000" cy="1476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Picture 6" descr="http://img3.redocn.com/20120725/Redocn_2012072501430814.jpg"/>
          <p:cNvPicPr/>
          <p:nvPr/>
        </p:nvPicPr>
        <p:blipFill>
          <a:blip r:embed="rId3"/>
          <a:srcRect l="0" t="5313" r="0" b="4833"/>
          <a:stretch/>
        </p:blipFill>
        <p:spPr>
          <a:xfrm>
            <a:off x="6012000" y="3363840"/>
            <a:ext cx="259560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341280" y="1530360"/>
            <a:ext cx="842184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矿泉水不宜作为主要饮用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原因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矿泉水中矿物质含量不同，一些矿物质的生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物利用度不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原因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矿物质和微量元素过多的进入人体，可能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发相应疾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茶水适量的饮用有益健康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原因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营养成分丰富。原因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低能量饮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添加糖分的饮料不宜作为主要饮用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原因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含糖量较高，引起龋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原因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造成缺钙，长期会导致骨质疏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原因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引起肥胖，增加糖尿病、高血压等疾病发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率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4" descr="bar1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387360"/>
          </a:xfrm>
          <a:prstGeom prst="rect">
            <a:avLst/>
          </a:prstGeom>
          <a:ln w="0">
            <a:noFill/>
          </a:ln>
        </p:spPr>
      </p:pic>
      <p:sp>
        <p:nvSpPr>
          <p:cNvPr id="530" name="WordArt 6"/>
          <p:cNvSpPr txBox="1"/>
          <p:nvPr/>
        </p:nvSpPr>
        <p:spPr>
          <a:xfrm>
            <a:off x="1646280" y="142920"/>
            <a:ext cx="58960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7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★ 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我们需要什么样的水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ff99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341280" y="1628640"/>
            <a:ext cx="463536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喝水的原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隶书"/>
                <a:ea typeface="隶书"/>
              </a:rPr>
              <a:t>少量多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隶书"/>
                <a:ea typeface="隶书"/>
              </a:rPr>
              <a:t>晨起空腹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隶书"/>
                <a:ea typeface="隶书"/>
              </a:rPr>
              <a:t>身边常备饮用水以供随时取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4" descr="bar1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387360"/>
          </a:xfrm>
          <a:prstGeom prst="rect">
            <a:avLst/>
          </a:prstGeom>
          <a:ln w="0">
            <a:noFill/>
          </a:ln>
        </p:spPr>
      </p:pic>
      <p:sp>
        <p:nvSpPr>
          <p:cNvPr id="533" name="WordArt 6"/>
          <p:cNvSpPr txBox="1"/>
          <p:nvPr/>
        </p:nvSpPr>
        <p:spPr>
          <a:xfrm>
            <a:off x="2637000" y="189000"/>
            <a:ext cx="404964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7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★ 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如何喝水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34" name="Picture 2" descr="科学饮水启示录 了解身体“旱情”信号"/>
          <p:cNvPicPr/>
          <p:nvPr/>
        </p:nvPicPr>
        <p:blipFill>
          <a:blip r:embed="rId3"/>
          <a:stretch/>
        </p:blipFill>
        <p:spPr>
          <a:xfrm>
            <a:off x="5111640" y="1752480"/>
            <a:ext cx="3600720" cy="24274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http://p1.so.qhimg.com/bdr/_240_/t01bffa0e4fc13210b1.jpg"/>
          <p:cNvPicPr/>
          <p:nvPr/>
        </p:nvPicPr>
        <p:blipFill>
          <a:blip r:embed="rId4"/>
          <a:stretch/>
        </p:blipFill>
        <p:spPr>
          <a:xfrm>
            <a:off x="701640" y="4014720"/>
            <a:ext cx="3579840" cy="246240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3"/>
          <p:cNvSpPr/>
          <p:nvPr/>
        </p:nvSpPr>
        <p:spPr>
          <a:xfrm>
            <a:off x="5246640" y="4329000"/>
            <a:ext cx="355608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健康饮水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隶书"/>
                <a:ea typeface="隶书"/>
              </a:rPr>
              <a:t>饮好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隶书"/>
                <a:ea typeface="隶书"/>
              </a:rPr>
              <a:t>饮暖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隶书"/>
                <a:ea typeface="隶书"/>
              </a:rPr>
              <a:t>空腹饮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bar1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387360"/>
          </a:xfrm>
          <a:prstGeom prst="rect">
            <a:avLst/>
          </a:prstGeom>
          <a:ln w="0">
            <a:noFill/>
          </a:ln>
        </p:spPr>
      </p:pic>
      <p:sp>
        <p:nvSpPr>
          <p:cNvPr id="538" name="WordArt 6"/>
          <p:cNvSpPr txBox="1"/>
          <p:nvPr/>
        </p:nvSpPr>
        <p:spPr>
          <a:xfrm>
            <a:off x="1827360" y="189000"/>
            <a:ext cx="553536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7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★ 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科学饮水时间表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ff99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476280" y="1719360"/>
            <a:ext cx="8191440" cy="48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隶书"/>
                <a:ea typeface="隶书"/>
              </a:rPr>
              <a:t>6</a:t>
            </a:r>
            <a:r>
              <a:rPr b="1" lang="zh-CN" sz="3000" spc="-1" strike="noStrike">
                <a:solidFill>
                  <a:srgbClr val="00b050"/>
                </a:solidFill>
                <a:latin typeface="隶书"/>
                <a:ea typeface="隶书"/>
              </a:rPr>
              <a:t>：</a:t>
            </a:r>
            <a:r>
              <a:rPr b="1" lang="en-US" sz="3000" spc="-1" strike="noStrike">
                <a:solidFill>
                  <a:srgbClr val="00b050"/>
                </a:solidFill>
                <a:latin typeface="隶书"/>
                <a:ea typeface="隶书"/>
              </a:rPr>
              <a:t>30  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晨起喝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50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毫升的淡盐水或凉白开水，补充夜晚流失的水分，清肠排毒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8</a:t>
            </a:r>
            <a:r>
              <a:rPr b="1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：</a:t>
            </a:r>
            <a:r>
              <a:rPr b="1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30  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到办公室后喝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50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亳升水，清晨的忙碌使水分在不知不觉中流失了很多，这时候补水特别重要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隶书"/>
                <a:ea typeface="隶书"/>
              </a:rPr>
              <a:t>11</a:t>
            </a:r>
            <a:r>
              <a:rPr b="1" lang="zh-CN" sz="3000" spc="-1" strike="noStrike">
                <a:solidFill>
                  <a:srgbClr val="00b0f0"/>
                </a:solidFill>
                <a:latin typeface="隶书"/>
                <a:ea typeface="隶书"/>
              </a:rPr>
              <a:t>：</a:t>
            </a:r>
            <a:r>
              <a:rPr b="1" lang="en-US" sz="3000" spc="-1" strike="noStrike">
                <a:solidFill>
                  <a:srgbClr val="00b0f0"/>
                </a:solidFill>
                <a:latin typeface="隶书"/>
                <a:ea typeface="隶书"/>
              </a:rPr>
              <a:t>30  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午餐前忙了一上午也该休息一会儿了，午餐前喝水有助于激活消化系统活力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ff"/>
                </a:solidFill>
                <a:latin typeface="隶书"/>
                <a:ea typeface="隶书"/>
              </a:rPr>
              <a:t>12</a:t>
            </a:r>
            <a:r>
              <a:rPr b="1" lang="zh-CN" sz="3000" spc="-1" strike="noStrike">
                <a:solidFill>
                  <a:srgbClr val="ff00ff"/>
                </a:solidFill>
                <a:latin typeface="隶书"/>
                <a:ea typeface="隶书"/>
              </a:rPr>
              <a:t>：</a:t>
            </a:r>
            <a:r>
              <a:rPr b="1" lang="en-US" sz="3000" spc="-1" strike="noStrike">
                <a:solidFill>
                  <a:srgbClr val="ff00ff"/>
                </a:solidFill>
                <a:latin typeface="隶书"/>
                <a:ea typeface="隶书"/>
              </a:rPr>
              <a:t>30  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午餐后喝水加快血液循环，促进营养素的吸收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6T15:44:33Z</dcterms:created>
  <dc:creator/>
  <dc:description/>
  <cp:keywords/>
  <dc:language>en-US</dc:language>
  <cp:lastModifiedBy>admin</cp:lastModifiedBy>
  <dcterms:modified xsi:type="dcterms:W3CDTF">2016-10-21T09:41:03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