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F46-17B7-4DC0-AEA5-6C2C5DD7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084-9F9D-48F3-BFFD-1CD9D49E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AE6-9A59-4BCB-820E-2FB2AC1F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0A8-0709-416D-8483-463BE313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BA3-B4B7-4F6A-96A3-A9728C1E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F26A-B63E-42F2-8DED-D2486EC2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80E-5F82-4A58-B2EF-0C4A6A0C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630-205F-4AE3-A398-1340B8A7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235-1D1E-487A-A0CE-612E7314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6AC-7A83-44C1-BFEC-34B13CF4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5C2-1F02-41B9-9EC9-A6BEF295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BDE-AE4E-4334-9D1E-076D2FED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D61B-8CDA-4FB2-A222-BBAD167D98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鱼不愚\桌面\图片2.png"/>
          <p:cNvPicPr/>
          <p:nvPr/>
        </p:nvPicPr>
        <p:blipFill>
          <a:blip r:embed="rId1"/>
          <a:srcRect l="51" t="68" r="67" b="89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1080" y="351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第一节降低化学反应活化能的——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3080" y="1401840"/>
            <a:ext cx="889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6600ff"/>
                </a:solidFill>
                <a:latin typeface="Arial"/>
              </a:rPr>
              <a:t>第五章：细胞的能量供应和利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96960" y="1773360"/>
            <a:ext cx="2759040" cy="2759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32000" y="4581360"/>
            <a:ext cx="60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人体有在细胞外作用的酶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21000" y="5248440"/>
            <a:ext cx="18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cc"/>
                </a:solidFill>
                <a:latin typeface="Arial"/>
              </a:rPr>
              <a:t>消化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240800" y="549360"/>
            <a:ext cx="1113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是有分泌功能的细胞产生的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的从食物中获得，有的从体内转化而来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凡是活细胞都能产生酶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绝大多数酶是蛋白质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⑤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的酶是蛋白质，有的酶是固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⑥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酶在代谢中有多种功能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新陈代谢和生殖发育中起调控作用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⑧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酶只是起催化作用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酶只在细胞内发挥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⑩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酶在体内不能更新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⑪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酶制剂通常在低温下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9360" y="7128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4365720"/>
            <a:ext cx="8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7280" y="312732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7280" y="393372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7280" y="270972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7280" y="226368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982800"/>
            <a:ext cx="8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2200" y="5493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5516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活细胞产生的具有催化作用的有机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绝大多数酶是蛋白质，少数酶是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RNA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8280" y="35020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440" y="487044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5840" y="1774800"/>
            <a:ext cx="5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440" y="141444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203640" y="2492280"/>
            <a:ext cx="2341440" cy="10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9800" y="2781360"/>
            <a:ext cx="188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两支试管中各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m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浓度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过氧化氢溶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号管放在室温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号管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度水加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95640" y="4428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cc"/>
                </a:solidFill>
                <a:latin typeface="Arial"/>
              </a:rPr>
              <a:t>思考：加热的作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88000" y="4428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活化能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3716280"/>
            <a:ext cx="57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cc"/>
                </a:solidFill>
                <a:latin typeface="Arial"/>
              </a:rPr>
              <a:t>催化剂</a:t>
            </a:r>
            <a:r>
              <a:rPr b="1" lang="zh-CN" sz="2800" spc="-1" strike="noStrike">
                <a:solidFill>
                  <a:srgbClr val="ccffcc"/>
                </a:solidFill>
                <a:latin typeface="Arial"/>
              </a:rPr>
              <a:t>Fecl</a:t>
            </a:r>
            <a:r>
              <a:rPr b="1" lang="zh-CN" sz="2800" spc="-1" strike="noStrike" baseline="-25000">
                <a:solidFill>
                  <a:srgbClr val="ccff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ffcc"/>
                </a:solidFill>
                <a:latin typeface="Arial"/>
              </a:rPr>
              <a:t>作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24840" y="414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催化剂能降低化学反应的活化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492360" y="4797360"/>
            <a:ext cx="1460520" cy="1656000"/>
            <a:chOff x="3492360" y="4797360"/>
            <a:chExt cx="1460520" cy="1656000"/>
          </a:xfrm>
        </p:grpSpPr>
        <p:sp>
          <p:nvSpPr>
            <p:cNvPr id="50" name=""/>
            <p:cNvSpPr/>
            <p:nvPr/>
          </p:nvSpPr>
          <p:spPr>
            <a:xfrm>
              <a:off x="3492360" y="5051520"/>
              <a:ext cx="1244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ffcc"/>
                  </a:solidFill>
                  <a:latin typeface="Arial"/>
                </a:rPr>
                <a:t>对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ffcc"/>
                  </a:solidFill>
                  <a:latin typeface="Arial"/>
                </a:rPr>
                <a:t>实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21240" y="4797360"/>
              <a:ext cx="431640" cy="165600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42840 h 1656000"/>
                <a:gd name="textAreaBottom" fmla="*/ 161316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952880" y="47386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自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53434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因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58910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无关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43640" y="4724280"/>
            <a:ext cx="2700000" cy="1657440"/>
            <a:chOff x="6443640" y="4724280"/>
            <a:chExt cx="2700000" cy="1657440"/>
          </a:xfrm>
        </p:grpSpPr>
        <p:sp>
          <p:nvSpPr>
            <p:cNvPr id="56" name=""/>
            <p:cNvSpPr/>
            <p:nvPr/>
          </p:nvSpPr>
          <p:spPr>
            <a:xfrm>
              <a:off x="6443640" y="4724280"/>
              <a:ext cx="325440" cy="1657440"/>
            </a:xfrm>
            <a:custGeom>
              <a:avLst/>
              <a:gdLst>
                <a:gd name="textAreaLeft" fmla="*/ 0 w 325440"/>
                <a:gd name="textAreaRight" fmla="*/ 117360 w 325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15160" y="5248440"/>
              <a:ext cx="232848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66"/>
                  </a:solidFill>
                  <a:latin typeface="Arial"/>
                </a:rPr>
                <a:t>单一变量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-108000" y="530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加热能加快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O</a:t>
            </a: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的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9"/>
          <p:cNvGrpSpPr/>
          <p:nvPr/>
        </p:nvGrpSpPr>
        <p:grpSpPr>
          <a:xfrm>
            <a:off x="250920" y="692280"/>
            <a:ext cx="5112720" cy="1944720"/>
            <a:chOff x="250920" y="692280"/>
            <a:chExt cx="5112720" cy="1944720"/>
          </a:xfrm>
        </p:grpSpPr>
        <p:pic>
          <p:nvPicPr>
            <p:cNvPr id="60" name="Picture 109" descr="IMG_0947"/>
            <p:cNvPicPr/>
            <p:nvPr/>
          </p:nvPicPr>
          <p:blipFill>
            <a:blip r:embed="rId1"/>
            <a:stretch/>
          </p:blipFill>
          <p:spPr>
            <a:xfrm>
              <a:off x="250920" y="692280"/>
              <a:ext cx="246096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10" descr="IMG_0938"/>
            <p:cNvPicPr/>
            <p:nvPr/>
          </p:nvPicPr>
          <p:blipFill>
            <a:blip r:embed="rId2"/>
            <a:stretch/>
          </p:blipFill>
          <p:spPr>
            <a:xfrm>
              <a:off x="2711880" y="692280"/>
              <a:ext cx="265176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11"/>
            <p:cNvSpPr/>
            <p:nvPr/>
          </p:nvSpPr>
          <p:spPr>
            <a:xfrm>
              <a:off x="250920" y="692280"/>
              <a:ext cx="453960" cy="82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华文中宋"/>
                  <a:ea typeface="华文中宋"/>
                </a:rPr>
                <a:t>1</a:t>
              </a:r>
              <a:r>
                <a:rPr b="1" lang="zh-CN" sz="2400" spc="-1" strike="noStrike">
                  <a:solidFill>
                    <a:srgbClr val="ffff00"/>
                  </a:solidFill>
                  <a:latin typeface="华文中宋"/>
                  <a:ea typeface="华文中宋"/>
                </a:rPr>
                <a:t>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12"/>
            <p:cNvSpPr/>
            <p:nvPr/>
          </p:nvSpPr>
          <p:spPr>
            <a:xfrm>
              <a:off x="2711880" y="692280"/>
              <a:ext cx="495720" cy="82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2400" spc="-1" strike="noStrike">
                  <a:solidFill>
                    <a:srgbClr val="ffff00"/>
                  </a:solidFill>
                  <a:latin typeface="华文中宋"/>
                  <a:ea typeface="华文中宋"/>
                </a:rPr>
                <a:t>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700360" y="3141720"/>
            <a:ext cx="4952880" cy="718200"/>
            <a:chOff x="2700360" y="3141720"/>
            <a:chExt cx="4952880" cy="718200"/>
          </a:xfrm>
        </p:grpSpPr>
        <p:sp>
          <p:nvSpPr>
            <p:cNvPr id="65" name="Text Box 42"/>
            <p:cNvSpPr/>
            <p:nvPr/>
          </p:nvSpPr>
          <p:spPr>
            <a:xfrm>
              <a:off x="2700360" y="3141720"/>
              <a:ext cx="4952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2 H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Times New Roman"/>
                  <a:ea typeface="华文中宋"/>
                </a:rPr>
                <a:t>2</a:t>
              </a: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O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Times New Roman"/>
                  <a:ea typeface="华文中宋"/>
                </a:rPr>
                <a:t>2</a:t>
              </a: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→ </a:t>
              </a: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2 </a:t>
              </a: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Times New Roman"/>
                  <a:ea typeface="华文中宋"/>
                </a:rPr>
                <a:t>2</a:t>
              </a: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O + O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Times New Roman"/>
                  <a:ea typeface="华文中宋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380360" y="3212640"/>
              <a:ext cx="0" cy="5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3"/>
          <a:srcRect l="65118" t="49164" r="19790" b="33721"/>
          <a:stretch/>
        </p:blipFill>
        <p:spPr>
          <a:xfrm>
            <a:off x="1116000" y="189000"/>
            <a:ext cx="647640" cy="5317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5867280" y="549360"/>
            <a:ext cx="3241800" cy="2663640"/>
            <a:chOff x="5867280" y="549360"/>
            <a:chExt cx="3241800" cy="2663640"/>
          </a:xfrm>
        </p:grpSpPr>
        <p:sp>
          <p:nvSpPr>
            <p:cNvPr id="69" name=""/>
            <p:cNvSpPr/>
            <p:nvPr/>
          </p:nvSpPr>
          <p:spPr>
            <a:xfrm>
              <a:off x="6950160" y="2565360"/>
              <a:ext cx="21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cc"/>
                  </a:solidFill>
                  <a:latin typeface="Arial"/>
                </a:rPr>
                <a:t>加</a:t>
              </a:r>
              <a:r>
                <a:rPr b="1" lang="zh-CN" sz="2400" spc="-1" strike="noStrike">
                  <a:solidFill>
                    <a:srgbClr val="ccffcc"/>
                  </a:solidFill>
                  <a:latin typeface="Arial"/>
                </a:rPr>
                <a:t>Fecl3</a:t>
              </a:r>
              <a:r>
                <a:rPr b="1" lang="zh-CN" sz="2400" spc="-1" strike="noStrike">
                  <a:solidFill>
                    <a:srgbClr val="ccffcc"/>
                  </a:solidFill>
                  <a:latin typeface="Arial"/>
                </a:rPr>
                <a:t>溶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4"/>
            <a:srcRect l="35492" t="37650" r="4837" b="27929"/>
            <a:stretch/>
          </p:blipFill>
          <p:spPr>
            <a:xfrm rot="5400000">
              <a:off x="5111640" y="1304640"/>
              <a:ext cx="2663640" cy="115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179280" y="1844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对照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1844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实验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71640" y="1427040"/>
            <a:ext cx="1086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每秒钟发生在生物体内数以亿次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有序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化学反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总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34596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生命的最本质特征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85104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新陈代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42100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细胞代谢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2924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怎么实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0400" y="3414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需要催化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24000" y="1989000"/>
            <a:ext cx="7920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料：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是一种对人体有害的物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它能损伤细胞，加快衰落，甚至致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人体在代谢过程中会产生中间产物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肝脏细胞中能产生过氧化氢酶，它能及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分解过氧化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49000" y="2997360"/>
            <a:ext cx="217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两支试管中放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等体积浓度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过氧化氢溶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号管放在室温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号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度水加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189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cc"/>
                </a:solidFill>
                <a:latin typeface="Arial"/>
              </a:rPr>
              <a:t>思考：加热的作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88000" y="1857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活化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3860640"/>
            <a:ext cx="57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cc"/>
                </a:solidFill>
                <a:latin typeface="Arial"/>
              </a:rPr>
              <a:t>催化剂</a:t>
            </a:r>
            <a:r>
              <a:rPr b="1" lang="zh-CN" sz="2800" spc="-1" strike="noStrike">
                <a:solidFill>
                  <a:srgbClr val="ccffcc"/>
                </a:solidFill>
                <a:latin typeface="Arial"/>
              </a:rPr>
              <a:t>Fecl</a:t>
            </a:r>
            <a:r>
              <a:rPr b="1" lang="zh-CN" sz="2800" spc="-1" strike="noStrike" baseline="-25000">
                <a:solidFill>
                  <a:srgbClr val="ccff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ffcc"/>
                </a:solidFill>
                <a:latin typeface="Arial"/>
              </a:rPr>
              <a:t>作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9200" y="4307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催化剂能降低化学反应的活化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4854600"/>
            <a:ext cx="57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cc"/>
                </a:solidFill>
                <a:latin typeface="Arial"/>
              </a:rPr>
              <a:t>思考：</a:t>
            </a:r>
            <a:r>
              <a:rPr b="1" lang="zh-CN" sz="2800" spc="-1" strike="noStrike">
                <a:solidFill>
                  <a:srgbClr val="ccffcc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ccff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ffcc"/>
                </a:solidFill>
                <a:latin typeface="Arial"/>
              </a:rPr>
              <a:t>O</a:t>
            </a:r>
            <a:r>
              <a:rPr b="1" lang="zh-CN" sz="2800" spc="-1" strike="noStrike" baseline="-25000">
                <a:solidFill>
                  <a:srgbClr val="ccff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ffcc"/>
                </a:solidFill>
                <a:latin typeface="Arial"/>
              </a:rPr>
              <a:t>酶起到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08840" y="5445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酶能显著降低化学反应的活化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19"/>
          <p:cNvGrpSpPr/>
          <p:nvPr/>
        </p:nvGrpSpPr>
        <p:grpSpPr>
          <a:xfrm>
            <a:off x="250920" y="692280"/>
            <a:ext cx="5112720" cy="1944720"/>
            <a:chOff x="250920" y="692280"/>
            <a:chExt cx="5112720" cy="1944720"/>
          </a:xfrm>
        </p:grpSpPr>
        <p:pic>
          <p:nvPicPr>
            <p:cNvPr id="89" name="Picture 109" descr="IMG_0947"/>
            <p:cNvPicPr/>
            <p:nvPr/>
          </p:nvPicPr>
          <p:blipFill>
            <a:blip r:embed="rId1"/>
            <a:stretch/>
          </p:blipFill>
          <p:spPr>
            <a:xfrm>
              <a:off x="250920" y="692280"/>
              <a:ext cx="246096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10" descr="IMG_0938"/>
            <p:cNvPicPr/>
            <p:nvPr/>
          </p:nvPicPr>
          <p:blipFill>
            <a:blip r:embed="rId2"/>
            <a:stretch/>
          </p:blipFill>
          <p:spPr>
            <a:xfrm>
              <a:off x="2711880" y="692280"/>
              <a:ext cx="265176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11"/>
            <p:cNvSpPr/>
            <p:nvPr/>
          </p:nvSpPr>
          <p:spPr>
            <a:xfrm>
              <a:off x="250920" y="692280"/>
              <a:ext cx="453960" cy="82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华文中宋"/>
                  <a:ea typeface="华文中宋"/>
                </a:rPr>
                <a:t>1</a:t>
              </a:r>
              <a:r>
                <a:rPr b="1" lang="zh-CN" sz="2400" spc="-1" strike="noStrike">
                  <a:solidFill>
                    <a:srgbClr val="ffff00"/>
                  </a:solidFill>
                  <a:latin typeface="华文中宋"/>
                  <a:ea typeface="华文中宋"/>
                </a:rPr>
                <a:t>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12"/>
            <p:cNvSpPr/>
            <p:nvPr/>
          </p:nvSpPr>
          <p:spPr>
            <a:xfrm>
              <a:off x="2711880" y="692280"/>
              <a:ext cx="495720" cy="82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2400" spc="-1" strike="noStrike">
                  <a:solidFill>
                    <a:srgbClr val="ffff00"/>
                  </a:solidFill>
                  <a:latin typeface="华文中宋"/>
                  <a:ea typeface="华文中宋"/>
                </a:rPr>
                <a:t>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003640" y="335772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cc"/>
                </a:solidFill>
                <a:latin typeface="Arial"/>
              </a:rPr>
              <a:t>加</a:t>
            </a:r>
            <a:r>
              <a:rPr b="1" lang="zh-CN" sz="2400" spc="-1" strike="noStrike">
                <a:solidFill>
                  <a:srgbClr val="ccffcc"/>
                </a:solidFill>
                <a:latin typeface="Arial"/>
              </a:rPr>
              <a:t>Fecl3</a:t>
            </a:r>
            <a:r>
              <a:rPr b="1" lang="zh-CN" sz="2400" spc="-1" strike="noStrike">
                <a:solidFill>
                  <a:srgbClr val="ccffcc"/>
                </a:solidFill>
                <a:latin typeface="Arial"/>
              </a:rPr>
              <a:t>溶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rcRect l="27929" t="35492" r="37650" b="4837"/>
          <a:stretch/>
        </p:blipFill>
        <p:spPr>
          <a:xfrm>
            <a:off x="5433840" y="692280"/>
            <a:ext cx="1152720" cy="26636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7020000" y="836640"/>
            <a:ext cx="1800000" cy="3196440"/>
            <a:chOff x="7020000" y="836640"/>
            <a:chExt cx="1800000" cy="3196440"/>
          </a:xfrm>
        </p:grpSpPr>
        <p:sp>
          <p:nvSpPr>
            <p:cNvPr id="96" name=""/>
            <p:cNvSpPr/>
            <p:nvPr/>
          </p:nvSpPr>
          <p:spPr>
            <a:xfrm>
              <a:off x="7020000" y="35733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H2O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4"/>
            <a:srcRect l="4893" t="34122" r="2421" b="13835"/>
            <a:stretch/>
          </p:blipFill>
          <p:spPr>
            <a:xfrm rot="5400000">
              <a:off x="6443280" y="1628640"/>
              <a:ext cx="2736720" cy="115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8040" y="4190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酶的概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11970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活细胞产生的具有催化作用的有机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绝大多数酶是蛋白质，少数酶是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RNA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040" y="3830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酶的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44942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酶能显著降低化学反应的活化能，从而起到催化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404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酶的作用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981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高效性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zh-CN" sz="28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99440" y="981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30600" y="1916280"/>
            <a:ext cx="3382920" cy="2811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48360" y="907920"/>
            <a:ext cx="32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作用条件温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920" y="5657760"/>
            <a:ext cx="92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高温，过酸，过碱，改变酶的空间结构，使酶变性失活。而低温可以长时间保存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5084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据图得出能使酶变性失活的条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1947960"/>
            <a:ext cx="2880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4360" y="404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酶的作用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0540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高效性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zh-CN" sz="28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94920" y="981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15120" y="981000"/>
            <a:ext cx="32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作用条件温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77336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专一性，一种酶只能催化一种或一类化学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32000" y="2359080"/>
            <a:ext cx="5995800" cy="4238640"/>
            <a:chOff x="1332000" y="2359080"/>
            <a:chExt cx="5995800" cy="423864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1332000" y="2359080"/>
              <a:ext cx="5651280" cy="42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692360" y="5581800"/>
              <a:ext cx="13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、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76720" y="5654520"/>
              <a:ext cx="21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、淀粉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48360" y="5661000"/>
              <a:ext cx="21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、蛋白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6696360" cy="4442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900000" y="2359080"/>
            <a:ext cx="69138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326320" y="549360"/>
            <a:ext cx="497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是有分泌功能的细胞产生的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有的从食物中获得，有的从体内转化而来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凡是活细胞都能产生酶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绝大多数酶是蛋白质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有的酶是蛋白质，有的酶是固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酶在代谢中有多种功能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新陈代谢和生殖发育中起调控作用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酶只是起催化作用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酶只在细胞内发挥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⑩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酶在体内不能更新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⑪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酶制剂通常在低温下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9360" y="7128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7280" y="312732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280" y="270972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7280" y="226368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982800"/>
            <a:ext cx="8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2200" y="5493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5516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活细胞产生的具有催化作用的有机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绝大多数酶是蛋白质，少数酶是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RNA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8280" y="35020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5840" y="1774800"/>
            <a:ext cx="5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440" y="141444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101080" y="6453360"/>
            <a:ext cx="792000" cy="404640"/>
          </a:xfrm>
          <a:prstGeom prst="rightArrow">
            <a:avLst>
              <a:gd name="adj1" fmla="val 50000"/>
              <a:gd name="adj2" fmla="val 489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08:55:29Z</dcterms:created>
  <dc:creator>Administrator</dc:creator>
  <dc:description/>
  <dc:language>en-US</dc:language>
  <cp:lastModifiedBy>China</cp:lastModifiedBy>
  <dcterms:modified xsi:type="dcterms:W3CDTF">2015-05-15T09:48:12Z</dcterms:modified>
  <cp:revision>40</cp:revision>
  <dc:subject/>
  <dc:title>幻灯片 1</dc:title>
</cp:coreProperties>
</file>