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1701-7124-4F23-A70B-374C71DA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09D9-D53F-4D4F-BAFD-AEF9A4D5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50E1-CA14-40FC-B19C-6F5DA95A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0E11-DC20-49C8-94B8-49DE0C67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A756-DAB3-4FCD-81C5-EE6C6D6D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300E-A856-4E96-B1EA-A957BC1E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3F78-5831-4BD8-AEDB-A02C9D5C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6D3C-E5F4-4C91-9653-1AC3EE7F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9DF2-EF72-441C-A89D-180CB7E3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D134-0F69-4FC6-90D6-BA4F89BA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A68D-68EF-49D3-8811-0F98F345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938F-EF84-497D-BE30-C677C694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3EC4-695E-4DA0-BF2F-1FF08F1E9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981000"/>
            <a:ext cx="914400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720" y="-7920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践行尝试教学理念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               打造“自主学习型课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教育家关于“教学”的精辟论述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夸美纽斯、 第斯多惠、狄斯多维、 威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亚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伍德、陶行知、 叶圣陶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心观点：教师的责任是让学生学会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主学习型课堂改革要解决的关键问题就是“如何让学生学会学习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268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270080"/>
            <a:ext cx="83534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二个转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转变观念：确立科学的教师观、学生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角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从师生关系看，教师是学生学习的促进者，内涵有两个方面：教师是学生学习能力的培养者；教师是学生人生的引路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行为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对待师生关系上，强调尊重、赞赏；在对待教学关系上，强调帮助、引导；在对待自我上，强调反思；在对待与其他教育者的关系上，强调合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6720" y="260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二、两个“二”：二个转变，二条主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9280" y="260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二个转变  二条主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2920" y="5157720"/>
            <a:ext cx="5493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34136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生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生是发展的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学生的身心发展是有规律的；学生具有巨大的发展潜能；学生是处于发展过程中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生是独特的人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生是完整的人；每个学生都有自身的独特性；学生与成人之间存在着巨大的差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生是具有独立意义的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每个学生都是独立的；学生是学习的主体；学生是责权主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268280"/>
            <a:ext cx="88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、转变方式：自主、合作、探究学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二个转变   二条主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2720" y="299736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接受式：（灌输、填鸭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等饭吃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教师讲，学生听和练；先教后学，先讲后练；教师主动传输，学生被动接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式：（自主、合作、探究）“找饭吃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生尝试探索，教师组织指导；先学后教，先练后讲；学生主动学习，师生互动提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059920"/>
            <a:ext cx="835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接受式学习方式      发现式学习方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360" y="2133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5640" y="1484280"/>
            <a:ext cx="7704000" cy="2287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两条主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线：尝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尝试贯串教学过程的始终。尝试自学、合作、练习，始终让学生的学走在教师的教的前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暗线：思维训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自主学习、合作探究、训练检测的过程中发展学生思维的深刻性、灵活性、独创性、批判性、敏捷性和系统性，培养学生良好思维习惯，提升学生思维品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二个转变   二条主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4000" y="1125360"/>
            <a:ext cx="8820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628640"/>
            <a:ext cx="820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三种精神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尝试探索精神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运用已有知识技能，尝试探索未知领域，尝试解决自己不懂的问题，在尝试中探索，在探索中创新。没有尝试探索就不可能创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勤学刻苦精神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“先学后教” 下的探究学习，较“先教后学”会遇到更多的困难和障碍，更复杂和艰难，需要不畏艰难、勤奋刻苦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团队协作精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正确处理合作与竞争的关系。在团队互助，师生互动过程中增强学生合作意识，培育学生协作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334800"/>
            <a:ext cx="871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三、两个“三”：三种精神，三大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81080" y="1052640"/>
            <a:ext cx="87850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三大目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、促进学生发展（三提升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课堂效率、学业质量的提升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学生学习能力、学习品质的提升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学生全面素养的提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97000"/>
            <a:ext cx="972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260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三种精神  三大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11280" y="1773360"/>
            <a:ext cx="75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促进了教师的发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课改的过程也是教师的发展过程，学生成长的过程也是教师进步的过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改对教师提出了更高的要求。课改促进了教师的学习和研究，解放了教师的思想，更新了教师的观念，提升了教师的理念，丰富了教师的素养，发展了教师的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1080" y="40464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1080" y="404640"/>
            <a:ext cx="87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三种精神  三大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2720" y="162864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、促进了学校的发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提高教育质量，丰富学校内涵，提升学校品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衡量学校发展状态的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两大主要指标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：学生发展状态和教师发展状态。学校的发展是由学生的发展和教师的发展来实现的，以教师的发展推动学生的发展，以学生和教师的发展实现学校发展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333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三种精神  三大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4000" y="1413000"/>
            <a:ext cx="849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四大策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、以学定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依据课标和教材确定学习目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研读课标与教材，精准把握；基于教材，超越教材；融会贯通，游刃有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教师确定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=&gt;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师生共同确定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=&gt;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学生自主确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准确把握学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了解学生的学习态度、习惯、能力、基础；了解学生对学习内容的理解掌握情况，把握学生的学习需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333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四、两个“四”：四大策略，四个抓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640" y="11246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四大策略  四个抓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尊重学生的差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调整教学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理好面与点的关系，面向每个学生，因材施教；根据学情变化调整教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先学后教、学中有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先学”是把握学情的途径。通过“先学”检测，了解学生已知什么，未知什么，能什么，不能什么，需要什么，不要什么；以合适方式    对学生的“先学”予以恰当指导，减少“先学”的阻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7920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践行尝试教学理念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               打造“自主学习型课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6360" y="1125360"/>
            <a:ext cx="9072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夸美纽斯：寻找一种教学方法，使得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教师可以少教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学生可以多学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使得学校因此可以减少喧嚣、烦厌和无益的劳苦，多具闲暇、快乐和坚实的进步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第斯多惠说过：教学的艺术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不在于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传授本领，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而在于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激励、唤醒和鼓舞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叶圣陶：我想，教任何功课，最终目的都在于达到不需要教。假如学生进入这样一种境界：能够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自己去探索，自己去辨析，自己去历练，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从而获得正确的知识和熟练的能力，岂不是就不需要教了吗？而学生所以要学要练，就为要进入这样的境界。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“先生的责任不在教，而在于教学生学”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11280" y="1341360"/>
            <a:ext cx="80643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、多学少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讲的太多是教师教学的最大弊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把学习的权利还给学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学生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阅读、观察、讨论、操作、训练、思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等学习活动应该占据课堂的绝大多数时间。无“多学少教”，“学生是学习的主人”就是空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少教才能多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少教”，才能保障学生才有足够的学习时间和空间。教师是导演，学生是演员，教师是教练员，学生是运动员。在舞台上竞技场上的应该是学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33336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四大策略    四个抓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137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四大策略    四个抓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少教不是不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少教”是指教师要少讲。讲的太多，弱化了学生的学习能力，扼杀了学生的思维，浪费了学生的时间。教师的教应体现在组织、指导、总结、提升上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讲学生需要的东西，讲重点难点，讲思维过程，讲方法规律，讲拓展提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走极端，把教师讲的时间限得很短很死是错误的，要因课而异，因人而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5640" y="1268280"/>
            <a:ext cx="76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学教互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生生互动：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学生之间的互助合作学习。小组合作学习；大班展示交流，质疑探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师生互动：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教师创景设疑、指导归纳，学生思考探究、讨论交流。构建民主、平等、合作、互助的新型师生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实质重于形式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合作学习要能促进学生思维发展，不能为合作而合作；探究性合作学习重于校对性合作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33336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四大策略  四个抓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1484280"/>
            <a:ext cx="835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精练精讲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精练，练在刀刃上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检测性和巩固性练习都要目的明确、设计精致、数量适当、时机恰当、时间保障；深入思考、熟练掌握、融会贯通、举一反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精讲，讲在要害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解析性和总结性讲解都要目的明确、设计精致、讲解清晰、时机恰当、时间控制；深度解析、构建图谱、联系实际、拓展延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精”，从内容上讲就是抓住关键，从操作上讲就是做好细节，从质与量的关系上讲就是质高量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33336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四大策略  四个抓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24000" y="1127160"/>
            <a:ext cx="864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四个抓手：自主学习、合作探究、展示交流、训练检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建规范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建立学生自主学习、合作学习、展示交流、训练检测的基本规范，明确每项学习活动的具体要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重细节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研究每项学习活动的过程与环节，研究每个细节处理的科学性、逻辑性、严密性、有效性，追求细节处理的高效与精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勤督促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加强督促，提高执行力，将要求、规范与细节转化成学生的习惯与素养，成为学生学习的常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四者是学生的主要学习活动形式，抓好了这四点，学习的质量就一定能提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333360"/>
            <a:ext cx="806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四大策略  四个抓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63640" y="3284640"/>
            <a:ext cx="37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1486080"/>
            <a:ext cx="67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五学”结构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认准目标，独立学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抓住关键，合作学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展示质疑，深化学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训练检测，巩固学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总结反思，提升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1413000"/>
            <a:ext cx="777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33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五、两个“五”：五学结构，五个一定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6720" y="1125360"/>
            <a:ext cx="8641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认准目标  独立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问题导学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深度解读课标与教材，准确把握教学目标。结合对已学内容的复习，设置自学任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预习题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、独立自学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生以“目标为靶，教材为本，教学案为导，微视频为助”，进行自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学习任务明确（问题导学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学习指导科学（方法、内容、要求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过程符合逻辑（明目标、读教材、做检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、检测反馈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结合已学内容和新学内容设置检测题，检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学效果，把握学情，提高后续教学针对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33336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五学结构  五个一定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63640" y="3284640"/>
            <a:ext cx="37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1341360"/>
            <a:ext cx="842652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抓住关键  合作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、明确合作学习的目的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培养学生沟通交往、组织管理、表达交流、活动探究等方面能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改善课堂心理环境，营造课堂和谐氛围，激发主动性，增强自信心（自信、大方、谦虚、礼貌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促进学生思维。思想交流，观点碰撞，促进学生的相互学习，共同提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培育团队精神，融洽师生、同学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1080" y="262080"/>
            <a:ext cx="8137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五学结构  五个一定要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五学结构  五个一定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81080" y="1269720"/>
            <a:ext cx="87120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、确定合作学习的内容。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、课前预设。根据“五点”预设（重点、难点、易错、易混、易考点）；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、据情调整。在学生独立探究的基础上，根据学情调整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、突出重点。抓住关键，精心设计（借助情景、问题形式），质高量少。一堂课教学内容中需要且值得拿出来合作探究的内容是不多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学习的内容的价值决定了合作活动的价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763640" y="3284640"/>
            <a:ext cx="37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1125360"/>
            <a:ext cx="84250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、合作学习过程的指导与监督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、分组科学、程序规范、要求严密、管理严格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、关键。尊重、倾听、热情、主动、有序、有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、重点。组织学生对“学有困难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练有错误”的内容展开深入讨论，避免变“合作”为“校对”与“抄袭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、过程监督。及时纠正不当行为；参与其中，把握学情，指导帮助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缺乏学生独立学习的合作学习是无价值的；随意无序的合作学习是有害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1080" y="33336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五学结构  五个一定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6720" y="-79200"/>
            <a:ext cx="8352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践行尝试教学理念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                打造“自主学习型课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1080" y="1341000"/>
            <a:ext cx="871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狄斯多维认为，一个教师教会了学生知识他不是一个好教师，一个教师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教会学生发现知识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他才是好教师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威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亚瑟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伍德认为：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平庸的教师讲述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好的教师解释，优秀的教师示范，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伟大的教师启发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陶行知先生把世上的先生分为三种：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第一种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只会教书，结果把学生变成书架子、纸篓子；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第二种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不是教书，而是教学生，但学生仍是被动状态；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第三种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是把教和学结合起来，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让学生学会自己学习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第一种最糟糕，第二种不好，第三种最正确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63640" y="3284640"/>
            <a:ext cx="37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484280"/>
            <a:ext cx="828036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展示质疑  深化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、展示质疑的目的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、展示成果，暴露问题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、质疑批判，深化讨论。把问题研究引向深入，加深对学习内容的理解和把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、激发兴趣，发展思维。在质疑交流过程中激发学生的学习兴趣与热情，培育学生的批判精神和创新思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333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五学结构  五个一定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五学结构  五个一定要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、展示质疑的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展示合作学习的成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交流学习中的问题与疑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质疑同学的思维过程、问题答案，发表自己的观点，对同学的过程与答案进行补充、追问、纠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63640" y="3284640"/>
            <a:ext cx="37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1197000"/>
            <a:ext cx="8280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、展示质疑过程的指导与监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明确要求。①展示者：积极主动、自信大方、清晰流畅、激情昂扬、真实表达；②同学：尊重，倾听、记录、思考。质疑，追问、补充、纠错，勇于发表不同意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监督过程。提示学生遵守规范，组织学生深化讨论。鼓励学生上台展示，发动学生补充质疑，纠正学生中的不良不当行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教师适时点拨、激励评价、释疑归纳、总结提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为学生提供一根教鞭；把教师的位置留给学生；用好投影仪；鼓励质疑学生也走上讲台；鼓励学生大声大胆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··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培养“小老师”、“小先生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333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五学结构  五个一定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763640" y="3284640"/>
            <a:ext cx="37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1125360"/>
            <a:ext cx="82803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训练检测  巩固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、训练检测的目的。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深化理解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巩固知识、熟练技能、检测学情、补偿教学、提高质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、时机把握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教前练、教中练、教后练。当堂检测，一定要在课堂完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质高量精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切合目标与学情，精心准备，精编精选，有举一反三之功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形式多样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符合学科特点，动手、动口、动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组织管理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人参与、限定时间、保障真实、巡视指点、评价补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333360"/>
            <a:ext cx="820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五学结构  五个一定要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63640" y="3284640"/>
            <a:ext cx="37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1440" y="1125360"/>
            <a:ext cx="849636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总结反思  提升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学生归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引导学生对照学习目标进行归纳：从内容到方法，从习惯到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总结提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总结本课学习的内容与方法，评价本课学生学习的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构建知识图谱，建立知识之间的联系。理清知识要点之间的联系，前延后伸，将学习内容纳入知识体系之中 ，从整体上系统地理解、把握所学知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师生反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从内容、方法、习惯、能力等方面，反思教与学中的问题与不足，为后续的教与学提供借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333360"/>
            <a:ext cx="820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五学结构  五个一定要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2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自主学习型课堂“基本思路图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2360" y="2276640"/>
            <a:ext cx="115272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自主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403280" y="1988640"/>
            <a:ext cx="43200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2852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9080" y="1053720"/>
            <a:ext cx="8929800" cy="532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1628640"/>
            <a:ext cx="12970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理解掌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（已解决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20720" y="2781360"/>
            <a:ext cx="10065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困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（没解决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29080" y="3070080"/>
            <a:ext cx="285480" cy="69840"/>
          </a:xfrm>
          <a:prstGeom prst="rightArrow">
            <a:avLst>
              <a:gd name="adj1" fmla="val 50000"/>
              <a:gd name="adj2" fmla="val 1021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71640" y="2852640"/>
            <a:ext cx="1079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小组合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852720" y="270972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51280" y="321300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68720" y="2133720"/>
            <a:ext cx="100800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理解掌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（已解决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68720" y="3357720"/>
            <a:ext cx="1008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困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（没解决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076720" y="314136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76720" y="378936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92720" y="2781360"/>
            <a:ext cx="1081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大班交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64000" y="4005360"/>
            <a:ext cx="1081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教师释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3141720"/>
            <a:ext cx="3618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5080" y="3717720"/>
            <a:ext cx="21600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61080" y="3286080"/>
            <a:ext cx="576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掌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78520" y="1630440"/>
            <a:ext cx="6462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82200" y="6165720"/>
            <a:ext cx="180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2709720"/>
            <a:ext cx="57636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检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885080" y="2421000"/>
            <a:ext cx="287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85080" y="314172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172360" y="1486080"/>
            <a:ext cx="7207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理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掌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（正确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72360" y="3357720"/>
            <a:ext cx="720720" cy="100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补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指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（错误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3213000"/>
            <a:ext cx="287640" cy="792360"/>
          </a:xfrm>
          <a:prstGeom prst="downArrow">
            <a:avLst>
              <a:gd name="adj1" fmla="val 50000"/>
              <a:gd name="adj2" fmla="val 688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7237440" y="314172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25920" y="117360"/>
            <a:ext cx="8363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自主学习型课堂“基本操作模型图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80720" y="1270080"/>
            <a:ext cx="8567640" cy="496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1440" y="1916280"/>
            <a:ext cx="122400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认准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独立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24000" y="2565360"/>
            <a:ext cx="1441440" cy="1871640"/>
            <a:chOff x="324000" y="2565360"/>
            <a:chExt cx="1441440" cy="1871640"/>
          </a:xfrm>
        </p:grpSpPr>
        <p:sp>
          <p:nvSpPr>
            <p:cNvPr id="163" name=""/>
            <p:cNvSpPr/>
            <p:nvPr/>
          </p:nvSpPr>
          <p:spPr>
            <a:xfrm flipH="1">
              <a:off x="610920" y="2565360"/>
              <a:ext cx="2890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87640" y="25653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48000" y="2565360"/>
              <a:ext cx="2174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4000" y="2997000"/>
              <a:ext cx="50472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问题导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71640" y="2997000"/>
              <a:ext cx="50328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独立自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692360" y="2997360"/>
            <a:ext cx="431640" cy="14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效果检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65440" y="2206800"/>
            <a:ext cx="504720" cy="142560"/>
          </a:xfrm>
          <a:prstGeom prst="rightArrow">
            <a:avLst>
              <a:gd name="adj1" fmla="val 50000"/>
              <a:gd name="adj2" fmla="val 885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68360" y="1916280"/>
            <a:ext cx="107964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把握关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合作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1640" y="2565360"/>
            <a:ext cx="18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2997360"/>
            <a:ext cx="503280" cy="14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48000" y="2205000"/>
            <a:ext cx="503280" cy="142920"/>
          </a:xfrm>
          <a:prstGeom prst="rightArrow">
            <a:avLst>
              <a:gd name="adj1" fmla="val 50000"/>
              <a:gd name="adj2" fmla="val 880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54520" y="1917720"/>
            <a:ext cx="1150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展示质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深化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3640" y="2205000"/>
            <a:ext cx="574920" cy="144360"/>
          </a:xfrm>
          <a:prstGeom prst="rightArrow">
            <a:avLst>
              <a:gd name="adj1" fmla="val 50000"/>
              <a:gd name="adj2" fmla="val 99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81800" y="1916280"/>
            <a:ext cx="122220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训练检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巩固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651640" y="2565360"/>
            <a:ext cx="288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5080" y="256536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06920" y="2997360"/>
            <a:ext cx="505080" cy="14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训练检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88000" y="2997360"/>
            <a:ext cx="503280" cy="14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反馈补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04000" y="2205000"/>
            <a:ext cx="503280" cy="144360"/>
          </a:xfrm>
          <a:prstGeom prst="rightArrow">
            <a:avLst>
              <a:gd name="adj1" fmla="val 50000"/>
              <a:gd name="adj2" fmla="val 8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720" y="1917720"/>
            <a:ext cx="1224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总结反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提升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956720" y="2565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40720" y="2997360"/>
            <a:ext cx="503280" cy="14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总结提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75680" y="3470760"/>
            <a:ext cx="104868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997080" y="2565360"/>
            <a:ext cx="2854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29080" y="256536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0160" y="3000240"/>
            <a:ext cx="790200" cy="1436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展示交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77160" y="2997360"/>
            <a:ext cx="790200" cy="1438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释疑归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6720" y="5013360"/>
            <a:ext cx="1871640" cy="947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自主研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初步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00360" y="5013360"/>
            <a:ext cx="2449440" cy="947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合作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深化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24360" y="5013360"/>
            <a:ext cx="2521080" cy="947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检测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巩固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1440" y="4438800"/>
            <a:ext cx="50328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6036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476000" y="4438800"/>
            <a:ext cx="43164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71640" y="443700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2436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429080" y="4436640"/>
            <a:ext cx="358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97440" y="4437000"/>
            <a:ext cx="719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7708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381800" y="443700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48360" y="5157720"/>
            <a:ext cx="576000" cy="4320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68360" y="5229360"/>
            <a:ext cx="432000" cy="414360"/>
          </a:xfrm>
          <a:prstGeom prst="rightArrow">
            <a:avLst>
              <a:gd name="adj1" fmla="val 50000"/>
              <a:gd name="adj2" fmla="val 260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971640" y="1197000"/>
            <a:ext cx="74167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五个一定要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一定要激发兴趣，让学生兴奋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一定要关注情感，让学生自信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一定要放心放手，让学生活动起来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一定要严格管理，让学生专注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一定要面向全体，让学生进步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总之，教师一定要全心全意投入课堂教学改革，一定要提高修养和能力，让学生的学习轻松起来，学习的能力发展起来，学习的水平提高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0920" y="333360"/>
            <a:ext cx="9577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五学结构  五个一定要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763640" y="3284640"/>
            <a:ext cx="37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2720" y="1486080"/>
            <a:ext cx="828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∆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学生学习的最大敌人是依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∆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包办代替不仅是教师的最大失误，也是对学生的最大伤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∆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作为才会有地位，质量高才会有评价好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∆ 今天工作不努力，明天努力找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∆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师强则学校强，教师智则学生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∆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教师既是学生的知识导师，更是学生的精神导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33336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我的感悟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6720" y="4773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我的感悟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7640" y="1341360"/>
            <a:ext cx="892980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∆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复杂的教育简单做，简单的教育精致做，   精致的教育坚持做，坚持的教育创造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∆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教学模式的价值就在于把复杂的教育简单做，把深奥的教育理论和思想具体化、可操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∆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细节决定成败，精致成就完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∆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做好最简单的事就是不简单，做好最平凡的事就是不平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∆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没有高质量的过程，就不可能有高质量的结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7920"/>
            <a:ext cx="84247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践行尝试教学理念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         打造“自主学习型课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8280" y="1600200"/>
            <a:ext cx="857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目标：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学会学习，提高质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核心：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自主学习、合作学习、探究学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途径：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变教室为学室，变教师为导师，变讲学为导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关键：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教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2000" y="-79200"/>
            <a:ext cx="83026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践行尝试教学理念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         打造“自主学习型课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自主学习型课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两个“一、二、三、四、五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98100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26028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、两个“一”：一个思想  一个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2360" y="119700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657880"/>
            <a:ext cx="828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思想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尝试教学思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、基本思想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：学生能尝试，尝试能成功，成功能创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基本要点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生是学习的主体，课堂的主人，具备一定的学习能力；尝试的本质是探索发现，是培育学生的创新意识和创新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81080" y="1341360"/>
            <a:ext cx="871200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个理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学习金字塔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习方式对学习效果的影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周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“听讲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保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“阅读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保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“声音、图片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保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%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“示范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保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“小组讨论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保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“做中学”或“实际演练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，保留达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“教别人”或者“马上应用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保留达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26028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个思想  一个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720" y="40464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个思想  一个理论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1917360"/>
            <a:ext cx="771516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125360"/>
            <a:ext cx="8712000" cy="532944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6720" y="263160"/>
            <a:ext cx="6191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个思想，一个理论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3534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周后，学习效果在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30%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以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几种传统方式，都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被动学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而学习效果在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50%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以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，都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团队学习、主动学习和参与式学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金字塔是美国缅因州的国家训练实验室研究成果，最早是由美国学者、著名的学习专家爱德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戴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4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首先发现并提出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学习金字塔理论给我们的启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00:15:55Z</dcterms:created>
  <dc:creator>未知用户</dc:creator>
  <dc:description/>
  <dc:language>en-US</dc:language>
  <cp:lastModifiedBy>微软用户</cp:lastModifiedBy>
  <dcterms:modified xsi:type="dcterms:W3CDTF">2014-01-22T03:04:35Z</dcterms:modified>
  <cp:revision>9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