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3A1AC-EBF5-46E3-BAFD-99F6754E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7088E-E226-4191-BE34-E20B3E3E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A7E1C-1FD4-4C6D-9A13-DFCC1BE4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72BF6-F2D7-45CE-91C6-B6E8648C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E6DE1-7F72-4FE9-9BAA-E3D8D40C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FFBE9-7D5F-4F76-B620-46A14ADD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AD6AC-920B-4229-A091-5606DF65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F9890-DFF1-4450-9E90-EAE189C2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716EF-01D3-4DDC-8773-24B646AD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126DF-DEE5-43A3-823D-A5E67C6B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F9FDB-39AE-45C3-A16E-05FE1E3A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B2B98-2C53-42B5-B124-0DAFB323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40954-9C82-4854-A309-8FACD83E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D3A14-BFD1-4D2F-93B1-453671EE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C30C7-F53A-4250-A769-78261A74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5C6DB-E66F-44E1-B683-2BC7DBD2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3A911-6979-4156-8D4E-4986535B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5F4A9-BC83-40D5-9CE0-AB67F93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E8FC1-41FB-4DDE-91EF-3AE04672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4959C-F722-4504-8C76-20623BB6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96787-3FA5-44EC-9E5F-38B4EBC1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D51AA-1B1E-4A1B-B64B-F687BB7D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A9C8A-881A-4804-8FB3-50CF35C2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14735-8CBC-4A8D-81B9-A53B1810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3B362-6C35-4593-9B85-D6045174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6E365-6C58-42AC-8764-31DAB494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BF322-218A-4F30-B7A9-AB93D4E2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8A319-1372-4A38-A515-49C2926A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B27B3-DDE6-46F2-9ACB-FE0FDE08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9DC84-E97B-445E-B364-49A6B22B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32798-C3D4-4C52-A742-9A70A268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A35CA-1139-4CCD-9280-9315E9FF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A0808-943E-4536-8086-2A9F5618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05D0A-C724-4D91-A14C-4A9D94C2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2137C-EEF6-4002-A37E-2F6C4C03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76984-8CC3-40DF-9450-77B32C43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F3986-62E7-47BC-BD7F-962DEF7B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6401F-1194-46DA-835D-34636486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87CF8-EB6F-4838-96DD-9D26DFEE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3AC5E-A47F-44F6-85F6-EA739879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1E366-C687-4A5A-B3F5-E903959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6F62B-7EF0-400C-90BD-184AB430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FC496-BE3F-4519-B362-62C0D0C6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8A814-B1C4-4929-BB45-EC8B8EEF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02AFA-E92F-46FC-BBEF-8D05F0E8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98D-668E-4B39-B7A3-E0111C68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201-EC2E-42F9-88E1-2A278426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24C-5BC6-4DBD-9F2A-2AE789D7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4EA-E52A-4A88-9B79-44BEDD4A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DE8-C196-4EC9-92EC-C5CE8B0C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76D-59C8-4DFE-B19F-DB656482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71C-0766-4ED0-A2E6-35E2A1B6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9A5-1596-4885-8329-A6135D1A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DC5-02DB-46AE-9479-1B41DB3A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674-2F1B-4C81-AED3-151EE8C1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479-006B-45F6-9CD6-DEAC9270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2ED-A91C-4EE5-A7B7-F66051E7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ED96-25DD-4FB4-BE60-9F29911D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0ED9-AF4A-4C07-A701-85670862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CF08-5CA5-4CE7-A083-4F359426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7C3A-5999-4152-9717-F197CB92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0706-0EB5-4A36-A439-9948DC60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5EFA-B559-4752-BBC6-02CEF922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2ED8-9124-4A8D-9061-92D5F67B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BADD-E30B-4B96-BF76-8BFA86BE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4F2A-DEED-4FE2-BD6F-FC0FCD30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D8D1-0D1A-4C85-81AB-F5C26867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EF65-4CAA-4200-9B7A-3B9D4A00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818F-93FB-41B4-87F4-703F6317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4AC50-68BA-4D73-963E-F69F9373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23FCA-E315-43B4-9162-9729014A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7834D-8CE2-4F15-B1BE-F1C54641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3193-CA3E-4D3D-9615-0A3687B2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BB05-D43F-4F08-BF6D-F3B8CBAD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799E8-8894-43C4-B103-BEC46247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2A30D-9E39-4C12-B3B3-8F24ACF4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9902-6631-4AB8-89D3-3B817A23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E2BF-C806-4036-B7D9-4A35A58F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D373-ACBC-4F22-8D91-771D22A1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9A682-828D-4282-9C63-9E8352E2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61B6-9614-45A7-8B7E-34D91B10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B3C55-A753-4434-BE9D-16D849C5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1DE27-21D0-4FDB-B4A7-D166D11E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AD93C-13EB-44ED-A783-5D0CAEBD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E54C9-0A32-4E1E-8B02-E21F4A86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9152-EBAF-4DDC-A46F-81208D2C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FDB7C-2BA9-493D-95F9-C81AE356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A85D-FA22-4785-B739-527A1E02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F7F7E-E00D-4482-80E4-04891A68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12AA0-1826-44E6-B061-BD979FE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77D52-D3F9-4C2A-A606-26C29ED2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68C30-899B-43BE-BC43-E62919AE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94AAC-4080-4049-9255-32AAB477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1C35-76E3-4227-9AA9-A3B0C088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1AF3D-6E41-4ABC-B9FC-14E10839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5C0CB-3F5D-47AA-A538-3DEB4620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DBFB8-0852-4D31-B655-6BF605E2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4A09-1DB2-4A51-A120-FFCAA7D1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66CEC-2996-4EC6-93E2-A8B00199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A4E00-C3EC-46BE-9AAD-5F89EAD0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2A0CD-57DE-4635-B97F-ADD57626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8F788-8154-471E-A71A-3C3288C9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D755E-17F8-4C43-B704-DB63A2F8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E349D-2552-4CFD-AE1F-0C66C4EE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F5FA2-16DF-4711-BAE2-602D20D1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63C67-2704-40E7-90CC-7EA0625C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26E43-2FEB-4081-958B-BCE481F3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A25AB-4F43-4053-8D65-4A97D41E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C35AE-4FA5-4F50-A032-42A3317E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DAEF3-2E1F-423E-84B1-D303D588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DB2AE-71D8-462F-8AA0-9E598A6A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044D3-D806-425E-81E1-ED619CD7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5F7E8-1DC2-4E4A-BED4-685D7985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4CA80-B3B8-476B-9879-4A17BF77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D1419-07EA-4DF2-A833-395A9AD3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4894C-EF88-4B50-AEFA-4CA52821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0E778-37D2-495E-9A02-F6A1EC26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1D31E-EEA0-416F-958D-77B91BBD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93391-27F8-49A4-BDD3-75BC214D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C747-EC6A-4175-9EE1-138EFE2A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1"/>
          <p:cNvSpPr/>
          <p:nvPr/>
        </p:nvSpPr>
        <p:spPr>
          <a:xfrm>
            <a:off x="0" y="2919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阻止校园欺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2"/>
          <p:cNvSpPr/>
          <p:nvPr/>
        </p:nvSpPr>
        <p:spPr>
          <a:xfrm>
            <a:off x="6588000" y="368280"/>
            <a:ext cx="255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公共安全教育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彩一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1"/>
          <p:cNvSpPr/>
          <p:nvPr/>
        </p:nvSpPr>
        <p:spPr>
          <a:xfrm>
            <a:off x="0" y="2919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阻止校园欺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"/>
          <p:cNvSpPr/>
          <p:nvPr/>
        </p:nvSpPr>
        <p:spPr>
          <a:xfrm>
            <a:off x="6588000" y="368280"/>
            <a:ext cx="255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公共安全教育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彩一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CF8D-5AD4-46D0-B446-90DF88C23A2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0" y="2919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阻止校园欺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6588000" y="368280"/>
            <a:ext cx="255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公共安全教育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彩一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1FD9-082F-4AB1-9A33-95758013AC8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0" y="2919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阻止校园欺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"/>
          <p:cNvSpPr/>
          <p:nvPr/>
        </p:nvSpPr>
        <p:spPr>
          <a:xfrm>
            <a:off x="6588000" y="368280"/>
            <a:ext cx="255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公共安全教育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彩一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376D-78DE-4DAD-8FAF-03B4820E852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5" descr="第1单元"/>
          <p:cNvPicPr/>
          <p:nvPr/>
        </p:nvPicPr>
        <p:blipFill>
          <a:blip r:embed="rId3"/>
          <a:stretch/>
        </p:blipFill>
        <p:spPr>
          <a:xfrm>
            <a:off x="642960" y="571680"/>
            <a:ext cx="1704960" cy="981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2857680" y="142920"/>
            <a:ext cx="17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四年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7" descr="横幅第一课"/>
          <p:cNvPicPr/>
          <p:nvPr/>
        </p:nvPicPr>
        <p:blipFill>
          <a:blip r:embed="rId4"/>
          <a:stretch/>
        </p:blipFill>
        <p:spPr>
          <a:xfrm>
            <a:off x="2227320" y="723960"/>
            <a:ext cx="2057400" cy="638280"/>
          </a:xfrm>
          <a:prstGeom prst="rect">
            <a:avLst/>
          </a:prstGeom>
          <a:ln w="0">
            <a:noFill/>
          </a:ln>
        </p:spPr>
      </p:pic>
      <p:pic>
        <p:nvPicPr>
          <p:cNvPr id="41" name="矩形 6" descr=""/>
          <p:cNvPicPr/>
          <p:nvPr/>
        </p:nvPicPr>
        <p:blipFill>
          <a:blip r:embed="rId5"/>
          <a:stretch/>
        </p:blipFill>
        <p:spPr>
          <a:xfrm>
            <a:off x="1279440" y="2670120"/>
            <a:ext cx="62118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0" y="2919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阻止校园欺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6588000" y="368280"/>
            <a:ext cx="255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公共安全教育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彩一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B987-C846-4591-A086-1624600CD74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0" y="2919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阻止校园欺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6588000" y="368280"/>
            <a:ext cx="255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公共安全教育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彩一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91FE-C03A-40D6-A0C9-418034BE1B7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0" y="2919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阻止校园欺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6588000" y="368280"/>
            <a:ext cx="255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公共安全教育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彩一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42E4-994F-4151-A6AF-76A648F7126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0" y="2919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阻止校园欺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6588000" y="368280"/>
            <a:ext cx="255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公共安全教育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彩一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1C6D-C3BE-46A9-9A30-3E40BE4D6CE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0" y="2919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阻止校园欺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6588000" y="368280"/>
            <a:ext cx="255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公共安全教育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彩一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ED0F-26F7-4140-9E24-B8E95AC49FE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0" y="2919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阻止校园欺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6588000" y="368280"/>
            <a:ext cx="255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公共安全教育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彩一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809C-3C33-4F6A-881A-9A25058B731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1"/>
          <p:cNvSpPr/>
          <p:nvPr/>
        </p:nvSpPr>
        <p:spPr>
          <a:xfrm>
            <a:off x="0" y="2919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阻止校园欺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"/>
          <p:cNvSpPr/>
          <p:nvPr/>
        </p:nvSpPr>
        <p:spPr>
          <a:xfrm>
            <a:off x="6588000" y="368280"/>
            <a:ext cx="255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公共安全教育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彩一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C1F3-76A9-4800-8839-770B6E49E1E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1"/>
          <p:cNvSpPr/>
          <p:nvPr/>
        </p:nvSpPr>
        <p:spPr>
          <a:xfrm>
            <a:off x="1042920" y="15573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要勇敢、坚定而且明确地告诉欺凌者停止他们的行为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后走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2010100531252456_481_o"/>
          <p:cNvPicPr/>
          <p:nvPr/>
        </p:nvPicPr>
        <p:blipFill>
          <a:blip r:embed="rId1"/>
          <a:stretch/>
        </p:blipFill>
        <p:spPr>
          <a:xfrm>
            <a:off x="2584440" y="3041640"/>
            <a:ext cx="3828960" cy="2633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"/>
          <p:cNvSpPr/>
          <p:nvPr/>
        </p:nvSpPr>
        <p:spPr>
          <a:xfrm>
            <a:off x="1214280" y="317844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有些欺负行为往往是为了取乐，如果看到被欺负的人如此强势，欺凌者一般会很无趣地离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图片 2" descr="未标题-1.png"/>
          <p:cNvPicPr/>
          <p:nvPr/>
        </p:nvPicPr>
        <p:blipFill>
          <a:blip r:embed="rId1"/>
          <a:stretch/>
        </p:blipFill>
        <p:spPr>
          <a:xfrm>
            <a:off x="611280" y="1047600"/>
            <a:ext cx="2900160" cy="1606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1"/>
          <p:cNvSpPr/>
          <p:nvPr/>
        </p:nvSpPr>
        <p:spPr>
          <a:xfrm>
            <a:off x="1187280" y="1341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避开欺凌者最好和他人一起行动，及时向老师、家长及警察求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http://www.gbdjyw.cn/UpLoadFiles/anquan/2008-10/5.jpg"/>
          <p:cNvPicPr/>
          <p:nvPr/>
        </p:nvPicPr>
        <p:blipFill>
          <a:blip r:embed="rId1"/>
          <a:stretch/>
        </p:blipFill>
        <p:spPr>
          <a:xfrm>
            <a:off x="2700360" y="2997360"/>
            <a:ext cx="3208320" cy="250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矩形 1"/>
          <p:cNvSpPr/>
          <p:nvPr/>
        </p:nvSpPr>
        <p:spPr>
          <a:xfrm>
            <a:off x="1187280" y="1413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看见别的同学受到欺负时，也要向老师报告，不要视而不见，成为冷漠的旁观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http://www.520wawa.com/upload/701/20090217102301.bmp"/>
          <p:cNvPicPr/>
          <p:nvPr/>
        </p:nvPicPr>
        <p:blipFill>
          <a:blip r:embed="rId1"/>
          <a:stretch/>
        </p:blipFill>
        <p:spPr>
          <a:xfrm>
            <a:off x="2627280" y="2852640"/>
            <a:ext cx="3246480" cy="2306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1476360" y="1341360"/>
            <a:ext cx="597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校园暴力可以防，方法掌握要适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求助师长来帮助，自我保护有保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" descr="1294669113_183613_1"/>
          <p:cNvPicPr/>
          <p:nvPr/>
        </p:nvPicPr>
        <p:blipFill>
          <a:blip r:embed="rId1"/>
          <a:stretch/>
        </p:blipFill>
        <p:spPr>
          <a:xfrm>
            <a:off x="2843280" y="2879640"/>
            <a:ext cx="3133800" cy="2638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矩形 1" descr=""/>
          <p:cNvPicPr/>
          <p:nvPr/>
        </p:nvPicPr>
        <p:blipFill>
          <a:blip r:embed="rId1"/>
          <a:stretch/>
        </p:blipFill>
        <p:spPr>
          <a:xfrm>
            <a:off x="3286080" y="1695600"/>
            <a:ext cx="2571840" cy="10112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1"/>
          <p:cNvSpPr/>
          <p:nvPr/>
        </p:nvSpPr>
        <p:spPr>
          <a:xfrm>
            <a:off x="755640" y="3818160"/>
            <a:ext cx="42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欺凌他人来寻开心，或者通过欺负弱小显示自己的强大，不仅给他人带来很大的伤害，也无法让你得到真正的友谊和尊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http://www.wdgqt.gov.cn/pic/gif/1258513964.jpg"/>
          <p:cNvPicPr/>
          <p:nvPr/>
        </p:nvPicPr>
        <p:blipFill>
          <a:blip r:embed="rId2"/>
          <a:stretch/>
        </p:blipFill>
        <p:spPr>
          <a:xfrm>
            <a:off x="5219640" y="2708280"/>
            <a:ext cx="3224160" cy="24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3" name="横卷形 5"/>
          <p:cNvSpPr/>
          <p:nvPr/>
        </p:nvSpPr>
        <p:spPr>
          <a:xfrm>
            <a:off x="647640" y="1138320"/>
            <a:ext cx="1116000" cy="711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dobe 楷体 Std R"/>
                <a:ea typeface="Adobe 楷体 Std R"/>
              </a:rPr>
              <a:t>知识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"/>
          <p:cNvSpPr/>
          <p:nvPr/>
        </p:nvSpPr>
        <p:spPr>
          <a:xfrm>
            <a:off x="826920" y="306468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实施欺负或者协作欺负，都是一种软弱的表现，希望大家都能坚强起来，用爱去关心他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图片 2" descr="未标题-1.png"/>
          <p:cNvPicPr/>
          <p:nvPr/>
        </p:nvPicPr>
        <p:blipFill>
          <a:blip r:embed="rId1"/>
          <a:stretch/>
        </p:blipFill>
        <p:spPr>
          <a:xfrm>
            <a:off x="357120" y="857160"/>
            <a:ext cx="2900520" cy="1606680"/>
          </a:xfrm>
          <a:prstGeom prst="rect">
            <a:avLst/>
          </a:prstGeom>
          <a:ln w="0">
            <a:noFill/>
          </a:ln>
        </p:spPr>
      </p:pic>
      <p:sp>
        <p:nvSpPr>
          <p:cNvPr id="536" name="矩形 3"/>
          <p:cNvSpPr/>
          <p:nvPr/>
        </p:nvSpPr>
        <p:spPr>
          <a:xfrm>
            <a:off x="5888160" y="4210200"/>
            <a:ext cx="177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大学生网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755640" y="30553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人都是平等的，我们要学会善待他人。关心、帮助、宽容他人才可以得到真正的快乐，这份快乐是从欺负他人的过程中体验不到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http://cn.yimg.com/sp/20050914/bjxindaily/news-20050914-0749-9.jpg"/>
          <p:cNvPicPr/>
          <p:nvPr/>
        </p:nvPicPr>
        <p:blipFill>
          <a:blip r:embed="rId1"/>
          <a:stretch/>
        </p:blipFill>
        <p:spPr>
          <a:xfrm>
            <a:off x="5003640" y="1989000"/>
            <a:ext cx="2946600" cy="2732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5"/>
          <p:cNvSpPr/>
          <p:nvPr/>
        </p:nvSpPr>
        <p:spPr>
          <a:xfrm>
            <a:off x="642960" y="2214720"/>
            <a:ext cx="7672320" cy="309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小明小飞发生争执，小明身材高大但是没有还手，小飞认为小明软弱，还继续打他，刚好迎面碰到班主任，老师刚要去训斥小飞，小明却还像没事一样脸上挂着笑容说：“老师我们闹着玩的。”小飞心虚，拔腿就跑，正好头撞在了一个屋角上，这时小飞急忙跑过去背起小飞向医务室跑去。小明的宽容使二人后来成为好朋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539640" y="1355760"/>
            <a:ext cx="20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小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组合 1"/>
          <p:cNvGrpSpPr/>
          <p:nvPr/>
        </p:nvGrpSpPr>
        <p:grpSpPr>
          <a:xfrm>
            <a:off x="376200" y="1341360"/>
            <a:ext cx="2814840" cy="1594080"/>
            <a:chOff x="376200" y="1341360"/>
            <a:chExt cx="2814840" cy="1594080"/>
          </a:xfrm>
        </p:grpSpPr>
        <p:grpSp>
          <p:nvGrpSpPr>
            <p:cNvPr id="542" name="Group 2"/>
            <p:cNvGrpSpPr/>
            <p:nvPr/>
          </p:nvGrpSpPr>
          <p:grpSpPr>
            <a:xfrm>
              <a:off x="1463760" y="1756800"/>
              <a:ext cx="1727280" cy="862920"/>
              <a:chOff x="1463760" y="1756800"/>
              <a:chExt cx="1727280" cy="862920"/>
            </a:xfrm>
          </p:grpSpPr>
          <p:sp>
            <p:nvSpPr>
              <p:cNvPr id="543" name="AutoShape 3"/>
              <p:cNvSpPr/>
              <p:nvPr/>
            </p:nvSpPr>
            <p:spPr>
              <a:xfrm>
                <a:off x="1463760" y="1756800"/>
                <a:ext cx="1727280" cy="86292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4"/>
              <p:cNvSpPr/>
              <p:nvPr/>
            </p:nvSpPr>
            <p:spPr>
              <a:xfrm>
                <a:off x="1824480" y="1899720"/>
                <a:ext cx="122868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6600"/>
                    </a:solidFill>
                    <a:latin typeface="Arial"/>
                    <a:ea typeface="微软雅黑"/>
                  </a:rPr>
                  <a:t>交 流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5" name="Picture 5" descr="4"/>
            <p:cNvPicPr/>
            <p:nvPr/>
          </p:nvPicPr>
          <p:blipFill>
            <a:blip r:embed="rId2"/>
            <a:stretch/>
          </p:blipFill>
          <p:spPr>
            <a:xfrm>
              <a:off x="376200" y="1341360"/>
              <a:ext cx="1440000" cy="159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TextBox 8"/>
          <p:cNvSpPr/>
          <p:nvPr/>
        </p:nvSpPr>
        <p:spPr>
          <a:xfrm>
            <a:off x="1463760" y="33577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请同学们说一说，当你与同学发生矛盾时应该怎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4"/>
          <p:cNvSpPr/>
          <p:nvPr/>
        </p:nvSpPr>
        <p:spPr>
          <a:xfrm>
            <a:off x="1926720" y="1596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6" descr="san3"/>
          <p:cNvPicPr/>
          <p:nvPr/>
        </p:nvPicPr>
        <p:blipFill>
          <a:blip r:embed="rId1"/>
          <a:stretch/>
        </p:blipFill>
        <p:spPr>
          <a:xfrm>
            <a:off x="628560" y="1312920"/>
            <a:ext cx="1030320" cy="103032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7"/>
          <p:cNvSpPr/>
          <p:nvPr/>
        </p:nvSpPr>
        <p:spPr>
          <a:xfrm>
            <a:off x="1476360" y="259020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</a:t>
            </a:r>
            <a:r>
              <a:rPr b="0" lang="zh-CN" sz="2400" spc="-1" strike="noStrike">
                <a:solidFill>
                  <a:srgbClr val="0070c0"/>
                </a:solidFill>
                <a:latin typeface="Adobe 楷体 Std R"/>
                <a:ea typeface="Adobe 楷体 Std R"/>
              </a:rPr>
              <a:t>在受到欺负时知道如何应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</a:t>
            </a:r>
            <a:r>
              <a:rPr b="0" lang="zh-CN" sz="2400" spc="-1" strike="noStrike">
                <a:solidFill>
                  <a:srgbClr val="0070c0"/>
                </a:solidFill>
                <a:latin typeface="Adobe 楷体 Std R"/>
                <a:ea typeface="Adobe 楷体 Std R"/>
              </a:rPr>
              <a:t>学会关心和善待他人，与人友好相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2857680" y="2786040"/>
            <a:ext cx="357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谢  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"/>
          <p:cNvSpPr/>
          <p:nvPr/>
        </p:nvSpPr>
        <p:spPr>
          <a:xfrm>
            <a:off x="1042920" y="17658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dobe 楷体 Std R"/>
                <a:ea typeface="Adobe 楷体 Std R"/>
              </a:rPr>
              <a:t>  </a:t>
            </a:r>
            <a:r>
              <a:rPr b="0" lang="zh-CN" sz="2400" spc="-1" strike="noStrike">
                <a:solidFill>
                  <a:srgbClr val="7030a0"/>
                </a:solidFill>
                <a:latin typeface="Adobe 楷体 Std R"/>
                <a:ea typeface="Adobe 楷体 Std R"/>
              </a:rPr>
              <a:t>小杰是班里的“小霸王”，他经常欺负低年级的小同学或是把身边的同学打伤，令老师和父母非常头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http://www.zkedu.gov.cn/shownews/uploadfiles_3656/201010/20101020170800687.jpg"/>
          <p:cNvPicPr/>
          <p:nvPr/>
        </p:nvPicPr>
        <p:blipFill>
          <a:blip r:embed="rId1"/>
          <a:stretch/>
        </p:blipFill>
        <p:spPr>
          <a:xfrm>
            <a:off x="3554280" y="2766960"/>
            <a:ext cx="352908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1214280" y="2862720"/>
            <a:ext cx="7037640" cy="15217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你所在的班级有没有“小霸王”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说说他们的“恶行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1"/>
          <p:cNvGrpSpPr/>
          <p:nvPr/>
        </p:nvGrpSpPr>
        <p:grpSpPr>
          <a:xfrm>
            <a:off x="120600" y="1000080"/>
            <a:ext cx="2737080" cy="1278000"/>
            <a:chOff x="120600" y="1000080"/>
            <a:chExt cx="2737080" cy="1278000"/>
          </a:xfrm>
        </p:grpSpPr>
        <p:grpSp>
          <p:nvGrpSpPr>
            <p:cNvPr id="497" name="Group 2"/>
            <p:cNvGrpSpPr/>
            <p:nvPr/>
          </p:nvGrpSpPr>
          <p:grpSpPr>
            <a:xfrm>
              <a:off x="1177920" y="1333800"/>
              <a:ext cx="1679760" cy="695520"/>
              <a:chOff x="1177920" y="1333800"/>
              <a:chExt cx="1679760" cy="695520"/>
            </a:xfrm>
          </p:grpSpPr>
          <p:sp>
            <p:nvSpPr>
              <p:cNvPr id="498" name="AutoShape 3"/>
              <p:cNvSpPr/>
              <p:nvPr/>
            </p:nvSpPr>
            <p:spPr>
              <a:xfrm>
                <a:off x="1177920" y="1333800"/>
                <a:ext cx="1679760" cy="69120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4"/>
              <p:cNvSpPr/>
              <p:nvPr/>
            </p:nvSpPr>
            <p:spPr>
              <a:xfrm>
                <a:off x="1528560" y="1447920"/>
                <a:ext cx="119556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6600"/>
                    </a:solidFill>
                    <a:latin typeface="Arial"/>
                    <a:ea typeface="微软雅黑"/>
                  </a:rPr>
                  <a:t>交 流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0" name="Picture 5" descr="4"/>
            <p:cNvPicPr/>
            <p:nvPr/>
          </p:nvPicPr>
          <p:blipFill>
            <a:blip r:embed="rId2"/>
            <a:stretch/>
          </p:blipFill>
          <p:spPr>
            <a:xfrm>
              <a:off x="120600" y="1000080"/>
              <a:ext cx="1400040" cy="127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矩形 8"/>
          <p:cNvSpPr/>
          <p:nvPr/>
        </p:nvSpPr>
        <p:spPr>
          <a:xfrm>
            <a:off x="3771720" y="206064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横行校园“小霸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9"/>
          <p:cNvSpPr/>
          <p:nvPr/>
        </p:nvSpPr>
        <p:spPr>
          <a:xfrm>
            <a:off x="1187280" y="285264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多学校都有“小霸王”欺凌弱小的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7" descr="http://ngdsb.hinews.cn/res/1/20110110/80071294628349194.jpg"/>
          <p:cNvPicPr/>
          <p:nvPr/>
        </p:nvPicPr>
        <p:blipFill>
          <a:blip r:embed="rId1"/>
          <a:stretch/>
        </p:blipFill>
        <p:spPr>
          <a:xfrm>
            <a:off x="3059280" y="3789360"/>
            <a:ext cx="2857320" cy="203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04" name="横卷形 6"/>
          <p:cNvSpPr/>
          <p:nvPr/>
        </p:nvSpPr>
        <p:spPr>
          <a:xfrm>
            <a:off x="647640" y="1071720"/>
            <a:ext cx="1187640" cy="711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dobe 楷体 Std R"/>
                <a:ea typeface="Adobe 楷体 Std R"/>
              </a:rPr>
              <a:t>知识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矩形 1"/>
          <p:cNvSpPr/>
          <p:nvPr/>
        </p:nvSpPr>
        <p:spPr>
          <a:xfrm>
            <a:off x="826920" y="170028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们凭借身体或人数众多的优势殴打同学、辱骂、戏弄、讽刺、孤立同学，甚至敲诈勒索、抢夺同学物品等，给身边人带来极大的身心伤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" descr="http://szb.dongyingnews.cn:8018/hhkwb/20110930/WB11093004_5.jpg"/>
          <p:cNvPicPr/>
          <p:nvPr/>
        </p:nvPicPr>
        <p:blipFill>
          <a:blip r:embed="rId1"/>
          <a:stretch/>
        </p:blipFill>
        <p:spPr>
          <a:xfrm>
            <a:off x="5219640" y="1878120"/>
            <a:ext cx="280836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"/>
          <p:cNvSpPr/>
          <p:nvPr/>
        </p:nvSpPr>
        <p:spPr>
          <a:xfrm>
            <a:off x="684360" y="3492360"/>
            <a:ext cx="75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我被同学欺负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最近，东东他们经常欺负我，总是在班上喊我“小白鼠”，有时无缘无故就骂我，还有意将我的书藏起来，使我被老师批评。告诉妈妈吧，她总要我离他们远点，不要惹他们。想告诉老师吧，又怕他们报复我，只能自己忍着。有时，我真想和他们大吵一下，可就是说不出口。我一见到他们就害怕，谁能帮帮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2" descr="未标题-1.png"/>
          <p:cNvPicPr/>
          <p:nvPr/>
        </p:nvPicPr>
        <p:blipFill>
          <a:blip r:embed="rId1"/>
          <a:stretch/>
        </p:blipFill>
        <p:spPr>
          <a:xfrm>
            <a:off x="395280" y="1101600"/>
            <a:ext cx="2900520" cy="1606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"/>
          <p:cNvSpPr/>
          <p:nvPr/>
        </p:nvSpPr>
        <p:spPr>
          <a:xfrm>
            <a:off x="819000" y="3433320"/>
            <a:ext cx="46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被同学欺负了怎么办？快给上面的同学出出主意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1"/>
          <p:cNvGrpSpPr/>
          <p:nvPr/>
        </p:nvGrpSpPr>
        <p:grpSpPr>
          <a:xfrm>
            <a:off x="473040" y="1125360"/>
            <a:ext cx="2814840" cy="1594080"/>
            <a:chOff x="473040" y="1125360"/>
            <a:chExt cx="2814840" cy="1594080"/>
          </a:xfrm>
        </p:grpSpPr>
        <p:grpSp>
          <p:nvGrpSpPr>
            <p:cNvPr id="511" name="Group 2"/>
            <p:cNvGrpSpPr/>
            <p:nvPr/>
          </p:nvGrpSpPr>
          <p:grpSpPr>
            <a:xfrm>
              <a:off x="1560600" y="1540800"/>
              <a:ext cx="1727280" cy="862920"/>
              <a:chOff x="1560600" y="1540800"/>
              <a:chExt cx="1727280" cy="862920"/>
            </a:xfrm>
          </p:grpSpPr>
          <p:sp>
            <p:nvSpPr>
              <p:cNvPr id="512" name="AutoShape 3"/>
              <p:cNvSpPr/>
              <p:nvPr/>
            </p:nvSpPr>
            <p:spPr>
              <a:xfrm>
                <a:off x="1560600" y="1540800"/>
                <a:ext cx="1727280" cy="86292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4"/>
              <p:cNvSpPr/>
              <p:nvPr/>
            </p:nvSpPr>
            <p:spPr>
              <a:xfrm>
                <a:off x="1921320" y="1683720"/>
                <a:ext cx="122868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6600"/>
                    </a:solidFill>
                    <a:latin typeface="Arial"/>
                    <a:ea typeface="微软雅黑"/>
                  </a:rPr>
                  <a:t>交 流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4" name="Picture 5" descr="4"/>
            <p:cNvPicPr/>
            <p:nvPr/>
          </p:nvPicPr>
          <p:blipFill>
            <a:blip r:embed="rId2"/>
            <a:stretch/>
          </p:blipFill>
          <p:spPr>
            <a:xfrm>
              <a:off x="473040" y="1125360"/>
              <a:ext cx="1440000" cy="159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5" name="Picture 2" descr="http://i1.sinaimg.cn/bb/health/2005-08-29/U1129P20T47D74147F776DT20050829105455.jpg"/>
          <p:cNvPicPr/>
          <p:nvPr/>
        </p:nvPicPr>
        <p:blipFill>
          <a:blip r:embed="rId3"/>
          <a:stretch/>
        </p:blipFill>
        <p:spPr>
          <a:xfrm>
            <a:off x="5902200" y="2565360"/>
            <a:ext cx="1838520" cy="2575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矩形 2" descr=""/>
          <p:cNvPicPr/>
          <p:nvPr/>
        </p:nvPicPr>
        <p:blipFill>
          <a:blip r:embed="rId1"/>
          <a:stretch/>
        </p:blipFill>
        <p:spPr>
          <a:xfrm>
            <a:off x="3139920" y="1627200"/>
            <a:ext cx="3071880" cy="701640"/>
          </a:xfrm>
          <a:prstGeom prst="rect">
            <a:avLst/>
          </a:prstGeom>
          <a:ln w="0">
            <a:noFill/>
          </a:ln>
        </p:spPr>
      </p:pic>
      <p:sp>
        <p:nvSpPr>
          <p:cNvPr id="517" name="矩形 3"/>
          <p:cNvSpPr/>
          <p:nvPr/>
        </p:nvSpPr>
        <p:spPr>
          <a:xfrm>
            <a:off x="4643280" y="2565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受到欺凌时，最好不要表现出害怕或哭泣，这会让欺负你的人觉得你很好欺负而继续欺负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图片4副本"/>
          <p:cNvPicPr/>
          <p:nvPr/>
        </p:nvPicPr>
        <p:blipFill>
          <a:blip r:embed="rId2"/>
          <a:stretch/>
        </p:blipFill>
        <p:spPr>
          <a:xfrm>
            <a:off x="1258920" y="2708280"/>
            <a:ext cx="2665440" cy="2508120"/>
          </a:xfrm>
          <a:prstGeom prst="rect">
            <a:avLst/>
          </a:prstGeom>
          <a:ln w="0">
            <a:noFill/>
          </a:ln>
        </p:spPr>
      </p:pic>
      <p:sp>
        <p:nvSpPr>
          <p:cNvPr id="519" name="横卷形 5"/>
          <p:cNvSpPr/>
          <p:nvPr/>
        </p:nvSpPr>
        <p:spPr>
          <a:xfrm>
            <a:off x="647640" y="1071720"/>
            <a:ext cx="1187640" cy="711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dobe 楷体 Std R"/>
                <a:ea typeface="Adobe 楷体 Std R"/>
              </a:rPr>
              <a:t>知识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05:00:53Z</dcterms:created>
  <dc:creator>Administrator</dc:creator>
  <dc:description/>
  <cp:keywords/>
  <dc:language>en-US</dc:language>
  <cp:lastModifiedBy>微软拥护</cp:lastModifiedBy>
  <dcterms:modified xsi:type="dcterms:W3CDTF">2013-07-31T06:08:03Z</dcterms:modified>
  <cp:revision>39</cp:revision>
  <dc:subject/>
  <dc:title>阻止“校园欺凌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