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8.jpeg" ContentType="image/jpeg"/>
  <Override PartName="/ppt/media/image27.gif" ContentType="image/gif"/>
  <Override PartName="/ppt/media/image24.gif" ContentType="image/gif"/>
  <Override PartName="/ppt/media/image32.jpeg" ContentType="image/jpeg"/>
  <Override PartName="/ppt/media/image22.gif" ContentType="image/gif"/>
  <Override PartName="/ppt/media/image18.jpeg" ContentType="image/jpeg"/>
  <Override PartName="/ppt/media/image5.gif" ContentType="image/gif"/>
  <Override PartName="/ppt/media/image30.gif" ContentType="image/gif"/>
  <Override PartName="/ppt/media/image14.jpeg" ContentType="image/jpeg"/>
  <Override PartName="/ppt/media/image7.gif" ContentType="image/gif"/>
  <Override PartName="/ppt/media/image9.jpeg" ContentType="image/jpeg"/>
  <Override PartName="/ppt/media/image25.gif" ContentType="image/gif"/>
  <Override PartName="/ppt/media/image8.jpeg" ContentType="image/jpeg"/>
  <Override PartName="/ppt/media/image13.jpeg" ContentType="image/jpeg"/>
  <Override PartName="/ppt/media/image20.gif" ContentType="image/gif"/>
  <Override PartName="/ppt/media/image11.gif" ContentType="image/gif"/>
  <Override PartName="/ppt/media/image12.jpeg" ContentType="image/jpeg"/>
  <Override PartName="/ppt/media/image37.jpeg" ContentType="image/jpeg"/>
  <Override PartName="/ppt/media/image31.jpeg" ContentType="image/jpeg"/>
  <Override PartName="/ppt/media/image34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3.gif" ContentType="image/gif"/>
  <Override PartName="/ppt/media/image10.jpeg" ContentType="image/jpeg"/>
  <Override PartName="/ppt/media/image2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341-886B-486D-A2BC-6B1C213EF1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2E6567-A18D-4C32-8A8B-8A6B0E129A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FC6-7B73-497E-A09D-26234A8E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CD3-B846-4992-813E-50982FC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6FE-54DB-4C90-80F9-583DBB0F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083-FE70-458F-9028-2A80698C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612-EB21-47E0-B3B7-D642DA8B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0CC-5F6D-4B64-9AE2-4EA7760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9A6-680A-4928-B13E-303F8A81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38E-A628-46BD-BF9F-2BCC7B77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198-6F21-4ACC-AEA2-2F18FEEF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582-E6C4-4FA0-930F-AFA9601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F4F-6DCF-4375-B0CE-B60850C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5D3-4EF7-4BAA-8E2D-D6C8C66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A3B-7438-405F-A715-1107B9CC32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3.gif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image" Target="../media/image2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19280" y="1628640"/>
            <a:ext cx="532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7A Unit8 Gramma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324160" y="755640"/>
            <a:ext cx="5076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o --- g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 ---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atch --- 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ait ---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at --- 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ean --- clea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---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lk --- 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71920" y="804960"/>
            <a:ext cx="942480" cy="5256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动词现在分词一览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664400" y="5446800"/>
            <a:ext cx="792360" cy="712800"/>
          </a:xfrm>
          <a:custGeom>
            <a:avLst/>
            <a:gdLst>
              <a:gd name="textAreaLeft" fmla="*/ 46080 w 792360"/>
              <a:gd name="textAreaRight" fmla="*/ 746280 w 79236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4010" h="21600">
                <a:moveTo>
                  <a:pt x="0" y="0"/>
                </a:moveTo>
                <a:lnTo>
                  <a:pt x="24010" y="0"/>
                </a:lnTo>
                <a:lnTo>
                  <a:pt x="24010" y="21600"/>
                </a:lnTo>
                <a:lnTo>
                  <a:pt x="0" y="21600"/>
                </a:lnTo>
                <a:close/>
              </a:path>
              <a:path fill="lightenLess" w="24010" h="21600">
                <a:moveTo>
                  <a:pt x="0" y="0"/>
                </a:moveTo>
                <a:lnTo>
                  <a:pt x="24010" y="0"/>
                </a:lnTo>
                <a:lnTo>
                  <a:pt x="22610" y="1400"/>
                </a:lnTo>
                <a:lnTo>
                  <a:pt x="1400" y="1400"/>
                </a:lnTo>
                <a:close/>
              </a:path>
              <a:path fill="darken" w="24010" h="21600">
                <a:moveTo>
                  <a:pt x="24010" y="0"/>
                </a:moveTo>
                <a:lnTo>
                  <a:pt x="24010" y="21600"/>
                </a:lnTo>
                <a:lnTo>
                  <a:pt x="22610" y="20200"/>
                </a:lnTo>
                <a:lnTo>
                  <a:pt x="22610" y="1400"/>
                </a:lnTo>
                <a:close/>
              </a:path>
              <a:path fill="darkenLess" w="24010" h="21600">
                <a:moveTo>
                  <a:pt x="24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" y="20200"/>
                </a:lnTo>
                <a:close/>
              </a:path>
              <a:path fill="lighten" w="24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0" h="21600">
                <a:moveTo>
                  <a:pt x="8506" y="10800"/>
                </a:moveTo>
                <a:lnTo>
                  <a:pt x="19011" y="3794"/>
                </a:lnTo>
                <a:lnTo>
                  <a:pt x="19011" y="17806"/>
                </a:lnTo>
                <a:close/>
              </a:path>
              <a:path fill="darken" w="24010" h="21600">
                <a:moveTo>
                  <a:pt x="4998" y="3794"/>
                </a:moveTo>
                <a:lnTo>
                  <a:pt x="6661" y="3794"/>
                </a:lnTo>
                <a:lnTo>
                  <a:pt x="6661" y="17806"/>
                </a:lnTo>
                <a:lnTo>
                  <a:pt x="499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688840" y="709200"/>
            <a:ext cx="48610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--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ke ---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ave --- h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ke ---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e --- 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kate---sk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nce --- d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ve --- le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actise---prac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38880" y="900000"/>
            <a:ext cx="942480" cy="52563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动词现在分词一览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7664400" y="5446800"/>
            <a:ext cx="792360" cy="712800"/>
          </a:xfrm>
          <a:custGeom>
            <a:avLst/>
            <a:gdLst>
              <a:gd name="textAreaLeft" fmla="*/ 46080 w 792360"/>
              <a:gd name="textAreaRight" fmla="*/ 746280 w 79236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4010" h="21600">
                <a:moveTo>
                  <a:pt x="0" y="0"/>
                </a:moveTo>
                <a:lnTo>
                  <a:pt x="24010" y="0"/>
                </a:lnTo>
                <a:lnTo>
                  <a:pt x="24010" y="21600"/>
                </a:lnTo>
                <a:lnTo>
                  <a:pt x="0" y="21600"/>
                </a:lnTo>
                <a:close/>
              </a:path>
              <a:path fill="lightenLess" w="24010" h="21600">
                <a:moveTo>
                  <a:pt x="0" y="0"/>
                </a:moveTo>
                <a:lnTo>
                  <a:pt x="24010" y="0"/>
                </a:lnTo>
                <a:lnTo>
                  <a:pt x="22610" y="1400"/>
                </a:lnTo>
                <a:lnTo>
                  <a:pt x="1400" y="1400"/>
                </a:lnTo>
                <a:close/>
              </a:path>
              <a:path fill="darken" w="24010" h="21600">
                <a:moveTo>
                  <a:pt x="24010" y="0"/>
                </a:moveTo>
                <a:lnTo>
                  <a:pt x="24010" y="21600"/>
                </a:lnTo>
                <a:lnTo>
                  <a:pt x="22610" y="20200"/>
                </a:lnTo>
                <a:lnTo>
                  <a:pt x="22610" y="1400"/>
                </a:lnTo>
                <a:close/>
              </a:path>
              <a:path fill="darkenLess" w="24010" h="21600">
                <a:moveTo>
                  <a:pt x="24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" y="20200"/>
                </a:lnTo>
                <a:close/>
              </a:path>
              <a:path fill="lighten" w="24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0" h="21600">
                <a:moveTo>
                  <a:pt x="8506" y="10800"/>
                </a:moveTo>
                <a:lnTo>
                  <a:pt x="19011" y="3794"/>
                </a:lnTo>
                <a:lnTo>
                  <a:pt x="19011" y="17806"/>
                </a:lnTo>
                <a:close/>
              </a:path>
              <a:path fill="darken" w="24010" h="21600">
                <a:moveTo>
                  <a:pt x="4998" y="3794"/>
                </a:moveTo>
                <a:lnTo>
                  <a:pt x="6661" y="3794"/>
                </a:lnTo>
                <a:lnTo>
                  <a:pt x="6661" y="17806"/>
                </a:lnTo>
                <a:lnTo>
                  <a:pt x="499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98840" y="426600"/>
            <a:ext cx="465912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hop --- sh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t --- cu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op ---st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 --- pu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et --- g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egin ---beg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wim ---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at--- ch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---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un--- 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 --- 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75320" y="858960"/>
            <a:ext cx="942480" cy="5256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动词现在分词一览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7664400" y="5446800"/>
            <a:ext cx="792360" cy="712800"/>
          </a:xfrm>
          <a:custGeom>
            <a:avLst/>
            <a:gdLst>
              <a:gd name="textAreaLeft" fmla="*/ 46080 w 792360"/>
              <a:gd name="textAreaRight" fmla="*/ 746280 w 79236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4010" h="21600">
                <a:moveTo>
                  <a:pt x="0" y="0"/>
                </a:moveTo>
                <a:lnTo>
                  <a:pt x="24010" y="0"/>
                </a:lnTo>
                <a:lnTo>
                  <a:pt x="24010" y="21600"/>
                </a:lnTo>
                <a:lnTo>
                  <a:pt x="0" y="21600"/>
                </a:lnTo>
                <a:close/>
              </a:path>
              <a:path fill="lightenLess" w="24010" h="21600">
                <a:moveTo>
                  <a:pt x="0" y="0"/>
                </a:moveTo>
                <a:lnTo>
                  <a:pt x="24010" y="0"/>
                </a:lnTo>
                <a:lnTo>
                  <a:pt x="22610" y="1400"/>
                </a:lnTo>
                <a:lnTo>
                  <a:pt x="1400" y="1400"/>
                </a:lnTo>
                <a:close/>
              </a:path>
              <a:path fill="darken" w="24010" h="21600">
                <a:moveTo>
                  <a:pt x="24010" y="0"/>
                </a:moveTo>
                <a:lnTo>
                  <a:pt x="24010" y="21600"/>
                </a:lnTo>
                <a:lnTo>
                  <a:pt x="22610" y="20200"/>
                </a:lnTo>
                <a:lnTo>
                  <a:pt x="22610" y="1400"/>
                </a:lnTo>
                <a:close/>
              </a:path>
              <a:path fill="darkenLess" w="24010" h="21600">
                <a:moveTo>
                  <a:pt x="24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" y="20200"/>
                </a:lnTo>
                <a:close/>
              </a:path>
              <a:path fill="lighten" w="24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0" h="21600">
                <a:moveTo>
                  <a:pt x="8506" y="10800"/>
                </a:moveTo>
                <a:lnTo>
                  <a:pt x="19011" y="3794"/>
                </a:lnTo>
                <a:lnTo>
                  <a:pt x="19011" y="17806"/>
                </a:lnTo>
                <a:close/>
              </a:path>
              <a:path fill="darken" w="24010" h="21600">
                <a:moveTo>
                  <a:pt x="4998" y="3794"/>
                </a:moveTo>
                <a:lnTo>
                  <a:pt x="6661" y="3794"/>
                </a:lnTo>
                <a:lnTo>
                  <a:pt x="6661" y="17806"/>
                </a:lnTo>
                <a:lnTo>
                  <a:pt x="499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457200"/>
            <a:ext cx="648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写出下列动词的现在分词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184400"/>
            <a:ext cx="626436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danc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wri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sit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g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ea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loo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car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begi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p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1327320"/>
            <a:ext cx="208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327320"/>
            <a:ext cx="194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048040"/>
            <a:ext cx="1942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048040"/>
            <a:ext cx="167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774880"/>
            <a:ext cx="17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766960"/>
            <a:ext cx="16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3080" y="3494160"/>
            <a:ext cx="17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3280" y="3422520"/>
            <a:ext cx="1657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3080" y="4214880"/>
            <a:ext cx="208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72360" y="4141800"/>
            <a:ext cx="216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r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2920" y="4917960"/>
            <a:ext cx="244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g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4849920"/>
            <a:ext cx="194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u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1295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1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2481120"/>
            <a:ext cx="82296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Look! Simon  _________ (play) football with his friends in th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t’s 4 o’clock in the afternoon. Daniel __________ (study) in the class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25520"/>
            <a:ext cx="5276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 Black"/>
              </a:rPr>
              <a:t>Exercise A  P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109520"/>
            <a:ext cx="86868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Complete the sentences with the correct forms of the verb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2120" y="2481120"/>
            <a:ext cx="22114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5084640"/>
            <a:ext cx="335124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76320"/>
            <a:ext cx="82296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Millie _________ (write) a letter to her friend about the fashion sh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76320"/>
            <a:ext cx="205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295280"/>
            <a:ext cx="838188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Sandy is a member of the basketball team. Now she ____________ (practise ) with other team me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Where is Amy? Oh, she _________ (talk) to her cousin Shirley. They ___________ (wait) for the school b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I have dancing lessons. I ___________ (look) for my dancing shoe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1905120"/>
            <a:ext cx="29736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Medium"/>
              </a:rPr>
              <a:t>is prac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276720"/>
            <a:ext cx="26668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572000"/>
            <a:ext cx="304632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are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5259240"/>
            <a:ext cx="26672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am 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0600" y="1371600"/>
            <a:ext cx="22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定句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0600" y="3429000"/>
            <a:ext cx="22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句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981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819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 am not playing football at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8006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re you listening to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 is your father do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2133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+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+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038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Be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s.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+ doing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D19574_"/>
          <p:cNvPicPr/>
          <p:nvPr/>
        </p:nvPicPr>
        <p:blipFill>
          <a:blip r:embed="rId2"/>
          <a:stretch/>
        </p:blipFill>
        <p:spPr>
          <a:xfrm>
            <a:off x="4692600" y="260280"/>
            <a:ext cx="4451400" cy="2982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95280" y="1557360"/>
            <a:ext cx="38908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h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he d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852640"/>
            <a:ext cx="56847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rin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wate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now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8360" y="4005360"/>
            <a:ext cx="6696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he l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on the gra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now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8360" y="4941720"/>
            <a:ext cx="2286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Yes, h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5"/>
          <p:cNvSpPr txBox="1"/>
          <p:nvPr/>
        </p:nvSpPr>
        <p:spPr>
          <a:xfrm>
            <a:off x="250920" y="0"/>
            <a:ext cx="42955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33"/>
                </a:soli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Practise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33"/>
              </a:soli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1089000"/>
            <a:ext cx="3887640" cy="392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11640" y="1147680"/>
            <a:ext cx="49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s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r.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51960" y="2382840"/>
            <a:ext cx="42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e sing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1796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o, he isn’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e     d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th a d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3716280"/>
            <a:ext cx="14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3816360" cy="3922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164360" y="371628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3716280"/>
            <a:ext cx="118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1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895640" cy="4875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21440" y="830160"/>
            <a:ext cx="40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h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22520" y="210672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o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b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4897440" cy="4876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35280" y="4724280"/>
            <a:ext cx="703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o,they are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’r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ng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oo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D13764_"/>
          <p:cNvPicPr/>
          <p:nvPr/>
        </p:nvPicPr>
        <p:blipFill>
          <a:blip r:embed="rId2"/>
          <a:stretch/>
        </p:blipFill>
        <p:spPr>
          <a:xfrm>
            <a:off x="179280" y="0"/>
            <a:ext cx="271476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075120" y="167652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724280" y="168912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73800" y="17017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240080" y="1689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54800" y="1674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G00109_"/>
          <p:cNvPicPr/>
          <p:nvPr/>
        </p:nvPicPr>
        <p:blipFill>
          <a:blip r:embed="rId3"/>
          <a:stretch/>
        </p:blipFill>
        <p:spPr>
          <a:xfrm>
            <a:off x="4370400" y="2316240"/>
            <a:ext cx="361800" cy="69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AG00109_"/>
          <p:cNvPicPr/>
          <p:nvPr/>
        </p:nvPicPr>
        <p:blipFill>
          <a:blip r:embed="rId4"/>
          <a:stretch/>
        </p:blipFill>
        <p:spPr>
          <a:xfrm>
            <a:off x="5840280" y="2316240"/>
            <a:ext cx="355680" cy="67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D19590_"/>
          <p:cNvPicPr/>
          <p:nvPr/>
        </p:nvPicPr>
        <p:blipFill>
          <a:blip r:embed="rId5"/>
          <a:stretch/>
        </p:blipFill>
        <p:spPr>
          <a:xfrm>
            <a:off x="322200" y="3591000"/>
            <a:ext cx="2578320" cy="2847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173400" y="389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321080" y="389880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800600" y="389880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488280" y="3922560"/>
            <a:ext cx="17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51360" y="3925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AG00109_"/>
          <p:cNvPicPr/>
          <p:nvPr/>
        </p:nvPicPr>
        <p:blipFill>
          <a:blip r:embed="rId6"/>
          <a:stretch/>
        </p:blipFill>
        <p:spPr>
          <a:xfrm>
            <a:off x="4416480" y="4500720"/>
            <a:ext cx="477720" cy="91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AG00109_"/>
          <p:cNvPicPr/>
          <p:nvPr/>
        </p:nvPicPr>
        <p:blipFill>
          <a:blip r:embed="rId7"/>
          <a:stretch/>
        </p:blipFill>
        <p:spPr>
          <a:xfrm>
            <a:off x="5952960" y="4567320"/>
            <a:ext cx="433440" cy="82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382680" y="63360"/>
            <a:ext cx="9769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The boy is looking for his book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问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做肯定与否定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niel and his friends are having some cold dri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Her mother is carrying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ots of shopping bag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划线部分提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1268280"/>
            <a:ext cx="87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the boy looking for his book ? Yes, he is. / No, he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440" y="2565360"/>
            <a:ext cx="83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niel and his friends are not having any cold dr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8160" y="386064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is her mother carry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590400" y="0"/>
            <a:ext cx="10188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指出下列句中的时间情境，再完成动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It’s six o’clock in the morning. Simon ______ ( get )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ook ! Some boys ___________ ( make ) model p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The dog _________ ( lie ) on the ground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At the moment, we _________ ( listen ) to our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Listen ! Daniel ____________( sing ) an English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The Class1, Grade 7 students ______________( have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s a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 Amy and Sandy ____________( watch ) TV right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. What _____ you _____ ( do 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_________( have ) my su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. Where _________ h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 ______________( talk ) with his grand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. She ____________ (write) an English story th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9080" y="2602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1800" y="83664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360" y="126828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2000" y="162864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213372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1080" y="256536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5800" y="335772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2720" y="38606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3800" y="38606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3440" y="422100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1440" y="47242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6520" y="4653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8360" y="508464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551664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ey words with present continuous tense: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键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484280"/>
            <a:ext cx="80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ook!                     List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ow                       at the moment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t present               right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’s …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.      over here/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’s sb.?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these days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上下文提示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( Be quiet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\ We can’t go out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要求改写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They are learning something at prese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否定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Amy and Sandy talk on the phone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现在进行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is making a toy plane in the sitting room.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般疑问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They are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ing and laug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对划线部分提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I am not doing anything now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改为肯定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360" y="806400"/>
            <a:ext cx="64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y aren’t learning anything a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600" y="177336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y and Sandy are talking on the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7800" y="2637000"/>
            <a:ext cx="69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she making a toy plane in the sitt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0520" y="35733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are they do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" y="458136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am doing something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It is 5 p.m. Rewrite the sentences to say what is going on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1622160" cy="1752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1981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Every day at 5 p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72428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ther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487692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ther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1055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ook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5229360"/>
            <a:ext cx="27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s c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52680" y="2133720"/>
            <a:ext cx="1905120" cy="1660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3520" y="23623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ys _____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27082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228600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74320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re 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68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Every day at 5 p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6858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286000" cy="2021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8600" y="419112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r. Li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4365720"/>
            <a:ext cx="228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r.Li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407664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watch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4724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s 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581280" y="1600200"/>
            <a:ext cx="1565280" cy="1752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8600" y="182880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y 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_coff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4936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drink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198900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s dr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2133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0" y="0"/>
            <a:ext cx="9117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项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1.Wang Tao is __ his English book, but he can’t___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finding; look for      B. looking for;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looking for; look at  D. looking at;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)2. Look ! Liu Ming is ___ on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runing      B. run    C. running  D.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 3. Why are you_____ on the g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lying    B. lieing   C. liing      D. 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4. Simon often ____ with his friends on the phone. 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____ with a friend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chats; chats        B. chatting; ch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chat; chatting      D. chats; ch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 5. ___they still _____football n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Is; playing       B. Are;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Are; play         D. Are;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6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80" y="26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30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27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2160" y="0"/>
            <a:ext cx="916920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根据所给汉语完成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准备邀请他参加你的生日聚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re you going 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______ him ___ your birthday par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刻我们班上的学生们在干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 are the students in our class doing____ ______ 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现在没空。就在此刻我正在看望我的叔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not _____ now. I _____ _______ my uncle right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伦正在等着轮到她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len is _______ _____ her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正在为我的新上衣付款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_______ _______ my new c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两个学生正在树下吃冰淇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two students are _____ _____ _____ under a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在外面呆得太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n’t ______ ______ too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1440" y="6922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v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7800" y="692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00" y="1557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8320" y="155736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8520" y="242100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3800" y="242100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    vis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77800" y="328464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iting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8160" y="3213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3800" y="4076640"/>
            <a:ext cx="21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ying    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8880" y="501336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ating  ice c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8520" y="580536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y     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E02647_"/>
          <p:cNvPicPr/>
          <p:nvPr/>
        </p:nvPicPr>
        <p:blipFill>
          <a:blip r:embed="rId2"/>
          <a:stretch/>
        </p:blipFill>
        <p:spPr>
          <a:xfrm>
            <a:off x="0" y="268200"/>
            <a:ext cx="3330720" cy="2963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917800" y="138744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815000" y="13874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738840" y="1401840"/>
            <a:ext cx="8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016520" y="1362240"/>
            <a:ext cx="11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6160" y="1360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57640" y="4468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443480" y="447660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932520" y="45036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208560" y="44625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710480" y="449748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7513560" y="137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3319560"/>
            <a:ext cx="3333600" cy="306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G00109_"/>
          <p:cNvPicPr/>
          <p:nvPr/>
        </p:nvPicPr>
        <p:blipFill>
          <a:blip r:embed="rId4"/>
          <a:stretch/>
        </p:blipFill>
        <p:spPr>
          <a:xfrm>
            <a:off x="4245120" y="212724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G00109_"/>
          <p:cNvPicPr/>
          <p:nvPr/>
        </p:nvPicPr>
        <p:blipFill>
          <a:blip r:embed="rId5"/>
          <a:stretch/>
        </p:blipFill>
        <p:spPr>
          <a:xfrm>
            <a:off x="6226200" y="213660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G00109_"/>
          <p:cNvPicPr/>
          <p:nvPr/>
        </p:nvPicPr>
        <p:blipFill>
          <a:blip r:embed="rId6"/>
          <a:stretch/>
        </p:blipFill>
        <p:spPr>
          <a:xfrm>
            <a:off x="7818480" y="210816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G00109_"/>
          <p:cNvPicPr/>
          <p:nvPr/>
        </p:nvPicPr>
        <p:blipFill>
          <a:blip r:embed="rId7"/>
          <a:stretch/>
        </p:blipFill>
        <p:spPr>
          <a:xfrm>
            <a:off x="6415200" y="513396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G00109_"/>
          <p:cNvPicPr/>
          <p:nvPr/>
        </p:nvPicPr>
        <p:blipFill>
          <a:blip r:embed="rId8"/>
          <a:stretch/>
        </p:blipFill>
        <p:spPr>
          <a:xfrm>
            <a:off x="7943760" y="5068800"/>
            <a:ext cx="362160" cy="69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G00109_"/>
          <p:cNvPicPr/>
          <p:nvPr/>
        </p:nvPicPr>
        <p:blipFill>
          <a:blip r:embed="rId9"/>
          <a:stretch/>
        </p:blipFill>
        <p:spPr>
          <a:xfrm>
            <a:off x="3624120" y="5038560"/>
            <a:ext cx="362160" cy="692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21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现在要走了。晚些时候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______ now. See you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正在为我们的英语老师举办一个生日聚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____ ______ a birthday party ____ our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一些朋友正在唱歌跳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me of my friends are _______ and _______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080" y="476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5800" y="476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  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9800" y="12682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80360" y="213372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21337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464000" cy="5516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75760" y="5560920"/>
            <a:ext cx="1454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5440" y="4629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02440" y="5560920"/>
            <a:ext cx="7207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talk</a:t>
            </a:r>
            <a:r>
              <a:rPr b="1" lang="en-US" sz="4300" spc="-1" strike="noStrike">
                <a:solidFill>
                  <a:srgbClr val="cc3300"/>
                </a:solidFill>
                <a:latin typeface="Arial"/>
              </a:rPr>
              <a:t>ing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40560" y="5688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11640" y="40428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ANI_023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2543400" cy="3622680"/>
          </a:xfrm>
          <a:prstGeom prst="rect">
            <a:avLst/>
          </a:prstGeom>
          <a:ln w="0">
            <a:noFill/>
          </a:ln>
        </p:spPr>
      </p:pic>
      <p:pic>
        <p:nvPicPr>
          <p:cNvPr id="280" name="ANI_022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527280" cy="2351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87240" y="312408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1440" y="55688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AG00027_" descr=""/>
          <p:cNvPicPr/>
          <p:nvPr/>
        </p:nvPicPr>
        <p:blipFill>
          <a:blip r:embed="rId4"/>
          <a:stretch/>
        </p:blipFill>
        <p:spPr>
          <a:xfrm>
            <a:off x="1015920" y="1143000"/>
            <a:ext cx="2286000" cy="1957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65040" y="191124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iving/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bike2"/>
          <p:cNvPicPr/>
          <p:nvPr/>
        </p:nvPicPr>
        <p:blipFill>
          <a:blip r:embed="rId2"/>
          <a:stretch/>
        </p:blipFill>
        <p:spPr>
          <a:xfrm>
            <a:off x="0" y="1049400"/>
            <a:ext cx="9144000" cy="1925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371520" y="1486080"/>
            <a:ext cx="37256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hat is he do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walk"/>
          <p:cNvPicPr/>
          <p:nvPr/>
        </p:nvPicPr>
        <p:blipFill>
          <a:blip r:embed="rId3"/>
          <a:stretch/>
        </p:blipFill>
        <p:spPr>
          <a:xfrm>
            <a:off x="847800" y="3511440"/>
            <a:ext cx="2043000" cy="2932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3697200" y="3716280"/>
            <a:ext cx="39909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hat is she do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39560" y="2286000"/>
            <a:ext cx="40910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He’s rid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a b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817800" y="4567320"/>
            <a:ext cx="30686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he’s wal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254160" y="187200"/>
            <a:ext cx="429552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33"/>
                </a:soli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Practise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33"/>
              </a:soli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132000" y="2965320"/>
            <a:ext cx="689040" cy="2633760"/>
            <a:chOff x="3132000" y="2965320"/>
            <a:chExt cx="689040" cy="2633760"/>
          </a:xfrm>
        </p:grpSpPr>
        <p:sp>
          <p:nvSpPr>
            <p:cNvPr id="293" name=""/>
            <p:cNvSpPr/>
            <p:nvPr/>
          </p:nvSpPr>
          <p:spPr>
            <a:xfrm>
              <a:off x="3132000" y="296532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4520" y="4032360"/>
              <a:ext cx="68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2000" y="483696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338280" y="1268280"/>
            <a:ext cx="15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6520" y="2133720"/>
            <a:ext cx="44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he run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n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735280" cy="3262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9280" y="2924280"/>
            <a:ext cx="60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o,he is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e play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footb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es,he 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99520" y="1268280"/>
            <a:ext cx="43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avid do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AG00033_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178000" cy="2643120"/>
          </a:xfrm>
          <a:prstGeom prst="rect">
            <a:avLst/>
          </a:prstGeom>
          <a:ln w="0">
            <a:noFill/>
          </a:ln>
        </p:spPr>
      </p:pic>
      <p:pic>
        <p:nvPicPr>
          <p:cNvPr id="302" name="BD13764_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2833560" cy="3733920"/>
          </a:xfrm>
          <a:prstGeom prst="rect">
            <a:avLst/>
          </a:prstGeom>
          <a:ln w="0">
            <a:noFill/>
          </a:ln>
        </p:spPr>
      </p:pic>
      <p:pic>
        <p:nvPicPr>
          <p:cNvPr id="303" name="PH01458J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319480" cy="3124440"/>
          </a:xfrm>
          <a:prstGeom prst="rect">
            <a:avLst/>
          </a:prstGeom>
          <a:ln w="0">
            <a:noFill/>
          </a:ln>
        </p:spPr>
      </p:pic>
      <p:pic>
        <p:nvPicPr>
          <p:cNvPr id="304" name="j0095748" descr=""/>
          <p:cNvPicPr/>
          <p:nvPr/>
        </p:nvPicPr>
        <p:blipFill>
          <a:blip r:embed="rId5"/>
          <a:stretch/>
        </p:blipFill>
        <p:spPr>
          <a:xfrm>
            <a:off x="6400800" y="228600"/>
            <a:ext cx="2519280" cy="3247920"/>
          </a:xfrm>
          <a:prstGeom prst="rect">
            <a:avLst/>
          </a:prstGeom>
          <a:ln w="0">
            <a:noFill/>
          </a:ln>
        </p:spPr>
      </p:pic>
      <p:pic>
        <p:nvPicPr>
          <p:cNvPr id="305" name="BD19564_" descr=""/>
          <p:cNvPicPr/>
          <p:nvPr/>
        </p:nvPicPr>
        <p:blipFill>
          <a:blip r:embed="rId6"/>
          <a:stretch/>
        </p:blipFill>
        <p:spPr>
          <a:xfrm>
            <a:off x="6400800" y="3505320"/>
            <a:ext cx="2081160" cy="3124080"/>
          </a:xfrm>
          <a:prstGeom prst="rect">
            <a:avLst/>
          </a:prstGeom>
          <a:ln w="0">
            <a:noFill/>
          </a:ln>
        </p:spPr>
      </p:pic>
      <p:pic>
        <p:nvPicPr>
          <p:cNvPr id="306" name="3d_rw16" descr=""/>
          <p:cNvPicPr/>
          <p:nvPr/>
        </p:nvPicPr>
        <p:blipFill>
          <a:blip r:embed="rId7"/>
          <a:stretch/>
        </p:blipFill>
        <p:spPr>
          <a:xfrm>
            <a:off x="0" y="762120"/>
            <a:ext cx="2819520" cy="2517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15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Ask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4120" y="914400"/>
            <a:ext cx="441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she doing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2767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e’s playing badmin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092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486400" y="9144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1143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h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35053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’s playing table tenn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What (1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you______(do) now,A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I am in the Sunnyside Shopping Mall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imon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 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go) with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Yes. He (3)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ome football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What (4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Kitty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d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Oh! Kitty and Sandy(5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eat)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Where is Mill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She is in the shoe shop. She (6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pay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her new sh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0"/>
            <a:ext cx="1619280" cy="1325880"/>
            <a:chOff x="0" y="0"/>
            <a:chExt cx="1619280" cy="132588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19280" cy="10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63240" y="927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Sim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47640" y="0"/>
            <a:ext cx="3240360" cy="1341720"/>
            <a:chOff x="1547640" y="0"/>
            <a:chExt cx="3240360" cy="1341720"/>
          </a:xfrm>
        </p:grpSpPr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1547640" y="0"/>
              <a:ext cx="2183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690560" y="973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 Black"/>
                </a:rPr>
                <a:t>Kitty and San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780000" y="0"/>
            <a:ext cx="1873080" cy="1327680"/>
            <a:chOff x="3780000" y="0"/>
            <a:chExt cx="1873080" cy="132768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3780000" y="0"/>
              <a:ext cx="187308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479840" y="92880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Mill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651640" y="0"/>
            <a:ext cx="1571400" cy="1244880"/>
            <a:chOff x="5651640" y="0"/>
            <a:chExt cx="1571400" cy="1244880"/>
          </a:xfrm>
        </p:grpSpPr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5651640" y="0"/>
              <a:ext cx="151092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225480" y="8460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Dan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380360" y="0"/>
            <a:ext cx="1763640" cy="1292760"/>
            <a:chOff x="7380360" y="0"/>
            <a:chExt cx="1763640" cy="1292760"/>
          </a:xfrm>
        </p:grpSpPr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7380360" y="0"/>
              <a:ext cx="176364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167680" y="89388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A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635280" y="134136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35640" y="1268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270828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4720" y="270828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31417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0" y="3933720"/>
            <a:ext cx="129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3640" y="400536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2720" y="450864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56610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p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(7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Daniel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play) computer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Yes! How do you know that,M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He always does so. What dou you have,A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I (8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carry) lots of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hopping bag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Don`t stay out too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OK.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ee you late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 M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1619280" cy="1325880"/>
            <a:chOff x="0" y="0"/>
            <a:chExt cx="1619280" cy="132588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19280" cy="10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63240" y="927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Sim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47640" y="0"/>
            <a:ext cx="3240360" cy="1341720"/>
            <a:chOff x="1547640" y="0"/>
            <a:chExt cx="3240360" cy="134172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1547640" y="0"/>
              <a:ext cx="2183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690560" y="973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 Black"/>
                </a:rPr>
                <a:t>Kitty and San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0000" y="0"/>
            <a:ext cx="1873080" cy="1327680"/>
            <a:chOff x="3780000" y="0"/>
            <a:chExt cx="1873080" cy="1327680"/>
          </a:xfrm>
        </p:grpSpPr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3780000" y="0"/>
              <a:ext cx="187308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479840" y="92880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Mill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651640" y="0"/>
            <a:ext cx="1571400" cy="1244880"/>
            <a:chOff x="5651640" y="0"/>
            <a:chExt cx="1571400" cy="1244880"/>
          </a:xfrm>
        </p:grpSpPr>
        <p:pic>
          <p:nvPicPr>
            <p:cNvPr id="351" name="" descr=""/>
            <p:cNvPicPr/>
            <p:nvPr/>
          </p:nvPicPr>
          <p:blipFill>
            <a:blip r:embed="rId5"/>
            <a:stretch/>
          </p:blipFill>
          <p:spPr>
            <a:xfrm>
              <a:off x="5651640" y="0"/>
              <a:ext cx="151092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225480" y="8460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Dan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380360" y="0"/>
            <a:ext cx="1763640" cy="1292760"/>
            <a:chOff x="7380360" y="0"/>
            <a:chExt cx="1763640" cy="1292760"/>
          </a:xfrm>
        </p:grpSpPr>
        <p:pic>
          <p:nvPicPr>
            <p:cNvPr id="354" name="" descr=""/>
            <p:cNvPicPr/>
            <p:nvPr/>
          </p:nvPicPr>
          <p:blipFill>
            <a:blip r:embed="rId6"/>
            <a:stretch/>
          </p:blipFill>
          <p:spPr>
            <a:xfrm>
              <a:off x="7380360" y="0"/>
              <a:ext cx="176364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67680" y="89388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A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268360" y="5373720"/>
            <a:ext cx="431964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155736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148428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386064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m ca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15920"/>
            <a:ext cx="72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Presen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773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5840" y="170028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ngs that are happening now.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此时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此刻正在进行的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4240" y="41241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40305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ngs that are happening these days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现阶段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正在进行着的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814480"/>
            <a:ext cx="74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--Wh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w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do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i="1" lang="en-US" sz="36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                 ---W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re hav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an English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97360"/>
            <a:ext cx="720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1912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m wri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an English story these day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structure of the present continuous te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12960"/>
            <a:ext cx="883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dumplings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at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__________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cold drinks under the tree right no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ok!They 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on the chai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over ther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914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 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1600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 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349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 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581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42926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 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be +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Complete the conversation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271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09480"/>
            <a:ext cx="9677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n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Hello,Amy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Are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ou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don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do)your homework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No, I’m not. My cousin __________(visit)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n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Oh, really? What _____ he _______(do)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Well, he ____________(play) a new computer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n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________ you __________(play) the game with him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No, I’m not. I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(wait) for my turn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137160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vis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2200" y="19954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11160" y="20574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9000" y="266688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 play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96240" y="335268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42120" y="329076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2200" y="457200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3120" y="230040"/>
            <a:ext cx="9069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I am asking Mr Wu some questions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问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做肯定与否定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He is waiting for his turn. (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Her grandparents are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istening to the radi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划线部分提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7800" y="1125360"/>
            <a:ext cx="62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re you asking Mr Wu any question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es, I am. / No, I am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2520" y="2276640"/>
            <a:ext cx="46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is not waiting for his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800" y="3573360"/>
            <a:ext cx="55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are her grandparents do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260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进行时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268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1.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肯定句：主语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词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+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动词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在分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3493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14720" y="234936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He / 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797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e / You /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14720" y="3500280"/>
            <a:ext cx="10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4720" y="479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3800" y="3500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rit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23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peak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47973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un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n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04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15000" y="35812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e’s playing baske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0"/>
            <a:ext cx="3352680" cy="2743200"/>
          </a:xfrm>
          <a:prstGeom prst="cloudCallout">
            <a:avLst>
              <a:gd name="adj1" fmla="val -24574"/>
              <a:gd name="adj2" fmla="val 6608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762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h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466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5880" y="762120"/>
            <a:ext cx="274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at’s she do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9718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he’s danc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867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867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e’s swim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867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sh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76040" y="352440"/>
            <a:ext cx="332604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Comic Sans MS"/>
              </a:rPr>
              <a:t>动词现在分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3840" y="1278000"/>
            <a:ext cx="38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※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原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+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1560" y="1887480"/>
            <a:ext cx="7058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ead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drin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ea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mee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thin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0360" y="3166920"/>
            <a:ext cx="680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不发音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尾，去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0360" y="4621320"/>
            <a:ext cx="8772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重读闭音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双写结尾的辅音字母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84360" y="549900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i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swim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m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pu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t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ru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7360" y="3929040"/>
            <a:ext cx="48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ri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ma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 flipH="1">
            <a:off x="7904160" y="2467080"/>
            <a:ext cx="657360" cy="650880"/>
          </a:xfrm>
          <a:custGeom>
            <a:avLst/>
            <a:gdLst>
              <a:gd name="textAreaLeft" fmla="*/ 42120 w 657360"/>
              <a:gd name="textAreaRight" fmla="*/ 615240 w 65736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1815" h="21600">
                <a:moveTo>
                  <a:pt x="0" y="0"/>
                </a:moveTo>
                <a:lnTo>
                  <a:pt x="21815" y="0"/>
                </a:lnTo>
                <a:lnTo>
                  <a:pt x="21815" y="21600"/>
                </a:lnTo>
                <a:lnTo>
                  <a:pt x="0" y="21600"/>
                </a:lnTo>
                <a:close/>
              </a:path>
              <a:path fill="lightenLess" w="21815" h="21600">
                <a:moveTo>
                  <a:pt x="0" y="0"/>
                </a:moveTo>
                <a:lnTo>
                  <a:pt x="21815" y="0"/>
                </a:lnTo>
                <a:lnTo>
                  <a:pt x="20415" y="1400"/>
                </a:lnTo>
                <a:lnTo>
                  <a:pt x="1400" y="1400"/>
                </a:lnTo>
                <a:close/>
              </a:path>
              <a:path fill="darken" w="21815" h="21600">
                <a:moveTo>
                  <a:pt x="21815" y="0"/>
                </a:moveTo>
                <a:lnTo>
                  <a:pt x="21815" y="21600"/>
                </a:lnTo>
                <a:lnTo>
                  <a:pt x="20415" y="20200"/>
                </a:lnTo>
                <a:lnTo>
                  <a:pt x="20415" y="1400"/>
                </a:lnTo>
                <a:close/>
              </a:path>
              <a:path fill="darkenLess" w="21815" h="21600">
                <a:moveTo>
                  <a:pt x="21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5" y="20200"/>
                </a:lnTo>
                <a:close/>
              </a:path>
              <a:path fill="lighten" w="21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5" h="21600">
                <a:moveTo>
                  <a:pt x="7409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  <a:path fill="darken" w="21815" h="21600">
                <a:moveTo>
                  <a:pt x="3901" y="3794"/>
                </a:moveTo>
                <a:lnTo>
                  <a:pt x="5563" y="3794"/>
                </a:lnTo>
                <a:lnTo>
                  <a:pt x="5563" y="17806"/>
                </a:lnTo>
                <a:lnTo>
                  <a:pt x="3901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 flipH="1">
            <a:off x="7900920" y="3801960"/>
            <a:ext cx="657360" cy="650880"/>
          </a:xfrm>
          <a:custGeom>
            <a:avLst/>
            <a:gdLst>
              <a:gd name="textAreaLeft" fmla="*/ 42120 w 657360"/>
              <a:gd name="textAreaRight" fmla="*/ 615240 w 65736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1815" h="21600">
                <a:moveTo>
                  <a:pt x="0" y="0"/>
                </a:moveTo>
                <a:lnTo>
                  <a:pt x="21815" y="0"/>
                </a:lnTo>
                <a:lnTo>
                  <a:pt x="21815" y="21600"/>
                </a:lnTo>
                <a:lnTo>
                  <a:pt x="0" y="21600"/>
                </a:lnTo>
                <a:close/>
              </a:path>
              <a:path fill="lightenLess" w="21815" h="21600">
                <a:moveTo>
                  <a:pt x="0" y="0"/>
                </a:moveTo>
                <a:lnTo>
                  <a:pt x="21815" y="0"/>
                </a:lnTo>
                <a:lnTo>
                  <a:pt x="20415" y="1400"/>
                </a:lnTo>
                <a:lnTo>
                  <a:pt x="1400" y="1400"/>
                </a:lnTo>
                <a:close/>
              </a:path>
              <a:path fill="darken" w="21815" h="21600">
                <a:moveTo>
                  <a:pt x="21815" y="0"/>
                </a:moveTo>
                <a:lnTo>
                  <a:pt x="21815" y="21600"/>
                </a:lnTo>
                <a:lnTo>
                  <a:pt x="20415" y="20200"/>
                </a:lnTo>
                <a:lnTo>
                  <a:pt x="20415" y="1400"/>
                </a:lnTo>
                <a:close/>
              </a:path>
              <a:path fill="darkenLess" w="21815" h="21600">
                <a:moveTo>
                  <a:pt x="21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5" y="20200"/>
                </a:lnTo>
                <a:close/>
              </a:path>
              <a:path fill="lighten" w="21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5" h="21600">
                <a:moveTo>
                  <a:pt x="7409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  <a:path fill="darken" w="21815" h="21600">
                <a:moveTo>
                  <a:pt x="3901" y="3794"/>
                </a:moveTo>
                <a:lnTo>
                  <a:pt x="5563" y="3794"/>
                </a:lnTo>
                <a:lnTo>
                  <a:pt x="5563" y="17806"/>
                </a:lnTo>
                <a:lnTo>
                  <a:pt x="3901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 flipH="1">
            <a:off x="7915320" y="5487840"/>
            <a:ext cx="657360" cy="650880"/>
          </a:xfrm>
          <a:custGeom>
            <a:avLst/>
            <a:gdLst>
              <a:gd name="textAreaLeft" fmla="*/ 42120 w 657360"/>
              <a:gd name="textAreaRight" fmla="*/ 615240 w 65736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1815" h="21600">
                <a:moveTo>
                  <a:pt x="0" y="0"/>
                </a:moveTo>
                <a:lnTo>
                  <a:pt x="21815" y="0"/>
                </a:lnTo>
                <a:lnTo>
                  <a:pt x="21815" y="21600"/>
                </a:lnTo>
                <a:lnTo>
                  <a:pt x="0" y="21600"/>
                </a:lnTo>
                <a:close/>
              </a:path>
              <a:path fill="lightenLess" w="21815" h="21600">
                <a:moveTo>
                  <a:pt x="0" y="0"/>
                </a:moveTo>
                <a:lnTo>
                  <a:pt x="21815" y="0"/>
                </a:lnTo>
                <a:lnTo>
                  <a:pt x="20415" y="1400"/>
                </a:lnTo>
                <a:lnTo>
                  <a:pt x="1400" y="1400"/>
                </a:lnTo>
                <a:close/>
              </a:path>
              <a:path fill="darken" w="21815" h="21600">
                <a:moveTo>
                  <a:pt x="21815" y="0"/>
                </a:moveTo>
                <a:lnTo>
                  <a:pt x="21815" y="21600"/>
                </a:lnTo>
                <a:lnTo>
                  <a:pt x="20415" y="20200"/>
                </a:lnTo>
                <a:lnTo>
                  <a:pt x="20415" y="1400"/>
                </a:lnTo>
                <a:close/>
              </a:path>
              <a:path fill="darkenLess" w="21815" h="21600">
                <a:moveTo>
                  <a:pt x="21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5" y="20200"/>
                </a:lnTo>
                <a:close/>
              </a:path>
              <a:path fill="lighten" w="21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5" h="21600">
                <a:moveTo>
                  <a:pt x="7409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  <a:path fill="darken" w="21815" h="21600">
                <a:moveTo>
                  <a:pt x="3901" y="3794"/>
                </a:moveTo>
                <a:lnTo>
                  <a:pt x="5563" y="3794"/>
                </a:lnTo>
                <a:lnTo>
                  <a:pt x="5563" y="17806"/>
                </a:lnTo>
                <a:lnTo>
                  <a:pt x="3901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67920" y="476280"/>
            <a:ext cx="28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e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6:42:39Z</dcterms:created>
  <dc:creator>微软用户</dc:creator>
  <dc:description/>
  <dc:language>en-US</dc:language>
  <cp:lastModifiedBy>未知用户</cp:lastModifiedBy>
  <dcterms:modified xsi:type="dcterms:W3CDTF">2016-12-22T00:12:44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5000000000001024140</vt:lpwstr>
  </property>
</Properties>
</file>