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35"/>
          <p:cNvSpPr/>
          <p:nvPr/>
        </p:nvSpPr>
        <p:spPr>
          <a:xfrm>
            <a:off x="3192480" y="14130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bbb61"/>
                </a:solidFill>
                <a:latin typeface="思源黑体 CN Bold"/>
                <a:ea typeface="思源黑体 CN Bold"/>
              </a:rPr>
              <a:t>加强宪法监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文本占位符 5"/>
          <p:cNvSpPr/>
          <p:nvPr/>
        </p:nvSpPr>
        <p:spPr>
          <a:xfrm>
            <a:off x="2987640" y="2854440"/>
            <a:ext cx="4356000" cy="871560"/>
          </a:xfrm>
          <a:prstGeom prst="rect">
            <a:avLst/>
          </a:prstGeom>
          <a:solidFill>
            <a:srgbClr val="2bb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道德与法治  人教版   八年级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88960" y="1528560"/>
            <a:ext cx="7966080" cy="35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要完善全国人大及其常委会宪法监督制度，健全监督机制和程序，使其更好担负起宪法监督职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要健全宪法解释程序机制，推进合宪性审查工作，加强备案审查制度和能力建设，加强对宪法实施情况的监督检查，维护宪法权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于各种违反宪法的行为，都必须予以追究和纠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6"/>
          <p:cNvSpPr/>
          <p:nvPr/>
        </p:nvSpPr>
        <p:spPr>
          <a:xfrm>
            <a:off x="2174040" y="85896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、完善宪法监督制度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9040" y="847440"/>
            <a:ext cx="498924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二、增强宪法意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566640" y="1736640"/>
            <a:ext cx="2975040" cy="2001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024080" y="1549080"/>
            <a:ext cx="4120920" cy="21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1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，十二届全国人大常委会第十一次会议作出决定，将现行宪法通过、公布、施行日期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设立为国家宪法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"/>
          <p:cNvSpPr/>
          <p:nvPr/>
        </p:nvSpPr>
        <p:spPr>
          <a:xfrm>
            <a:off x="571680" y="40878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7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全国人大常委会通过了《全国人民代表大会常务委员会关于实行宪法宣誓制度的决定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5" descr=""/>
          <p:cNvPicPr/>
          <p:nvPr/>
        </p:nvPicPr>
        <p:blipFill>
          <a:blip r:embed="rId2"/>
          <a:stretch/>
        </p:blipFill>
        <p:spPr>
          <a:xfrm>
            <a:off x="4511520" y="4079880"/>
            <a:ext cx="33642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宪法宣誓" descr=""/>
          <p:cNvPicPr/>
          <p:nvPr/>
        </p:nvPicPr>
        <p:blipFill>
          <a:blip r:embed="rId1"/>
          <a:stretch/>
        </p:blipFill>
        <p:spPr>
          <a:xfrm>
            <a:off x="1254240" y="1517760"/>
            <a:ext cx="6635520" cy="382428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"/>
          <p:cNvSpPr/>
          <p:nvPr/>
        </p:nvSpPr>
        <p:spPr>
          <a:xfrm>
            <a:off x="2850120" y="85896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、国家公职人员宪法宣誓制度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4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6"/>
          <p:cNvSpPr/>
          <p:nvPr/>
        </p:nvSpPr>
        <p:spPr>
          <a:xfrm>
            <a:off x="2850120" y="89856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、国家公职人员宪法宣誓制度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45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强化国家公职人员的宪法意识，让他们珍惜宪法授予的权力，努力自觉规范自己的行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内容占位符 2"/>
          <p:cNvSpPr/>
          <p:nvPr/>
        </p:nvSpPr>
        <p:spPr>
          <a:xfrm>
            <a:off x="628560" y="4145040"/>
            <a:ext cx="7240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仿宋"/>
                <a:ea typeface="仿宋"/>
              </a:rPr>
              <a:t>思考：宪法宣誓制度是国家为加强宪法监督，对公职人员提出的要求，对于普通公民并没有这样的要求，那么普通公民也需要增强宪法意识吗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内容占位符 3" descr=""/>
          <p:cNvPicPr/>
          <p:nvPr/>
        </p:nvPicPr>
        <p:blipFill>
          <a:blip r:embed="rId1"/>
          <a:stretch/>
        </p:blipFill>
        <p:spPr>
          <a:xfrm>
            <a:off x="851040" y="2313000"/>
            <a:ext cx="1819080" cy="24242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5"/>
          <p:cNvSpPr/>
          <p:nvPr/>
        </p:nvSpPr>
        <p:spPr>
          <a:xfrm>
            <a:off x="507960" y="1000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总书记谈宪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8"/>
          <p:cNvGrpSpPr/>
          <p:nvPr/>
        </p:nvGrpSpPr>
        <p:grpSpPr>
          <a:xfrm>
            <a:off x="3718080" y="1338120"/>
            <a:ext cx="4878360" cy="1916280"/>
            <a:chOff x="3718080" y="1338120"/>
            <a:chExt cx="4878360" cy="1916280"/>
          </a:xfrm>
        </p:grpSpPr>
        <p:sp>
          <p:nvSpPr>
            <p:cNvPr id="93" name="云形标注 6"/>
            <p:cNvSpPr/>
            <p:nvPr/>
          </p:nvSpPr>
          <p:spPr>
            <a:xfrm>
              <a:off x="3718080" y="1338120"/>
              <a:ext cx="4878360" cy="1916280"/>
            </a:xfrm>
            <a:prstGeom prst="cloudCallout">
              <a:avLst>
                <a:gd name="adj1" fmla="val -68662"/>
                <a:gd name="adj2" fmla="val 3770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宪法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内容占位符 9"/>
          <p:cNvSpPr/>
          <p:nvPr/>
        </p:nvSpPr>
        <p:spPr>
          <a:xfrm>
            <a:off x="1333440" y="5229360"/>
            <a:ext cx="67928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思考讨论：对于这句话，你怎么理解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内容占位符 9"/>
          <p:cNvSpPr/>
          <p:nvPr/>
        </p:nvSpPr>
        <p:spPr>
          <a:xfrm>
            <a:off x="11493360" y="9572760"/>
            <a:ext cx="84474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宪法的根基在于人民发自内心的拥护，宪法的伟力在于人民出自真诚的信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68200" y="1171080"/>
            <a:ext cx="8609040" cy="232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思考讨论：请合作完成教材</a:t>
            </a:r>
            <a:r>
              <a:rPr b="1" lang="en-US" sz="2800" spc="-1" strike="noStrike">
                <a:solidFill>
                  <a:srgbClr val="ff0000"/>
                </a:solidFill>
                <a:latin typeface="仿宋"/>
                <a:ea typeface="仿宋"/>
              </a:rPr>
              <a:t>P26-27</a:t>
            </a: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《探究与分享》，在此基础上谈谈为什么加强宪法监督，也需要人们增强宪法意识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内容占位符 3"/>
          <p:cNvSpPr/>
          <p:nvPr/>
        </p:nvSpPr>
        <p:spPr>
          <a:xfrm>
            <a:off x="866880" y="2935440"/>
            <a:ext cx="741204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宪法与我们每个人息息相关，我们的一生都离不开宪法的呵护。我们要增强宪法意识，热爱宪法，捍卫宪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内容占位符 2"/>
          <p:cNvSpPr/>
          <p:nvPr/>
        </p:nvSpPr>
        <p:spPr>
          <a:xfrm>
            <a:off x="603360" y="5237280"/>
            <a:ext cx="7240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仿宋"/>
                <a:ea typeface="仿宋"/>
              </a:rPr>
              <a:t>思考：普通公民增强宪法意识，应该怎样做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6"/>
          <p:cNvSpPr/>
          <p:nvPr/>
        </p:nvSpPr>
        <p:spPr>
          <a:xfrm>
            <a:off x="2170800" y="89856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、公民增强宪法意识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7320" y="1798560"/>
            <a:ext cx="6346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学习宪法，积极参与宪法宣传活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内容占位符 1"/>
          <p:cNvSpPr/>
          <p:nvPr/>
        </p:nvSpPr>
        <p:spPr>
          <a:xfrm>
            <a:off x="787320" y="2963880"/>
            <a:ext cx="63468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认可宪法，信服和尊崇宪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内容占位符 1"/>
          <p:cNvSpPr/>
          <p:nvPr/>
        </p:nvSpPr>
        <p:spPr>
          <a:xfrm>
            <a:off x="787320" y="4226040"/>
            <a:ext cx="65962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践行宪法，遵守、运用、坚决维护宪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内容占位符 10"/>
          <p:cNvSpPr/>
          <p:nvPr/>
        </p:nvSpPr>
        <p:spPr>
          <a:xfrm>
            <a:off x="254160" y="944640"/>
            <a:ext cx="839916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探究与分享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、我们有哪些学习宪法，宣传宪法的有效途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、在生活中我们可以有哪些遵守和维护宪法的具体做法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内容占位符 10"/>
          <p:cNvSpPr/>
          <p:nvPr/>
        </p:nvSpPr>
        <p:spPr>
          <a:xfrm>
            <a:off x="554040" y="2135160"/>
            <a:ext cx="460224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宪法宣誓模拟活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974160" y="1195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拓展活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7000" y="1817640"/>
            <a:ext cx="7886520" cy="435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习近平在中国共产党第十九次全国代表大会上的报告中指出：加强宪法实施和监督，推进合宪性审查工作，维护宪法权威。在我国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承担宪法监督，推进合宪性审查工作职责的国家机关是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……………………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最高人民法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央人民政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全国人大及其常委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国共产党党中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5279400" y="3718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17"/>
          <p:cNvSpPr/>
          <p:nvPr/>
        </p:nvSpPr>
        <p:spPr>
          <a:xfrm>
            <a:off x="1372680" y="816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2232"/>
                </a:solidFill>
                <a:latin typeface="微软雅黑"/>
                <a:ea typeface="微软雅黑"/>
              </a:rPr>
              <a:t>巩固提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文本框 15"/>
          <p:cNvSpPr/>
          <p:nvPr/>
        </p:nvSpPr>
        <p:spPr>
          <a:xfrm>
            <a:off x="1372680" y="816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2232"/>
                </a:solidFill>
                <a:latin typeface="微软雅黑"/>
                <a:ea typeface="微软雅黑"/>
              </a:rPr>
              <a:t>导入新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图片 17" descr="W020140703346257845109"/>
          <p:cNvPicPr/>
          <p:nvPr/>
        </p:nvPicPr>
        <p:blipFill>
          <a:blip r:embed="rId1"/>
          <a:stretch/>
        </p:blipFill>
        <p:spPr>
          <a:xfrm>
            <a:off x="103320" y="2139840"/>
            <a:ext cx="4395600" cy="3135600"/>
          </a:xfrm>
          <a:prstGeom prst="rect">
            <a:avLst/>
          </a:prstGeom>
          <a:ln w="0">
            <a:noFill/>
          </a:ln>
        </p:spPr>
      </p:pic>
      <p:sp>
        <p:nvSpPr>
          <p:cNvPr id="40" name="文本框 99"/>
          <p:cNvSpPr/>
          <p:nvPr/>
        </p:nvSpPr>
        <p:spPr>
          <a:xfrm>
            <a:off x="4495680" y="2044800"/>
            <a:ext cx="4092840" cy="2073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楷体"/>
                <a:ea typeface="楷体"/>
              </a:rPr>
              <a:t>2017</a:t>
            </a: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年以来，全国因违反中央八项规定精神被查处的干部总数达到</a:t>
            </a:r>
            <a:r>
              <a:rPr b="1" lang="en-US" sz="2400" spc="-1" strike="noStrike">
                <a:solidFill>
                  <a:srgbClr val="333333"/>
                </a:solidFill>
                <a:latin typeface="楷体"/>
                <a:ea typeface="楷体"/>
              </a:rPr>
              <a:t>53195</a:t>
            </a: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人，其中省部级领导干部</a:t>
            </a:r>
            <a:r>
              <a:rPr b="1" lang="en-US" sz="2400" spc="-1" strike="noStrike">
                <a:solidFill>
                  <a:srgbClr val="333333"/>
                </a:solidFill>
                <a:latin typeface="楷体"/>
                <a:ea typeface="楷体"/>
              </a:rPr>
              <a:t>6</a:t>
            </a: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人，地厅级</a:t>
            </a:r>
            <a:r>
              <a:rPr b="1" lang="en-US" sz="2400" spc="-1" strike="noStrike">
                <a:solidFill>
                  <a:srgbClr val="333333"/>
                </a:solidFill>
                <a:latin typeface="楷体"/>
                <a:ea typeface="楷体"/>
              </a:rPr>
              <a:t>695</a:t>
            </a: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人，县处级</a:t>
            </a:r>
            <a:r>
              <a:rPr b="1" lang="en-US" sz="2400" spc="-1" strike="noStrike">
                <a:solidFill>
                  <a:srgbClr val="333333"/>
                </a:solidFill>
                <a:latin typeface="楷体"/>
                <a:ea typeface="楷体"/>
              </a:rPr>
              <a:t>5113</a:t>
            </a: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人，乡科级</a:t>
            </a:r>
            <a:r>
              <a:rPr b="1" lang="en-US" sz="2400" spc="-1" strike="noStrike">
                <a:solidFill>
                  <a:srgbClr val="333333"/>
                </a:solidFill>
                <a:latin typeface="楷体"/>
                <a:ea typeface="楷体"/>
              </a:rPr>
              <a:t>47381</a:t>
            </a: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76480" y="5417640"/>
            <a:ext cx="499104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锐字工房云字库行楷GBK"/>
                <a:ea typeface="锐字工房云字库行楷GBK"/>
              </a:rPr>
              <a:t>要把权力关进</a:t>
            </a:r>
            <a:r>
              <a:rPr b="0" lang="en-US" sz="3200" spc="-1" strike="noStrike">
                <a:solidFill>
                  <a:srgbClr val="ff0000"/>
                </a:solidFill>
                <a:latin typeface="锐字工房云字库行楷GBK"/>
                <a:ea typeface="锐字工房云字库行楷GBK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锐字工房云字库行楷GBK"/>
                <a:ea typeface="锐字工房云字库行楷GBK"/>
              </a:rPr>
              <a:t>笼子里</a:t>
            </a:r>
            <a:r>
              <a:rPr b="0" lang="en-US" sz="3200" spc="-1" strike="noStrike">
                <a:solidFill>
                  <a:srgbClr val="ff0000"/>
                </a:solidFill>
                <a:latin typeface="锐字工房云字库行楷GBK"/>
                <a:ea typeface="锐字工房云字库行楷GBK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23640" y="1079280"/>
            <a:ext cx="788652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我国第四个“宪法日”来临之际，某校各班为响应全市“宪法进校园”活动号召，纷纷开展了“宪法在我心”主题班会活动。学校这样做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………………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有利于学校对学生加强宪法监督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有利于让学生理解、认同宪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体现了宪法具有最高的法律效力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体现了宪法规定国家的根本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43426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2040" y="1080720"/>
            <a:ext cx="835992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习近平在第三个国家宪法日强调：宪法是国家的根本大法，坚持依法治国，首先要坚持依宪治国，这就要求我们（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增强宪法意识，自觉学习宪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②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宪法做为我们的最高行为准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③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时时宣传宪法，事事遵循宪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④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检视自己行为是否符合宪法要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①②③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①②④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②③④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①③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3"/>
          <p:cNvSpPr/>
          <p:nvPr/>
        </p:nvSpPr>
        <p:spPr>
          <a:xfrm>
            <a:off x="8028000" y="1382760"/>
            <a:ext cx="3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7"/>
          <p:cNvSpPr/>
          <p:nvPr/>
        </p:nvSpPr>
        <p:spPr>
          <a:xfrm>
            <a:off x="1372680" y="816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2232"/>
                </a:solidFill>
                <a:latin typeface="微软雅黑"/>
                <a:ea typeface="微软雅黑"/>
              </a:rPr>
              <a:t>课堂小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36440" y="1937880"/>
            <a:ext cx="314964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一、监督权力行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标题 8"/>
          <p:cNvSpPr/>
          <p:nvPr/>
        </p:nvSpPr>
        <p:spPr>
          <a:xfrm>
            <a:off x="1938240" y="4510080"/>
            <a:ext cx="31482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二、增强宪法意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标题 8"/>
          <p:cNvSpPr/>
          <p:nvPr/>
        </p:nvSpPr>
        <p:spPr>
          <a:xfrm>
            <a:off x="698400" y="1998720"/>
            <a:ext cx="739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加强宪法监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左大括号 20"/>
          <p:cNvSpPr/>
          <p:nvPr/>
        </p:nvSpPr>
        <p:spPr>
          <a:xfrm>
            <a:off x="1438200" y="2254320"/>
            <a:ext cx="498600" cy="2539800"/>
          </a:xfrm>
          <a:custGeom>
            <a:avLst/>
            <a:gdLst>
              <a:gd name="textAreaLeft" fmla="*/ 318600 w 498600"/>
              <a:gd name="textAreaRight" fmla="*/ 498960 w 498600"/>
              <a:gd name="textAreaTop" fmla="*/ 12960 h 2539800"/>
              <a:gd name="textAreaBottom" fmla="*/ 2526840 h 25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7"/>
                  <a:pt x="10800" y="354"/>
                </a:cubicBezTo>
                <a:lnTo>
                  <a:pt x="10800" y="10202"/>
                </a:lnTo>
                <a:cubicBezTo>
                  <a:pt x="10800" y="10379"/>
                  <a:pt x="5400" y="10556"/>
                  <a:pt x="0" y="10556"/>
                </a:cubicBezTo>
                <a:cubicBezTo>
                  <a:pt x="5400" y="10556"/>
                  <a:pt x="10800" y="10733"/>
                  <a:pt x="10800" y="10910"/>
                </a:cubicBezTo>
                <a:lnTo>
                  <a:pt x="10800" y="21246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21"/>
          <p:cNvSpPr/>
          <p:nvPr/>
        </p:nvSpPr>
        <p:spPr>
          <a:xfrm>
            <a:off x="5369040" y="12524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宪法监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22"/>
          <p:cNvSpPr/>
          <p:nvPr/>
        </p:nvSpPr>
        <p:spPr>
          <a:xfrm>
            <a:off x="5748120" y="2778120"/>
            <a:ext cx="20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完善宪法监督制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左大括号 23"/>
          <p:cNvSpPr/>
          <p:nvPr/>
        </p:nvSpPr>
        <p:spPr>
          <a:xfrm>
            <a:off x="4869000" y="1498680"/>
            <a:ext cx="500040" cy="153504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535040"/>
              <a:gd name="textAreaBottom" fmla="*/ 1522080 h 15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3"/>
                  <a:pt x="10800" y="585"/>
                </a:cubicBezTo>
                <a:lnTo>
                  <a:pt x="10800" y="9971"/>
                </a:lnTo>
                <a:cubicBezTo>
                  <a:pt x="10800" y="10264"/>
                  <a:pt x="5400" y="10556"/>
                  <a:pt x="0" y="10556"/>
                </a:cubicBezTo>
                <a:cubicBezTo>
                  <a:pt x="5400" y="10556"/>
                  <a:pt x="10800" y="10849"/>
                  <a:pt x="10800" y="11141"/>
                </a:cubicBezTo>
                <a:lnTo>
                  <a:pt x="10800" y="21015"/>
                </a:lnTo>
                <a:cubicBezTo>
                  <a:pt x="10800" y="2130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左大括号 24"/>
          <p:cNvSpPr/>
          <p:nvPr/>
        </p:nvSpPr>
        <p:spPr>
          <a:xfrm>
            <a:off x="4869000" y="4068720"/>
            <a:ext cx="500040" cy="153684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536840"/>
              <a:gd name="textAreaBottom" fmla="*/ 1523880 h 153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3"/>
                  <a:pt x="10800" y="585"/>
                </a:cubicBezTo>
                <a:lnTo>
                  <a:pt x="10800" y="9971"/>
                </a:lnTo>
                <a:cubicBezTo>
                  <a:pt x="10800" y="10264"/>
                  <a:pt x="5400" y="10556"/>
                  <a:pt x="0" y="10556"/>
                </a:cubicBezTo>
                <a:cubicBezTo>
                  <a:pt x="5400" y="10556"/>
                  <a:pt x="10800" y="10849"/>
                  <a:pt x="10800" y="11141"/>
                </a:cubicBezTo>
                <a:lnTo>
                  <a:pt x="10800" y="21015"/>
                </a:lnTo>
                <a:cubicBezTo>
                  <a:pt x="10800" y="2130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25"/>
          <p:cNvSpPr/>
          <p:nvPr/>
        </p:nvSpPr>
        <p:spPr>
          <a:xfrm>
            <a:off x="5914080" y="369720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国家公职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宪法宣誓制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26"/>
          <p:cNvSpPr/>
          <p:nvPr/>
        </p:nvSpPr>
        <p:spPr>
          <a:xfrm>
            <a:off x="6056280" y="53211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公民增强宪法意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85"/>
          <p:cNvSpPr/>
          <p:nvPr/>
        </p:nvSpPr>
        <p:spPr>
          <a:xfrm>
            <a:off x="1372680" y="816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2232"/>
                </a:solidFill>
                <a:latin typeface="微软雅黑"/>
                <a:ea typeface="微软雅黑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760" y="1899720"/>
            <a:ext cx="499104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一、监督权力行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000" y="3098520"/>
            <a:ext cx="708948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仿宋"/>
                <a:ea typeface="仿宋"/>
              </a:rPr>
              <a:t>思考讨论：谁有权来进行监督？说说你的理由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779040"/>
            <a:ext cx="336384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知识拓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1015560" y="28004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我国的监督体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4538880" y="1687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中国共产党的监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4576320" y="2340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国家权力机关的监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4477320" y="3630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司法机关的监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4785120" y="3009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人民政协和民主党派的监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4538880" y="4221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社会和公民的监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左大括号 7"/>
          <p:cNvSpPr/>
          <p:nvPr/>
        </p:nvSpPr>
        <p:spPr>
          <a:xfrm>
            <a:off x="3355920" y="1881360"/>
            <a:ext cx="498600" cy="2539800"/>
          </a:xfrm>
          <a:custGeom>
            <a:avLst/>
            <a:gdLst>
              <a:gd name="textAreaLeft" fmla="*/ 318600 w 498600"/>
              <a:gd name="textAreaRight" fmla="*/ 498960 w 498600"/>
              <a:gd name="textAreaTop" fmla="*/ 12960 h 2539800"/>
              <a:gd name="textAreaBottom" fmla="*/ 2526840 h 25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7"/>
                  <a:pt x="10800" y="354"/>
                </a:cubicBezTo>
                <a:lnTo>
                  <a:pt x="10800" y="10202"/>
                </a:lnTo>
                <a:cubicBezTo>
                  <a:pt x="10800" y="10379"/>
                  <a:pt x="5400" y="10556"/>
                  <a:pt x="0" y="10556"/>
                </a:cubicBezTo>
                <a:cubicBezTo>
                  <a:pt x="5400" y="10556"/>
                  <a:pt x="10800" y="10733"/>
                  <a:pt x="10800" y="10910"/>
                </a:cubicBezTo>
                <a:lnTo>
                  <a:pt x="10800" y="21246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6680" y="627120"/>
            <a:ext cx="8399520" cy="186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仿宋"/>
                <a:ea typeface="仿宋"/>
              </a:rPr>
              <a:t>思考：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仿宋"/>
                <a:ea typeface="仿宋"/>
              </a:rPr>
              <a:t>  </a:t>
            </a:r>
            <a:r>
              <a:rPr b="1" lang="en-US" sz="2900" spc="-1" strike="noStrike">
                <a:solidFill>
                  <a:srgbClr val="ff0000"/>
                </a:solidFill>
                <a:latin typeface="仿宋"/>
                <a:ea typeface="仿宋"/>
              </a:rPr>
              <a:t>1</a:t>
            </a:r>
            <a:r>
              <a:rPr b="1" lang="zh-CN" sz="2900" spc="-1" strike="noStrike">
                <a:solidFill>
                  <a:srgbClr val="ff0000"/>
                </a:solidFill>
                <a:latin typeface="仿宋"/>
                <a:ea typeface="仿宋"/>
              </a:rPr>
              <a:t>、在我国的权力监督体系中，具有基础性意义的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仿宋"/>
                <a:ea typeface="仿宋"/>
              </a:rPr>
              <a:t>     </a:t>
            </a:r>
            <a:r>
              <a:rPr b="1" lang="zh-CN" sz="2900" spc="-1" strike="noStrike">
                <a:solidFill>
                  <a:srgbClr val="ff0000"/>
                </a:solidFill>
                <a:latin typeface="仿宋"/>
                <a:ea typeface="仿宋"/>
              </a:rPr>
              <a:t>是哪一项制度？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仿宋"/>
                <a:ea typeface="仿宋"/>
              </a:rPr>
              <a:t>  </a:t>
            </a:r>
            <a:r>
              <a:rPr b="1" lang="en-US" sz="2900" spc="-1" strike="noStrike">
                <a:solidFill>
                  <a:srgbClr val="ff0000"/>
                </a:solidFill>
                <a:latin typeface="仿宋"/>
                <a:ea typeface="仿宋"/>
              </a:rPr>
              <a:t>2</a:t>
            </a:r>
            <a:r>
              <a:rPr b="1" lang="zh-CN" sz="2900" spc="-1" strike="noStrike">
                <a:solidFill>
                  <a:srgbClr val="ff0000"/>
                </a:solidFill>
                <a:latin typeface="仿宋"/>
                <a:ea typeface="仿宋"/>
              </a:rPr>
              <a:t>、结合所学知识，简单说说为什么？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2888280" y="27018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宪法监督制度具有基础性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5097600" y="431640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正五边形 8"/>
          <p:cNvSpPr/>
          <p:nvPr/>
        </p:nvSpPr>
        <p:spPr>
          <a:xfrm>
            <a:off x="3635280" y="4011480"/>
            <a:ext cx="1462320" cy="1113120"/>
          </a:xfrm>
          <a:prstGeom prst="pentagon">
            <a:avLst/>
          </a:prstGeom>
          <a:solidFill>
            <a:srgbClr val="2bbb61"/>
          </a:solidFill>
          <a:ln w="57240">
            <a:solidFill>
              <a:srgbClr val="a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宪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组合 11"/>
          <p:cNvGrpSpPr/>
          <p:nvPr/>
        </p:nvGrpSpPr>
        <p:grpSpPr>
          <a:xfrm>
            <a:off x="1300320" y="3768840"/>
            <a:ext cx="2383920" cy="547560"/>
            <a:chOff x="1300320" y="3768840"/>
            <a:chExt cx="2383920" cy="547560"/>
          </a:xfrm>
        </p:grpSpPr>
        <p:sp>
          <p:nvSpPr>
            <p:cNvPr id="58" name="六边形 9"/>
            <p:cNvSpPr/>
            <p:nvPr/>
          </p:nvSpPr>
          <p:spPr>
            <a:xfrm>
              <a:off x="1300320" y="3768840"/>
              <a:ext cx="2328480" cy="547560"/>
            </a:xfrm>
            <a:prstGeom prst="hexagon">
              <a:avLst>
                <a:gd name="adj" fmla="val 25830"/>
                <a:gd name="vf" fmla="val 11547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文本框 3"/>
            <p:cNvSpPr/>
            <p:nvPr/>
          </p:nvSpPr>
          <p:spPr>
            <a:xfrm>
              <a:off x="1356480" y="3858120"/>
              <a:ext cx="232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是公民权利的保障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5"/>
          <p:cNvGrpSpPr/>
          <p:nvPr/>
        </p:nvGrpSpPr>
        <p:grpSpPr>
          <a:xfrm>
            <a:off x="5116680" y="3768840"/>
            <a:ext cx="2251440" cy="547560"/>
            <a:chOff x="5116680" y="3768840"/>
            <a:chExt cx="2251440" cy="547560"/>
          </a:xfrm>
        </p:grpSpPr>
        <p:sp>
          <p:nvSpPr>
            <p:cNvPr id="61" name="六边形 13"/>
            <p:cNvSpPr/>
            <p:nvPr/>
          </p:nvSpPr>
          <p:spPr>
            <a:xfrm>
              <a:off x="5116680" y="3768840"/>
              <a:ext cx="2251440" cy="547560"/>
            </a:xfrm>
            <a:prstGeom prst="hexagon">
              <a:avLst>
                <a:gd name="adj" fmla="val 24975"/>
                <a:gd name="vf" fmla="val 11547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文本框 4"/>
            <p:cNvSpPr/>
            <p:nvPr/>
          </p:nvSpPr>
          <p:spPr>
            <a:xfrm>
              <a:off x="5540760" y="38581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是治国安邦的总章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组合 16"/>
          <p:cNvGrpSpPr/>
          <p:nvPr/>
        </p:nvGrpSpPr>
        <p:grpSpPr>
          <a:xfrm>
            <a:off x="1427040" y="5033880"/>
            <a:ext cx="2251800" cy="547920"/>
            <a:chOff x="1427040" y="5033880"/>
            <a:chExt cx="2251800" cy="547920"/>
          </a:xfrm>
        </p:grpSpPr>
        <p:sp>
          <p:nvSpPr>
            <p:cNvPr id="64" name="六边形 17"/>
            <p:cNvSpPr/>
            <p:nvPr/>
          </p:nvSpPr>
          <p:spPr>
            <a:xfrm>
              <a:off x="1427040" y="5033880"/>
              <a:ext cx="2251800" cy="54792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文本框 18"/>
            <p:cNvSpPr/>
            <p:nvPr/>
          </p:nvSpPr>
          <p:spPr>
            <a:xfrm>
              <a:off x="1851120" y="51235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具有最高的法律效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组合 19"/>
          <p:cNvGrpSpPr/>
          <p:nvPr/>
        </p:nvGrpSpPr>
        <p:grpSpPr>
          <a:xfrm>
            <a:off x="5049720" y="4900680"/>
            <a:ext cx="2257200" cy="801720"/>
            <a:chOff x="5049720" y="4900680"/>
            <a:chExt cx="2257200" cy="801720"/>
          </a:xfrm>
        </p:grpSpPr>
        <p:sp>
          <p:nvSpPr>
            <p:cNvPr id="67" name="六边形 20"/>
            <p:cNvSpPr/>
            <p:nvPr/>
          </p:nvSpPr>
          <p:spPr>
            <a:xfrm>
              <a:off x="5049720" y="4900680"/>
              <a:ext cx="2251800" cy="801720"/>
            </a:xfrm>
            <a:prstGeom prst="hexagon">
              <a:avLst>
                <a:gd name="adj" fmla="val 17060"/>
                <a:gd name="vf" fmla="val 11547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文本框 21"/>
            <p:cNvSpPr/>
            <p:nvPr/>
          </p:nvSpPr>
          <p:spPr>
            <a:xfrm>
              <a:off x="5176440" y="4978800"/>
              <a:ext cx="213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是一切组织和个人的根本活动准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内容占位符 10"/>
          <p:cNvSpPr/>
          <p:nvPr/>
        </p:nvSpPr>
        <p:spPr>
          <a:xfrm>
            <a:off x="371520" y="1365120"/>
            <a:ext cx="840096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在我国的宪法监督制度中，行使宪法监督权的是什么机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片 4" descr=""/>
          <p:cNvPicPr/>
          <p:nvPr/>
        </p:nvPicPr>
        <p:blipFill>
          <a:blip r:embed="rId1"/>
          <a:srcRect l="10000" t="15209" r="11741" b="14289"/>
          <a:stretch/>
        </p:blipFill>
        <p:spPr>
          <a:xfrm>
            <a:off x="588960" y="3197160"/>
            <a:ext cx="1944720" cy="159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722680" y="2647440"/>
            <a:ext cx="5595840" cy="35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六十二条　全国人民代表大会行使下列职权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修改宪法；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监督宪法的实施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六十七条　全国人民代表大会常务委员会行使下列职权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宪法，监督宪法的实施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九十九条　地方各级人民代表大会在本行政区域内，保证宪法、法律、行政法规的遵守和执行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5"/>
          <p:cNvSpPr/>
          <p:nvPr/>
        </p:nvSpPr>
        <p:spPr>
          <a:xfrm>
            <a:off x="301680" y="7239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、宪法监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内容占位符 10"/>
          <p:cNvSpPr/>
          <p:nvPr/>
        </p:nvSpPr>
        <p:spPr>
          <a:xfrm>
            <a:off x="266760" y="771480"/>
            <a:ext cx="84009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在我国的宪法监督制度中，宪法监督机关如何行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宪法监督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9960" y="2120760"/>
            <a:ext cx="6978600" cy="33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国宪法监督的内容主要包括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合宪性审查和监督，即审查法律、法规等规范性法律文件的合宪性，使其与宪法不抵触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审查国家机关及其工作人员等的违法行为，追究其违宪责任，维护宪法权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内容占位符 10"/>
          <p:cNvSpPr/>
          <p:nvPr/>
        </p:nvSpPr>
        <p:spPr>
          <a:xfrm>
            <a:off x="281160" y="1093680"/>
            <a:ext cx="839916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探究与分享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阅读、分析教材</a:t>
            </a:r>
            <a:r>
              <a:rPr b="1" lang="en-US" sz="2800" spc="-1" strike="noStrike">
                <a:solidFill>
                  <a:srgbClr val="ff0000"/>
                </a:solidFill>
                <a:latin typeface="仿宋"/>
                <a:ea typeface="仿宋"/>
              </a:rPr>
              <a:t>P24</a:t>
            </a: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《运用你的经验》中的案例和</a:t>
            </a:r>
            <a:r>
              <a:rPr b="1" lang="en-US" sz="2800" spc="-1" strike="noStrike">
                <a:solidFill>
                  <a:srgbClr val="ff0000"/>
                </a:solidFill>
                <a:latin typeface="仿宋"/>
                <a:ea typeface="仿宋"/>
              </a:rPr>
              <a:t>P25</a:t>
            </a: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《探究与分享》中的案例，探讨在这两个典型案例中宪法监督机关是怎样行使宪法监督权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宪法监督" descr=""/>
          <p:cNvPicPr/>
          <p:nvPr/>
        </p:nvPicPr>
        <p:blipFill>
          <a:blip r:embed="rId1"/>
          <a:stretch/>
        </p:blipFill>
        <p:spPr>
          <a:xfrm>
            <a:off x="1285920" y="1547640"/>
            <a:ext cx="6572160" cy="34275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6"/>
          <p:cNvSpPr/>
          <p:nvPr/>
        </p:nvSpPr>
        <p:spPr>
          <a:xfrm>
            <a:off x="2170800" y="85896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锐字工房云字库行楷GBK"/>
                <a:ea typeface="锐字工房云字库行楷GBK"/>
              </a:rPr>
              <a:t>、完善宪法监督制度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8T02:00:26Z</dcterms:created>
  <dc:creator/>
  <dc:description/>
  <dc:language>en-US</dc:language>
  <cp:lastModifiedBy>MC SYSTEM</cp:lastModifiedBy>
  <dcterms:modified xsi:type="dcterms:W3CDTF">2018-05-03T02:27:36Z</dcterms:modified>
  <cp:revision>6</cp:revision>
  <dc:subject/>
  <dc:title>幻灯片 1</dc:title>
</cp:coreProperties>
</file>