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8.jpeg" ContentType="image/jpeg"/>
  <Override PartName="/ppt/media/image27.gif" ContentType="image/gif"/>
  <Override PartName="/ppt/media/image24.gif" ContentType="image/gif"/>
  <Override PartName="/ppt/media/image32.jpeg" ContentType="image/jpeg"/>
  <Override PartName="/ppt/media/image22.gif" ContentType="image/gif"/>
  <Override PartName="/ppt/media/image18.jpeg" ContentType="image/jpeg"/>
  <Override PartName="/ppt/media/image5.gif" ContentType="image/gif"/>
  <Override PartName="/ppt/media/image30.gif" ContentType="image/gif"/>
  <Override PartName="/ppt/media/image14.jpeg" ContentType="image/jpeg"/>
  <Override PartName="/ppt/media/image7.gif" ContentType="image/gif"/>
  <Override PartName="/ppt/media/image9.jpeg" ContentType="image/jpeg"/>
  <Override PartName="/ppt/media/image25.gif" ContentType="image/gif"/>
  <Override PartName="/ppt/media/image8.jpeg" ContentType="image/jpeg"/>
  <Override PartName="/ppt/media/image13.jpeg" ContentType="image/jpeg"/>
  <Override PartName="/ppt/media/image20.gif" ContentType="image/gif"/>
  <Override PartName="/ppt/media/image11.gif" ContentType="image/gif"/>
  <Override PartName="/ppt/media/image12.jpeg" ContentType="image/jpeg"/>
  <Override PartName="/ppt/media/image37.jpeg" ContentType="image/jpeg"/>
  <Override PartName="/ppt/media/image31.jpeg" ContentType="image/jpeg"/>
  <Override PartName="/ppt/media/image34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6.wmf" ContentType="image/x-wmf"/>
  <Override PartName="/ppt/media/image19.jpeg" ContentType="image/jpeg"/>
  <Override PartName="/ppt/media/image36.jpeg" ContentType="image/jpeg"/>
  <Override PartName="/ppt/media/image2.jpeg" ContentType="image/jpeg"/>
  <Override PartName="/ppt/media/image16.jpeg" ContentType="image/jpeg"/>
  <Override PartName="/ppt/media/image17.jpeg" ContentType="image/jpeg"/>
  <Override PartName="/ppt/media/image23.gif" ContentType="image/gif"/>
  <Override PartName="/ppt/media/image26.png" ContentType="image/png"/>
  <Override PartName="/ppt/media/image3.gif" ContentType="image/gif"/>
  <Override PartName="/ppt/media/image10.jpeg" ContentType="image/jpeg"/>
  <Override PartName="/ppt/media/image2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A102-6395-4F8C-A31A-B2FF1360B86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B7FB74-226F-413D-AEA9-8704E76CE0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2611-A7B4-4AF6-9E4C-503A7BB7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48C-869B-4158-A3C1-3E1786D9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5E9-1A51-4266-92EF-04759F1B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69F-90B2-406F-9BB5-83E8D166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330F-AE36-4A5F-BA23-3002DAC9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357C-0645-4458-B6D6-4FE2A21D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51C0-46B7-470B-8698-AB102AB9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494-C6BB-4F70-B7B9-F430DEC3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64F-0D7E-4A4C-89B7-C0F8B186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4D5-1601-4B74-A687-856BC442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AE8C-A5F0-4EEE-BB19-B24CCCD4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1AA2-615D-4BBF-B19D-CF754EAE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8C79-2894-41BD-97FE-4318E1DC9D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3.gif"/><Relationship Id="rId4" Type="http://schemas.openxmlformats.org/officeDocument/2006/relationships/image" Target="../media/image28.jpeg"/><Relationship Id="rId5" Type="http://schemas.openxmlformats.org/officeDocument/2006/relationships/image" Target="../media/image29.gif"/><Relationship Id="rId6" Type="http://schemas.openxmlformats.org/officeDocument/2006/relationships/image" Target="../media/image20.gif"/><Relationship Id="rId7" Type="http://schemas.openxmlformats.org/officeDocument/2006/relationships/image" Target="../media/image30.gif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619280" y="1628640"/>
            <a:ext cx="532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7A Unit8 Grammar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324160" y="755640"/>
            <a:ext cx="507672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o --- g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o ---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atch --- wat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ait --- wa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at --- e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lean --- clea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ad ---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alk --- tal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871920" y="804960"/>
            <a:ext cx="942480" cy="5256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 Black"/>
                <a:hlinkClick r:id="rId2" action="ppaction://hlinksldjump"/>
              </a:rPr>
              <a:t>动词现在分词一览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7664400" y="5446800"/>
            <a:ext cx="792360" cy="712800"/>
          </a:xfrm>
          <a:custGeom>
            <a:avLst/>
            <a:gdLst>
              <a:gd name="textAreaLeft" fmla="*/ 46080 w 792360"/>
              <a:gd name="textAreaRight" fmla="*/ 746280 w 792360"/>
              <a:gd name="textAreaTop" fmla="*/ 46080 h 712800"/>
              <a:gd name="textAreaBottom" fmla="*/ 666720 h 712800"/>
            </a:gdLst>
            <a:ahLst/>
            <a:rect l="textAreaLeft" t="textAreaTop" r="textAreaRight" b="textAreaBottom"/>
            <a:pathLst>
              <a:path w="24010" h="21600">
                <a:moveTo>
                  <a:pt x="0" y="0"/>
                </a:moveTo>
                <a:lnTo>
                  <a:pt x="24010" y="0"/>
                </a:lnTo>
                <a:lnTo>
                  <a:pt x="24010" y="21600"/>
                </a:lnTo>
                <a:lnTo>
                  <a:pt x="0" y="21600"/>
                </a:lnTo>
                <a:close/>
              </a:path>
              <a:path fill="lightenLess" w="24010" h="21600">
                <a:moveTo>
                  <a:pt x="0" y="0"/>
                </a:moveTo>
                <a:lnTo>
                  <a:pt x="24010" y="0"/>
                </a:lnTo>
                <a:lnTo>
                  <a:pt x="22610" y="1400"/>
                </a:lnTo>
                <a:lnTo>
                  <a:pt x="1400" y="1400"/>
                </a:lnTo>
                <a:close/>
              </a:path>
              <a:path fill="darken" w="24010" h="21600">
                <a:moveTo>
                  <a:pt x="24010" y="0"/>
                </a:moveTo>
                <a:lnTo>
                  <a:pt x="24010" y="21600"/>
                </a:lnTo>
                <a:lnTo>
                  <a:pt x="22610" y="20200"/>
                </a:lnTo>
                <a:lnTo>
                  <a:pt x="22610" y="1400"/>
                </a:lnTo>
                <a:close/>
              </a:path>
              <a:path fill="darkenLess" w="24010" h="21600">
                <a:moveTo>
                  <a:pt x="24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10" y="20200"/>
                </a:lnTo>
                <a:close/>
              </a:path>
              <a:path fill="lighten" w="24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10" h="21600">
                <a:moveTo>
                  <a:pt x="8506" y="10800"/>
                </a:moveTo>
                <a:lnTo>
                  <a:pt x="19011" y="3794"/>
                </a:lnTo>
                <a:lnTo>
                  <a:pt x="19011" y="17806"/>
                </a:lnTo>
                <a:close/>
              </a:path>
              <a:path fill="darken" w="24010" h="21600">
                <a:moveTo>
                  <a:pt x="4998" y="3794"/>
                </a:moveTo>
                <a:lnTo>
                  <a:pt x="6661" y="3794"/>
                </a:lnTo>
                <a:lnTo>
                  <a:pt x="6661" y="17806"/>
                </a:lnTo>
                <a:lnTo>
                  <a:pt x="4998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688840" y="709200"/>
            <a:ext cx="486108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rite ---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ake --- t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ave --- ha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ake ---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me --- co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kate---sk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nce --- dan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ve --- lea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actise---pract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938880" y="900000"/>
            <a:ext cx="942480" cy="525636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 Black"/>
                <a:hlinkClick r:id="rId2" action="ppaction://hlinksldjump"/>
              </a:rPr>
              <a:t>动词现在分词一览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7664400" y="5446800"/>
            <a:ext cx="792360" cy="712800"/>
          </a:xfrm>
          <a:custGeom>
            <a:avLst/>
            <a:gdLst>
              <a:gd name="textAreaLeft" fmla="*/ 46080 w 792360"/>
              <a:gd name="textAreaRight" fmla="*/ 746280 w 792360"/>
              <a:gd name="textAreaTop" fmla="*/ 46080 h 712800"/>
              <a:gd name="textAreaBottom" fmla="*/ 666720 h 712800"/>
            </a:gdLst>
            <a:ahLst/>
            <a:rect l="textAreaLeft" t="textAreaTop" r="textAreaRight" b="textAreaBottom"/>
            <a:pathLst>
              <a:path w="24010" h="21600">
                <a:moveTo>
                  <a:pt x="0" y="0"/>
                </a:moveTo>
                <a:lnTo>
                  <a:pt x="24010" y="0"/>
                </a:lnTo>
                <a:lnTo>
                  <a:pt x="24010" y="21600"/>
                </a:lnTo>
                <a:lnTo>
                  <a:pt x="0" y="21600"/>
                </a:lnTo>
                <a:close/>
              </a:path>
              <a:path fill="lightenLess" w="24010" h="21600">
                <a:moveTo>
                  <a:pt x="0" y="0"/>
                </a:moveTo>
                <a:lnTo>
                  <a:pt x="24010" y="0"/>
                </a:lnTo>
                <a:lnTo>
                  <a:pt x="22610" y="1400"/>
                </a:lnTo>
                <a:lnTo>
                  <a:pt x="1400" y="1400"/>
                </a:lnTo>
                <a:close/>
              </a:path>
              <a:path fill="darken" w="24010" h="21600">
                <a:moveTo>
                  <a:pt x="24010" y="0"/>
                </a:moveTo>
                <a:lnTo>
                  <a:pt x="24010" y="21600"/>
                </a:lnTo>
                <a:lnTo>
                  <a:pt x="22610" y="20200"/>
                </a:lnTo>
                <a:lnTo>
                  <a:pt x="22610" y="1400"/>
                </a:lnTo>
                <a:close/>
              </a:path>
              <a:path fill="darkenLess" w="24010" h="21600">
                <a:moveTo>
                  <a:pt x="24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10" y="20200"/>
                </a:lnTo>
                <a:close/>
              </a:path>
              <a:path fill="lighten" w="24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10" h="21600">
                <a:moveTo>
                  <a:pt x="8506" y="10800"/>
                </a:moveTo>
                <a:lnTo>
                  <a:pt x="19011" y="3794"/>
                </a:lnTo>
                <a:lnTo>
                  <a:pt x="19011" y="17806"/>
                </a:lnTo>
                <a:close/>
              </a:path>
              <a:path fill="darken" w="24010" h="21600">
                <a:moveTo>
                  <a:pt x="4998" y="3794"/>
                </a:moveTo>
                <a:lnTo>
                  <a:pt x="6661" y="3794"/>
                </a:lnTo>
                <a:lnTo>
                  <a:pt x="6661" y="17806"/>
                </a:lnTo>
                <a:lnTo>
                  <a:pt x="4998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98840" y="426600"/>
            <a:ext cx="4659120" cy="61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hop --- sho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ut --- cu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top ---sto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t --- pu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get --- ge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egin ---begi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wim ---swi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hat--- cha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lan---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un--- ru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t --- si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75320" y="858960"/>
            <a:ext cx="942480" cy="5256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 Black"/>
                <a:hlinkClick r:id="rId2" action="ppaction://hlinksldjump"/>
              </a:rPr>
              <a:t>动词现在分词一览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7664400" y="5446800"/>
            <a:ext cx="792360" cy="712800"/>
          </a:xfrm>
          <a:custGeom>
            <a:avLst/>
            <a:gdLst>
              <a:gd name="textAreaLeft" fmla="*/ 46080 w 792360"/>
              <a:gd name="textAreaRight" fmla="*/ 746280 w 792360"/>
              <a:gd name="textAreaTop" fmla="*/ 46080 h 712800"/>
              <a:gd name="textAreaBottom" fmla="*/ 666720 h 712800"/>
            </a:gdLst>
            <a:ahLst/>
            <a:rect l="textAreaLeft" t="textAreaTop" r="textAreaRight" b="textAreaBottom"/>
            <a:pathLst>
              <a:path w="24010" h="21600">
                <a:moveTo>
                  <a:pt x="0" y="0"/>
                </a:moveTo>
                <a:lnTo>
                  <a:pt x="24010" y="0"/>
                </a:lnTo>
                <a:lnTo>
                  <a:pt x="24010" y="21600"/>
                </a:lnTo>
                <a:lnTo>
                  <a:pt x="0" y="21600"/>
                </a:lnTo>
                <a:close/>
              </a:path>
              <a:path fill="lightenLess" w="24010" h="21600">
                <a:moveTo>
                  <a:pt x="0" y="0"/>
                </a:moveTo>
                <a:lnTo>
                  <a:pt x="24010" y="0"/>
                </a:lnTo>
                <a:lnTo>
                  <a:pt x="22610" y="1400"/>
                </a:lnTo>
                <a:lnTo>
                  <a:pt x="1400" y="1400"/>
                </a:lnTo>
                <a:close/>
              </a:path>
              <a:path fill="darken" w="24010" h="21600">
                <a:moveTo>
                  <a:pt x="24010" y="0"/>
                </a:moveTo>
                <a:lnTo>
                  <a:pt x="24010" y="21600"/>
                </a:lnTo>
                <a:lnTo>
                  <a:pt x="22610" y="20200"/>
                </a:lnTo>
                <a:lnTo>
                  <a:pt x="22610" y="1400"/>
                </a:lnTo>
                <a:close/>
              </a:path>
              <a:path fill="darkenLess" w="24010" h="21600">
                <a:moveTo>
                  <a:pt x="24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10" y="20200"/>
                </a:lnTo>
                <a:close/>
              </a:path>
              <a:path fill="lighten" w="24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10" h="21600">
                <a:moveTo>
                  <a:pt x="8506" y="10800"/>
                </a:moveTo>
                <a:lnTo>
                  <a:pt x="19011" y="3794"/>
                </a:lnTo>
                <a:lnTo>
                  <a:pt x="19011" y="17806"/>
                </a:lnTo>
                <a:close/>
              </a:path>
              <a:path fill="darken" w="24010" h="21600">
                <a:moveTo>
                  <a:pt x="4998" y="3794"/>
                </a:moveTo>
                <a:lnTo>
                  <a:pt x="6661" y="3794"/>
                </a:lnTo>
                <a:lnTo>
                  <a:pt x="6661" y="17806"/>
                </a:lnTo>
                <a:lnTo>
                  <a:pt x="4998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457200"/>
            <a:ext cx="6480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写出下列动词的现在分词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1184400"/>
            <a:ext cx="6264360" cy="57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y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danc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writ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sit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ge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ea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look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carr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begin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pu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1327320"/>
            <a:ext cx="2087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1327320"/>
            <a:ext cx="194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la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2048040"/>
            <a:ext cx="1942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an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43640" y="2048040"/>
            <a:ext cx="1676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24000" y="2774880"/>
            <a:ext cx="1798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i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2766960"/>
            <a:ext cx="160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ge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3080" y="3494160"/>
            <a:ext cx="1798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a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83280" y="3422520"/>
            <a:ext cx="1657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13080" y="4214880"/>
            <a:ext cx="208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oo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72360" y="4141800"/>
            <a:ext cx="2160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arr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2920" y="4917960"/>
            <a:ext cx="2449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gi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0360" y="4849920"/>
            <a:ext cx="194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u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0"/>
            <a:ext cx="1295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wheel spokes="1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2481120"/>
            <a:ext cx="8229600" cy="33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49280" indent="-4492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Look! Simon  _________ (play) football with his friends in the playgr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It’s 4 o’clock in the afternoon. Daniel __________ (study) in the class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425520"/>
            <a:ext cx="5276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 Black"/>
              </a:rPr>
              <a:t>Exercise A  P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109520"/>
            <a:ext cx="868680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Complete the sentences with the correct forms of the verbs in brack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32120" y="2481120"/>
            <a:ext cx="221148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Franklin Gothic Medium"/>
              </a:rPr>
              <a:t>is pla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5084640"/>
            <a:ext cx="335124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Franklin Gothic Medium"/>
              </a:rPr>
              <a:t>is stud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76320"/>
            <a:ext cx="822960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49280" indent="-4492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Millie _________ (write) a letter to her friend about the fashion sh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76320"/>
            <a:ext cx="205596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Franklin Gothic Medium"/>
              </a:rPr>
              <a:t>is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295280"/>
            <a:ext cx="8381880" cy="53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49280" indent="-4492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Sandy is a member of the basketball team. Now she ____________ (practise ) with other team memb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Where is Amy? Oh, she _________ (talk) to her cousin Shirley. They ___________ (wait) for the school bu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I have dancing lessons. I ___________ (look) for my dancing shoes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0720" y="1905120"/>
            <a:ext cx="297360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Franklin Gothic Medium"/>
              </a:rPr>
              <a:t>is pract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3276720"/>
            <a:ext cx="266688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Franklin Gothic Medium"/>
              </a:rPr>
              <a:t>is tal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4572000"/>
            <a:ext cx="304632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Franklin Gothic Medium"/>
              </a:rPr>
              <a:t>are wa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5259240"/>
            <a:ext cx="266724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Franklin Gothic Medium"/>
              </a:rPr>
              <a:t>am loo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0600" y="1371600"/>
            <a:ext cx="22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否定句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0600" y="3429000"/>
            <a:ext cx="22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疑问句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19810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2819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 am not playing football at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800600"/>
            <a:ext cx="6324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re you listening to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at is your father doing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21337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+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+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40384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Be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s.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主语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+ doing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BD19574_"/>
          <p:cNvPicPr/>
          <p:nvPr/>
        </p:nvPicPr>
        <p:blipFill>
          <a:blip r:embed="rId2"/>
          <a:stretch/>
        </p:blipFill>
        <p:spPr>
          <a:xfrm>
            <a:off x="4692600" y="260280"/>
            <a:ext cx="4451400" cy="29829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395280" y="1557360"/>
            <a:ext cx="389088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Wha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he do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24000" y="2852640"/>
            <a:ext cx="568476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drink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water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(now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468360" y="4005360"/>
            <a:ext cx="66960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he ly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on the gras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(now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68360" y="4941720"/>
            <a:ext cx="22860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Yes, h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i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15"/>
          <p:cNvSpPr txBox="1"/>
          <p:nvPr/>
        </p:nvSpPr>
        <p:spPr>
          <a:xfrm>
            <a:off x="250920" y="0"/>
            <a:ext cx="429552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ff33"/>
                </a:solidFill>
                <a:effectLst>
                  <a:outerShdw dist="53966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Practise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ff33"/>
              </a:solidFill>
              <a:effectLst>
                <a:outerShdw dist="53966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vert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1089000"/>
            <a:ext cx="3887640" cy="3924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211640" y="1147680"/>
            <a:ext cx="49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is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Mr.F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i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51960" y="2382840"/>
            <a:ext cx="42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e sing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3117960"/>
            <a:ext cx="385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No, he isn’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He     dan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ith a do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3716280"/>
            <a:ext cx="14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3816360" cy="3922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164360" y="371628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64000" y="3716280"/>
            <a:ext cx="118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1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4895640" cy="4875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221440" y="830160"/>
            <a:ext cx="40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the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in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22520" y="2106720"/>
            <a:ext cx="400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th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in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vo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b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24000" y="692280"/>
            <a:ext cx="4897440" cy="4876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835280" y="4724280"/>
            <a:ext cx="7034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No,they aren’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They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’re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play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ing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footb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BD13764_"/>
          <p:cNvPicPr/>
          <p:nvPr/>
        </p:nvPicPr>
        <p:blipFill>
          <a:blip r:embed="rId2"/>
          <a:stretch/>
        </p:blipFill>
        <p:spPr>
          <a:xfrm>
            <a:off x="179280" y="0"/>
            <a:ext cx="2714760" cy="3219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075120" y="167652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724280" y="1689120"/>
            <a:ext cx="12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73800" y="170172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ot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240080" y="16891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554800" y="16747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AG00109_"/>
          <p:cNvPicPr/>
          <p:nvPr/>
        </p:nvPicPr>
        <p:blipFill>
          <a:blip r:embed="rId3"/>
          <a:stretch/>
        </p:blipFill>
        <p:spPr>
          <a:xfrm>
            <a:off x="4370400" y="2316240"/>
            <a:ext cx="361800" cy="69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AG00109_"/>
          <p:cNvPicPr/>
          <p:nvPr/>
        </p:nvPicPr>
        <p:blipFill>
          <a:blip r:embed="rId4"/>
          <a:stretch/>
        </p:blipFill>
        <p:spPr>
          <a:xfrm>
            <a:off x="5840280" y="2316240"/>
            <a:ext cx="355680" cy="679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BD19590_"/>
          <p:cNvPicPr/>
          <p:nvPr/>
        </p:nvPicPr>
        <p:blipFill>
          <a:blip r:embed="rId5"/>
          <a:stretch/>
        </p:blipFill>
        <p:spPr>
          <a:xfrm>
            <a:off x="322200" y="3591000"/>
            <a:ext cx="2578320" cy="2847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3173400" y="3898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4321080" y="389880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4800600" y="3898800"/>
            <a:ext cx="11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6488280" y="3922560"/>
            <a:ext cx="17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751360" y="3925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6" descr="AG00109_"/>
          <p:cNvPicPr/>
          <p:nvPr/>
        </p:nvPicPr>
        <p:blipFill>
          <a:blip r:embed="rId6"/>
          <a:stretch/>
        </p:blipFill>
        <p:spPr>
          <a:xfrm>
            <a:off x="4416480" y="4500720"/>
            <a:ext cx="477720" cy="91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AG00109_"/>
          <p:cNvPicPr/>
          <p:nvPr/>
        </p:nvPicPr>
        <p:blipFill>
          <a:blip r:embed="rId7"/>
          <a:stretch/>
        </p:blipFill>
        <p:spPr>
          <a:xfrm>
            <a:off x="5952960" y="4567320"/>
            <a:ext cx="433440" cy="82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-382680" y="63360"/>
            <a:ext cx="9769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型转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The boy is looking for his book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为一般疑问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并做肯定与否定回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Daniel and his friends are having some cold drin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为否定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Her mother is carrying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lots of shopping bag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划线部分提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00" y="1268280"/>
            <a:ext cx="87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the boy looking for his book ? Yes, he is. / No, he is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440" y="2565360"/>
            <a:ext cx="832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niel and his friends are not having any cold dri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8160" y="3860640"/>
            <a:ext cx="48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is her mother carrying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-590400" y="0"/>
            <a:ext cx="1018872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指出下列句中的时间情境，再完成动词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It’s six o’clock in the morning. Simon ______ ( get )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Look ! Some boys ___________ ( make ) model pl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The dog _________ ( lie ) on the ground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At the moment, we _________ ( listen ) to our tea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Listen ! Daniel ____________( sing ) an English s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The Class1, Grade 7 students ______________( have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ssons a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. Amy and Sandy ____________( watch ) TV right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. What _____ you _____ ( do 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 ______________( have ) my sup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. Where _________ h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 ______________( talk ) with his grand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. She ____________ (write) an English story the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89080" y="26028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g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81800" y="836640"/>
            <a:ext cx="19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360" y="1268280"/>
            <a:ext cx="12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52000" y="1628640"/>
            <a:ext cx="20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19640" y="2133720"/>
            <a:ext cx="15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si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81080" y="2565360"/>
            <a:ext cx="17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 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5800" y="335772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 w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52720" y="38606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3800" y="386064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3440" y="422100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m 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01440" y="472428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6520" y="46530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48360" y="508464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tal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5516640"/>
            <a:ext cx="16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Key words with present continuous tense: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关键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1484280"/>
            <a:ext cx="806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ook!                     Liste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ow                       at the moment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t present               right 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t’s … 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时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.      over here/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ere’s sb.?         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these days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上下文提示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( Be quiet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\ We can’t go out..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按要求改写句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They are learning something at present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改为否定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Amy and Sandy talk on the phone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改为现在进行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She is making a toy plane in the sitting room. 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般疑问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 They are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ing and laug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对划线部分提问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I am not doing anything now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改为肯定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0360" y="806400"/>
            <a:ext cx="64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y aren’t learning anything a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9600" y="1773360"/>
            <a:ext cx="648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my and Sandy are talking on the ph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7800" y="2637000"/>
            <a:ext cx="69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she making a toy plane in the sitting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0520" y="357336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are they doing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" y="4581360"/>
            <a:ext cx="42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 am doing something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33336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It is 5 p.m. Rewrite the sentences to say what is going on 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819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276720" y="4419720"/>
            <a:ext cx="1622160" cy="17524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04920" y="19810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Every day at 5 p.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N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472428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ther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62720" y="4876920"/>
            <a:ext cx="2590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ther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510552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cook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08720" y="5229360"/>
            <a:ext cx="27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is coo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352680" y="2133720"/>
            <a:ext cx="1905120" cy="16603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33520" y="23623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boys _____foot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2708280"/>
            <a:ext cx="13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228600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bo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ot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274320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re pla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685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Every day at 5 p.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43600" y="68580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N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505320" y="3657600"/>
            <a:ext cx="2286000" cy="2021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28600" y="4191120"/>
            <a:ext cx="281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r. Li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4365720"/>
            <a:ext cx="2286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r.Li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03280" y="4076640"/>
            <a:ext cx="21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watch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12000" y="47242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is wat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3581280" y="1600200"/>
            <a:ext cx="1565280" cy="17524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28600" y="1828800"/>
            <a:ext cx="312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y a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_______coffe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2349360"/>
            <a:ext cx="16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drink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16720" y="198900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is dr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21337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e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40" y="0"/>
            <a:ext cx="9117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项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)1.Wang Tao is __ his English book, but he can’t___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finding; look for      B. looking for; 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looking for; look at  D. looking at; 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)2. Look ! Liu Ming is ___ on the play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runing      B. run    C. running  D.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) 3. Why are you_____ on the g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lying    B. lieing   C. liing      D. 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)4. Simon often ____ with his friends on the phone. 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s ____ with a friend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chats; chats        B. chatting; cha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chat; chatting      D. chats; cha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) 5. ___they still _____football now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Is; playing       B. Are;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Are; play         D. Are; p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2720" y="40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6160" y="17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3080" y="263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308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272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-2160" y="0"/>
            <a:ext cx="9169200" cy="63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根据所给汉语完成句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准备邀请他参加你的生日聚会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re you going t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______ him ___ your birthday par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刻我们班上的学生们在干什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 are the students in our class doing____ ______ ___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现在没空。就在此刻我正在看望我的叔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am not _____ now. I _____ _______ my uncle right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海伦正在等着轮到她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len is _______ _____ her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正在为我的新上衣付款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am _______ _______ my new co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那两个学生正在树下吃冰淇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two students are _____ _____ _____ under a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要在外面呆得太迟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n’t ______ ______ too 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1440" y="69228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v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17800" y="692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00" y="155736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88320" y="1557360"/>
            <a:ext cx="23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78520" y="2421000"/>
            <a:ext cx="7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3800" y="2421000"/>
            <a:ext cx="21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m    vis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77800" y="3284640"/>
            <a:ext cx="18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iting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58160" y="3213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73800" y="4076640"/>
            <a:ext cx="21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ying    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8880" y="5013360"/>
            <a:ext cx="27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ating  ice c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18520" y="580536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ay     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E02647_"/>
          <p:cNvPicPr/>
          <p:nvPr/>
        </p:nvPicPr>
        <p:blipFill>
          <a:blip r:embed="rId2"/>
          <a:stretch/>
        </p:blipFill>
        <p:spPr>
          <a:xfrm>
            <a:off x="0" y="268200"/>
            <a:ext cx="3330720" cy="2963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2917800" y="1387440"/>
            <a:ext cx="12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815000" y="13874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738840" y="1401840"/>
            <a:ext cx="8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016520" y="1362240"/>
            <a:ext cx="117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996160" y="13604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257640" y="446868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o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443480" y="447660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6932520" y="45036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6208560" y="44625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7710480" y="4497480"/>
            <a:ext cx="9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7513560" y="1376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3319560"/>
            <a:ext cx="3333600" cy="306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AG00109_"/>
          <p:cNvPicPr/>
          <p:nvPr/>
        </p:nvPicPr>
        <p:blipFill>
          <a:blip r:embed="rId4"/>
          <a:stretch/>
        </p:blipFill>
        <p:spPr>
          <a:xfrm>
            <a:off x="4245120" y="2127240"/>
            <a:ext cx="361800" cy="692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G00109_"/>
          <p:cNvPicPr/>
          <p:nvPr/>
        </p:nvPicPr>
        <p:blipFill>
          <a:blip r:embed="rId5"/>
          <a:stretch/>
        </p:blipFill>
        <p:spPr>
          <a:xfrm>
            <a:off x="6226200" y="2136600"/>
            <a:ext cx="361800" cy="69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AG00109_"/>
          <p:cNvPicPr/>
          <p:nvPr/>
        </p:nvPicPr>
        <p:blipFill>
          <a:blip r:embed="rId6"/>
          <a:stretch/>
        </p:blipFill>
        <p:spPr>
          <a:xfrm>
            <a:off x="7818480" y="2108160"/>
            <a:ext cx="361800" cy="692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AG00109_"/>
          <p:cNvPicPr/>
          <p:nvPr/>
        </p:nvPicPr>
        <p:blipFill>
          <a:blip r:embed="rId7"/>
          <a:stretch/>
        </p:blipFill>
        <p:spPr>
          <a:xfrm>
            <a:off x="6415200" y="5133960"/>
            <a:ext cx="361800" cy="692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AG00109_"/>
          <p:cNvPicPr/>
          <p:nvPr/>
        </p:nvPicPr>
        <p:blipFill>
          <a:blip r:embed="rId8"/>
          <a:stretch/>
        </p:blipFill>
        <p:spPr>
          <a:xfrm>
            <a:off x="7943760" y="5068800"/>
            <a:ext cx="362160" cy="692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AG00109_"/>
          <p:cNvPicPr/>
          <p:nvPr/>
        </p:nvPicPr>
        <p:blipFill>
          <a:blip r:embed="rId9"/>
          <a:stretch/>
        </p:blipFill>
        <p:spPr>
          <a:xfrm>
            <a:off x="3624120" y="5038560"/>
            <a:ext cx="362160" cy="692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212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现在要走了。晚些时候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’m ______ now. See you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正在为我们的英语老师举办一个生日聚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____ ______ a birthday party ____ our English tea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的一些朋友正在唱歌跳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ome of my friends are _______ and _______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080" y="47628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25800" y="47628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41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    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49800" y="126828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80360" y="2133720"/>
            <a:ext cx="12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53080" y="213372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464000" cy="5516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75760" y="5560920"/>
            <a:ext cx="14547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5440" y="462924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02440" y="5560920"/>
            <a:ext cx="7207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 talk</a:t>
            </a:r>
            <a:r>
              <a:rPr b="1" lang="en-US" sz="4300" spc="-1" strike="noStrike">
                <a:solidFill>
                  <a:srgbClr val="cc3300"/>
                </a:solidFill>
                <a:latin typeface="Arial"/>
              </a:rPr>
              <a:t>ing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with each other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40560" y="56880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1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11640" y="404280"/>
            <a:ext cx="468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ANI_023" descr=""/>
          <p:cNvPicPr/>
          <p:nvPr/>
        </p:nvPicPr>
        <p:blipFill>
          <a:blip r:embed="rId2"/>
          <a:stretch/>
        </p:blipFill>
        <p:spPr>
          <a:xfrm>
            <a:off x="5867280" y="2743200"/>
            <a:ext cx="2543400" cy="3622680"/>
          </a:xfrm>
          <a:prstGeom prst="rect">
            <a:avLst/>
          </a:prstGeom>
          <a:ln w="0">
            <a:noFill/>
          </a:ln>
        </p:spPr>
      </p:pic>
      <p:pic>
        <p:nvPicPr>
          <p:cNvPr id="280" name="ANI_022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3527280" cy="23511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87240" y="3124080"/>
            <a:ext cx="21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wi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941440" y="556884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AG00027_" descr=""/>
          <p:cNvPicPr/>
          <p:nvPr/>
        </p:nvPicPr>
        <p:blipFill>
          <a:blip r:embed="rId4"/>
          <a:stretch/>
        </p:blipFill>
        <p:spPr>
          <a:xfrm>
            <a:off x="1015920" y="1143000"/>
            <a:ext cx="2286000" cy="19573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965040" y="1911240"/>
            <a:ext cx="37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riving/smo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8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bike2"/>
          <p:cNvPicPr/>
          <p:nvPr/>
        </p:nvPicPr>
        <p:blipFill>
          <a:blip r:embed="rId2"/>
          <a:stretch/>
        </p:blipFill>
        <p:spPr>
          <a:xfrm>
            <a:off x="0" y="1049400"/>
            <a:ext cx="9144000" cy="192564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4"/>
          <p:cNvSpPr/>
          <p:nvPr/>
        </p:nvSpPr>
        <p:spPr>
          <a:xfrm>
            <a:off x="371520" y="1486080"/>
            <a:ext cx="37256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What is he do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walk"/>
          <p:cNvPicPr/>
          <p:nvPr/>
        </p:nvPicPr>
        <p:blipFill>
          <a:blip r:embed="rId3"/>
          <a:stretch/>
        </p:blipFill>
        <p:spPr>
          <a:xfrm>
            <a:off x="847800" y="3511440"/>
            <a:ext cx="2043000" cy="29322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7"/>
          <p:cNvSpPr/>
          <p:nvPr/>
        </p:nvSpPr>
        <p:spPr>
          <a:xfrm>
            <a:off x="3697200" y="3716280"/>
            <a:ext cx="399096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What is she do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439560" y="2286000"/>
            <a:ext cx="40910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He’s rid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a b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3817800" y="4567320"/>
            <a:ext cx="30686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She’s walk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15"/>
          <p:cNvSpPr txBox="1"/>
          <p:nvPr/>
        </p:nvSpPr>
        <p:spPr>
          <a:xfrm>
            <a:off x="254160" y="187200"/>
            <a:ext cx="429552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ff33"/>
                </a:solidFill>
                <a:effectLst>
                  <a:outerShdw dist="53966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Practise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ff33"/>
              </a:solidFill>
              <a:effectLst>
                <a:outerShdw dist="53966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vert"/>
  </p:transition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3132000" y="2965320"/>
            <a:ext cx="689040" cy="2633760"/>
            <a:chOff x="3132000" y="2965320"/>
            <a:chExt cx="689040" cy="2633760"/>
          </a:xfrm>
        </p:grpSpPr>
        <p:sp>
          <p:nvSpPr>
            <p:cNvPr id="293" name=""/>
            <p:cNvSpPr/>
            <p:nvPr/>
          </p:nvSpPr>
          <p:spPr>
            <a:xfrm>
              <a:off x="3132000" y="2965320"/>
              <a:ext cx="1839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34520" y="4032360"/>
              <a:ext cx="68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32000" y="4836960"/>
              <a:ext cx="1839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3338280" y="1268280"/>
            <a:ext cx="154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86520" y="2133720"/>
            <a:ext cx="449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he run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nin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2735280" cy="32623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059280" y="2924280"/>
            <a:ext cx="60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No,he isn’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Is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he play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ing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footb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Yes,he 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99520" y="1268280"/>
            <a:ext cx="434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David do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in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AG00033_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178000" cy="2643120"/>
          </a:xfrm>
          <a:prstGeom prst="rect">
            <a:avLst/>
          </a:prstGeom>
          <a:ln w="0">
            <a:noFill/>
          </a:ln>
        </p:spPr>
      </p:pic>
      <p:pic>
        <p:nvPicPr>
          <p:cNvPr id="302" name="BD13764_" descr=""/>
          <p:cNvPicPr/>
          <p:nvPr/>
        </p:nvPicPr>
        <p:blipFill>
          <a:blip r:embed="rId3"/>
          <a:stretch/>
        </p:blipFill>
        <p:spPr>
          <a:xfrm>
            <a:off x="228600" y="3124080"/>
            <a:ext cx="2833560" cy="3733920"/>
          </a:xfrm>
          <a:prstGeom prst="rect">
            <a:avLst/>
          </a:prstGeom>
          <a:ln w="0">
            <a:noFill/>
          </a:ln>
        </p:spPr>
      </p:pic>
      <p:pic>
        <p:nvPicPr>
          <p:cNvPr id="303" name="PH01458J" descr=""/>
          <p:cNvPicPr/>
          <p:nvPr/>
        </p:nvPicPr>
        <p:blipFill>
          <a:blip r:embed="rId4"/>
          <a:stretch/>
        </p:blipFill>
        <p:spPr>
          <a:xfrm>
            <a:off x="3200400" y="3581280"/>
            <a:ext cx="2319480" cy="3124440"/>
          </a:xfrm>
          <a:prstGeom prst="rect">
            <a:avLst/>
          </a:prstGeom>
          <a:ln w="0">
            <a:noFill/>
          </a:ln>
        </p:spPr>
      </p:pic>
      <p:pic>
        <p:nvPicPr>
          <p:cNvPr id="304" name="j0095748" descr=""/>
          <p:cNvPicPr/>
          <p:nvPr/>
        </p:nvPicPr>
        <p:blipFill>
          <a:blip r:embed="rId5"/>
          <a:stretch/>
        </p:blipFill>
        <p:spPr>
          <a:xfrm>
            <a:off x="6400800" y="228600"/>
            <a:ext cx="2519280" cy="3247920"/>
          </a:xfrm>
          <a:prstGeom prst="rect">
            <a:avLst/>
          </a:prstGeom>
          <a:ln w="0">
            <a:noFill/>
          </a:ln>
        </p:spPr>
      </p:pic>
      <p:pic>
        <p:nvPicPr>
          <p:cNvPr id="305" name="BD19564_" descr=""/>
          <p:cNvPicPr/>
          <p:nvPr/>
        </p:nvPicPr>
        <p:blipFill>
          <a:blip r:embed="rId6"/>
          <a:stretch/>
        </p:blipFill>
        <p:spPr>
          <a:xfrm>
            <a:off x="6400800" y="3505320"/>
            <a:ext cx="2081160" cy="3124080"/>
          </a:xfrm>
          <a:prstGeom prst="rect">
            <a:avLst/>
          </a:prstGeom>
          <a:ln w="0">
            <a:noFill/>
          </a:ln>
        </p:spPr>
      </p:pic>
      <p:pic>
        <p:nvPicPr>
          <p:cNvPr id="306" name="3d_rw16" descr=""/>
          <p:cNvPicPr/>
          <p:nvPr/>
        </p:nvPicPr>
        <p:blipFill>
          <a:blip r:embed="rId7"/>
          <a:stretch/>
        </p:blipFill>
        <p:spPr>
          <a:xfrm>
            <a:off x="0" y="762120"/>
            <a:ext cx="2819520" cy="25174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151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Ask and ans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334120" y="914400"/>
            <a:ext cx="4419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What’s she doing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10080" y="32767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he’s playing badmint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3092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486400" y="9144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57800" y="1143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What’s he do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81480" y="350532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e’s playing table tenn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Mrs Zhao: What (1) </a:t>
            </a:r>
            <a:r>
              <a:rPr b="1" lang="zh-CN" sz="2800" spc="-1" strike="noStrike">
                <a:solidFill>
                  <a:srgbClr val="808080"/>
                </a:solidFill>
                <a:latin typeface="Comic Sans MS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you______(do) now,A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Amy: I am in the Sunnyside Shopping Mall with my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Mrs Zhao:</a:t>
            </a:r>
            <a:r>
              <a:rPr b="1" lang="zh-CN" sz="2800" spc="-1" strike="noStrike">
                <a:solidFill>
                  <a:srgbClr val="808080"/>
                </a:solidFill>
                <a:latin typeface="Comic Sans MS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Simon</a:t>
            </a:r>
            <a:r>
              <a:rPr b="1" lang="zh-CN" sz="2800" spc="-1" strike="noStrike">
                <a:solidFill>
                  <a:srgbClr val="808080"/>
                </a:solidFill>
                <a:latin typeface="Comic Sans MS"/>
              </a:rPr>
              <a:t> ______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(go) with you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Amy: Yes. He (3)</a:t>
            </a:r>
            <a:r>
              <a:rPr b="1" lang="zh-CN" sz="2800" spc="-1" strike="noStrike">
                <a:solidFill>
                  <a:srgbClr val="808080"/>
                </a:solidFill>
                <a:latin typeface="Comic Sans MS"/>
              </a:rPr>
              <a:t>____________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look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some football c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Mrs Zhao: What (4) </a:t>
            </a:r>
            <a:r>
              <a:rPr b="1" lang="zh-CN" sz="2800" spc="-1" strike="noStrike">
                <a:solidFill>
                  <a:srgbClr val="808080"/>
                </a:solidFill>
                <a:latin typeface="Comic Sans MS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Kitty </a:t>
            </a:r>
            <a:r>
              <a:rPr b="1" lang="zh-CN" sz="2800" spc="-1" strike="noStrike">
                <a:solidFill>
                  <a:srgbClr val="808080"/>
                </a:solidFill>
                <a:latin typeface="Comic Sans MS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(do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Amy: Oh! Kitty and Sandy(5) </a:t>
            </a:r>
            <a:r>
              <a:rPr b="1" lang="zh-CN" sz="2800" spc="-1" strike="noStrike">
                <a:solidFill>
                  <a:srgbClr val="808080"/>
                </a:solidFill>
                <a:latin typeface="Comic Sans MS"/>
              </a:rPr>
              <a:t>___________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(eat) ice cr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Mrs Zhao: Where is Mill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Amy: She is in the shoe shop. She (6) </a:t>
            </a:r>
            <a:r>
              <a:rPr b="1" lang="zh-CN" sz="2800" spc="-1" strike="noStrike">
                <a:solidFill>
                  <a:srgbClr val="808080"/>
                </a:solidFill>
                <a:latin typeface="Comic Sans MS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pay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for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her new sh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0" y="0"/>
            <a:ext cx="1619280" cy="1325880"/>
            <a:chOff x="0" y="0"/>
            <a:chExt cx="1619280" cy="1325880"/>
          </a:xfrm>
        </p:grpSpPr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619280" cy="105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363240" y="92700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 Black"/>
                </a:rPr>
                <a:t>Sim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547640" y="0"/>
            <a:ext cx="3240360" cy="1341720"/>
            <a:chOff x="1547640" y="0"/>
            <a:chExt cx="3240360" cy="1341720"/>
          </a:xfrm>
        </p:grpSpPr>
        <p:pic>
          <p:nvPicPr>
            <p:cNvPr id="320" name="" descr=""/>
            <p:cNvPicPr/>
            <p:nvPr/>
          </p:nvPicPr>
          <p:blipFill>
            <a:blip r:embed="rId3"/>
            <a:stretch/>
          </p:blipFill>
          <p:spPr>
            <a:xfrm>
              <a:off x="1547640" y="0"/>
              <a:ext cx="21834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690560" y="973440"/>
              <a:ext cx="309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 Black"/>
                </a:rPr>
                <a:t>Kitty and San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780000" y="0"/>
            <a:ext cx="1873080" cy="1327680"/>
            <a:chOff x="3780000" y="0"/>
            <a:chExt cx="1873080" cy="1327680"/>
          </a:xfrm>
        </p:grpSpPr>
        <p:pic>
          <p:nvPicPr>
            <p:cNvPr id="323" name="" descr=""/>
            <p:cNvPicPr/>
            <p:nvPr/>
          </p:nvPicPr>
          <p:blipFill>
            <a:blip r:embed="rId4"/>
            <a:stretch/>
          </p:blipFill>
          <p:spPr>
            <a:xfrm>
              <a:off x="3780000" y="0"/>
              <a:ext cx="1873080" cy="10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4479840" y="928800"/>
              <a:ext cx="8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 Black"/>
                </a:rPr>
                <a:t>Mill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651640" y="0"/>
            <a:ext cx="1571400" cy="1244880"/>
            <a:chOff x="5651640" y="0"/>
            <a:chExt cx="1571400" cy="1244880"/>
          </a:xfrm>
        </p:grpSpPr>
        <p:pic>
          <p:nvPicPr>
            <p:cNvPr id="326" name="" descr=""/>
            <p:cNvPicPr/>
            <p:nvPr/>
          </p:nvPicPr>
          <p:blipFill>
            <a:blip r:embed="rId5"/>
            <a:stretch/>
          </p:blipFill>
          <p:spPr>
            <a:xfrm>
              <a:off x="5651640" y="0"/>
              <a:ext cx="1510920" cy="109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225480" y="84600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 Black"/>
                </a:rPr>
                <a:t>Dani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7380360" y="0"/>
            <a:ext cx="1763640" cy="1292760"/>
            <a:chOff x="7380360" y="0"/>
            <a:chExt cx="1763640" cy="1292760"/>
          </a:xfrm>
        </p:grpSpPr>
        <p:pic>
          <p:nvPicPr>
            <p:cNvPr id="329" name="" descr=""/>
            <p:cNvPicPr/>
            <p:nvPr/>
          </p:nvPicPr>
          <p:blipFill>
            <a:blip r:embed="rId6"/>
            <a:stretch/>
          </p:blipFill>
          <p:spPr>
            <a:xfrm>
              <a:off x="7380360" y="0"/>
              <a:ext cx="176364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167680" y="893880"/>
              <a:ext cx="75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 Black"/>
                </a:rPr>
                <a:t>Am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3635280" y="134136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35640" y="1268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79640" y="2708280"/>
            <a:ext cx="936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4720" y="2708280"/>
            <a:ext cx="14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48000" y="314172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 loo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780000" y="3933720"/>
            <a:ext cx="129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3640" y="400536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92720" y="4508640"/>
            <a:ext cx="26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re e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48360" y="5661000"/>
            <a:ext cx="187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 pa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Mrs Zhao: (7) </a:t>
            </a:r>
            <a:r>
              <a:rPr b="1" lang="zh-CN" sz="2800" spc="-1" strike="noStrike">
                <a:solidFill>
                  <a:srgbClr val="808080"/>
                </a:solidFill>
                <a:latin typeface="Comic Sans MS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Daniel </a:t>
            </a:r>
            <a:r>
              <a:rPr b="1" lang="zh-CN" sz="2800" spc="-1" strike="noStrike">
                <a:solidFill>
                  <a:srgbClr val="808080"/>
                </a:solidFill>
                <a:latin typeface="Comic Sans MS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(play) computer ga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Amy:Yes! How do you know that,M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Mrs Zhao: He always does so. What dou you have,A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Amy:I (8) </a:t>
            </a:r>
            <a:r>
              <a:rPr b="1" lang="zh-CN" sz="2800" spc="-1" strike="noStrike">
                <a:solidFill>
                  <a:srgbClr val="808080"/>
                </a:solidFill>
                <a:latin typeface="Comic Sans MS"/>
              </a:rPr>
              <a:t>________________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(carry) lots of 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shopping bags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Mrs Zhao: Don`t stay out too 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Amy:OK. 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See you later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, M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0" y="0"/>
            <a:ext cx="1619280" cy="1325880"/>
            <a:chOff x="0" y="0"/>
            <a:chExt cx="1619280" cy="1325880"/>
          </a:xfrm>
        </p:grpSpPr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619280" cy="105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63240" y="92700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 Black"/>
                </a:rPr>
                <a:t>Sim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547640" y="0"/>
            <a:ext cx="3240360" cy="1341720"/>
            <a:chOff x="1547640" y="0"/>
            <a:chExt cx="3240360" cy="1341720"/>
          </a:xfrm>
        </p:grpSpPr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1547640" y="0"/>
              <a:ext cx="21834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1690560" y="973440"/>
              <a:ext cx="309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 Black"/>
                </a:rPr>
                <a:t>Kitty and San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780000" y="0"/>
            <a:ext cx="1873080" cy="1327680"/>
            <a:chOff x="3780000" y="0"/>
            <a:chExt cx="1873080" cy="1327680"/>
          </a:xfrm>
        </p:grpSpPr>
        <p:pic>
          <p:nvPicPr>
            <p:cNvPr id="348" name="" descr=""/>
            <p:cNvPicPr/>
            <p:nvPr/>
          </p:nvPicPr>
          <p:blipFill>
            <a:blip r:embed="rId4"/>
            <a:stretch/>
          </p:blipFill>
          <p:spPr>
            <a:xfrm>
              <a:off x="3780000" y="0"/>
              <a:ext cx="1873080" cy="10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4479840" y="928800"/>
              <a:ext cx="8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 Black"/>
                </a:rPr>
                <a:t>Mill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651640" y="0"/>
            <a:ext cx="1571400" cy="1244880"/>
            <a:chOff x="5651640" y="0"/>
            <a:chExt cx="1571400" cy="1244880"/>
          </a:xfrm>
        </p:grpSpPr>
        <p:pic>
          <p:nvPicPr>
            <p:cNvPr id="351" name="" descr=""/>
            <p:cNvPicPr/>
            <p:nvPr/>
          </p:nvPicPr>
          <p:blipFill>
            <a:blip r:embed="rId5"/>
            <a:stretch/>
          </p:blipFill>
          <p:spPr>
            <a:xfrm>
              <a:off x="5651640" y="0"/>
              <a:ext cx="1510920" cy="109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225480" y="84600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 Black"/>
                </a:rPr>
                <a:t>Dani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380360" y="0"/>
            <a:ext cx="1763640" cy="1292760"/>
            <a:chOff x="7380360" y="0"/>
            <a:chExt cx="1763640" cy="1292760"/>
          </a:xfrm>
        </p:grpSpPr>
        <p:pic>
          <p:nvPicPr>
            <p:cNvPr id="354" name="" descr=""/>
            <p:cNvPicPr/>
            <p:nvPr/>
          </p:nvPicPr>
          <p:blipFill>
            <a:blip r:embed="rId6"/>
            <a:stretch/>
          </p:blipFill>
          <p:spPr>
            <a:xfrm>
              <a:off x="7380360" y="0"/>
              <a:ext cx="176364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8167680" y="893880"/>
              <a:ext cx="75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 Black"/>
                </a:rPr>
                <a:t>Am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2268360" y="5373720"/>
            <a:ext cx="4319640" cy="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771640" y="1557360"/>
            <a:ext cx="158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2000" y="1484280"/>
            <a:ext cx="172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la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50920" y="3860640"/>
            <a:ext cx="367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m carr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71640" y="115920"/>
            <a:ext cx="72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现在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Present Continuous T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773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5840" y="170028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Things that are happening now.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表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此时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此刻正在进行的动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4240" y="412416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403056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Things that are happening these days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表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现阶段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正在进行着的动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2814480"/>
            <a:ext cx="74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---Wha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a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w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do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r>
              <a:rPr b="1" i="1" lang="en-US" sz="3600" spc="-1" strike="noStrike">
                <a:solidFill>
                  <a:srgbClr val="d60093"/>
                </a:solidFill>
                <a:latin typeface="Times New Roman"/>
                <a:ea typeface="华文行楷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?                 ---W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are hav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an English cla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797360"/>
            <a:ext cx="720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51912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am writ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an English story these day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04920" y="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structure of the present continuous ten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912960"/>
            <a:ext cx="88390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____________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dumplings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___________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at the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__________ 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cold drinks under the tree right now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ook!They _________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on the chair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e _____________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跳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over ther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9144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m  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16002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re swi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332000" y="234936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re dr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38280" y="3581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re s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32000" y="429264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s  d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335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be +doing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6868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Complete the conversation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1271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609480"/>
            <a:ext cx="9677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and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 Hello,Amy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Are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ou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dong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do)your homework no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 No, I’m not. My cousin __________(visit)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and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 Oh, really? What _____ he _______(do)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 Well, he ____________(play) a new computer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and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 ________ you __________(play) the game with him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 No, I’m not. I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(wait) for my turn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.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1371600"/>
            <a:ext cx="16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vis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192200" y="199548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11160" y="205740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39000" y="2666880"/>
            <a:ext cx="18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 playing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96240" y="335268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42120" y="329076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202200" y="457200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m wa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03120" y="230040"/>
            <a:ext cx="9069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I am asking Mr Wu some questions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为一般疑问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并做肯定与否定回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He is waiting for his turn. (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为否定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Her grandparents are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listening to the radi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划线部分提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7800" y="1125360"/>
            <a:ext cx="620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re you asking Mr Wu any question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Yes, I am. / No, I am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42520" y="2276640"/>
            <a:ext cx="465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 is not waiting for his tu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3800" y="3573360"/>
            <a:ext cx="556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are her grandparents doing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03280" y="260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现在进行时基本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268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1.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肯定句：主语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+</a:t>
            </a:r>
            <a:r>
              <a:rPr b="1" lang="zh-CN" sz="3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e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词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+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动词的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现在分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234936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14720" y="2349360"/>
            <a:ext cx="134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3500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He / S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79736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We / You / Th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14720" y="3500280"/>
            <a:ext cx="106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14720" y="479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3800" y="350028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writ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99280" y="2349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speak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479736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run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n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40464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715000" y="3581280"/>
            <a:ext cx="312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He’s playing basketb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0"/>
            <a:ext cx="3352680" cy="2743200"/>
          </a:xfrm>
          <a:prstGeom prst="cloudCallout">
            <a:avLst>
              <a:gd name="adj1" fmla="val -24574"/>
              <a:gd name="adj2" fmla="val 66087"/>
            </a:avLst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7621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What’s he do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466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95880" y="762120"/>
            <a:ext cx="2743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What’s she doing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2971800"/>
            <a:ext cx="243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he’s danc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880" y="586728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58672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he’s swimm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5867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What’s she do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176040" y="352440"/>
            <a:ext cx="3326040" cy="70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Comic Sans MS"/>
              </a:rPr>
              <a:t>动词现在分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23840" y="1278000"/>
            <a:ext cx="38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※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词原型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+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01560" y="1887480"/>
            <a:ext cx="70581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read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drink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eat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meet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think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90360" y="3166920"/>
            <a:ext cx="680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不发音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尾，去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90360" y="4621320"/>
            <a:ext cx="87724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重读闭音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双写结尾的辅音字母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684360" y="5499000"/>
            <a:ext cx="721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si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t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swim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m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pu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tt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ru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7360" y="3929040"/>
            <a:ext cx="48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writ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mak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 flipH="1">
            <a:off x="7904160" y="2467080"/>
            <a:ext cx="657360" cy="650880"/>
          </a:xfrm>
          <a:custGeom>
            <a:avLst/>
            <a:gdLst>
              <a:gd name="textAreaLeft" fmla="*/ 42120 w 657360"/>
              <a:gd name="textAreaRight" fmla="*/ 615240 w 657360"/>
              <a:gd name="textAreaTop" fmla="*/ 42120 h 650880"/>
              <a:gd name="textAreaBottom" fmla="*/ 608760 h 650880"/>
            </a:gdLst>
            <a:ahLst/>
            <a:rect l="textAreaLeft" t="textAreaTop" r="textAreaRight" b="textAreaBottom"/>
            <a:pathLst>
              <a:path w="21815" h="21600">
                <a:moveTo>
                  <a:pt x="0" y="0"/>
                </a:moveTo>
                <a:lnTo>
                  <a:pt x="21815" y="0"/>
                </a:lnTo>
                <a:lnTo>
                  <a:pt x="21815" y="21600"/>
                </a:lnTo>
                <a:lnTo>
                  <a:pt x="0" y="21600"/>
                </a:lnTo>
                <a:close/>
              </a:path>
              <a:path fill="lightenLess" w="21815" h="21600">
                <a:moveTo>
                  <a:pt x="0" y="0"/>
                </a:moveTo>
                <a:lnTo>
                  <a:pt x="21815" y="0"/>
                </a:lnTo>
                <a:lnTo>
                  <a:pt x="20415" y="1400"/>
                </a:lnTo>
                <a:lnTo>
                  <a:pt x="1400" y="1400"/>
                </a:lnTo>
                <a:close/>
              </a:path>
              <a:path fill="darken" w="21815" h="21600">
                <a:moveTo>
                  <a:pt x="21815" y="0"/>
                </a:moveTo>
                <a:lnTo>
                  <a:pt x="21815" y="21600"/>
                </a:lnTo>
                <a:lnTo>
                  <a:pt x="20415" y="20200"/>
                </a:lnTo>
                <a:lnTo>
                  <a:pt x="20415" y="1400"/>
                </a:lnTo>
                <a:close/>
              </a:path>
              <a:path fill="darkenLess" w="21815" h="21600">
                <a:moveTo>
                  <a:pt x="21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15" y="20200"/>
                </a:lnTo>
                <a:close/>
              </a:path>
              <a:path fill="lighten" w="21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15" h="21600">
                <a:moveTo>
                  <a:pt x="7409" y="10800"/>
                </a:moveTo>
                <a:lnTo>
                  <a:pt x="17914" y="3794"/>
                </a:lnTo>
                <a:lnTo>
                  <a:pt x="17914" y="17806"/>
                </a:lnTo>
                <a:close/>
              </a:path>
              <a:path fill="darken" w="21815" h="21600">
                <a:moveTo>
                  <a:pt x="3901" y="3794"/>
                </a:moveTo>
                <a:lnTo>
                  <a:pt x="5563" y="3794"/>
                </a:lnTo>
                <a:lnTo>
                  <a:pt x="5563" y="17806"/>
                </a:lnTo>
                <a:lnTo>
                  <a:pt x="3901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 flipH="1">
            <a:off x="7900920" y="3801960"/>
            <a:ext cx="657360" cy="650880"/>
          </a:xfrm>
          <a:custGeom>
            <a:avLst/>
            <a:gdLst>
              <a:gd name="textAreaLeft" fmla="*/ 42120 w 657360"/>
              <a:gd name="textAreaRight" fmla="*/ 615240 w 657360"/>
              <a:gd name="textAreaTop" fmla="*/ 42120 h 650880"/>
              <a:gd name="textAreaBottom" fmla="*/ 608760 h 650880"/>
            </a:gdLst>
            <a:ahLst/>
            <a:rect l="textAreaLeft" t="textAreaTop" r="textAreaRight" b="textAreaBottom"/>
            <a:pathLst>
              <a:path w="21815" h="21600">
                <a:moveTo>
                  <a:pt x="0" y="0"/>
                </a:moveTo>
                <a:lnTo>
                  <a:pt x="21815" y="0"/>
                </a:lnTo>
                <a:lnTo>
                  <a:pt x="21815" y="21600"/>
                </a:lnTo>
                <a:lnTo>
                  <a:pt x="0" y="21600"/>
                </a:lnTo>
                <a:close/>
              </a:path>
              <a:path fill="lightenLess" w="21815" h="21600">
                <a:moveTo>
                  <a:pt x="0" y="0"/>
                </a:moveTo>
                <a:lnTo>
                  <a:pt x="21815" y="0"/>
                </a:lnTo>
                <a:lnTo>
                  <a:pt x="20415" y="1400"/>
                </a:lnTo>
                <a:lnTo>
                  <a:pt x="1400" y="1400"/>
                </a:lnTo>
                <a:close/>
              </a:path>
              <a:path fill="darken" w="21815" h="21600">
                <a:moveTo>
                  <a:pt x="21815" y="0"/>
                </a:moveTo>
                <a:lnTo>
                  <a:pt x="21815" y="21600"/>
                </a:lnTo>
                <a:lnTo>
                  <a:pt x="20415" y="20200"/>
                </a:lnTo>
                <a:lnTo>
                  <a:pt x="20415" y="1400"/>
                </a:lnTo>
                <a:close/>
              </a:path>
              <a:path fill="darkenLess" w="21815" h="21600">
                <a:moveTo>
                  <a:pt x="21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15" y="20200"/>
                </a:lnTo>
                <a:close/>
              </a:path>
              <a:path fill="lighten" w="21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15" h="21600">
                <a:moveTo>
                  <a:pt x="7409" y="10800"/>
                </a:moveTo>
                <a:lnTo>
                  <a:pt x="17914" y="3794"/>
                </a:lnTo>
                <a:lnTo>
                  <a:pt x="17914" y="17806"/>
                </a:lnTo>
                <a:close/>
              </a:path>
              <a:path fill="darken" w="21815" h="21600">
                <a:moveTo>
                  <a:pt x="3901" y="3794"/>
                </a:moveTo>
                <a:lnTo>
                  <a:pt x="5563" y="3794"/>
                </a:lnTo>
                <a:lnTo>
                  <a:pt x="5563" y="17806"/>
                </a:lnTo>
                <a:lnTo>
                  <a:pt x="3901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4" action="ppaction://hlinksldjump"/>
          </p:cNvPr>
          <p:cNvSpPr/>
          <p:nvPr/>
        </p:nvSpPr>
        <p:spPr>
          <a:xfrm flipH="1">
            <a:off x="7915320" y="5487840"/>
            <a:ext cx="657360" cy="650880"/>
          </a:xfrm>
          <a:custGeom>
            <a:avLst/>
            <a:gdLst>
              <a:gd name="textAreaLeft" fmla="*/ 42120 w 657360"/>
              <a:gd name="textAreaRight" fmla="*/ 615240 w 657360"/>
              <a:gd name="textAreaTop" fmla="*/ 42120 h 650880"/>
              <a:gd name="textAreaBottom" fmla="*/ 608760 h 650880"/>
            </a:gdLst>
            <a:ahLst/>
            <a:rect l="textAreaLeft" t="textAreaTop" r="textAreaRight" b="textAreaBottom"/>
            <a:pathLst>
              <a:path w="21815" h="21600">
                <a:moveTo>
                  <a:pt x="0" y="0"/>
                </a:moveTo>
                <a:lnTo>
                  <a:pt x="21815" y="0"/>
                </a:lnTo>
                <a:lnTo>
                  <a:pt x="21815" y="21600"/>
                </a:lnTo>
                <a:lnTo>
                  <a:pt x="0" y="21600"/>
                </a:lnTo>
                <a:close/>
              </a:path>
              <a:path fill="lightenLess" w="21815" h="21600">
                <a:moveTo>
                  <a:pt x="0" y="0"/>
                </a:moveTo>
                <a:lnTo>
                  <a:pt x="21815" y="0"/>
                </a:lnTo>
                <a:lnTo>
                  <a:pt x="20415" y="1400"/>
                </a:lnTo>
                <a:lnTo>
                  <a:pt x="1400" y="1400"/>
                </a:lnTo>
                <a:close/>
              </a:path>
              <a:path fill="darken" w="21815" h="21600">
                <a:moveTo>
                  <a:pt x="21815" y="0"/>
                </a:moveTo>
                <a:lnTo>
                  <a:pt x="21815" y="21600"/>
                </a:lnTo>
                <a:lnTo>
                  <a:pt x="20415" y="20200"/>
                </a:lnTo>
                <a:lnTo>
                  <a:pt x="20415" y="1400"/>
                </a:lnTo>
                <a:close/>
              </a:path>
              <a:path fill="darkenLess" w="21815" h="21600">
                <a:moveTo>
                  <a:pt x="21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15" y="20200"/>
                </a:lnTo>
                <a:close/>
              </a:path>
              <a:path fill="lighten" w="21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15" h="21600">
                <a:moveTo>
                  <a:pt x="7409" y="10800"/>
                </a:moveTo>
                <a:lnTo>
                  <a:pt x="17914" y="3794"/>
                </a:lnTo>
                <a:lnTo>
                  <a:pt x="17914" y="17806"/>
                </a:lnTo>
                <a:close/>
              </a:path>
              <a:path fill="darken" w="21815" h="21600">
                <a:moveTo>
                  <a:pt x="3901" y="3794"/>
                </a:moveTo>
                <a:lnTo>
                  <a:pt x="5563" y="3794"/>
                </a:lnTo>
                <a:lnTo>
                  <a:pt x="5563" y="17806"/>
                </a:lnTo>
                <a:lnTo>
                  <a:pt x="3901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67920" y="476280"/>
            <a:ext cx="28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注意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ie-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l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6:42:39Z</dcterms:created>
  <dc:creator>微软用户</dc:creator>
  <dc:description/>
  <dc:language>en-US</dc:language>
  <cp:lastModifiedBy>未知用户</cp:lastModifiedBy>
  <dcterms:modified xsi:type="dcterms:W3CDTF">2016-12-22T00:12:44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15000000000001024140</vt:lpwstr>
  </property>
</Properties>
</file>