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D2F-9263-4C6B-BE2D-E1069C2A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7BA-E0D6-436A-960E-224E60D9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DFA-FEC7-4590-AAA4-9912D640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E16-75F5-4BD8-A820-F54C5A1F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159-BCEC-4906-B530-A0270274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EDF-9DB4-47C5-AD81-8647DBE0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FBA-5670-434C-BFB9-68540805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4D6-8F1B-4E9D-9F87-C827FC9D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2B4-E867-4237-B6D2-3DF76635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3B5-4039-447B-9E8B-0FDC384A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413-EDA0-4C83-84C2-F676EC00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644-8D54-4B05-BA8D-3BA60F4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7DA0-F0BE-441F-8830-7CC7B6D9C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2222g"/>
          <p:cNvPicPr/>
          <p:nvPr/>
        </p:nvPicPr>
        <p:blipFill>
          <a:blip r:embed="rId2"/>
          <a:srcRect l="18376" t="0" r="219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684360" y="1557360"/>
            <a:ext cx="7704000" cy="2379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室  外  活 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安全常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2556000" y="4581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 作：杨世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2" descr="20110425_915936a255f7d0a78b0derdl0hA7X1zS.jpg"/>
          <p:cNvPicPr/>
          <p:nvPr/>
        </p:nvPicPr>
        <p:blipFill>
          <a:blip r:embed="rId1"/>
          <a:srcRect l="0" t="0" r="0" b="7973"/>
          <a:stretch/>
        </p:blipFill>
        <p:spPr>
          <a:xfrm>
            <a:off x="2627280" y="2349360"/>
            <a:ext cx="3162240" cy="3672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826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祝同学们健康、快乐、安全每一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ordArt 4" descr=""/>
          <p:cNvPicPr/>
          <p:nvPr/>
        </p:nvPicPr>
        <p:blipFill>
          <a:blip r:embed="rId1"/>
          <a:stretch/>
        </p:blipFill>
        <p:spPr>
          <a:xfrm>
            <a:off x="2266920" y="2992320"/>
            <a:ext cx="46213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500040" y="1643040"/>
            <a:ext cx="4000680" cy="32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00040" y="1714680"/>
            <a:ext cx="385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面的世界五彩斑斓，可是也存在诸多危险，我们小朋友要多加关注，尽量远离这些危险地，并增强自我安全意识，才能防患于未然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Untitled-2"/>
          <p:cNvPicPr/>
          <p:nvPr/>
        </p:nvPicPr>
        <p:blipFill>
          <a:blip r:embed="rId1"/>
          <a:stretch/>
        </p:blipFill>
        <p:spPr>
          <a:xfrm>
            <a:off x="6500880" y="1928880"/>
            <a:ext cx="16668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2088360" y="83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一）避开危险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500040" y="17146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随便单独行动，在成人带领下或结伴而行，防止发生意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4429080" y="2571840"/>
            <a:ext cx="471492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0" y="2571840"/>
            <a:ext cx="4262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2088360" y="83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一）避开危险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42920" y="17146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远离公路、铁路、工厂生产区等区域，避开变压器、高压电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-6"/>
          <p:cNvPicPr/>
          <p:nvPr/>
        </p:nvPicPr>
        <p:blipFill>
          <a:blip r:embed="rId1"/>
          <a:stretch/>
        </p:blipFill>
        <p:spPr>
          <a:xfrm>
            <a:off x="0" y="264312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m-6"/>
          <p:cNvPicPr/>
          <p:nvPr/>
        </p:nvPicPr>
        <p:blipFill>
          <a:blip r:embed="rId2"/>
          <a:stretch/>
        </p:blipFill>
        <p:spPr>
          <a:xfrm>
            <a:off x="4572000" y="2643120"/>
            <a:ext cx="457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1219680" y="836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二）远离危险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954600" cy="274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administrator\appdata\roaming\360se6\User Data\temp\a689f777f7c23c1f-af70a6e6423df26c-a4798514557967d0e4ee855277b24860.jpg"/>
          <p:cNvPicPr/>
          <p:nvPr/>
        </p:nvPicPr>
        <p:blipFill>
          <a:blip r:embed="rId2"/>
          <a:stretch/>
        </p:blipFill>
        <p:spPr>
          <a:xfrm>
            <a:off x="4932360" y="2413080"/>
            <a:ext cx="4140360" cy="3109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142920" y="171468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具枪、鞭炮、双节棍、金属等物品是非常危险的，要远离它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1313640" y="836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三）避免危险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42920" y="171468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楼梯靠右行，不打闹，不游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v-6"/>
          <p:cNvPicPr/>
          <p:nvPr/>
        </p:nvPicPr>
        <p:blipFill>
          <a:blip r:embed="rId1"/>
          <a:stretch/>
        </p:blipFill>
        <p:spPr>
          <a:xfrm>
            <a:off x="0" y="2571840"/>
            <a:ext cx="442764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4572000" y="2571840"/>
            <a:ext cx="4521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1313640" y="836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四）牢记安全规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142920" y="171468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游乐场所玩时，要遵守安全规定，防止事故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0"/>
          <p:cNvGrpSpPr/>
          <p:nvPr/>
        </p:nvGrpSpPr>
        <p:grpSpPr>
          <a:xfrm>
            <a:off x="142920" y="2571840"/>
            <a:ext cx="4572000" cy="3624480"/>
            <a:chOff x="142920" y="2571840"/>
            <a:chExt cx="4572000" cy="3624480"/>
          </a:xfrm>
        </p:grpSpPr>
        <p:pic>
          <p:nvPicPr>
            <p:cNvPr id="66" name="Picture 5" descr=""/>
            <p:cNvPicPr/>
            <p:nvPr/>
          </p:nvPicPr>
          <p:blipFill>
            <a:blip r:embed="rId1"/>
            <a:stretch/>
          </p:blipFill>
          <p:spPr>
            <a:xfrm>
              <a:off x="142920" y="2571840"/>
              <a:ext cx="4429440" cy="35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9"/>
            <p:cNvSpPr/>
            <p:nvPr/>
          </p:nvSpPr>
          <p:spPr>
            <a:xfrm>
              <a:off x="357120" y="5786280"/>
              <a:ext cx="435780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蹦床很容易受伤，不能几人同时用力蹦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786200" y="2571840"/>
            <a:ext cx="428652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1313640" y="836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（四）牢记安全规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2920" y="171468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记清安全出口，防止发生紧急情况时，可以安全疏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administrator\appdata\roaming\360se6\User Data\temp\f2ce8df2912f3b55-b21e6f2d2dc331d2-640f9ff45c536b21252c24beeba63e05_i.jpg"/>
          <p:cNvPicPr/>
          <p:nvPr/>
        </p:nvPicPr>
        <p:blipFill>
          <a:blip r:embed="rId1"/>
          <a:stretch/>
        </p:blipFill>
        <p:spPr>
          <a:xfrm>
            <a:off x="4500720" y="2643120"/>
            <a:ext cx="4492440" cy="321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administrator\appdata\roaming\360se6\User Data\temp\d1abc4f72f8bc1f5-eb866a5045b30cea-604a1abbfe044139681eede6c92f23f6_i.jpg"/>
          <p:cNvPicPr/>
          <p:nvPr/>
        </p:nvPicPr>
        <p:blipFill>
          <a:blip r:embed="rId2"/>
          <a:stretch/>
        </p:blipFill>
        <p:spPr>
          <a:xfrm>
            <a:off x="0" y="2643120"/>
            <a:ext cx="4444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5" descr="19300441724789133067902308751.jpg"/>
          <p:cNvPicPr/>
          <p:nvPr/>
        </p:nvPicPr>
        <p:blipFill>
          <a:blip r:embed="rId1"/>
          <a:srcRect l="44498" t="0" r="0" b="7689"/>
          <a:stretch/>
        </p:blipFill>
        <p:spPr>
          <a:xfrm rot="20838000">
            <a:off x="298440" y="612720"/>
            <a:ext cx="1893960" cy="2016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242520" y="10000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急救小药箱：流血不止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68360" y="2637000"/>
            <a:ext cx="8253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四肢或手指出血，应该马上用一块干净的纱布或较宽的干净布条将伤口紧紧地包扎住，如有条件，最好洒一些云南白药在伤口上再包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如果是鼻子出血，可以把头抑起，用手指紧压住出血一侧的鼻根部，一直到不出血为止。如果有干净棉球，可以把棉球塞进鼻孔里压迫止血。另外，可以用冷水浇在后脑部，从而达到止血的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01:44:03Z</dcterms:created>
  <dc:creator>yu</dc:creator>
  <dc:description/>
  <dc:language>en-US</dc:language>
  <cp:lastModifiedBy>USER</cp:lastModifiedBy>
  <dcterms:modified xsi:type="dcterms:W3CDTF">2015-10-08T01:44:30Z</dcterms:modified>
  <cp:revision>26</cp:revision>
  <dc:subject/>
  <dc:title>幻灯片 1</dc:title>
</cp:coreProperties>
</file>