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409-C185-4AB2-B3B8-0E8970B2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C9F-EEDB-4F57-9F52-704676A6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308-445B-4200-92D1-9594B2DE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BAE-C6D4-47CB-A028-772312E1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C74-9AB1-4B51-9184-FE56B766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499-9B16-4AB2-98F4-C82B47A1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AEA-EFDA-4800-AC51-12FE8A3B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DF2-C71B-4CD8-88C5-196CD341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990-B29D-473C-B3D6-6B01FC88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E04-CF8E-4EE8-968A-7A9F3628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01F-8644-427E-8F6D-E0915D9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B97-7EE0-40B9-A826-500F5FD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959-FFCF-491A-A8AF-BC1484C06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2222g"/>
          <p:cNvPicPr/>
          <p:nvPr/>
        </p:nvPicPr>
        <p:blipFill>
          <a:blip r:embed="rId2"/>
          <a:srcRect l="18376" t="0" r="219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2"/>
          <p:cNvSpPr/>
          <p:nvPr/>
        </p:nvSpPr>
        <p:spPr>
          <a:xfrm>
            <a:off x="2556000" y="458136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制 作：朱玉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4360" y="1700280"/>
            <a:ext cx="7704000" cy="2151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室  内  活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安全常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395280" y="62064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五）防火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84360" y="141300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注意用电安全，不要乱摸乱动教室、走廊等公共场所的电器设备、开关、插座等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75120" y="2492280"/>
            <a:ext cx="5182920" cy="3940200"/>
            <a:chOff x="3075120" y="2492280"/>
            <a:chExt cx="5182920" cy="3940200"/>
          </a:xfrm>
        </p:grpSpPr>
        <p:pic>
          <p:nvPicPr>
            <p:cNvPr id="94" name="Picture 9" descr="C:\Users\Administrator\Desktop\2013102585111341.jpg"/>
            <p:cNvPicPr/>
            <p:nvPr/>
          </p:nvPicPr>
          <p:blipFill>
            <a:blip r:embed="rId1"/>
            <a:stretch/>
          </p:blipFill>
          <p:spPr>
            <a:xfrm>
              <a:off x="3193920" y="2587680"/>
              <a:ext cx="498168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5"/>
            <p:cNvSpPr/>
            <p:nvPr/>
          </p:nvSpPr>
          <p:spPr>
            <a:xfrm>
              <a:off x="3075120" y="2492280"/>
              <a:ext cx="5182920" cy="394020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图片 2" descr="19300441724789133067902308751.jpg"/>
          <p:cNvPicPr/>
          <p:nvPr/>
        </p:nvPicPr>
        <p:blipFill>
          <a:blip r:embed="rId2"/>
          <a:srcRect l="44489" t="0" r="0" b="7690"/>
          <a:stretch/>
        </p:blipFill>
        <p:spPr>
          <a:xfrm rot="20343000">
            <a:off x="755640" y="4076280"/>
            <a:ext cx="18939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324000" y="765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六）防意外伤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4932360" y="1730520"/>
            <a:ext cx="3889440" cy="3456000"/>
            <a:chOff x="4932360" y="1730520"/>
            <a:chExt cx="3889440" cy="3456000"/>
          </a:xfrm>
        </p:grpSpPr>
        <p:pic>
          <p:nvPicPr>
            <p:cNvPr id="99" name="Picture 4" descr="c:\users\administrator\appdata\roaming\360se6\User Data\temp\u=447482518,1080669862&amp;fm=21&amp;gp=0.jpg"/>
            <p:cNvPicPr/>
            <p:nvPr/>
          </p:nvPicPr>
          <p:blipFill>
            <a:blip r:embed="rId1"/>
            <a:stretch/>
          </p:blipFill>
          <p:spPr>
            <a:xfrm>
              <a:off x="4932360" y="1730520"/>
              <a:ext cx="388944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6"/>
            <p:cNvSpPr/>
            <p:nvPr/>
          </p:nvSpPr>
          <p:spPr>
            <a:xfrm>
              <a:off x="5003640" y="1763640"/>
              <a:ext cx="3816360" cy="342288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684360" y="1773360"/>
            <a:ext cx="4103640" cy="3456000"/>
            <a:chOff x="684360" y="1773360"/>
            <a:chExt cx="4103640" cy="3456000"/>
          </a:xfrm>
        </p:grpSpPr>
        <p:sp>
          <p:nvSpPr>
            <p:cNvPr id="102" name="Text Box 6"/>
            <p:cNvSpPr/>
            <p:nvPr/>
          </p:nvSpPr>
          <p:spPr>
            <a:xfrm>
              <a:off x="684360" y="1773360"/>
              <a:ext cx="4103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刀具、剪子等锋利、尖锐的工具，图钉、大头针等文具，使用时须有老师指导，用后应妥善存放，不随意放在桌子和椅子上，防止有人受到意外伤害。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684360" y="1773360"/>
              <a:ext cx="4103640" cy="34560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" descr="20110425_915936a255f7d0a78b0derdl0hA7X1zS.jpg"/>
          <p:cNvPicPr/>
          <p:nvPr/>
        </p:nvPicPr>
        <p:blipFill>
          <a:blip r:embed="rId1"/>
          <a:srcRect l="0" t="0" r="0" b="7973"/>
          <a:stretch/>
        </p:blipFill>
        <p:spPr>
          <a:xfrm>
            <a:off x="2627280" y="2349360"/>
            <a:ext cx="3162240" cy="3672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826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祝同学们健康、快乐、安全每一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WordArt 4" descr=""/>
          <p:cNvPicPr/>
          <p:nvPr/>
        </p:nvPicPr>
        <p:blipFill>
          <a:blip r:embed="rId1"/>
          <a:stretch/>
        </p:blipFill>
        <p:spPr>
          <a:xfrm>
            <a:off x="2266920" y="2992320"/>
            <a:ext cx="4614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9"/>
          <p:cNvGrpSpPr/>
          <p:nvPr/>
        </p:nvGrpSpPr>
        <p:grpSpPr>
          <a:xfrm>
            <a:off x="4572000" y="1557360"/>
            <a:ext cx="3457440" cy="3960720"/>
            <a:chOff x="4572000" y="1557360"/>
            <a:chExt cx="3457440" cy="3960720"/>
          </a:xfrm>
        </p:grpSpPr>
        <p:sp>
          <p:nvSpPr>
            <p:cNvPr id="45" name="Text Box 7"/>
            <p:cNvSpPr/>
            <p:nvPr/>
          </p:nvSpPr>
          <p:spPr>
            <a:xfrm>
              <a:off x="4788000" y="1916280"/>
              <a:ext cx="3240000" cy="18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在教室内活动，有许多看起来细微的小事情值得同学们注意，否则，非常容易发生危险哦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4572000" y="1557360"/>
              <a:ext cx="3457440" cy="3960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20110128201817.jpg"/>
          <p:cNvPicPr/>
          <p:nvPr/>
        </p:nvPicPr>
        <p:blipFill>
          <a:blip r:embed="rId1"/>
          <a:stretch/>
        </p:blipFill>
        <p:spPr>
          <a:xfrm rot="20962200">
            <a:off x="539280" y="1628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612800" y="83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一）防磕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4140360" y="1773360"/>
            <a:ext cx="3817800" cy="3960720"/>
            <a:chOff x="4140360" y="1773360"/>
            <a:chExt cx="3817800" cy="3960720"/>
          </a:xfrm>
        </p:grpSpPr>
        <p:sp>
          <p:nvSpPr>
            <p:cNvPr id="50" name="Text Box 8"/>
            <p:cNvSpPr/>
            <p:nvPr/>
          </p:nvSpPr>
          <p:spPr>
            <a:xfrm>
              <a:off x="4390920" y="2077920"/>
              <a:ext cx="3551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教室空间比较狭小，又放置了电视、饮水机等用品，所以不应在教室中追逐、打闹，做剧烈的运动和游戏，防止磕碰受伤。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4140360" y="1773360"/>
              <a:ext cx="3817800" cy="3960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图片 2" descr="19300441724789133067902308751.jpg"/>
          <p:cNvPicPr/>
          <p:nvPr/>
        </p:nvPicPr>
        <p:blipFill>
          <a:blip r:embed="rId1"/>
          <a:srcRect l="44490" t="0" r="0" b="7679"/>
          <a:stretch/>
        </p:blipFill>
        <p:spPr>
          <a:xfrm rot="20973000">
            <a:off x="468000" y="2060280"/>
            <a:ext cx="3289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89040" y="1193760"/>
            <a:ext cx="777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教室和走廊奔跑、追逐玩耍容易发生意外。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1-2"/>
          <p:cNvPicPr/>
          <p:nvPr/>
        </p:nvPicPr>
        <p:blipFill>
          <a:blip r:embed="rId1"/>
          <a:stretch/>
        </p:blipFill>
        <p:spPr>
          <a:xfrm>
            <a:off x="461880" y="2357280"/>
            <a:ext cx="7993080" cy="3767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612800" y="83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一）防磕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3"/>
          <p:cNvGrpSpPr/>
          <p:nvPr/>
        </p:nvGrpSpPr>
        <p:grpSpPr>
          <a:xfrm>
            <a:off x="4183200" y="2225520"/>
            <a:ext cx="2921040" cy="2403720"/>
            <a:chOff x="4183200" y="2225520"/>
            <a:chExt cx="2921040" cy="2403720"/>
          </a:xfrm>
        </p:grpSpPr>
        <p:pic>
          <p:nvPicPr>
            <p:cNvPr id="57" name="Picture 2" descr="5465117_750632"/>
            <p:cNvPicPr/>
            <p:nvPr/>
          </p:nvPicPr>
          <p:blipFill>
            <a:blip r:embed="rId1"/>
            <a:stretch/>
          </p:blipFill>
          <p:spPr>
            <a:xfrm>
              <a:off x="4183200" y="2441520"/>
              <a:ext cx="28080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5"/>
            <p:cNvSpPr/>
            <p:nvPr/>
          </p:nvSpPr>
          <p:spPr>
            <a:xfrm>
              <a:off x="4357800" y="2225520"/>
              <a:ext cx="2746440" cy="207180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871560" y="2206800"/>
            <a:ext cx="2808360" cy="2089080"/>
            <a:chOff x="871560" y="2206800"/>
            <a:chExt cx="2808360" cy="2089080"/>
          </a:xfrm>
        </p:grpSpPr>
        <p:pic>
          <p:nvPicPr>
            <p:cNvPr id="60" name="Picture 3" descr="001e4f9d7c110c3d0b8221"/>
            <p:cNvPicPr/>
            <p:nvPr/>
          </p:nvPicPr>
          <p:blipFill>
            <a:blip r:embed="rId2"/>
            <a:stretch/>
          </p:blipFill>
          <p:spPr>
            <a:xfrm>
              <a:off x="971640" y="2327400"/>
              <a:ext cx="263664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6"/>
            <p:cNvSpPr/>
            <p:nvPr/>
          </p:nvSpPr>
          <p:spPr>
            <a:xfrm>
              <a:off x="871560" y="2206800"/>
              <a:ext cx="2808360" cy="208908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4"/>
          <p:cNvGrpSpPr/>
          <p:nvPr/>
        </p:nvGrpSpPr>
        <p:grpSpPr>
          <a:xfrm>
            <a:off x="3807000" y="4437000"/>
            <a:ext cx="4176360" cy="2197080"/>
            <a:chOff x="3807000" y="4437000"/>
            <a:chExt cx="4176360" cy="2197080"/>
          </a:xfrm>
        </p:grpSpPr>
        <p:pic>
          <p:nvPicPr>
            <p:cNvPr id="63" name="Picture 5" descr="u=3237297786,1863813108&amp;fm=23&amp;gp=0"/>
            <p:cNvPicPr/>
            <p:nvPr/>
          </p:nvPicPr>
          <p:blipFill>
            <a:blip r:embed="rId3"/>
            <a:stretch/>
          </p:blipFill>
          <p:spPr>
            <a:xfrm>
              <a:off x="3887640" y="4502160"/>
              <a:ext cx="402444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7"/>
            <p:cNvSpPr/>
            <p:nvPr/>
          </p:nvSpPr>
          <p:spPr>
            <a:xfrm>
              <a:off x="3807000" y="4437000"/>
              <a:ext cx="4176360" cy="219708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图片 2" descr="19300441724789133067902308751.jpg"/>
          <p:cNvPicPr/>
          <p:nvPr/>
        </p:nvPicPr>
        <p:blipFill>
          <a:blip r:embed="rId4"/>
          <a:srcRect l="44489" t="0" r="0" b="7690"/>
          <a:stretch/>
        </p:blipFill>
        <p:spPr>
          <a:xfrm rot="20343000">
            <a:off x="1116000" y="4508280"/>
            <a:ext cx="1893960" cy="2016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689040" y="1193760"/>
            <a:ext cx="777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教室和走廊奔跑、追逐玩耍容易发生意外。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612800" y="83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一）防磕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826920" y="98100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教室内地面比较光滑，要注意防止滑倒受伤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68360" y="6206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二）防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187280" y="2205000"/>
            <a:ext cx="6409080" cy="3959280"/>
            <a:chOff x="1187280" y="2205000"/>
            <a:chExt cx="6409080" cy="3959280"/>
          </a:xfrm>
        </p:grpSpPr>
        <p:pic>
          <p:nvPicPr>
            <p:cNvPr id="71" name="Picture 10" descr="c:\users\administrator\appdata\roaming\360se6\User Data\temp\u=3075617,4233550520&amp;fm=21&amp;gp=0.jpg"/>
            <p:cNvPicPr/>
            <p:nvPr/>
          </p:nvPicPr>
          <p:blipFill>
            <a:blip r:embed="rId1"/>
            <a:stretch/>
          </p:blipFill>
          <p:spPr>
            <a:xfrm>
              <a:off x="1295280" y="2293920"/>
              <a:ext cx="6248520" cy="37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5"/>
            <p:cNvSpPr/>
            <p:nvPr/>
          </p:nvSpPr>
          <p:spPr>
            <a:xfrm>
              <a:off x="1187280" y="2205000"/>
              <a:ext cx="6409080" cy="395928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324000" y="54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仿宋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三）防坠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55640" y="126828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论教室是否处于高层，都不要将身体探出窗外，谨防不慎发生坠楼的危险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952560" y="2421000"/>
            <a:ext cx="3384360" cy="3240000"/>
            <a:chOff x="952560" y="2421000"/>
            <a:chExt cx="3384360" cy="3240000"/>
          </a:xfrm>
        </p:grpSpPr>
        <p:pic>
          <p:nvPicPr>
            <p:cNvPr id="76" name="Picture 2" descr="c:\users\administrator\appdata\roaming\360se6\User Data\temp\U5306P18DT20130702111353.jpg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320040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6"/>
            <p:cNvSpPr/>
            <p:nvPr/>
          </p:nvSpPr>
          <p:spPr>
            <a:xfrm>
              <a:off x="952560" y="2421000"/>
              <a:ext cx="3384360" cy="324000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9"/>
          <p:cNvGrpSpPr/>
          <p:nvPr/>
        </p:nvGrpSpPr>
        <p:grpSpPr>
          <a:xfrm>
            <a:off x="4932360" y="2387520"/>
            <a:ext cx="3384720" cy="3273480"/>
            <a:chOff x="4932360" y="2387520"/>
            <a:chExt cx="3384720" cy="3273480"/>
          </a:xfrm>
        </p:grpSpPr>
        <p:pic>
          <p:nvPicPr>
            <p:cNvPr id="79" name="Picture 4" descr="c:\users\administrator\appdata\roaming\360se6\User Data\temp\3DE577740B825EB36D60CB8FFAFC6DB9.jpg"/>
            <p:cNvPicPr/>
            <p:nvPr/>
          </p:nvPicPr>
          <p:blipFill>
            <a:blip r:embed="rId2"/>
            <a:stretch/>
          </p:blipFill>
          <p:spPr>
            <a:xfrm>
              <a:off x="4944960" y="2387520"/>
              <a:ext cx="327672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7"/>
            <p:cNvSpPr/>
            <p:nvPr/>
          </p:nvSpPr>
          <p:spPr>
            <a:xfrm>
              <a:off x="4932360" y="2421000"/>
              <a:ext cx="3384720" cy="324000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"/>
          <p:cNvSpPr/>
          <p:nvPr/>
        </p:nvSpPr>
        <p:spPr>
          <a:xfrm>
            <a:off x="39528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四）防挤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1197000"/>
            <a:ext cx="770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教室的门窗在开关时容易压到手，应处处小心，轻轻地开关，还应留意会不会夹到其他人的手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1273320" y="2273400"/>
            <a:ext cx="6538680" cy="4251240"/>
            <a:chOff x="1273320" y="2273400"/>
            <a:chExt cx="6538680" cy="4251240"/>
          </a:xfrm>
        </p:grpSpPr>
        <p:pic>
          <p:nvPicPr>
            <p:cNvPr id="84" name="Picture 5" descr=""/>
            <p:cNvPicPr/>
            <p:nvPr/>
          </p:nvPicPr>
          <p:blipFill>
            <a:blip r:embed="rId1"/>
            <a:stretch/>
          </p:blipFill>
          <p:spPr>
            <a:xfrm>
              <a:off x="1332000" y="2349360"/>
              <a:ext cx="6335640" cy="40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5"/>
            <p:cNvSpPr/>
            <p:nvPr/>
          </p:nvSpPr>
          <p:spPr>
            <a:xfrm>
              <a:off x="1273320" y="2273400"/>
              <a:ext cx="6538680" cy="425124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395280" y="62064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五）防火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4360" y="1484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杜绝打火机、火柴等危险物品进校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1004760" y="2368440"/>
            <a:ext cx="6769080" cy="3459240"/>
            <a:chOff x="1004760" y="2368440"/>
            <a:chExt cx="6769080" cy="3459240"/>
          </a:xfrm>
        </p:grpSpPr>
        <p:pic>
          <p:nvPicPr>
            <p:cNvPr id="89" name="Picture 27" descr="2"/>
            <p:cNvPicPr/>
            <p:nvPr/>
          </p:nvPicPr>
          <p:blipFill>
            <a:blip r:embed="rId1"/>
            <a:srcRect l="0" t="0" r="0" b="13993"/>
            <a:stretch/>
          </p:blipFill>
          <p:spPr>
            <a:xfrm>
              <a:off x="1116000" y="2492280"/>
              <a:ext cx="6480360" cy="31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5"/>
            <p:cNvSpPr/>
            <p:nvPr/>
          </p:nvSpPr>
          <p:spPr>
            <a:xfrm>
              <a:off x="1004760" y="2368440"/>
              <a:ext cx="6769080" cy="3459240"/>
            </a:xfrm>
            <a:prstGeom prst="rect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01:44:03Z</dcterms:created>
  <dc:creator>yu</dc:creator>
  <dc:description/>
  <dc:language>en-US</dc:language>
  <cp:lastModifiedBy>USER</cp:lastModifiedBy>
  <dcterms:modified xsi:type="dcterms:W3CDTF">2015-10-08T01:44:46Z</dcterms:modified>
  <cp:revision>36</cp:revision>
  <dc:subject/>
  <dc:title>幻灯片 1</dc:title>
</cp:coreProperties>
</file>