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168-7678-4A27-9214-161A76C4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DFB-55EB-455C-BA2D-1088E1D4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810-D7DF-42D5-8824-C9A4ED58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0EC-F3C1-4EF8-8D67-B86FA7A3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FBF-CF7C-49D7-8AFF-3020C25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11D-8909-40D0-8FAC-784957FD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751-E3CB-4E2F-809E-5735A5BF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772-714E-4A07-9349-B144AE06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8A7-4D77-4CFF-80CF-EEF2910D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DA3-2FA7-4C92-B1DE-B80C681B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483-7324-47C1-8EDE-C8AAE5F1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D3E-D963-4CAE-9D5E-9E8ABD83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F665-B037-4A9A-AA11-C2908259FF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8376" t="0" r="219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684360" y="1557360"/>
            <a:ext cx="7704000" cy="2379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 路 行 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安全常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2556000" y="4581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 作：张英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2428920" y="192888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微软雅黑"/>
                <a:ea typeface="微软雅黑"/>
              </a:rPr>
              <a:t>学会安全过马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50920" y="328464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走人行道、乱穿马路，都是危险的行为。我们怎样做才能安全过马路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xtBox 4" descr=""/>
          <p:cNvPicPr/>
          <p:nvPr/>
        </p:nvPicPr>
        <p:blipFill>
          <a:blip r:embed="rId1"/>
          <a:stretch/>
        </p:blipFill>
        <p:spPr>
          <a:xfrm>
            <a:off x="231840" y="1036800"/>
            <a:ext cx="24876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"/>
          <p:cNvSpPr/>
          <p:nvPr/>
        </p:nvSpPr>
        <p:spPr>
          <a:xfrm>
            <a:off x="396720" y="3933720"/>
            <a:ext cx="84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00b050"/>
                </a:solidFill>
                <a:latin typeface="微软雅黑"/>
                <a:ea typeface="微软雅黑"/>
              </a:rPr>
              <a:t>人行横道也叫“斑马线”</a:t>
            </a: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是专供行人横穿马路的通道。过马路时，</a:t>
            </a:r>
            <a:r>
              <a:rPr b="0" lang="zh-CN" sz="3200" spc="-1" strike="noStrike">
                <a:solidFill>
                  <a:srgbClr val="ff66ff"/>
                </a:solidFill>
                <a:latin typeface="微软雅黑"/>
                <a:ea typeface="微软雅黑"/>
              </a:rPr>
              <a:t>人们都应该走“斑马线”，确保安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4" descr="2452.jpg"/>
          <p:cNvPicPr/>
          <p:nvPr/>
        </p:nvPicPr>
        <p:blipFill>
          <a:blip r:embed="rId1"/>
          <a:stretch/>
        </p:blipFill>
        <p:spPr>
          <a:xfrm>
            <a:off x="2124000" y="404640"/>
            <a:ext cx="46753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2996640"/>
            <a:ext cx="40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行走时要走在人行道内，在没有人行道的地方要靠路边行走，不要和机动车抢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611600" y="1270080"/>
            <a:ext cx="34671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714240" y="2994120"/>
            <a:ext cx="378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58ed5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558ed5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要在马路上追逐打闹或追车、扒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istrator\桌面\0108-6.jpg"/>
          <p:cNvPicPr/>
          <p:nvPr/>
        </p:nvPicPr>
        <p:blipFill>
          <a:blip r:embed="rId1"/>
          <a:stretch/>
        </p:blipFill>
        <p:spPr>
          <a:xfrm>
            <a:off x="4500720" y="1413000"/>
            <a:ext cx="3833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324000" y="2947320"/>
            <a:ext cx="371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车来人往的地方行走时，要集中注意力，不要边走边玩或边走边听音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Administrator\桌面\2013314104112592.gif"/>
          <p:cNvPicPr/>
          <p:nvPr/>
        </p:nvPicPr>
        <p:blipFill>
          <a:blip r:embed="rId1"/>
          <a:stretch/>
        </p:blipFill>
        <p:spPr>
          <a:xfrm>
            <a:off x="4140360" y="1486080"/>
            <a:ext cx="4749480" cy="417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:\ppt\3年级 步行安全\46181195739458122.jpg"/>
          <p:cNvPicPr/>
          <p:nvPr/>
        </p:nvPicPr>
        <p:blipFill>
          <a:blip r:embed="rId1"/>
          <a:stretch/>
        </p:blipFill>
        <p:spPr>
          <a:xfrm>
            <a:off x="5219640" y="476280"/>
            <a:ext cx="331308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09800" y="2668680"/>
            <a:ext cx="41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车辆临近时不要猛跑，要主动避让车辆，我们的人身安全才更有保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" descr="20110425_915936a255f7d0a78b0derdl0hA7X1zS.jpg"/>
          <p:cNvPicPr/>
          <p:nvPr/>
        </p:nvPicPr>
        <p:blipFill>
          <a:blip r:embed="rId1"/>
          <a:srcRect l="0" t="0" r="0" b="7973"/>
          <a:stretch/>
        </p:blipFill>
        <p:spPr>
          <a:xfrm>
            <a:off x="2627280" y="2349360"/>
            <a:ext cx="3162240" cy="3672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祝同学们健康、快乐、安全每一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WordArt 4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615200" cy="102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979640" y="191772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1c1d"/>
                </a:solidFill>
                <a:latin typeface="微软雅黑"/>
                <a:ea typeface="微软雅黑"/>
              </a:rPr>
              <a:t>认识交通</a:t>
            </a:r>
            <a:r>
              <a:rPr b="0" lang="zh-CN" sz="4800" spc="-1" strike="noStrike">
                <a:solidFill>
                  <a:srgbClr val="ff0101"/>
                </a:solidFill>
                <a:latin typeface="微软雅黑"/>
                <a:ea typeface="微软雅黑"/>
              </a:rPr>
              <a:t>信</a:t>
            </a:r>
            <a:r>
              <a:rPr b="0" lang="zh-CN" sz="4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号</a:t>
            </a:r>
            <a:r>
              <a:rPr b="0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灯</a:t>
            </a:r>
            <a:r>
              <a:rPr b="0" lang="zh-CN" sz="4800" spc="-1" strike="noStrike">
                <a:solidFill>
                  <a:srgbClr val="0c1c1d"/>
                </a:solidFill>
                <a:latin typeface="微软雅黑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252360" y="335772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微软雅黑"/>
              </a:rPr>
              <a:t>交通信号灯又叫红绿灯，它的作用很大，可以让车辆和行人有序地通行，是保护安全的使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7" descr="O¤é~1.JPG"/>
          <p:cNvPicPr/>
          <p:nvPr/>
        </p:nvPicPr>
        <p:blipFill>
          <a:blip r:embed="rId1"/>
          <a:stretch/>
        </p:blipFill>
        <p:spPr>
          <a:xfrm>
            <a:off x="6229440" y="3429000"/>
            <a:ext cx="2958840" cy="209088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2487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2360" y="54500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微软雅黑"/>
              </a:rPr>
              <a:t>绿灯是通行信号。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微软雅黑"/>
              </a:rPr>
              <a:t>人行横道指示灯为绿色时，我们就可以过马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" descr="633.jpg"/>
          <p:cNvPicPr/>
          <p:nvPr/>
        </p:nvPicPr>
        <p:blipFill>
          <a:blip r:embed="rId1"/>
          <a:stretch/>
        </p:blipFill>
        <p:spPr>
          <a:xfrm>
            <a:off x="36360" y="549360"/>
            <a:ext cx="88567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755640" y="53586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101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ff0101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0101"/>
                </a:solidFill>
                <a:latin typeface="微软雅黑"/>
                <a:ea typeface="微软雅黑"/>
              </a:rPr>
              <a:t>红灯是停止信号。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行横道指示灯亮起红色，此时不准过马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3" descr="11.jpg"/>
          <p:cNvPicPr/>
          <p:nvPr/>
        </p:nvPicPr>
        <p:blipFill>
          <a:blip r:embed="rId1"/>
          <a:stretch/>
        </p:blipFill>
        <p:spPr>
          <a:xfrm>
            <a:off x="1692360" y="1052640"/>
            <a:ext cx="54864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24000" y="4869000"/>
            <a:ext cx="8820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灯是警告信号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警告司机和行人通行时间已经结束，马上就要转换为红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3" descr="111.jpg"/>
          <p:cNvPicPr/>
          <p:nvPr/>
        </p:nvPicPr>
        <p:blipFill>
          <a:blip r:embed="rId1"/>
          <a:stretch/>
        </p:blipFill>
        <p:spPr>
          <a:xfrm>
            <a:off x="34920" y="549360"/>
            <a:ext cx="86425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内容占位符 2"/>
          <p:cNvSpPr/>
          <p:nvPr/>
        </p:nvSpPr>
        <p:spPr>
          <a:xfrm>
            <a:off x="312840" y="2773440"/>
            <a:ext cx="83674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文字和图形符号对车辆、行人传递指示、指路、警告、禁令等信号的标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矩形 3" descr=""/>
          <p:cNvPicPr/>
          <p:nvPr/>
        </p:nvPicPr>
        <p:blipFill>
          <a:blip r:embed="rId1"/>
          <a:stretch/>
        </p:blipFill>
        <p:spPr>
          <a:xfrm>
            <a:off x="3170160" y="1407960"/>
            <a:ext cx="2657520" cy="2011680"/>
          </a:xfrm>
          <a:prstGeom prst="rect">
            <a:avLst/>
          </a:prstGeom>
          <a:ln w="0">
            <a:noFill/>
          </a:ln>
        </p:spPr>
      </p:pic>
      <p:pic>
        <p:nvPicPr>
          <p:cNvPr id="56" name="AutoShape 36" descr=""/>
          <p:cNvPicPr/>
          <p:nvPr/>
        </p:nvPicPr>
        <p:blipFill>
          <a:blip r:embed="rId2"/>
          <a:stretch/>
        </p:blipFill>
        <p:spPr>
          <a:xfrm>
            <a:off x="291960" y="1017720"/>
            <a:ext cx="164016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矩形 3" descr=""/>
          <p:cNvPicPr/>
          <p:nvPr/>
        </p:nvPicPr>
        <p:blipFill>
          <a:blip r:embed="rId1"/>
          <a:stretch/>
        </p:blipFill>
        <p:spPr>
          <a:xfrm>
            <a:off x="171360" y="1298520"/>
            <a:ext cx="8223480" cy="7682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1619280" y="2565360"/>
            <a:ext cx="5362560" cy="3029040"/>
            <a:chOff x="1619280" y="2565360"/>
            <a:chExt cx="5362560" cy="3029040"/>
          </a:xfrm>
        </p:grpSpPr>
        <p:sp>
          <p:nvSpPr>
            <p:cNvPr id="59" name="内容占位符 2"/>
            <p:cNvSpPr/>
            <p:nvPr/>
          </p:nvSpPr>
          <p:spPr>
            <a:xfrm>
              <a:off x="1619280" y="2781360"/>
              <a:ext cx="4043880" cy="27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Adobe 楷体 Std R"/>
                  <a:ea typeface="Adobe 楷体 Std R"/>
                </a:rPr>
                <a:t>1</a:t>
              </a:r>
              <a:r>
                <a:rPr b="0" lang="zh-CN" sz="3200" spc="-1" strike="noStrike">
                  <a:solidFill>
                    <a:srgbClr val="0070c0"/>
                  </a:solidFill>
                  <a:latin typeface="Adobe 楷体 Std R"/>
                  <a:ea typeface="Adobe 楷体 Std R"/>
                </a:rPr>
                <a:t>、</a:t>
              </a:r>
              <a:r>
                <a:rPr b="0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指示标志：蓝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32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、警告标志：黄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、禁令标志：红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2" descr="C:\Users\zgj\Desktop\111.png"/>
            <p:cNvPicPr/>
            <p:nvPr/>
          </p:nvPicPr>
          <p:blipFill>
            <a:blip r:embed="rId2"/>
            <a:stretch/>
          </p:blipFill>
          <p:spPr>
            <a:xfrm>
              <a:off x="6012360" y="4725720"/>
              <a:ext cx="969480" cy="86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" descr="C:\Users\zgj\Desktop\222.png"/>
            <p:cNvPicPr/>
            <p:nvPr/>
          </p:nvPicPr>
          <p:blipFill>
            <a:blip r:embed="rId3"/>
            <a:stretch/>
          </p:blipFill>
          <p:spPr>
            <a:xfrm>
              <a:off x="5940360" y="3645360"/>
              <a:ext cx="100800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" descr="C:\Users\zgj\Desktop\333.png"/>
            <p:cNvPicPr/>
            <p:nvPr/>
          </p:nvPicPr>
          <p:blipFill>
            <a:blip r:embed="rId4"/>
            <a:stretch/>
          </p:blipFill>
          <p:spPr>
            <a:xfrm>
              <a:off x="5868360" y="2565360"/>
              <a:ext cx="1080000" cy="96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zgj\Desktop\444.png"/>
          <p:cNvPicPr/>
          <p:nvPr/>
        </p:nvPicPr>
        <p:blipFill>
          <a:blip r:embed="rId1"/>
          <a:stretch/>
        </p:blipFill>
        <p:spPr>
          <a:xfrm>
            <a:off x="5651640" y="1773360"/>
            <a:ext cx="1796760" cy="165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zgj\Desktop\安全教育\pic\214124.png"/>
          <p:cNvPicPr/>
          <p:nvPr/>
        </p:nvPicPr>
        <p:blipFill>
          <a:blip r:embed="rId2"/>
          <a:stretch/>
        </p:blipFill>
        <p:spPr>
          <a:xfrm>
            <a:off x="1116000" y="1268280"/>
            <a:ext cx="2448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552680" y="836640"/>
            <a:ext cx="5679000" cy="5124240"/>
            <a:chOff x="1552680" y="836640"/>
            <a:chExt cx="5679000" cy="5124240"/>
          </a:xfrm>
        </p:grpSpPr>
        <p:sp>
          <p:nvSpPr>
            <p:cNvPr id="66" name="TextBox 11"/>
            <p:cNvSpPr/>
            <p:nvPr/>
          </p:nvSpPr>
          <p:spPr>
            <a:xfrm>
              <a:off x="1552680" y="836640"/>
              <a:ext cx="18396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5"/>
            <p:cNvSpPr/>
            <p:nvPr/>
          </p:nvSpPr>
          <p:spPr>
            <a:xfrm>
              <a:off x="5700600" y="836640"/>
              <a:ext cx="18396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6"/>
            <p:cNvSpPr/>
            <p:nvPr/>
          </p:nvSpPr>
          <p:spPr>
            <a:xfrm>
              <a:off x="1675440" y="5379480"/>
              <a:ext cx="12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注意危险</a:t>
              </a:r>
              <a:r>
                <a:rPr b="1" lang="zh-CN" sz="3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7"/>
            <p:cNvSpPr/>
            <p:nvPr/>
          </p:nvSpPr>
          <p:spPr>
            <a:xfrm>
              <a:off x="5831640" y="537948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注意信号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zgj\Desktop\安全教育\pic\未标题-1.png"/>
          <p:cNvPicPr/>
          <p:nvPr/>
        </p:nvPicPr>
        <p:blipFill>
          <a:blip r:embed="rId1"/>
          <a:stretch/>
        </p:blipFill>
        <p:spPr>
          <a:xfrm>
            <a:off x="900000" y="692280"/>
            <a:ext cx="2751120" cy="282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zgj\Desktop\安全教育\pic\未标题-w1.png"/>
          <p:cNvPicPr/>
          <p:nvPr/>
        </p:nvPicPr>
        <p:blipFill>
          <a:blip r:embed="rId2"/>
          <a:stretch/>
        </p:blipFill>
        <p:spPr>
          <a:xfrm>
            <a:off x="5651640" y="907920"/>
            <a:ext cx="25938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1153080" y="3200400"/>
            <a:ext cx="6509520" cy="3127320"/>
            <a:chOff x="1153080" y="3200400"/>
            <a:chExt cx="6509520" cy="3127320"/>
          </a:xfrm>
        </p:grpSpPr>
        <p:sp>
          <p:nvSpPr>
            <p:cNvPr id="73" name="TextBox 9"/>
            <p:cNvSpPr/>
            <p:nvPr/>
          </p:nvSpPr>
          <p:spPr>
            <a:xfrm>
              <a:off x="1153080" y="3200400"/>
              <a:ext cx="164376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禁止行人通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0"/>
            <p:cNvSpPr/>
            <p:nvPr/>
          </p:nvSpPr>
          <p:spPr>
            <a:xfrm>
              <a:off x="5531040" y="3200400"/>
              <a:ext cx="213156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禁止非机动车通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11"/>
            <p:cNvSpPr/>
            <p:nvPr/>
          </p:nvSpPr>
          <p:spPr>
            <a:xfrm>
              <a:off x="1295280" y="5930640"/>
              <a:ext cx="200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15"/>
            <p:cNvSpPr/>
            <p:nvPr/>
          </p:nvSpPr>
          <p:spPr>
            <a:xfrm>
              <a:off x="5892840" y="5903640"/>
              <a:ext cx="200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01:44:03Z</dcterms:created>
  <dc:creator>yu</dc:creator>
  <dc:description/>
  <cp:keywords/>
  <dc:language>en-US</dc:language>
  <cp:lastModifiedBy>USER</cp:lastModifiedBy>
  <cp:lastPrinted>1899-12-30T00:00:00Z</cp:lastPrinted>
  <dcterms:modified xsi:type="dcterms:W3CDTF">2015-10-08T01:45:00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