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945-D270-42B1-8CF9-1EA07F90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0EA-19D0-4A7B-9AD4-AAF19A9F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AF5-749E-49E2-ABF4-9B5C79C7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704-CF1C-4A9B-AB2C-71DF6C55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F3D-7FDF-4985-8614-AD453AF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37E-2651-432D-B2A0-BAFFAD5A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A42-B075-4593-A569-3E6CEF4C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20A-34FB-4CAD-B0FD-F1C7B82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8F9-6A42-4CD0-A7C7-56B6FE56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71C-84A9-4F52-9C26-4DEBB2D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E79-E2B4-49B0-AE82-AF1EADB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EA5-0B28-42BE-B390-6D71BCA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04F-B162-4B6F-8223-00B511BCD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448920" cy="784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295280" y="3962520"/>
            <a:ext cx="7162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汉仪太极体简"/>
              </a:rPr>
              <a:t>大班夜宿联欢会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汉仪太极体简"/>
              <a:ea typeface="汉仪太极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12-04-27T08:04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