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BAE-ACD1-45B4-BA47-D152A600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2BD-7C45-4937-BE02-70BEF1F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0BF-1309-491A-840C-DE3D8819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39E-D999-4363-99DB-D746B4AE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CD5-79B4-4733-AC28-5C6C4FFD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620-CCAD-49B4-B328-E18B576E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44B-D06A-4EB9-85EA-3C937E8A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15F-545B-45E2-A5BE-6304AD8A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27B-AA8B-4946-ACA8-DDAE5DD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CD5-A3DE-4F5B-A9C2-B39A842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443-E92E-42BD-8B0B-A8EA7FC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B25-7206-4C64-99BF-E9F2B8AB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083F-D641-457B-A658-A49CF5F12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448920" cy="784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295280" y="3962520"/>
            <a:ext cx="7162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汉仪太极体简"/>
              </a:rPr>
              <a:t>大班夜宿联欢会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汉仪太极体简"/>
              <a:ea typeface="汉仪太极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4-27T08:04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