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7594-D539-40A2-812E-6479EAA7D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7D11-5A8D-474B-A059-DCCCB5108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339E-9519-4EE4-BD4A-A844C4B23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9645-DABD-40AD-9E53-25BF92C65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CE93-F9BF-4BDA-A321-012D7E8E7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B797-810E-402D-B62E-0FA318955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5D44-86C8-4422-9EC6-95C1AB5DA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6B86-B411-42A9-B5E5-9DFE98C7C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AFA6-8AD5-4FA8-A0BC-1E0C657DE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F96F-FDEA-4CAE-8DD3-07B5C87DA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F68A-A6F7-4F20-AC85-89358BF19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3423-4EF2-4F2F-BAF7-846A71B07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BC7E6-BFCB-4AFD-A269-8D4580985A5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4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9T05:02:49Z</dcterms:created>
  <dc:creator>babala</dc:creator>
  <dc:description/>
  <dc:language>en-US</dc:language>
  <cp:lastModifiedBy>dell</cp:lastModifiedBy>
  <dcterms:modified xsi:type="dcterms:W3CDTF">2012-10-29T06:13:39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