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595-DD48-48B8-A8C5-24EB4CD2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C7D-D6CD-4B4E-8A44-5EC6338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52F-513D-43DD-9980-5E833BBC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C14-B289-4526-9AE5-7C4BD440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4FBD-5A0D-402E-B9C6-3925526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5375-7742-44A1-8AA3-00F84057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DAC5-A868-43B1-BA47-5BC01FDC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8E5-EAFB-4A6D-B495-C168AD0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DFF-1895-40AD-9918-A0FC135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3010-C31D-4948-BA27-20CE747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31B2-C475-4F8D-9584-75973DED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6FC-316E-4614-89EE-65F2062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7E4A-EEFE-4D27-BE45-2072E2DB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89A2-6A45-47C9-9FE8-169A39D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82BC-8EFF-45A3-B1B1-F256324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CE46-65A0-4648-A8A2-4CCC1FB0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7A3-91B9-41EF-A62B-CFB46ED0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21B-8217-4385-AC3D-DE665DD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15C-8A17-43C4-BB54-5C6B4E0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935-BF03-4B0F-8F68-C231072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964-E3FC-4B38-A0B5-72E29B3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8E5-D3A8-4219-944F-50A452D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1D0-FAF9-4D25-B01B-ED8F177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A13-9523-4CA8-9958-8BD098C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FC7-6CFD-4F29-BE86-7F4ED809727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081-41EA-4092-AE5A-91121E91C7C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m.v.qq.com/play/play.html?coverid=apnm2t3kogho5en&amp;vid=e0019j8qevh&amp;ptag=4_4.6.0.11332_qq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780;&#36873;&#31532;&#20845;&#25209;&#26657;&#32423;&#39592;&#24178;&#25945;&#24072;&#21644;&#31532;&#19968;&#25209;&#26657;&#32423;&#23398;&#24102;.doc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31482;&#20029;&#23159;.doc" TargetMode="External"/><Relationship Id="rId4" Type="http://schemas.openxmlformats.org/officeDocument/2006/relationships/hyperlink" Target="file:///&#38472;&#24314;&#29748;.doc" TargetMode="External"/><Relationship Id="rId5" Type="http://schemas.openxmlformats.org/officeDocument/2006/relationships/hyperlink" Target="file:///&#23385;&#26149;&#20964;.doc" TargetMode="External"/><Relationship Id="rId6" Type="http://schemas.openxmlformats.org/officeDocument/2006/relationships/hyperlink" Target="file:///&#27754;&#23725;.docx" TargetMode="External"/><Relationship Id="rId7" Type="http://schemas.openxmlformats.org/officeDocument/2006/relationships/hyperlink" Target="file:///&#29579;&#20029;.docx" TargetMode="External"/><Relationship Id="rId8" Type="http://schemas.openxmlformats.org/officeDocument/2006/relationships/hyperlink" Target="file:///&#26472;&#23439;.doc" TargetMode="External"/><Relationship Id="rId9" Type="http://schemas.openxmlformats.org/officeDocument/2006/relationships/hyperlink" Target="file:///&#20219;&#33738;&#20848;.doc" TargetMode="External"/><Relationship Id="rId10" Type="http://schemas.openxmlformats.org/officeDocument/2006/relationships/hyperlink" Target="file:///&#23385;&#27905;.doc" TargetMode="External"/><Relationship Id="rId11" Type="http://schemas.openxmlformats.org/officeDocument/2006/relationships/hyperlink" Target="file:///&#28006;&#31077;&#20113;.doc" TargetMode="External"/><Relationship Id="rId12" Type="http://schemas.openxmlformats.org/officeDocument/2006/relationships/hyperlink" Target="file:///&#33255;&#20122;&#20029;.doc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23385;&#26149;&#20964;.doc" TargetMode="External"/><Relationship Id="rId4" Type="http://schemas.openxmlformats.org/officeDocument/2006/relationships/hyperlink" Target="file:///&#28504;&#24425;&#33714;.doc" TargetMode="External"/><Relationship Id="rId5" Type="http://schemas.openxmlformats.org/officeDocument/2006/relationships/hyperlink" Target="file:///&#26361;&#20122;&#20964;.doc" TargetMode="External"/><Relationship Id="rId6" Type="http://schemas.openxmlformats.org/officeDocument/2006/relationships/hyperlink" Target="file:///&#26446;&#32418;.doc" TargetMode="External"/><Relationship Id="rId7" Type="http://schemas.openxmlformats.org/officeDocument/2006/relationships/hyperlink" Target="file:///&#24352;&#20122;.doc" TargetMode="External"/><Relationship Id="rId8" Type="http://schemas.openxmlformats.org/officeDocument/2006/relationships/hyperlink" Target="file:///&#21608;&#20122;&#33457;.doc" TargetMode="External"/><Relationship Id="rId9" Type="http://schemas.openxmlformats.org/officeDocument/2006/relationships/hyperlink" Target="file:///&#39532;&#23011;.doc" TargetMode="External"/><Relationship Id="rId10" Type="http://schemas.openxmlformats.org/officeDocument/2006/relationships/hyperlink" Target="file:///&#35328;&#38134;&#33457;.doc" TargetMode="External"/><Relationship Id="rId11" Type="http://schemas.openxmlformats.org/officeDocument/2006/relationships/hyperlink" Target="file:///&#29579;&#24535;&#23071;.doc" TargetMode="External"/><Relationship Id="rId12" Type="http://schemas.openxmlformats.org/officeDocument/2006/relationships/hyperlink" Target="file:///&#27146;&#23447;&#33459;.doc" TargetMode="External"/><Relationship Id="rId13" Type="http://schemas.openxmlformats.org/officeDocument/2006/relationships/hyperlink" Target="file:///&#39038;&#20025;&#33805;.doc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25102;&#33655;&#33452;.doc" TargetMode="External"/><Relationship Id="rId4" Type="http://schemas.openxmlformats.org/officeDocument/2006/relationships/hyperlink" Target="file:///&#24464;&#23425;.doc" TargetMode="External"/><Relationship Id="rId5" Type="http://schemas.openxmlformats.org/officeDocument/2006/relationships/hyperlink" Target="file:///&#21016;&#20122;&#23075;.doc" TargetMode="External"/><Relationship Id="rId6" Type="http://schemas.openxmlformats.org/officeDocument/2006/relationships/hyperlink" Target="file:///&#34081;&#23567;&#20521;.doc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21016;&#38660;&#21531;.doc" TargetMode="External"/><Relationship Id="rId4" Type="http://schemas.openxmlformats.org/officeDocument/2006/relationships/hyperlink" Target="file:///&#21016;&#28023;&#33714;.doc" TargetMode="External"/><Relationship Id="rId5" Type="http://schemas.openxmlformats.org/officeDocument/2006/relationships/hyperlink" Target="file:///&#37329;&#28800;.doc" TargetMode="External"/><Relationship Id="rId6" Type="http://schemas.openxmlformats.org/officeDocument/2006/relationships/hyperlink" Target="file:///&#37049;&#20029;&#23071;.doc" TargetMode="External"/><Relationship Id="rId7" Type="http://schemas.openxmlformats.org/officeDocument/2006/relationships/hyperlink" Target="file:///&#33539;&#20029;&#33464;.doc" TargetMode="External"/><Relationship Id="rId8" Type="http://schemas.openxmlformats.org/officeDocument/2006/relationships/hyperlink" Target="file:///&#38472;&#24314;&#26149;.doc" TargetMode="External"/><Relationship Id="rId9" Type="http://schemas.openxmlformats.org/officeDocument/2006/relationships/hyperlink" Target="file:///&#38472;&#34122;.doc" TargetMode="External"/><Relationship Id="rId10" Type="http://schemas.openxmlformats.org/officeDocument/2006/relationships/hyperlink" Target="file:///&#26753;&#26494;.doc" TargetMode="External"/><Relationship Id="rId11" Type="http://schemas.openxmlformats.org/officeDocument/2006/relationships/hyperlink" Target="file:///&#26417;&#33098;&#23075;.doc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24352;&#38182;&#22241;.doc" TargetMode="External"/><Relationship Id="rId4" Type="http://schemas.openxmlformats.org/officeDocument/2006/relationships/hyperlink" Target="file:///&#35874;&#26126;.doc" TargetMode="External"/><Relationship Id="rId5" Type="http://schemas.openxmlformats.org/officeDocument/2006/relationships/hyperlink" Target="file:///&#21608;&#26195;&#32418;.doc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27000" y="6400800"/>
            <a:ext cx="72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http://m.v.qq.com/play/play.html?coverid=apnm2t3kogho5en&amp;vid=e0019j8qevh&amp;ptag=4_4.6.0.11332_qq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648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水份，从某种程度上能够造就精彩。但，当阳光照来，水终有蒸发的那一天。到了那一天，又该怎么办？不若，早些抛却水份，面向日月星辰，“真”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案例分析与深层追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4952880"/>
            <a:ext cx="4038480" cy="76212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0f44a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真思考、真研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819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反思高人陈建锋：主题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小标题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案例（配图）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思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962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个案牛人王建兴：主题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事件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分析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对策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追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00200" y="1065960"/>
            <a:ext cx="487692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续百字计划方向：一网二化三味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371600" y="2133720"/>
            <a:ext cx="19810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题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057400" y="2743200"/>
            <a:ext cx="19810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系列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048120" y="3352680"/>
            <a:ext cx="19810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科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657600" y="3962520"/>
            <a:ext cx="19810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案例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267080" y="4572000"/>
            <a:ext cx="198144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研究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019920" y="1905120"/>
            <a:ext cx="457200" cy="16761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66"/>
              </a:gs>
            </a:gsLst>
            <a:lin ang="27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093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76212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评选第六批校级骨干教师和第一批校级学带的解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752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备课组长会课活动简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10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月考核方案（讨论稿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30481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一等奖：李    红、任菊兰、陈建锋、刘亚娣、邹丽娟、戎荷芬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351936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二等奖：潘彩莲、汪    岭、顾丹萍、陈    蕊、张锦囡、朱腊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臧亚丽、刘海莲、蔡小倩、 谢    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762120" y="2438280"/>
            <a:ext cx="220968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酝酿—萌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505320" y="2438280"/>
            <a:ext cx="220968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组织—展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248520" y="2438280"/>
            <a:ext cx="220968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汇总—反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762120" y="2895480"/>
            <a:ext cx="457200" cy="1676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66"/>
              </a:gs>
            </a:gsLst>
            <a:lin ang="27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371600" y="3124080"/>
            <a:ext cx="685800" cy="1676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66"/>
              </a:gs>
            </a:gsLst>
            <a:lin ang="27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公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公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公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49568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何炅致黄致列：不是因为希望而看到坚持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而是因为坚持而看到希望！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5105520" y="1752480"/>
            <a:ext cx="3352680" cy="53352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0f44a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正能量的辐射与弥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0" y="300204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谨请指正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971800" y="18288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华文新魏"/>
                <a:ea typeface="华文新魏"/>
              </a:rPr>
              <a:t>梦想  实践   真实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66416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常州市新北区新华实验小学 姚建法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016.0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树叶说："/>
          <p:cNvPicPr/>
          <p:nvPr/>
        </p:nvPicPr>
        <p:blipFill>
          <a:blip r:embed="rId2"/>
          <a:stretch/>
        </p:blipFill>
        <p:spPr>
          <a:xfrm>
            <a:off x="228600" y="1066680"/>
            <a:ext cx="2376360" cy="4267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48720" y="5543640"/>
            <a:ext cx="812520" cy="70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05320" y="29714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---“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百字计划”阶段反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28800" y="121824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新魏"/>
              </a:rPr>
              <a:t>做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新魏"/>
              </a:rPr>
              <a:t>---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新魏"/>
              </a:rPr>
              <a:t>易！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4200" y="44949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行且思且提升！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6665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  <a:ea typeface="华文新魏"/>
              </a:rPr>
              <a:t>坚持做</a:t>
            </a:r>
            <a:r>
              <a:rPr b="1" lang="zh-CN" sz="6600" spc="-1" strike="noStrike">
                <a:solidFill>
                  <a:srgbClr val="003399"/>
                </a:solidFill>
                <a:latin typeface="Arial"/>
                <a:ea typeface="华文新魏"/>
              </a:rPr>
              <a:t>---</a:t>
            </a:r>
            <a:r>
              <a:rPr b="1" lang="zh-CN" sz="6600" spc="-1" strike="noStrike">
                <a:solidFill>
                  <a:srgbClr val="003399"/>
                </a:solidFill>
                <a:latin typeface="Arial"/>
                <a:ea typeface="华文新魏"/>
              </a:rPr>
              <a:t>不易！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服务、还是不服务，这是一种境界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905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曹敏华、何亚芳、黄建芬、邓小琴、尹树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3790800" cy="29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0" b="47084"/>
          <a:stretch/>
        </p:blipFill>
        <p:spPr>
          <a:xfrm>
            <a:off x="533520" y="2590920"/>
            <a:ext cx="39430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8720" y="3860640"/>
            <a:ext cx="38862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情感调度与方法推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5290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竺丽婷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对学生兴趣与情绪的关注和体质健康测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129200"/>
            <a:ext cx="86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方法达人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陈建琴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苹果题计划、闻花香法、蚕宝宝吐丝法、儿歌法、情感启迪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51008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孙春凤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图影启示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89096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汪    岭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作业与学习情况打分表（有起因、启动、过程思考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722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王    丽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值日班长（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）</a:t>
            </a:r>
            <a:r>
              <a:rPr b="1" lang="zh-CN" sz="1400" spc="-1" strike="noStrike">
                <a:solidFill>
                  <a:srgbClr val="ff00ff"/>
                </a:solidFill>
                <a:latin typeface="Arial"/>
              </a:rPr>
              <a:t>深深的话我们浅浅地说，长长的路我们慢慢地走</a:t>
            </a: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第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周）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63868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杨    宏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闭眼欣赏配乐读（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01992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任菊兰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自学要求法（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、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警惕沦为“搬运工”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90988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孙    洁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充实感、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小时转换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张区督导细则文字照片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29076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浦祥云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对自身情绪的管控、事后想想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6720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臧亚丽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孩子终究是孩子；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太苦逼啦；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第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周：最简百字计划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133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蒋    伟：“被压迫”下的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真情实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，朴实原本无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标题凝炼与专项聚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34290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孙春凤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51460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潘彩莲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减一点、加一点；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：当默写遇上抽奖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9862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曹亚凤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设计大问题 领略三亚美、……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13372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李    红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很具哲思，值得一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886200"/>
            <a:ext cx="79246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常规习惯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张亚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前三周常规）、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周亚花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纪律常规、实验常规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马姣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前三周习惯）、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言银花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前三周，有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物聚焦、哲言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李红、潘彩莲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作业关注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王志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多周刘悦的作业与变化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565308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自我反思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樊宗芳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自身英语教学问题、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本周我做到了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03396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立足课堂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顾丹萍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节课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活动创设与实践体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37636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戎荷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实验观察“水的张力”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98620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 徐    宁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一个小细节就会改变一个习惯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59568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刘亚娣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变式训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9112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蔡小倩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做好游戏的组织工作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8150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欧阳毅青：教的初体验；教玩结合：强调教是不够的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教学整合与课程意识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20968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刘霄君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易错字：杜、甫、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59092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刘海莲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时间都去哪了？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责任田（教师种植走向课程实践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9112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图文资源整合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金    炀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思维导图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4557600"/>
            <a:ext cx="556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邹丽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-6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“图”解“文”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---“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图片达人”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276720"/>
            <a:ext cx="556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范丽芸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单元整体构建意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21360"/>
            <a:ext cx="8001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班外资源整合：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陈建春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江苏省四年级数学群、校际研讨课说课反思千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5897520"/>
            <a:ext cx="6324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陈    蕊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请杨宏下载神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视频、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公园赏樱写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王建兴与陈蕊一起家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909880"/>
            <a:ext cx="556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梁    松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《时 分 秒》追加一课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516640"/>
            <a:ext cx="556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朱腊娣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教学方向要走出教室、走出学校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6576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姚建法：前两周学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PK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赛、后几周长程规划教学内容：前延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后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837000"/>
            <a:ext cx="5867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思了、怎样反思的，这是一种意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93080"/>
            <a:ext cx="358128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案例分析与深层追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376360"/>
            <a:ext cx="761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张锦囡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学生表达：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会说不会记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88620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谢    明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详实的案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分析（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柴俊羽个案分析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19520"/>
            <a:ext cx="739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周晓红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第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周的拣与捡、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第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周的发愤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2670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顾秋婷：学生要求学生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脱裤子事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6-04-11T07:45:27Z</dcterms:modified>
  <cp:revision>3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