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4B0-B54D-4D19-85B9-3D384A2B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1E3-FE4F-4403-9AE3-C1E2419F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E40-74C3-4050-A0D5-37658C43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C18-198B-40EF-AEDC-E385E2BE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61B-CC43-49B0-B46D-B3BE85CF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15E-B222-4CBD-81B6-6E959CE5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1E4-3046-47C2-BC33-7BFC87FB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C39-7CC5-4E84-90B2-E9229DA3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47F-45E1-4ED6-81D0-DDB0BAEF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BC4-D4B6-4808-9EA1-4FA8416C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411-2953-471D-BF7E-44319A45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432A-0FEE-4A46-926B-B813BE0C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EE14-3EC5-49FD-B7BC-6E2D342BB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2" name="Picture 4" descr="C:\Users\Administrator\Desktop\图片3.png"/>
          <p:cNvPicPr/>
          <p:nvPr/>
        </p:nvPicPr>
        <p:blipFill>
          <a:blip r:embed="rId2"/>
          <a:stretch/>
        </p:blipFill>
        <p:spPr>
          <a:xfrm>
            <a:off x="685800" y="4191120"/>
            <a:ext cx="7083360" cy="1447560"/>
          </a:xfrm>
          <a:prstGeom prst="rect">
            <a:avLst/>
          </a:prstGeom>
          <a:ln w="0">
            <a:noFill/>
          </a:ln>
        </p:spPr>
      </p:pic>
      <p:pic>
        <p:nvPicPr>
          <p:cNvPr id="43" name="20.mp3" descr=""/>
          <p:cNvPicPr/>
          <p:nvPr/>
        </p:nvPicPr>
        <p:blipFill>
          <a:blip r:embed="rId3"/>
          <a:stretch/>
        </p:blipFill>
        <p:spPr>
          <a:xfrm>
            <a:off x="7315200" y="5562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990720"/>
            <a:ext cx="86868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新的起点 新的希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——</a:t>
            </a: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2017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∽</a:t>
            </a: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2018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学年第一学期六年级学生家长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93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1267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感谢您的合作，孩子的进步是我们共同的心愿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图片4"/>
          <p:cNvPicPr/>
          <p:nvPr/>
        </p:nvPicPr>
        <p:blipFill>
          <a:blip r:embed="rId1"/>
          <a:stretch/>
        </p:blipFill>
        <p:spPr>
          <a:xfrm>
            <a:off x="1403280" y="2638440"/>
            <a:ext cx="64818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T8D)AZU7[GTBSA9IV05VS_7"/>
          <p:cNvPicPr/>
          <p:nvPr/>
        </p:nvPicPr>
        <p:blipFill>
          <a:blip r:embed="rId1"/>
          <a:srcRect l="0" t="13410" r="22503" b="51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28600" y="1143000"/>
            <a:ext cx="891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六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班是由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7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名来自于不同家庭的孩子组成的一个班集体。其中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男生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女生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。同学们个个都有鲜明的个性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4"/>
          <p:cNvSpPr/>
          <p:nvPr/>
        </p:nvSpPr>
        <p:spPr>
          <a:xfrm>
            <a:off x="8915400" y="1371600"/>
            <a:ext cx="0" cy="4535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 flipV="1">
            <a:off x="1905120" y="6552720"/>
            <a:ext cx="6624360" cy="7308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33520" y="304920"/>
            <a:ext cx="3657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</a:rPr>
              <a:t>班级情况介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57200" y="2971800"/>
            <a:ext cx="37339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班级教学理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457200" y="36576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行楷"/>
              </a:rPr>
              <a:t>关注每一个学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行楷"/>
              </a:rPr>
              <a:t>不仅追求好，更追求进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行楷"/>
              </a:rPr>
              <a:t>不看中一时成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行楷"/>
              </a:rPr>
              <a:t>希望每个人都有进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培养良好的学习习惯 培养良性的竞争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R3049"/>
          <p:cNvPicPr/>
          <p:nvPr/>
        </p:nvPicPr>
        <p:blipFill>
          <a:blip r:embed="rId1"/>
          <a:stretch/>
        </p:blipFill>
        <p:spPr>
          <a:xfrm>
            <a:off x="0" y="193680"/>
            <a:ext cx="9144000" cy="6664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2769480" y="1905120"/>
            <a:ext cx="3198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Arial"/>
              </a:rPr>
              <a:t>学习情况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思想行为分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JDSJ6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609480" y="60948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建议一：加强沟通、交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85800" y="21337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建议二：重结果更重过程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838080" y="4114800"/>
            <a:ext cx="722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建议三：会爱孩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51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希望家长配合做好以下几项工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抓作业，提高孩子的成绩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抓态度，改变孩子的习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抓阅读，提高孩子的能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抓健康，关注孩子的心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042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4"/>
          <p:cNvSpPr/>
          <p:nvPr/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培养孩子良好的阅读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营造一个良好的阅读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和孩子一起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培养孩子的阅读兴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给孩子介绍好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5" name="Picture 4" descr="6880637_114322014387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838080" y="533520"/>
            <a:ext cx="50292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六年级推荐书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143000" y="1523880"/>
            <a:ext cx="7162920" cy="4815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zh-CN" sz="36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i="1" lang="zh-CN" sz="3600" spc="-1" strike="noStrike">
                <a:solidFill>
                  <a:srgbClr val="003366"/>
                </a:solidFill>
                <a:latin typeface="Arial"/>
              </a:rPr>
              <a:t>三国演义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zh-CN" sz="36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i="1" lang="zh-CN" sz="3600" spc="-1" strike="noStrike">
                <a:solidFill>
                  <a:srgbClr val="003366"/>
                </a:solidFill>
                <a:latin typeface="Arial"/>
              </a:rPr>
              <a:t>鲁滨逊漂流记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zh-CN" sz="36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i="1" lang="zh-CN" sz="3600" spc="-1" strike="noStrike">
                <a:solidFill>
                  <a:srgbClr val="003366"/>
                </a:solidFill>
                <a:latin typeface="Arial"/>
              </a:rPr>
              <a:t>论语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zh-CN" sz="36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i="1" lang="zh-CN" sz="3600" spc="-1" strike="noStrike">
                <a:solidFill>
                  <a:srgbClr val="003366"/>
                </a:solidFill>
                <a:latin typeface="Arial"/>
              </a:rPr>
              <a:t>智慧背囊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1" i="1" lang="zh-CN" sz="36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i="1" lang="zh-CN" sz="3600" spc="-1" strike="noStrike">
                <a:solidFill>
                  <a:srgbClr val="003366"/>
                </a:solidFill>
                <a:latin typeface="Arial"/>
              </a:rPr>
              <a:t>时文选粹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…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0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24000" y="333360"/>
            <a:ext cx="8184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03640" y="1916280"/>
            <a:ext cx="52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Verdana"/>
                <a:ea typeface="华文隶书"/>
              </a:rPr>
              <a:t>常联系一下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95280" y="19162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11280" y="3108240"/>
            <a:ext cx="7921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语文陈老师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585195006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数学张老师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3685259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英语孙老师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392107523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5T12:56:02Z</dcterms:created>
  <dc:creator>Administrator</dc:creator>
  <dc:description/>
  <dc:language>en-US</dc:language>
  <cp:lastModifiedBy>lenovo</cp:lastModifiedBy>
  <dcterms:modified xsi:type="dcterms:W3CDTF">2017-09-29T03:08:02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