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987-1E23-406C-9323-10501AD5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6CE-F6E7-445F-BA3B-1A924FB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E88-69C1-4870-8234-941EEBE2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254-DC82-4F35-88F7-6A947889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78D-475C-447E-B222-4081EFA0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8F5-4A58-47D7-81AF-F43841D3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C34-0CDC-4864-A6CE-D297E63A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9F2-B425-47EC-816D-28584BB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4CE-FD92-41A0-BA05-E2C06429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67C-5340-408F-A6E5-441782B1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A22-8928-49FA-92E3-D7FAE55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95D-A587-4787-8A91-59DF8439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9EA0-F33B-4C1B-97C1-00305B1F4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65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7652"/>
          <p:cNvSpPr txBox="1"/>
          <p:nvPr/>
        </p:nvSpPr>
        <p:spPr>
          <a:xfrm>
            <a:off x="324000" y="836640"/>
            <a:ext cx="8532720" cy="295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欢迎家长的光临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文本框 27653"/>
          <p:cNvSpPr/>
          <p:nvPr/>
        </p:nvSpPr>
        <p:spPr>
          <a:xfrm>
            <a:off x="2373480" y="4437000"/>
            <a:ext cx="677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黑体"/>
                <a:ea typeface="黑体"/>
              </a:rPr>
              <a:t>一年级（ </a:t>
            </a:r>
            <a:r>
              <a:rPr b="1" lang="en-US" sz="66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6600" spc="-1" strike="noStrike">
                <a:solidFill>
                  <a:srgbClr val="000066"/>
                </a:solidFill>
                <a:latin typeface="黑体"/>
                <a:ea typeface="黑体"/>
              </a:rPr>
              <a:t>）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黑体"/>
                <a:ea typeface="黑体"/>
              </a:rPr>
              <a:t>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圆角矩形 6"/>
          <p:cNvSpPr/>
          <p:nvPr/>
        </p:nvSpPr>
        <p:spPr>
          <a:xfrm>
            <a:off x="324000" y="1700280"/>
            <a:ext cx="8496000" cy="388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4464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阅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是改变一个学习困难的孩子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唯一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出路。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8360" y="3581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阅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是让一个很优秀的孩子更优秀的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唯一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方式。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-214200" y="35712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培养阅读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"/>
          <p:cNvGrpSpPr/>
          <p:nvPr/>
        </p:nvGrpSpPr>
        <p:grpSpPr>
          <a:xfrm>
            <a:off x="1258920" y="1413000"/>
            <a:ext cx="7345440" cy="1792440"/>
            <a:chOff x="1258920" y="1413000"/>
            <a:chExt cx="7345440" cy="1792440"/>
          </a:xfrm>
        </p:grpSpPr>
        <p:sp>
          <p:nvSpPr>
            <p:cNvPr id="98" name="椭圆 5"/>
            <p:cNvSpPr/>
            <p:nvPr/>
          </p:nvSpPr>
          <p:spPr>
            <a:xfrm>
              <a:off x="1258920" y="1413000"/>
              <a:ext cx="5185080" cy="108000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"/>
            <p:cNvSpPr/>
            <p:nvPr/>
          </p:nvSpPr>
          <p:spPr>
            <a:xfrm>
              <a:off x="1761480" y="1575000"/>
              <a:ext cx="6842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障有书可读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0"/>
          <p:cNvGrpSpPr/>
          <p:nvPr/>
        </p:nvGrpSpPr>
        <p:grpSpPr>
          <a:xfrm>
            <a:off x="468360" y="2852640"/>
            <a:ext cx="7772400" cy="1081080"/>
            <a:chOff x="468360" y="2852640"/>
            <a:chExt cx="7772400" cy="1081080"/>
          </a:xfrm>
        </p:grpSpPr>
        <p:sp>
          <p:nvSpPr>
            <p:cNvPr id="101" name="椭圆 6"/>
            <p:cNvSpPr/>
            <p:nvPr/>
          </p:nvSpPr>
          <p:spPr>
            <a:xfrm>
              <a:off x="2124360" y="2852640"/>
              <a:ext cx="5184720" cy="1081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"/>
            <p:cNvSpPr/>
            <p:nvPr/>
          </p:nvSpPr>
          <p:spPr>
            <a:xfrm>
              <a:off x="468360" y="2960280"/>
              <a:ext cx="777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营造读书氛围。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3"/>
          <p:cNvSpPr/>
          <p:nvPr/>
        </p:nvSpPr>
        <p:spPr>
          <a:xfrm>
            <a:off x="-142920" y="3189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培养阅读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6"/>
          <p:cNvSpPr/>
          <p:nvPr/>
        </p:nvSpPr>
        <p:spPr>
          <a:xfrm>
            <a:off x="250920" y="2133720"/>
            <a:ext cx="8893080" cy="338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285920" y="1357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营造读书氛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32000" y="1047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彩云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42920" y="2357280"/>
            <a:ext cx="90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用书来装点日常家居环境，在家庭中营造阅读气氛，是让孩子爱上书的最有效的方法。爱书的大人应当有自己的家庭藏书，爱书的孩子也需要有自己的藏书。要想让孩子喜欢上读书，家长首先做个读书人，因此我们号召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家庭亲子共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和大人一起读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357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培养阅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8"/>
          <p:cNvSpPr/>
          <p:nvPr/>
        </p:nvSpPr>
        <p:spPr>
          <a:xfrm>
            <a:off x="1116000" y="3213000"/>
            <a:ext cx="172728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7"/>
          <p:cNvSpPr/>
          <p:nvPr/>
        </p:nvSpPr>
        <p:spPr>
          <a:xfrm>
            <a:off x="1042920" y="1484280"/>
            <a:ext cx="295272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332000" y="40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彩云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14680" y="2071800"/>
            <a:ext cx="3600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785960" y="3286080"/>
            <a:ext cx="436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14200" y="142884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楷体"/>
              </a:rPr>
              <a:t>大声为孩子读书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是为孩子念书，读出声音来。建议在家庭中每天选择一个固定的时间，比如在午饭后、晚饭后或临睡前，为孩子读一本书，每天至少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楷体"/>
              </a:rPr>
              <a:t>持续默读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是在家庭中每天选择一个固定的时间，确定为默读时间，家庭的全体成员各自选择自己喜爱的书、报纸、杂志，安静地享受阅读，每天至少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。读完后家庭成员之间可以交流各自的阅读体会和收获，家长尤其可以听听孩子讲述阅读的内容，帮助孩子解决阅读中的疑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357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培养阅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9"/>
          <p:cNvGrpSpPr/>
          <p:nvPr/>
        </p:nvGrpSpPr>
        <p:grpSpPr>
          <a:xfrm>
            <a:off x="1258920" y="1413000"/>
            <a:ext cx="7345440" cy="1792440"/>
            <a:chOff x="1258920" y="1413000"/>
            <a:chExt cx="7345440" cy="1792440"/>
          </a:xfrm>
        </p:grpSpPr>
        <p:sp>
          <p:nvSpPr>
            <p:cNvPr id="117" name="椭圆 5"/>
            <p:cNvSpPr/>
            <p:nvPr/>
          </p:nvSpPr>
          <p:spPr>
            <a:xfrm>
              <a:off x="1258920" y="1413000"/>
              <a:ext cx="5185080" cy="108000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"/>
            <p:cNvSpPr/>
            <p:nvPr/>
          </p:nvSpPr>
          <p:spPr>
            <a:xfrm>
              <a:off x="1761480" y="1575000"/>
              <a:ext cx="6842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障有书可读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0"/>
          <p:cNvGrpSpPr/>
          <p:nvPr/>
        </p:nvGrpSpPr>
        <p:grpSpPr>
          <a:xfrm>
            <a:off x="468360" y="2852640"/>
            <a:ext cx="7772400" cy="1081080"/>
            <a:chOff x="468360" y="2852640"/>
            <a:chExt cx="7772400" cy="1081080"/>
          </a:xfrm>
        </p:grpSpPr>
        <p:sp>
          <p:nvSpPr>
            <p:cNvPr id="120" name="椭圆 6"/>
            <p:cNvSpPr/>
            <p:nvPr/>
          </p:nvSpPr>
          <p:spPr>
            <a:xfrm>
              <a:off x="2124360" y="2852640"/>
              <a:ext cx="5184720" cy="1081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"/>
            <p:cNvSpPr/>
            <p:nvPr/>
          </p:nvSpPr>
          <p:spPr>
            <a:xfrm>
              <a:off x="468360" y="2960280"/>
              <a:ext cx="777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营造读书氛围。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3"/>
          <p:cNvSpPr/>
          <p:nvPr/>
        </p:nvSpPr>
        <p:spPr>
          <a:xfrm>
            <a:off x="-142920" y="3189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培养阅读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1"/>
          <p:cNvGrpSpPr/>
          <p:nvPr/>
        </p:nvGrpSpPr>
        <p:grpSpPr>
          <a:xfrm>
            <a:off x="3348000" y="4437000"/>
            <a:ext cx="5184720" cy="1079640"/>
            <a:chOff x="3348000" y="4437000"/>
            <a:chExt cx="5184720" cy="1079640"/>
          </a:xfrm>
        </p:grpSpPr>
        <p:sp>
          <p:nvSpPr>
            <p:cNvPr id="124" name="椭圆 8"/>
            <p:cNvSpPr/>
            <p:nvPr/>
          </p:nvSpPr>
          <p:spPr>
            <a:xfrm>
              <a:off x="3348000" y="4437000"/>
              <a:ext cx="5184720" cy="1079640"/>
            </a:xfrm>
            <a:prstGeom prst="ellipse">
              <a:avLst/>
            </a:prstGeom>
            <a:solidFill>
              <a:srgbClr val="0066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7"/>
            <p:cNvSpPr/>
            <p:nvPr/>
          </p:nvSpPr>
          <p:spPr>
            <a:xfrm>
              <a:off x="3852000" y="4581000"/>
              <a:ext cx="453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证读书时间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3"/>
          <p:cNvSpPr/>
          <p:nvPr/>
        </p:nvSpPr>
        <p:spPr>
          <a:xfrm>
            <a:off x="0" y="1197000"/>
            <a:ext cx="9144000" cy="489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一年级上学期推荐书目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236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诵读类：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新教育晨诵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学生必背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75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首古诗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绘本：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猜猜我有多爱你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蚯蚓的日记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要是你给老鼠吃饼干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故事类：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年级的小蜜瓜（小豌豆）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国神话故事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猪唏哩呼噜（上下）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神奇的校车（系列读本）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、家庭作业的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6"/>
          <p:cNvGrpSpPr/>
          <p:nvPr/>
        </p:nvGrpSpPr>
        <p:grpSpPr>
          <a:xfrm>
            <a:off x="144360" y="1197000"/>
            <a:ext cx="9107640" cy="5472000"/>
            <a:chOff x="144360" y="1197000"/>
            <a:chExt cx="9107640" cy="5472000"/>
          </a:xfrm>
        </p:grpSpPr>
        <p:sp>
          <p:nvSpPr>
            <p:cNvPr id="131" name="圆角矩形 5"/>
            <p:cNvSpPr/>
            <p:nvPr/>
          </p:nvSpPr>
          <p:spPr>
            <a:xfrm>
              <a:off x="144360" y="1197000"/>
              <a:ext cx="8891640" cy="547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251640" y="1413000"/>
              <a:ext cx="900036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天关注班级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QQ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群内“作业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重视笔头作业，更要重视口头作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背书、读书、读拼音、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坚持作业之外，每天背一首儿歌和进行课外阅读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0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分钟以上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.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检查作业，辩证看待“家长签字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5"/>
          <p:cNvSpPr/>
          <p:nvPr/>
        </p:nvSpPr>
        <p:spPr>
          <a:xfrm>
            <a:off x="971640" y="2708280"/>
            <a:ext cx="6337080" cy="18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一、班级生活的常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息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2708280"/>
            <a:ext cx="8280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到校时间：</a:t>
            </a:r>
            <a:r>
              <a:rPr b="1" lang="en-US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7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：</a:t>
            </a:r>
            <a:r>
              <a:rPr b="1" lang="en-US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40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以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离校时间：</a:t>
            </a:r>
            <a:r>
              <a:rPr b="1" lang="en-US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：</a:t>
            </a:r>
            <a:r>
              <a:rPr b="1" lang="en-US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放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指定位置准时接送，做好礼貌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4"/>
          <p:cNvSpPr/>
          <p:nvPr/>
        </p:nvSpPr>
        <p:spPr>
          <a:xfrm>
            <a:off x="250920" y="2133720"/>
            <a:ext cx="3744720" cy="4319640"/>
          </a:xfrm>
          <a:custGeom>
            <a:avLst/>
            <a:gdLst>
              <a:gd name="textAreaLeft" fmla="*/ 182520 w 3744720"/>
              <a:gd name="textAreaRight" fmla="*/ 3562200 w 3744720"/>
              <a:gd name="textAreaTop" fmla="*/ 182520 h 4319640"/>
              <a:gd name="textAreaBottom" fmla="*/ 4137120 h 4319640"/>
            </a:gdLst>
            <a:ahLst/>
            <a:rect l="textAreaLeft" t="textAreaTop" r="textAreaRight" b="textAreaBottom"/>
            <a:pathLst>
              <a:path w="21600" h="24916">
                <a:moveTo>
                  <a:pt x="3600" y="0"/>
                </a:moveTo>
                <a:arcTo wR="3600" hR="3600" stAng="16200000" swAng="-5400000"/>
                <a:lnTo>
                  <a:pt x="0" y="21316"/>
                </a:lnTo>
                <a:arcTo wR="3600" hR="3600" stAng="10800000" swAng="-5400000"/>
                <a:lnTo>
                  <a:pt x="18000" y="249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一、班级生活的常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1125000"/>
            <a:ext cx="3959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2421000"/>
            <a:ext cx="3961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包纸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根跳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本课外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天所需的课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有学习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个保温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4140360" y="836640"/>
            <a:ext cx="5003640" cy="6021360"/>
            <a:chOff x="4140360" y="836640"/>
            <a:chExt cx="5003640" cy="6021360"/>
          </a:xfrm>
        </p:grpSpPr>
        <p:sp>
          <p:nvSpPr>
            <p:cNvPr id="53" name="圆角矩形 5"/>
            <p:cNvSpPr/>
            <p:nvPr/>
          </p:nvSpPr>
          <p:spPr>
            <a:xfrm>
              <a:off x="4140360" y="1313280"/>
              <a:ext cx="4715640" cy="5544720"/>
            </a:xfrm>
            <a:custGeom>
              <a:avLst/>
              <a:gdLst>
                <a:gd name="textAreaLeft" fmla="*/ 230040 w 4715640"/>
                <a:gd name="textAreaRight" fmla="*/ 4485600 w 4715640"/>
                <a:gd name="textAreaTop" fmla="*/ 230040 h 5544720"/>
                <a:gd name="textAreaBottom" fmla="*/ 5314680 h 5544720"/>
              </a:gdLst>
              <a:ahLst/>
              <a:rect l="textAreaLeft" t="textAreaTop" r="textAreaRight" b="textAreaBottom"/>
              <a:pathLst>
                <a:path w="21600" h="25397">
                  <a:moveTo>
                    <a:pt x="3600" y="0"/>
                  </a:moveTo>
                  <a:arcTo wR="3600" hR="3600" stAng="16200000" swAng="-5400000"/>
                  <a:lnTo>
                    <a:pt x="0" y="21797"/>
                  </a:lnTo>
                  <a:arcTo wR="3600" hR="3600" stAng="10800000" swAng="-5400000"/>
                  <a:lnTo>
                    <a:pt x="18000" y="25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4212360" y="1779480"/>
              <a:ext cx="4715640" cy="30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8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支削尖的铅笔，套上笔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一块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B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美术橡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一把简单的直尺，可画波浪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两块软垫板，一大一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两个拉链透明文件袋，一大一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内容占位符 2"/>
            <p:cNvSpPr/>
            <p:nvPr/>
          </p:nvSpPr>
          <p:spPr>
            <a:xfrm>
              <a:off x="5183640" y="836640"/>
              <a:ext cx="3960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学习用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二、语文学习的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640" y="1557360"/>
            <a:ext cx="52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年级上学期学习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6"/>
          <p:cNvGrpSpPr/>
          <p:nvPr/>
        </p:nvGrpSpPr>
        <p:grpSpPr>
          <a:xfrm>
            <a:off x="1835280" y="2708280"/>
            <a:ext cx="2952720" cy="2469960"/>
            <a:chOff x="1835280" y="2708280"/>
            <a:chExt cx="2952720" cy="2469960"/>
          </a:xfrm>
        </p:grpSpPr>
        <p:sp>
          <p:nvSpPr>
            <p:cNvPr id="59" name="圆角矩形 5"/>
            <p:cNvSpPr/>
            <p:nvPr/>
          </p:nvSpPr>
          <p:spPr>
            <a:xfrm>
              <a:off x="1835280" y="2708280"/>
              <a:ext cx="2952720" cy="2449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2051280" y="2708280"/>
              <a:ext cx="259272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识字写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课外阅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9"/>
          <p:cNvGrpSpPr/>
          <p:nvPr/>
        </p:nvGrpSpPr>
        <p:grpSpPr>
          <a:xfrm>
            <a:off x="6003360" y="981000"/>
            <a:ext cx="1593000" cy="6497640"/>
            <a:chOff x="6003360" y="981000"/>
            <a:chExt cx="1593000" cy="6497640"/>
          </a:xfrm>
        </p:grpSpPr>
        <p:sp>
          <p:nvSpPr>
            <p:cNvPr id="62" name="圆角矩形 8"/>
            <p:cNvSpPr/>
            <p:nvPr/>
          </p:nvSpPr>
          <p:spPr>
            <a:xfrm>
              <a:off x="6588000" y="981000"/>
              <a:ext cx="1008360" cy="5400360"/>
            </a:xfrm>
            <a:custGeom>
              <a:avLst/>
              <a:gdLst>
                <a:gd name="textAreaLeft" fmla="*/ 48960 w 1008360"/>
                <a:gd name="textAreaRight" fmla="*/ 959400 w 1008360"/>
                <a:gd name="textAreaTop" fmla="*/ 48960 h 5400360"/>
                <a:gd name="textAreaBottom" fmla="*/ 5351400 h 5400360"/>
              </a:gdLst>
              <a:ahLst/>
              <a:rect l="textAreaLeft" t="textAreaTop" r="textAreaRight" b="textAreaBottom"/>
              <a:pathLst>
                <a:path w="21600" h="115647">
                  <a:moveTo>
                    <a:pt x="3600" y="0"/>
                  </a:moveTo>
                  <a:arcTo wR="3600" hR="3600" stAng="16200000" swAng="-5400000"/>
                  <a:lnTo>
                    <a:pt x="0" y="112047"/>
                  </a:lnTo>
                  <a:arcTo wR="3600" hR="3600" stAng="10800000" swAng="-5400000"/>
                  <a:lnTo>
                    <a:pt x="18000" y="1156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6003360" y="1197000"/>
              <a:ext cx="1521000" cy="62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养成良好的学习习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1197000"/>
            <a:ext cx="52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黑体"/>
                <a:ea typeface="黑体"/>
              </a:rPr>
              <a:t>识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6"/>
          <p:cNvGrpSpPr/>
          <p:nvPr/>
        </p:nvGrpSpPr>
        <p:grpSpPr>
          <a:xfrm>
            <a:off x="1042920" y="2492280"/>
            <a:ext cx="6948720" cy="3600720"/>
            <a:chOff x="1042920" y="2492280"/>
            <a:chExt cx="6948720" cy="3600720"/>
          </a:xfrm>
        </p:grpSpPr>
        <p:sp>
          <p:nvSpPr>
            <p:cNvPr id="66" name="圆角矩形 5"/>
            <p:cNvSpPr/>
            <p:nvPr/>
          </p:nvSpPr>
          <p:spPr>
            <a:xfrm>
              <a:off x="1042920" y="2492280"/>
              <a:ext cx="6948720" cy="360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1402920" y="2708280"/>
              <a:ext cx="575424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内：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用好生字卡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学一点认一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外：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中识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课外阅读识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71640" y="692280"/>
            <a:ext cx="52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黑体"/>
                <a:ea typeface="黑体"/>
              </a:rPr>
              <a:t>写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6"/>
          <p:cNvGrpSpPr/>
          <p:nvPr/>
        </p:nvGrpSpPr>
        <p:grpSpPr>
          <a:xfrm>
            <a:off x="539640" y="2276640"/>
            <a:ext cx="8353440" cy="4377240"/>
            <a:chOff x="539640" y="2276640"/>
            <a:chExt cx="8353440" cy="4377240"/>
          </a:xfrm>
        </p:grpSpPr>
        <p:sp>
          <p:nvSpPr>
            <p:cNvPr id="71" name="圆角矩形 5"/>
            <p:cNvSpPr/>
            <p:nvPr/>
          </p:nvSpPr>
          <p:spPr>
            <a:xfrm>
              <a:off x="539640" y="2276640"/>
              <a:ext cx="8209440" cy="374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5"/>
            <p:cNvSpPr/>
            <p:nvPr/>
          </p:nvSpPr>
          <p:spPr>
            <a:xfrm>
              <a:off x="959400" y="2492640"/>
              <a:ext cx="7933680" cy="41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重视写字姿势、握笔</a:t>
              </a:r>
              <a:r>
                <a:rPr b="0" lang="zh-CN" sz="4000" spc="-1" strike="noStrike" u="sng">
                  <a:solidFill>
                    <a:srgbClr val="009999"/>
                  </a:solidFill>
                  <a:uFillTx/>
                  <a:latin typeface="黑体"/>
                  <a:ea typeface="黑体"/>
                  <a:hlinkClick r:id="rId1" action="ppaction://hlinksldjump"/>
                </a:rPr>
                <a:t>姿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学会观察汉字（读帖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提笔即练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勤练多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>
            <a:hlinkClick r:id="rId2" action="ppaction://hlinksldjump"/>
          </p:cNvPr>
          <p:cNvSpPr/>
          <p:nvPr/>
        </p:nvSpPr>
        <p:spPr>
          <a:xfrm>
            <a:off x="611280" y="6308640"/>
            <a:ext cx="792000" cy="549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3"/>
          <p:cNvSpPr/>
          <p:nvPr/>
        </p:nvSpPr>
        <p:spPr>
          <a:xfrm>
            <a:off x="-36360" y="2205000"/>
            <a:ext cx="3528720" cy="3745080"/>
          </a:xfrm>
          <a:custGeom>
            <a:avLst/>
            <a:gdLst>
              <a:gd name="textAreaLeft" fmla="*/ 172080 w 3528720"/>
              <a:gd name="textAreaRight" fmla="*/ 3356640 w 3528720"/>
              <a:gd name="textAreaTop" fmla="*/ 172080 h 3745080"/>
              <a:gd name="textAreaBottom" fmla="*/ 3573000 h 3745080"/>
            </a:gdLst>
            <a:ahLst/>
            <a:rect l="textAreaLeft" t="textAreaTop" r="textAreaRight" b="textAreaBottom"/>
            <a:pathLst>
              <a:path w="21600" h="22924">
                <a:moveTo>
                  <a:pt x="3600" y="0"/>
                </a:moveTo>
                <a:arcTo wR="3600" hR="3600" stAng="16200000" swAng="-5400000"/>
                <a:lnTo>
                  <a:pt x="0" y="19324"/>
                </a:lnTo>
                <a:arcTo wR="3600" hR="3600" stAng="10800000" swAng="-5400000"/>
                <a:lnTo>
                  <a:pt x="18000" y="22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6e6e6"/>
                </a:solidFill>
                <a:latin typeface="黑体"/>
                <a:ea typeface="黑体"/>
              </a:rPr>
              <a:t>握笔姿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" y="2276280"/>
            <a:ext cx="339552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指拇指捏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指四指托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指在后藏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笔尖向前斜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笔杆向后躺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4" descr="mmexport1505789938365.jpg"/>
          <p:cNvPicPr/>
          <p:nvPr/>
        </p:nvPicPr>
        <p:blipFill>
          <a:blip r:embed="rId1"/>
          <a:stretch/>
        </p:blipFill>
        <p:spPr>
          <a:xfrm>
            <a:off x="5578560" y="1932120"/>
            <a:ext cx="3632040" cy="3932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" descr="mmexport1505789946824.jpg"/>
          <p:cNvPicPr/>
          <p:nvPr/>
        </p:nvPicPr>
        <p:blipFill>
          <a:blip r:embed="rId2"/>
          <a:stretch/>
        </p:blipFill>
        <p:spPr>
          <a:xfrm>
            <a:off x="3333600" y="4803840"/>
            <a:ext cx="2970360" cy="31446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" descr="mmexport1505789949206.jpg"/>
          <p:cNvPicPr/>
          <p:nvPr/>
        </p:nvPicPr>
        <p:blipFill>
          <a:blip r:embed="rId3"/>
          <a:stretch/>
        </p:blipFill>
        <p:spPr>
          <a:xfrm>
            <a:off x="6224760" y="4700520"/>
            <a:ext cx="3058920" cy="3267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" descr="mmexport1505789952143.jpg"/>
          <p:cNvPicPr/>
          <p:nvPr/>
        </p:nvPicPr>
        <p:blipFill>
          <a:blip r:embed="rId4"/>
          <a:stretch/>
        </p:blipFill>
        <p:spPr>
          <a:xfrm>
            <a:off x="3121200" y="79200"/>
            <a:ext cx="3547800" cy="3816360"/>
          </a:xfrm>
          <a:prstGeom prst="rect">
            <a:avLst/>
          </a:prstGeom>
          <a:ln w="0">
            <a:noFill/>
          </a:ln>
        </p:spPr>
      </p:pic>
      <p:sp>
        <p:nvSpPr>
          <p:cNvPr id="82" name="椭圆 8">
            <a:hlinkClick r:id="rId5" action="ppaction://hlinksldjump"/>
          </p:cNvPr>
          <p:cNvSpPr/>
          <p:nvPr/>
        </p:nvSpPr>
        <p:spPr>
          <a:xfrm>
            <a:off x="611280" y="6308640"/>
            <a:ext cx="792000" cy="549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99640" y="333360"/>
            <a:ext cx="525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黑体"/>
                <a:ea typeface="黑体"/>
              </a:rPr>
              <a:t>拼音学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6"/>
          <p:cNvGrpSpPr/>
          <p:nvPr/>
        </p:nvGrpSpPr>
        <p:grpSpPr>
          <a:xfrm>
            <a:off x="1347840" y="1844640"/>
            <a:ext cx="7040520" cy="2682720"/>
            <a:chOff x="1347840" y="1844640"/>
            <a:chExt cx="7040520" cy="2682720"/>
          </a:xfrm>
        </p:grpSpPr>
        <p:sp>
          <p:nvSpPr>
            <p:cNvPr id="85" name="圆角矩形 5"/>
            <p:cNvSpPr/>
            <p:nvPr/>
          </p:nvSpPr>
          <p:spPr>
            <a:xfrm>
              <a:off x="1546920" y="1844640"/>
              <a:ext cx="6769440" cy="122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"/>
            <p:cNvSpPr/>
            <p:nvPr/>
          </p:nvSpPr>
          <p:spPr>
            <a:xfrm>
              <a:off x="1347840" y="2057400"/>
              <a:ext cx="704052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把正确发音的事留给老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9"/>
          <p:cNvGrpSpPr/>
          <p:nvPr/>
        </p:nvGrpSpPr>
        <p:grpSpPr>
          <a:xfrm>
            <a:off x="539640" y="3500280"/>
            <a:ext cx="8353440" cy="2819880"/>
            <a:chOff x="539640" y="3500280"/>
            <a:chExt cx="8353440" cy="2819880"/>
          </a:xfrm>
        </p:grpSpPr>
        <p:sp>
          <p:nvSpPr>
            <p:cNvPr id="88" name="圆角矩形 7"/>
            <p:cNvSpPr/>
            <p:nvPr/>
          </p:nvSpPr>
          <p:spPr>
            <a:xfrm>
              <a:off x="539640" y="3500280"/>
              <a:ext cx="8353440" cy="266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6"/>
            <p:cNvSpPr/>
            <p:nvPr/>
          </p:nvSpPr>
          <p:spPr>
            <a:xfrm>
              <a:off x="1776960" y="3788280"/>
              <a:ext cx="6093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家长：天天陪伴</a:t>
              </a: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—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习课堂知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习视频</a:t>
              </a: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—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会正确发音</a:t>
              </a: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极鼓励</a:t>
              </a: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—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声朗读拼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圆角矩形 3"/>
          <p:cNvSpPr/>
          <p:nvPr/>
        </p:nvSpPr>
        <p:spPr>
          <a:xfrm>
            <a:off x="468360" y="1484280"/>
            <a:ext cx="8351640" cy="41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280" y="185688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ffc000"/>
                </a:solidFill>
                <a:latin typeface="楷体"/>
                <a:ea typeface="楷体"/>
              </a:rPr>
              <a:t>一位德国阅读专家曾经讲过：一个孩子在</a:t>
            </a:r>
            <a:r>
              <a:rPr b="0" lang="zh-CN" sz="4400" spc="-1" strike="noStrike">
                <a:solidFill>
                  <a:srgbClr val="ffc000"/>
                </a:solidFill>
                <a:latin typeface="楷体"/>
                <a:ea typeface="楷体"/>
              </a:rPr>
              <a:t>13</a:t>
            </a:r>
            <a:r>
              <a:rPr b="0" lang="zh-CN" sz="4400" spc="-1" strike="noStrike">
                <a:solidFill>
                  <a:srgbClr val="ffc000"/>
                </a:solidFill>
                <a:latin typeface="楷体"/>
                <a:ea typeface="楷体"/>
              </a:rPr>
              <a:t>岁之前，如果还不能体会到阅读的快乐，那他一辈子就再也无法体会到阅读的快乐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-214200" y="35712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培养阅读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4:22:24Z</dcterms:created>
  <dc:creator>user</dc:creator>
  <dc:description/>
  <dc:language>en-US</dc:language>
  <cp:lastModifiedBy>Administrator</cp:lastModifiedBy>
  <dcterms:modified xsi:type="dcterms:W3CDTF">2017-09-19T05:37:14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