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411d"/>
                </a:solidFill>
                <a:latin typeface="Arial Black"/>
              </a:rPr>
              <a:t>Click to move the slide</a:t>
            </a: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C64-B8CD-461F-9254-00E5CFB5EB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CAC3-6540-4B72-8CEC-FF0105AC609C}" type="slidenum">
              <a:rPr b="0" lang="zh-CN" sz="1200" spc="-1" strike="noStrike">
                <a:solidFill>
                  <a:srgbClr val="4b4d4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F89-3B04-4801-BE83-D8658A0B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6D3-D835-4CC1-8F87-63D8DC2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38B0-8818-4C97-9E01-BD2417C8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39CA-0DF9-4A5F-8259-A7FD417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26A5-F47E-49E6-8CAA-56F4A448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8DC6-ABF5-49DA-B9D7-12AC758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9754-DB58-4D17-8FE7-8C4160D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55C1A-D5F0-46C9-9A75-1F6EA83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AC90-FBCE-4B07-9CC2-37569F5E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3DCB-3C81-42BC-AB8A-4936B607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CD38-8D61-4384-93ED-D4B08422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8138-FBF2-44AD-AEEF-846DE729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D1F-24D0-4C48-9DB1-0A9F12CA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2AB4-64B7-4F95-9008-8B95353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E844-947A-453A-9262-21FEED4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E12F-9BC5-46BF-A64E-EB48DB1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A027-4511-41B8-ACF6-17A76F62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C6CE-89ED-46D4-BF29-2287F73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674B0-0D75-48D1-960F-0824EDE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E45D-044F-4D7F-86A6-C1C33A8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46FC0-DCB6-4D48-A58D-60D872D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90F3D-EB9F-40D3-BD66-5AAE86E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2612-D525-431A-BEDD-8AB57A0E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B72-3791-4B37-8607-D5914D0C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7D49-37D1-4ACA-9DF4-4C7EF222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14F4E-43C1-40C7-BC0D-475F10E0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68E0C-57C7-4513-91BB-3D49143C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973C-67DC-4342-8884-AFE8D694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8C55-ED63-42AF-8057-BE4AB33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D8D88-19B2-4E25-9C3B-8FB5FE1C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DAF9-C05B-4329-9A78-064D7F46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88DDD-2448-4645-B479-7F5AE24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19FFC-F144-499C-99EF-CB6D876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20045-0A9F-485D-B0D5-94C1E63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0FE1F-8179-411F-B6E8-2DB92E4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7CB88-BA3D-4781-B806-B3C136BD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65374-8DFB-4D1D-AB30-3EBAF10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BD1B1-7DD7-4DC3-871A-1092FAAB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C14C-59A1-4162-A634-62F8CAAC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A10A4-F121-4050-B76F-34873D6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EF1DC-D94B-4406-8356-6A557857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4BEFC-ED82-48BB-9C8D-520B9BCD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15D1A-20D6-496F-915A-F7B0D32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0480E-A827-49F6-8ED2-C33A166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AC1E-B4A9-407C-A733-1C90A04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EE065-FBD5-4A29-8A45-4E83BC7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62A88-F5FE-46D3-8706-7272C43B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BC96-921C-4F8F-8846-4E163FFF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F3C86-83D5-4C52-B255-08A86E0E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E36-26BD-4BBF-BCE0-784CD21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307D-7EB3-4937-85B9-5D65EA9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7CD-5954-41C8-9AAE-2CD5BEC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097-294E-4ABF-AFCD-E8475C75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18A-14AD-4CF5-B539-4127A12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3E8-57A2-431A-9AB7-EB82771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096-C37C-4297-ABA3-A386A173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F6E-8656-40C8-9167-68B431B3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ACD-12E4-4C03-872F-6006079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AEF-CADF-4861-B457-181EDF1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F480-5666-41D0-B801-3CE8A4F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A28E-3CB0-4712-915D-C853661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36A-A585-4991-9D23-13F2216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E063-6142-4FA9-BEDB-9F1BD8CC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9A2-D1FF-47DB-8B37-13BC099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62B4-EB6C-48CE-B774-CCB4AD6D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DC8-D03F-4700-B8DB-F78B3580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553F-F590-4B4D-9050-92C1F63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60B1-B572-447A-85FD-61CEFD6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13EF-545A-40B4-8ED1-7EA418F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F89E-2FCE-4FD5-850C-4A73308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227F-48F7-47E5-AEDB-EE88F87A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23A8-27FE-41F9-80BD-2FD0EFC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71FA-DF1D-4A3F-A918-07ACD3B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3F9E-8685-4B9B-BAB9-68234A8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B5E7B-9C89-43A5-BBD7-92A6254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959C-B56F-429F-80CC-36B4F6A1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163-D9EA-4415-B74A-27B845A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EAA0-F85D-4976-B667-72EB0B32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2E15-1B9E-49F8-8E9F-02862E64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DCD0-844B-4619-9F95-A96F133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2C0C-A29A-47DE-9EF9-ADE65D3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C880-1672-4473-B3CC-3225759D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9730-153E-4A85-BA59-48C1237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0BB7-4619-4E24-9EA2-DD09908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787F-B379-41BE-8106-9605C302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3841-6AE3-404F-8F83-BF83774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3951-0DB5-4CBE-BCCA-A936894D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CAD-1504-41B8-BBD7-28965FC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B81F-E691-4A44-BEDA-691B179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715E-4CED-4454-83F1-9E5CCC31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F0334-A346-49F5-9008-3BA8E29D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BD9F-C4A2-4A2E-BFA7-73B158CD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8479-B90C-41A2-B224-94AEEC21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FC65-607C-4AE3-939A-F651575A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DEDC-230A-4520-BF26-AAFCC6B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71693-736C-4363-9604-A49E43E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2500-061D-47F0-9D56-38F774A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437E-A992-4D90-8B31-20990CD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AC4-4B9C-4AB8-917F-C4BCB5E9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FEA1-3D33-4F8C-8688-2D89CD0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8B3E-8541-4ECA-967A-D6096B9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3128-F357-473F-8FD6-F6A8632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2EFFD-8ADD-491D-83A7-B486CB4C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EC2D-233E-4B09-82E9-5EC2996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8800-3E91-4F3A-BD40-48746072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79FEF-29A9-409C-AD25-72C26723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DBB2-8C3D-4B3D-84FC-45531B1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1F71-7CD2-4ACB-B811-1095958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95F2-D1EE-4CC5-BDB9-608900E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8EB-3FB4-4E01-89E0-3A248D0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A137-84CF-4BA3-AB57-901A44C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E754-2C74-4132-B735-6302798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449E-4FE2-4A12-A39B-6D30E106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0403C-B043-4320-80B3-645E8FC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FB1F1-F0F9-4E20-97F4-C55514DF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73F8-4D93-4975-9129-4C5281B2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72E46-DF9E-42E4-8E5A-1599F569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E971E-643D-4E58-B19F-6BE07212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9760-F354-4451-B4E1-4EA1464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8E551-CDA9-4757-86AD-861609AC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9C46-0B3F-48DD-814F-16C00FEE52C9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372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2B3C-11BB-4DF9-82B0-4B5E2F4B95C8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414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436-FBB9-4BE2-8357-BB2AB88C6B0B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456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C36-F523-4DD2-BA49-85EBAFFD021E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42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9" descr="录取通知书正面.jpg"/>
          <p:cNvPicPr/>
          <p:nvPr/>
        </p:nvPicPr>
        <p:blipFill>
          <a:blip r:embed="rId2"/>
          <a:stretch/>
        </p:blipFill>
        <p:spPr>
          <a:xfrm>
            <a:off x="0" y="2932200"/>
            <a:ext cx="914400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986-436D-48FF-9188-9A350350D126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411d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ac411d"/>
              </a:solidFill>
              <a:latin typeface="Arial Blac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c411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ac411d"/>
              </a:solidFill>
              <a:latin typeface="Arial"/>
            </a:endParaRPr>
          </a:p>
          <a:p>
            <a:pPr lvl="1" marL="357120" indent="-357120" algn="just">
              <a:lnSpc>
                <a:spcPct val="130000"/>
              </a:lnSpc>
              <a:spcAft>
                <a:spcPts val="601"/>
              </a:spcAft>
              <a:buClr>
                <a:srgbClr val="f2c3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4b4d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d4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123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162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F2E-6060-45D4-929C-C1821BF12972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204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F9B-A5BC-497B-BA60-0AD7E0E69391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246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2B4F-DE97-470A-A38E-528C4076DA52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288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E50B-3DC0-4C40-9CAA-337C78A72EA8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330" name="图片 10" descr="学校LOGO_看图王.png"/>
          <p:cNvPicPr/>
          <p:nvPr/>
        </p:nvPicPr>
        <p:blipFill>
          <a:blip r:embed="rId3"/>
          <a:stretch/>
        </p:blipFill>
        <p:spPr>
          <a:xfrm>
            <a:off x="6000840" y="0"/>
            <a:ext cx="2643120" cy="5716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9" descr="录取通知书正面.jpg"/>
          <p:cNvPicPr/>
          <p:nvPr/>
        </p:nvPicPr>
        <p:blipFill>
          <a:blip r:embed="rId4"/>
          <a:stretch/>
        </p:blipFill>
        <p:spPr>
          <a:xfrm>
            <a:off x="0" y="2517840"/>
            <a:ext cx="9144000" cy="3016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414-E180-4834-B685-7C52960AA5CB}" type="slidenum">
              <a:rPr b="0" lang="en-US" sz="12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椭圆 9"/>
          <p:cNvSpPr/>
          <p:nvPr/>
        </p:nvSpPr>
        <p:spPr>
          <a:xfrm>
            <a:off x="657360" y="1492200"/>
            <a:ext cx="2808000" cy="2808360"/>
          </a:xfrm>
          <a:prstGeom prst="ellipse">
            <a:avLst/>
          </a:prstGeom>
          <a:solidFill>
            <a:srgbClr val="c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505" name="椭圆 10"/>
          <p:cNvSpPr/>
          <p:nvPr/>
        </p:nvSpPr>
        <p:spPr>
          <a:xfrm>
            <a:off x="631800" y="3600360"/>
            <a:ext cx="3219480" cy="3219480"/>
          </a:xfrm>
          <a:prstGeom prst="ellipse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506" name="椭圆 11"/>
          <p:cNvSpPr/>
          <p:nvPr/>
        </p:nvSpPr>
        <p:spPr>
          <a:xfrm>
            <a:off x="-979560" y="4051440"/>
            <a:ext cx="2124000" cy="2124000"/>
          </a:xfrm>
          <a:prstGeom prst="ellipse">
            <a:avLst/>
          </a:prstGeom>
          <a:solidFill>
            <a:srgbClr val="c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507" name="椭圆 12"/>
          <p:cNvSpPr/>
          <p:nvPr/>
        </p:nvSpPr>
        <p:spPr>
          <a:xfrm>
            <a:off x="-3645000" y="-185760"/>
            <a:ext cx="5329440" cy="5329440"/>
          </a:xfrm>
          <a:prstGeom prst="ellipse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096440" y="919080"/>
            <a:ext cx="359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4b4d4f"/>
                </a:solidFill>
                <a:latin typeface="方正苏新诗柳楷简体-yolan"/>
                <a:ea typeface="方正苏新诗柳楷简体-yolan"/>
              </a:rPr>
              <a:t>基本不等式的应用</a:t>
            </a:r>
            <a:endParaRPr b="0" lang="en-US" sz="56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6" descr="双勾函数.jpg"/>
          <p:cNvPicPr/>
          <p:nvPr/>
        </p:nvPicPr>
        <p:blipFill>
          <a:blip r:embed="rId1"/>
          <a:stretch/>
        </p:blipFill>
        <p:spPr>
          <a:xfrm>
            <a:off x="5680080" y="700200"/>
            <a:ext cx="3355920" cy="3166920"/>
          </a:xfrm>
          <a:prstGeom prst="rect">
            <a:avLst/>
          </a:prstGeom>
          <a:ln w="0">
            <a:noFill/>
          </a:ln>
        </p:spPr>
      </p:pic>
      <p:pic>
        <p:nvPicPr>
          <p:cNvPr id="510" name="组合 5" descr=""/>
          <p:cNvPicPr/>
          <p:nvPr/>
        </p:nvPicPr>
        <p:blipFill>
          <a:blip r:embed="rId2"/>
          <a:stretch/>
        </p:blipFill>
        <p:spPr>
          <a:xfrm>
            <a:off x="281160" y="920880"/>
            <a:ext cx="2869920" cy="944280"/>
          </a:xfrm>
          <a:prstGeom prst="rect">
            <a:avLst/>
          </a:prstGeom>
          <a:ln w="0">
            <a:noFill/>
          </a:ln>
        </p:spPr>
      </p:pic>
      <p:sp>
        <p:nvSpPr>
          <p:cNvPr id="511" name="矩形 1"/>
          <p:cNvSpPr/>
          <p:nvPr/>
        </p:nvSpPr>
        <p:spPr>
          <a:xfrm>
            <a:off x="930240" y="1071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苏新诗柳楷简体-yolan"/>
                <a:ea typeface="方正苏新诗柳楷简体-yolan"/>
              </a:rPr>
              <a:t>一、基础训练</a:t>
            </a:r>
            <a:endParaRPr b="0" lang="en-US" sz="3200" spc="-1" strike="noStrike">
              <a:solidFill>
                <a:srgbClr val="4b4d4f"/>
              </a:solidFill>
              <a:latin typeface="Calibri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890640" y="1887480"/>
          <a:ext cx="604512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1887480"/>
                    <a:ext cx="6045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组合 10" descr=""/>
          <p:cNvPicPr/>
          <p:nvPr/>
        </p:nvPicPr>
        <p:blipFill>
          <a:blip r:embed="rId1"/>
          <a:stretch/>
        </p:blipFill>
        <p:spPr>
          <a:xfrm>
            <a:off x="281160" y="920880"/>
            <a:ext cx="2869920" cy="944280"/>
          </a:xfrm>
          <a:prstGeom prst="rect">
            <a:avLst/>
          </a:prstGeom>
          <a:ln w="0">
            <a:noFill/>
          </a:ln>
        </p:spPr>
      </p:pic>
      <p:sp>
        <p:nvSpPr>
          <p:cNvPr id="515" name="矩形 1"/>
          <p:cNvSpPr/>
          <p:nvPr/>
        </p:nvSpPr>
        <p:spPr>
          <a:xfrm>
            <a:off x="1565280" y="1071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苏新诗柳楷简体-yolan"/>
                <a:ea typeface="方正苏新诗柳楷简体-yolan"/>
              </a:rPr>
              <a:t>二、例题分析</a:t>
            </a:r>
            <a:endParaRPr b="0" lang="en-US" sz="3200" spc="-1" strike="noStrike">
              <a:solidFill>
                <a:srgbClr val="4b4d4f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714240" y="2000160"/>
          <a:ext cx="6081840" cy="84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00160"/>
                    <a:ext cx="60818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7"/>
          <p:cNvGraphicFramePr/>
          <p:nvPr/>
        </p:nvGraphicFramePr>
        <p:xfrm>
          <a:off x="785880" y="3571920"/>
          <a:ext cx="67658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5880" y="3571920"/>
                    <a:ext cx="6765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714240" y="1285920"/>
          <a:ext cx="699624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85920"/>
                    <a:ext cx="69962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3"/>
          <p:cNvGraphicFramePr/>
          <p:nvPr/>
        </p:nvGraphicFramePr>
        <p:xfrm>
          <a:off x="782640" y="2773440"/>
          <a:ext cx="674676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773440"/>
                    <a:ext cx="67467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Object 2"/>
          <p:cNvGraphicFramePr/>
          <p:nvPr/>
        </p:nvGraphicFramePr>
        <p:xfrm>
          <a:off x="808200" y="1317600"/>
          <a:ext cx="608004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317600"/>
                    <a:ext cx="608004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3"/>
          <p:cNvGraphicFramePr/>
          <p:nvPr/>
        </p:nvGraphicFramePr>
        <p:xfrm>
          <a:off x="836640" y="2892600"/>
          <a:ext cx="6094440" cy="79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2892600"/>
                    <a:ext cx="609444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712800" y="784080"/>
          <a:ext cx="741060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784080"/>
                    <a:ext cx="74106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781200" y="3205080"/>
          <a:ext cx="714204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3205080"/>
                    <a:ext cx="71420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Object 9"/>
          <p:cNvGraphicFramePr/>
          <p:nvPr/>
        </p:nvGraphicFramePr>
        <p:xfrm>
          <a:off x="712800" y="1496880"/>
          <a:ext cx="605628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496880"/>
                    <a:ext cx="60562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0"/>
          <p:cNvGraphicFramePr/>
          <p:nvPr/>
        </p:nvGraphicFramePr>
        <p:xfrm>
          <a:off x="757080" y="2836800"/>
          <a:ext cx="691704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836800"/>
                    <a:ext cx="691704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组合 3" descr=""/>
          <p:cNvPicPr/>
          <p:nvPr/>
        </p:nvPicPr>
        <p:blipFill>
          <a:blip r:embed="rId1"/>
          <a:stretch/>
        </p:blipFill>
        <p:spPr>
          <a:xfrm>
            <a:off x="281160" y="920880"/>
            <a:ext cx="2869920" cy="94428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1565280" y="1071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苏新诗柳楷简体-yolan"/>
                <a:ea typeface="方正苏新诗柳楷简体-yolan"/>
              </a:rPr>
              <a:t>三、练习反馈</a:t>
            </a:r>
            <a:endParaRPr b="0" lang="en-US" sz="3200" spc="-1" strike="noStrike">
              <a:solidFill>
                <a:srgbClr val="4b4d4f"/>
              </a:solidFill>
              <a:latin typeface="Calibri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1062000" y="1835280"/>
          <a:ext cx="5288040" cy="31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835280"/>
                    <a:ext cx="52880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4"/>
          <p:cNvSpPr/>
          <p:nvPr/>
        </p:nvSpPr>
        <p:spPr>
          <a:xfrm>
            <a:off x="2000160" y="1982880"/>
            <a:ext cx="628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汉仪超粗宋简"/>
                <a:ea typeface="汉仪超粗宋简"/>
              </a:rPr>
              <a:t>欢迎批评指正</a:t>
            </a:r>
            <a:r>
              <a:rPr b="0" lang="en-US" sz="6600" spc="-1" strike="noStrike">
                <a:solidFill>
                  <a:srgbClr val="ffffff"/>
                </a:solidFill>
                <a:latin typeface="汉仪超粗宋简"/>
                <a:ea typeface="汉仪超粗宋简"/>
              </a:rPr>
              <a:t>!</a:t>
            </a:r>
            <a:endParaRPr b="0" lang="en-US" sz="6600" spc="-1" strike="noStrike">
              <a:solidFill>
                <a:srgbClr val="4b4d4f"/>
              </a:solidFill>
              <a:latin typeface="Calibri"/>
            </a:endParaRPr>
          </a:p>
        </p:txBody>
      </p:sp>
      <p:pic>
        <p:nvPicPr>
          <p:cNvPr id="541" name="图片 5" descr="564A0387.JPG"/>
          <p:cNvPicPr/>
          <p:nvPr/>
        </p:nvPicPr>
        <p:blipFill>
          <a:blip r:embed="rId1"/>
          <a:srcRect l="0" t="0" r="20781" b="22080"/>
          <a:stretch/>
        </p:blipFill>
        <p:spPr>
          <a:xfrm>
            <a:off x="0" y="750960"/>
            <a:ext cx="9369360" cy="460692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6"/>
          <p:cNvGrpSpPr/>
          <p:nvPr/>
        </p:nvGrpSpPr>
        <p:grpSpPr>
          <a:xfrm>
            <a:off x="0" y="0"/>
            <a:ext cx="9144000" cy="5361120"/>
            <a:chOff x="0" y="0"/>
            <a:chExt cx="9144000" cy="5361120"/>
          </a:xfrm>
        </p:grpSpPr>
        <p:sp>
          <p:nvSpPr>
            <p:cNvPr id="543" name="Freeform 6"/>
            <p:cNvSpPr/>
            <p:nvPr/>
          </p:nvSpPr>
          <p:spPr>
            <a:xfrm>
              <a:off x="0" y="4429440"/>
              <a:ext cx="9144000" cy="742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5699" h="581">
                  <a:moveTo>
                    <a:pt x="5699" y="0"/>
                  </a:moveTo>
                  <a:lnTo>
                    <a:pt x="5699" y="141"/>
                  </a:lnTo>
                  <a:lnTo>
                    <a:pt x="5473" y="202"/>
                  </a:lnTo>
                  <a:lnTo>
                    <a:pt x="5238" y="258"/>
                  </a:lnTo>
                  <a:lnTo>
                    <a:pt x="4996" y="310"/>
                  </a:lnTo>
                  <a:lnTo>
                    <a:pt x="4745" y="357"/>
                  </a:lnTo>
                  <a:lnTo>
                    <a:pt x="4485" y="399"/>
                  </a:lnTo>
                  <a:lnTo>
                    <a:pt x="4217" y="437"/>
                  </a:lnTo>
                  <a:lnTo>
                    <a:pt x="3942" y="470"/>
                  </a:lnTo>
                  <a:lnTo>
                    <a:pt x="3658" y="500"/>
                  </a:lnTo>
                  <a:lnTo>
                    <a:pt x="3368" y="524"/>
                  </a:lnTo>
                  <a:lnTo>
                    <a:pt x="3068" y="545"/>
                  </a:lnTo>
                  <a:lnTo>
                    <a:pt x="2760" y="561"/>
                  </a:lnTo>
                  <a:lnTo>
                    <a:pt x="2443" y="571"/>
                  </a:lnTo>
                  <a:lnTo>
                    <a:pt x="2119" y="578"/>
                  </a:lnTo>
                  <a:lnTo>
                    <a:pt x="1787" y="581"/>
                  </a:lnTo>
                  <a:lnTo>
                    <a:pt x="1445" y="580"/>
                  </a:lnTo>
                  <a:lnTo>
                    <a:pt x="1095" y="573"/>
                  </a:lnTo>
                  <a:lnTo>
                    <a:pt x="738" y="561"/>
                  </a:lnTo>
                  <a:lnTo>
                    <a:pt x="375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394" y="515"/>
                  </a:lnTo>
                  <a:lnTo>
                    <a:pt x="779" y="524"/>
                  </a:lnTo>
                  <a:lnTo>
                    <a:pt x="1155" y="527"/>
                  </a:lnTo>
                  <a:lnTo>
                    <a:pt x="1522" y="526"/>
                  </a:lnTo>
                  <a:lnTo>
                    <a:pt x="1879" y="519"/>
                  </a:lnTo>
                  <a:lnTo>
                    <a:pt x="2227" y="507"/>
                  </a:lnTo>
                  <a:lnTo>
                    <a:pt x="2567" y="491"/>
                  </a:lnTo>
                  <a:lnTo>
                    <a:pt x="2898" y="470"/>
                  </a:lnTo>
                  <a:lnTo>
                    <a:pt x="3218" y="446"/>
                  </a:lnTo>
                  <a:lnTo>
                    <a:pt x="3530" y="414"/>
                  </a:lnTo>
                  <a:lnTo>
                    <a:pt x="3832" y="380"/>
                  </a:lnTo>
                  <a:lnTo>
                    <a:pt x="4127" y="339"/>
                  </a:lnTo>
                  <a:lnTo>
                    <a:pt x="4412" y="294"/>
                  </a:lnTo>
                  <a:lnTo>
                    <a:pt x="4687" y="245"/>
                  </a:lnTo>
                  <a:lnTo>
                    <a:pt x="4954" y="192"/>
                  </a:lnTo>
                  <a:lnTo>
                    <a:pt x="5211" y="132"/>
                  </a:lnTo>
                  <a:lnTo>
                    <a:pt x="5459" y="68"/>
                  </a:lnTo>
                  <a:lnTo>
                    <a:pt x="569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4b4d4f"/>
                </a:solidFill>
                <a:latin typeface="Calibri"/>
              </a:endParaRPr>
            </a:p>
          </p:txBody>
        </p:sp>
        <p:sp>
          <p:nvSpPr>
            <p:cNvPr id="544" name="Freeform 8"/>
            <p:cNvSpPr/>
            <p:nvPr/>
          </p:nvSpPr>
          <p:spPr>
            <a:xfrm>
              <a:off x="0" y="4739040"/>
              <a:ext cx="9144000" cy="622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699" h="487">
                  <a:moveTo>
                    <a:pt x="5699" y="0"/>
                  </a:moveTo>
                  <a:lnTo>
                    <a:pt x="5699" y="487"/>
                  </a:lnTo>
                  <a:lnTo>
                    <a:pt x="0" y="487"/>
                  </a:lnTo>
                  <a:lnTo>
                    <a:pt x="0" y="360"/>
                  </a:lnTo>
                  <a:lnTo>
                    <a:pt x="375" y="381"/>
                  </a:lnTo>
                  <a:lnTo>
                    <a:pt x="738" y="398"/>
                  </a:lnTo>
                  <a:lnTo>
                    <a:pt x="1095" y="410"/>
                  </a:lnTo>
                  <a:lnTo>
                    <a:pt x="1445" y="419"/>
                  </a:lnTo>
                  <a:lnTo>
                    <a:pt x="1787" y="423"/>
                  </a:lnTo>
                  <a:lnTo>
                    <a:pt x="2119" y="421"/>
                  </a:lnTo>
                  <a:lnTo>
                    <a:pt x="2443" y="416"/>
                  </a:lnTo>
                  <a:lnTo>
                    <a:pt x="2760" y="405"/>
                  </a:lnTo>
                  <a:lnTo>
                    <a:pt x="3068" y="391"/>
                  </a:lnTo>
                  <a:lnTo>
                    <a:pt x="3368" y="372"/>
                  </a:lnTo>
                  <a:lnTo>
                    <a:pt x="3658" y="348"/>
                  </a:lnTo>
                  <a:lnTo>
                    <a:pt x="3942" y="320"/>
                  </a:lnTo>
                  <a:lnTo>
                    <a:pt x="4217" y="289"/>
                  </a:lnTo>
                  <a:lnTo>
                    <a:pt x="4485" y="250"/>
                  </a:lnTo>
                  <a:lnTo>
                    <a:pt x="4745" y="210"/>
                  </a:lnTo>
                  <a:lnTo>
                    <a:pt x="4996" y="163"/>
                  </a:lnTo>
                  <a:lnTo>
                    <a:pt x="5238" y="113"/>
                  </a:lnTo>
                  <a:lnTo>
                    <a:pt x="5473" y="59"/>
                  </a:lnTo>
                  <a:lnTo>
                    <a:pt x="5699" y="0"/>
                  </a:lnTo>
                  <a:close/>
                </a:path>
              </a:pathLst>
            </a:custGeom>
            <a:solidFill>
              <a:srgbClr val="c00000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4b4d4f"/>
                </a:solidFill>
                <a:latin typeface="Calibri"/>
              </a:endParaRPr>
            </a:p>
          </p:txBody>
        </p:sp>
        <p:sp>
          <p:nvSpPr>
            <p:cNvPr id="545" name="Freeform 9"/>
            <p:cNvSpPr/>
            <p:nvPr/>
          </p:nvSpPr>
          <p:spPr>
            <a:xfrm>
              <a:off x="0" y="0"/>
              <a:ext cx="9144000" cy="153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1080"/>
                <a:gd name="textAreaBottom" fmla="*/ 1531440 h 1531080"/>
              </a:gdLst>
              <a:ahLst/>
              <a:rect l="textAreaLeft" t="textAreaTop" r="textAreaRight" b="textAreaBottom"/>
              <a:pathLst>
                <a:path w="5699" h="1198">
                  <a:moveTo>
                    <a:pt x="0" y="0"/>
                  </a:moveTo>
                  <a:lnTo>
                    <a:pt x="5699" y="0"/>
                  </a:lnTo>
                  <a:lnTo>
                    <a:pt x="5699" y="410"/>
                  </a:lnTo>
                  <a:lnTo>
                    <a:pt x="5344" y="399"/>
                  </a:lnTo>
                  <a:lnTo>
                    <a:pt x="4995" y="394"/>
                  </a:lnTo>
                  <a:lnTo>
                    <a:pt x="4656" y="394"/>
                  </a:lnTo>
                  <a:lnTo>
                    <a:pt x="4323" y="399"/>
                  </a:lnTo>
                  <a:lnTo>
                    <a:pt x="3998" y="410"/>
                  </a:lnTo>
                  <a:lnTo>
                    <a:pt x="3679" y="425"/>
                  </a:lnTo>
                  <a:lnTo>
                    <a:pt x="3367" y="446"/>
                  </a:lnTo>
                  <a:lnTo>
                    <a:pt x="3064" y="474"/>
                  </a:lnTo>
                  <a:lnTo>
                    <a:pt x="2768" y="505"/>
                  </a:lnTo>
                  <a:lnTo>
                    <a:pt x="2481" y="542"/>
                  </a:lnTo>
                  <a:lnTo>
                    <a:pt x="2199" y="584"/>
                  </a:lnTo>
                  <a:lnTo>
                    <a:pt x="1926" y="631"/>
                  </a:lnTo>
                  <a:lnTo>
                    <a:pt x="1659" y="683"/>
                  </a:lnTo>
                  <a:lnTo>
                    <a:pt x="1400" y="742"/>
                  </a:lnTo>
                  <a:lnTo>
                    <a:pt x="1147" y="805"/>
                  </a:lnTo>
                  <a:lnTo>
                    <a:pt x="904" y="873"/>
                  </a:lnTo>
                  <a:lnTo>
                    <a:pt x="667" y="946"/>
                  </a:lnTo>
                  <a:lnTo>
                    <a:pt x="437" y="1024"/>
                  </a:lnTo>
                  <a:lnTo>
                    <a:pt x="214" y="1109"/>
                  </a:lnTo>
                  <a:lnTo>
                    <a:pt x="0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4b4d4f"/>
                </a:solidFill>
                <a:latin typeface="Calibri"/>
              </a:endParaRPr>
            </a:p>
          </p:txBody>
        </p:sp>
        <p:sp>
          <p:nvSpPr>
            <p:cNvPr id="546" name="Freeform 11"/>
            <p:cNvSpPr/>
            <p:nvPr/>
          </p:nvSpPr>
          <p:spPr>
            <a:xfrm>
              <a:off x="0" y="571320"/>
              <a:ext cx="9144000" cy="131436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5699" h="1029">
                  <a:moveTo>
                    <a:pt x="4995" y="0"/>
                  </a:moveTo>
                  <a:lnTo>
                    <a:pt x="5344" y="3"/>
                  </a:lnTo>
                  <a:lnTo>
                    <a:pt x="5699" y="12"/>
                  </a:lnTo>
                  <a:lnTo>
                    <a:pt x="5699" y="43"/>
                  </a:lnTo>
                  <a:lnTo>
                    <a:pt x="5324" y="45"/>
                  </a:lnTo>
                  <a:lnTo>
                    <a:pt x="4959" y="52"/>
                  </a:lnTo>
                  <a:lnTo>
                    <a:pt x="4602" y="66"/>
                  </a:lnTo>
                  <a:lnTo>
                    <a:pt x="4254" y="85"/>
                  </a:lnTo>
                  <a:lnTo>
                    <a:pt x="3912" y="109"/>
                  </a:lnTo>
                  <a:lnTo>
                    <a:pt x="3580" y="139"/>
                  </a:lnTo>
                  <a:lnTo>
                    <a:pt x="3256" y="174"/>
                  </a:lnTo>
                  <a:lnTo>
                    <a:pt x="2939" y="214"/>
                  </a:lnTo>
                  <a:lnTo>
                    <a:pt x="2631" y="261"/>
                  </a:lnTo>
                  <a:lnTo>
                    <a:pt x="2331" y="313"/>
                  </a:lnTo>
                  <a:lnTo>
                    <a:pt x="2039" y="371"/>
                  </a:lnTo>
                  <a:lnTo>
                    <a:pt x="1757" y="433"/>
                  </a:lnTo>
                  <a:lnTo>
                    <a:pt x="1480" y="501"/>
                  </a:lnTo>
                  <a:lnTo>
                    <a:pt x="1214" y="576"/>
                  </a:lnTo>
                  <a:lnTo>
                    <a:pt x="954" y="654"/>
                  </a:lnTo>
                  <a:lnTo>
                    <a:pt x="703" y="740"/>
                  </a:lnTo>
                  <a:lnTo>
                    <a:pt x="461" y="830"/>
                  </a:lnTo>
                  <a:lnTo>
                    <a:pt x="226" y="926"/>
                  </a:lnTo>
                  <a:lnTo>
                    <a:pt x="0" y="1029"/>
                  </a:lnTo>
                  <a:lnTo>
                    <a:pt x="0" y="832"/>
                  </a:lnTo>
                  <a:lnTo>
                    <a:pt x="214" y="741"/>
                  </a:lnTo>
                  <a:lnTo>
                    <a:pt x="437" y="656"/>
                  </a:lnTo>
                  <a:lnTo>
                    <a:pt x="667" y="576"/>
                  </a:lnTo>
                  <a:lnTo>
                    <a:pt x="904" y="501"/>
                  </a:lnTo>
                  <a:lnTo>
                    <a:pt x="1147" y="432"/>
                  </a:lnTo>
                  <a:lnTo>
                    <a:pt x="1400" y="367"/>
                  </a:lnTo>
                  <a:lnTo>
                    <a:pt x="1659" y="308"/>
                  </a:lnTo>
                  <a:lnTo>
                    <a:pt x="1926" y="254"/>
                  </a:lnTo>
                  <a:lnTo>
                    <a:pt x="2199" y="205"/>
                  </a:lnTo>
                  <a:lnTo>
                    <a:pt x="2481" y="162"/>
                  </a:lnTo>
                  <a:lnTo>
                    <a:pt x="2768" y="123"/>
                  </a:lnTo>
                  <a:lnTo>
                    <a:pt x="3064" y="90"/>
                  </a:lnTo>
                  <a:lnTo>
                    <a:pt x="3367" y="62"/>
                  </a:lnTo>
                  <a:lnTo>
                    <a:pt x="3679" y="40"/>
                  </a:lnTo>
                  <a:lnTo>
                    <a:pt x="3998" y="21"/>
                  </a:lnTo>
                  <a:lnTo>
                    <a:pt x="4323" y="8"/>
                  </a:lnTo>
                  <a:lnTo>
                    <a:pt x="4656" y="2"/>
                  </a:lnTo>
                  <a:lnTo>
                    <a:pt x="4995" y="0"/>
                  </a:lnTo>
                  <a:close/>
                </a:path>
              </a:pathLst>
            </a:custGeom>
            <a:solidFill>
              <a:srgbClr val="b0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080" bIns="64080" anchor="t">
              <a:noAutofit/>
            </a:bodyPr>
            <a:p>
              <a:endParaRPr b="0" lang="en-US" sz="1800" spc="-1" strike="noStrike">
                <a:solidFill>
                  <a:srgbClr val="4b4d4f"/>
                </a:solidFill>
                <a:latin typeface="Calibri"/>
              </a:endParaRPr>
            </a:p>
          </p:txBody>
        </p:sp>
      </p:grpSp>
      <p:sp>
        <p:nvSpPr>
          <p:cNvPr id="547" name="TextBox 11"/>
          <p:cNvSpPr/>
          <p:nvPr/>
        </p:nvSpPr>
        <p:spPr>
          <a:xfrm>
            <a:off x="3648960" y="178596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c000"/>
                </a:solidFill>
                <a:latin typeface="Calibri"/>
              </a:rPr>
              <a:t>谢谢</a:t>
            </a:r>
            <a:endParaRPr b="0" lang="en-US" sz="13800" spc="-1" strike="noStrike">
              <a:solidFill>
                <a:srgbClr val="4b4d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5T06:33:33Z</dcterms:created>
  <dc:creator>User</dc:creator>
  <dc:description/>
  <dc:language>en-US</dc:language>
  <cp:lastModifiedBy>pcf</cp:lastModifiedBy>
  <dcterms:modified xsi:type="dcterms:W3CDTF">2018-04-23T07:47:47Z</dcterms:modified>
  <cp:revision>103</cp:revision>
  <dc:subject/>
  <dc:title>幻灯片 1</dc:title>
</cp:coreProperties>
</file>