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8DD-CDDA-4368-BA9F-DD8C9E68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211-32C9-4F0B-9629-0A87D80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752-FBC8-41FE-A606-11504E8E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B40-947A-46DC-8DC6-5D22A54A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0A0-DA7A-4594-954E-FEE72A35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B1F-FFEE-4CD9-8D9C-9F1E733B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410-1007-4DC6-B61F-714E3005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DB4-03EC-4E05-B967-4DFAD97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578-29B6-4E2C-8ECE-51324D6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EF8-FBD4-42CF-8AD8-70D79B8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C2A-CF4F-42CE-B869-D134688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5A1-6FB7-46EF-87B1-0ED5C83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566-77D2-410A-B7B1-BA2FC2197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7-02-15T03:24:59Z</dcterms:modified>
  <cp:revision>28</cp:revision>
  <dc:subject/>
  <dc:title>幻灯片 1</dc:title>
</cp:coreProperties>
</file>