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1A9-BBB7-461E-A7CA-05EFA35A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DAC-B7E5-4655-9BA7-A668E9A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94A-938A-488D-A71B-B6E767C0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F9E-DCCC-4C9D-BA8C-846C9659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463-ACB3-4F7E-BA22-C4F72488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AE0-8DD1-4EA2-8853-BED8A4D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E32-4A76-4336-B124-C497CFC3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797-ED3D-4478-9297-A8BAD5A3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8F1-2C09-4D3F-8478-BBDC3B0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CE5-701A-47A2-9C15-9431FEB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8B9-C28E-44E0-A524-1647E6B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F97-C44A-4583-A735-CE17D0B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BFBA-4A59-4F8B-AD9A-476D96012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7-02-15T03:24:59Z</dcterms:modified>
  <cp:revision>28</cp:revision>
  <dc:subject/>
  <dc:title>幻灯片 1</dc:title>
</cp:coreProperties>
</file>