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B939-0590-429A-B255-001D0B323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AB70-82EC-4FAE-BA24-BA923A2DE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6B9C-55DA-4427-9C50-86D485435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F357-F019-4A98-833D-45F5B7A7A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5A44-5397-4B46-AC0B-4CF020B57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7858-1D2C-45A5-B674-59F538B3D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F54D-FA4E-4C71-85D9-4E1C7F97F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90FF-0081-48B4-96BF-9CE3BA995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55AA-761B-4CFC-BC50-0D3AB7D1D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8483-D8B5-4AA3-B3F1-444DCD9E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0B57-3E01-4608-9D21-25683F1E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EC7A-420A-47BE-8ED3-FD6689D4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87ADE-2A05-48D6-BF37-A548D4578E8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981080" y="914400"/>
            <a:ext cx="556272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Corbel"/>
                <a:ea typeface="楷体_GB2312"/>
              </a:rPr>
              <a:t>春节习俗，实际上是一种抹不去的民俗文化，它意味着家人团聚的温馨，辞旧迎新的轻松和期盼。提起春节的过法，人们脑海中通常会想到年夜饭、吃饺子、贴春联、挂年画、放鞭炮、大拜年等习俗。但是俗话说：“百里不同风，千里不同俗”。同样一个春节，在大江南北，过法却不尽相同，许多地方都有着自己独特的春节习俗，其中不少一直延续至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9520" cy="69040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828800" y="304920"/>
            <a:ext cx="534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习俗一、贴春联、贴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每逢春节，常州无论城市还是农村，家家户户都要精选一幅大红春联和福字贴于门上，为节日增加喜庆气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438280" y="1523880"/>
            <a:ext cx="45720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828800" y="304920"/>
            <a:ext cx="534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习俗二、守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除夕守岁是最重要的年俗活动之一，除夕之夜，全家团聚在一起，吃过年夜饭，一起等着辞旧迎新的时刻，通宵守夜，象征着把一切邪瘟病疫照跑驱走，期待着新的一年吉祥如意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362320" y="1981080"/>
            <a:ext cx="476244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828800" y="304920"/>
            <a:ext cx="534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习俗三、拜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新年的初一，常州人都早早起来，穿上最漂亮的衣服，打扮得整整齐齐，出门去走亲访友，相互拜年，恭祝来年大吉大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62320" y="1828800"/>
            <a:ext cx="4848120" cy="32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828800" y="304920"/>
            <a:ext cx="534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习俗四、放爆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常州民间有“开门爆竹”一说。即在新的一年到来之际，家家户户开门的第一件事就是燃放爆竹，以哔哔叭叭的爆竹声除旧迎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590920" y="2057400"/>
            <a:ext cx="373356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7-02-12T08:38:03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