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032-9C6E-4EFA-BF09-88735415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48F-F2CC-4316-B82A-8C299498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480B-9328-4D1E-A205-ACDBAD91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F76D-D4E2-4EB4-9CF5-10017C1B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FB9-039F-456A-A3C0-A96AC530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76A-D884-41DD-ABDF-4D0D8C0D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63A-27EF-4395-B680-0C0B1BA1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DD1-5FF3-4395-A47B-7DE3C182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B1E-19F4-49CB-83F0-AE19968F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A48-4257-4888-8C1E-B77A856C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A68-D5F5-4BCA-8E56-41F95011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355-C73A-42E8-BFFA-6AE96786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379C-04C6-425C-A4D0-E4698BA8F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-25560"/>
            <a:ext cx="53924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404640"/>
            <a:ext cx="914400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549360"/>
            <a:ext cx="91440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8000" y="-25560"/>
            <a:ext cx="53499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8840" y="-23760"/>
            <a:ext cx="51040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473040"/>
            <a:ext cx="914400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22:47:19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