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2E9-8933-4D10-9984-996236F0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2E8-7F37-43FB-AAF4-0269227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7DB-2D76-4D73-8B08-3B773258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17A-9CBC-4BFA-B5F1-F6ABCE2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7B4-983A-45FA-96AC-BB700EB2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4DA-7C4D-45DC-A00A-94933971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69C-CB17-43DF-9887-4AD7156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20A-E545-4746-B253-AD571572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9AE-B1F7-4099-BB9A-B71832D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B7D-D9E2-4289-8D38-3FE3962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895-B4B8-4B08-8CAB-AF40C5F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37A-4241-4F47-B78D-882E8706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FC1A-1D8A-42C4-B21D-90AED8C9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2844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60" y="54936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4920" y="620640"/>
            <a:ext cx="91425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60" y="5493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360" y="5475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0920" y="28440"/>
            <a:ext cx="518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28440"/>
            <a:ext cx="509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60" y="4730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3480" y="476280"/>
            <a:ext cx="914256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36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2:21:11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