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A207-4FFC-4AB5-A63D-212622DC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587A-936E-4262-B55F-2C3B5C5D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ACB8-F57A-47FA-9B43-ABA066ED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AC00-BD35-47BA-90B3-985BC3D0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8690-D41B-40DC-8AA9-87B4E09B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3659-A288-4804-853F-255282FC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5AD4-58B4-4C62-A80A-ACAB0AE1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BCF9-CA0F-49C0-9148-023D520D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30C1-4433-4BF0-B4B7-6FC52793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6318-B6BA-4870-8D2D-8F0CC178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4B3D-2AC6-4C7F-AAFE-A2A53D90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7DAF-53C5-4352-8FDD-098E9ACB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77B0-D0C8-4DD4-9DC8-39AA83A200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257800" y="31402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二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班的郑梦冉，是一个好学上进，有礼貌的小女孩。课堂上她能认真的听老师讲课，积极发言；课后见到老师能主动问好；在同学有困难的时候，能主动的去帮助同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27537" t="19753" r="31886" b="0"/>
          <a:stretch/>
        </p:blipFill>
        <p:spPr>
          <a:xfrm>
            <a:off x="914400" y="533520"/>
            <a:ext cx="394344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4120" y="304884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二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中队的马子涵，她是一个爱学习、爱挑战的男孩儿，课余时间畅游在书的海洋里；她是一个兴趣爱好广泛的男孩儿；他还是一个爱劳动、爱集体的女孩，关爱身边的人，授人玫瑰，手留余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4057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08:40:33Z</dcterms:created>
  <dc:creator>sony</dc:creator>
  <dc:description/>
  <dc:language>en-US</dc:language>
  <cp:lastModifiedBy>sony</cp:lastModifiedBy>
  <dcterms:modified xsi:type="dcterms:W3CDTF">2011-08-12T17:09:5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