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56F-8847-44FB-A7EB-BECF4B0E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D51-54CC-4EAA-ACF1-9DB3978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6B4-DC15-4B03-8BFF-512B6D72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CAA-E00A-4B6D-8088-3F651A51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E959-B733-4ED5-B7B0-84BE599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D30-D9B9-496E-AFA6-4523042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2996-123C-46BB-AF04-6A2C835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6E8-AF68-4261-A473-E1A9D88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407-3380-4D6F-9A2C-13E2A85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99C-CA21-4FF8-8534-03B91E1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FBD5-37FF-4963-8B6B-91CDCAA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DA4-2B4B-4B57-981A-49DD1353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3867-066E-4979-94D5-A067C7B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A64E-41FD-4BD6-8691-9C57BFFA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9C9-3E29-41F3-95AE-B1D7B4C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34D6-6C04-4F72-A96C-0829DF9A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DDC7-959D-4750-BEAD-8598AC5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337-DE77-47C8-B34D-F9E548B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03F-CE7A-4CC5-86F2-46BF2C5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AD3-9414-4460-AB2A-BEBD00B3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953-10E4-4471-9A2A-BC2F6314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55E-C699-40C0-A3C9-8FF3643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2DD-830D-4F0C-BC08-656CDA0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026-6641-4518-BDCD-849CC8E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014-9504-48BE-903E-5A253419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619-4544-4327-AC34-50198163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赵恩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14920" y="1774800"/>
            <a:ext cx="4429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Apple\Desktop\E6BDC7BA2F5F0173C34B975B5994FAE4.png"/>
          <p:cNvPicPr/>
          <p:nvPr/>
        </p:nvPicPr>
        <p:blipFill>
          <a:blip r:embed="rId1"/>
          <a:stretch/>
        </p:blipFill>
        <p:spPr>
          <a:xfrm>
            <a:off x="1071720" y="1857240"/>
            <a:ext cx="3857400" cy="3786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929120" y="326772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方正粗倩简体"/>
              </a:rPr>
              <a:t>赵恩泽乐于助人，积极向上。作为语文课代表，他能当好老师的小助手。他的兴趣爱好很广泛，比如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方正粗倩简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方正粗倩简体"/>
              </a:rPr>
              <a:t>下棋、看书、写毛笔字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粗倩简体"/>
              </a:rPr>
              <a:t>现在他的毛笔字已经考过八级了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方正粗倩简体"/>
              </a:rPr>
              <a:t>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643720" y="32065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康家钰是一名勤奋好学、活泼开朗的女孩。课堂上她专心听讲，积极发言。成绩优秀，多次被评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三好学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。课余时间积极参加各项活动，葫芦丝和口琴也吹不得错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 康家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Apple\Desktop\IMG_1411.JPG"/>
          <p:cNvPicPr/>
          <p:nvPr/>
        </p:nvPicPr>
        <p:blipFill>
          <a:blip r:embed="rId1"/>
          <a:stretch/>
        </p:blipFill>
        <p:spPr>
          <a:xfrm>
            <a:off x="1500120" y="1357200"/>
            <a:ext cx="394200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Apple</cp:lastModifiedBy>
  <dcterms:modified xsi:type="dcterms:W3CDTF">2017-09-25T13:28:25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