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9FA-4F65-4075-B24A-D988BE83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6DE-DF2D-450B-A35A-4A423D62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C44-7D2B-42C6-8B7A-9AFCE27B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3D5-5C5C-42C1-8E5E-633F7102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BC2-DE90-4473-AB02-80D5835F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F29-9CAC-41F5-8A8D-9FCC1FD7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048-44D6-43F5-A6A4-CC3D8EFA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4BE-B34E-47A3-AE6B-86A77117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AA7-FA20-4859-85CF-827AB0CF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60E-1681-403C-8A09-22162F2C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C2C-D365-4CF7-B941-94EF3EEE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9C6-3CA5-4851-9D1F-25AD56D8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7C5F-7669-44EC-9408-EF25978C2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-38160" y="3240"/>
            <a:ext cx="9196560" cy="68785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569880" y="979560"/>
            <a:ext cx="35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家好，我是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班的徐磊，很高兴能当上本次的升旗手。我日常生活中，我担任了路队长和值日生的岗位。当我是路队长的时候，我会指导我们班的同学快速安静地排好队伍。有时，有些粗心的同学会跑到队伍外面去。每当我严肃地注视着他，他们就乖乖地站会了队伍里。望着我们班的队伍又变成了一条笔直的长龙，我都会感到心满意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3" descr=""/>
          <p:cNvPicPr/>
          <p:nvPr/>
        </p:nvPicPr>
        <p:blipFill>
          <a:blip r:embed="rId2"/>
          <a:stretch/>
        </p:blipFill>
        <p:spPr>
          <a:xfrm>
            <a:off x="4662360" y="1562040"/>
            <a:ext cx="409752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38160" y="3240"/>
            <a:ext cx="9196560" cy="687852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"/>
          <p:cNvSpPr/>
          <p:nvPr/>
        </p:nvSpPr>
        <p:spPr>
          <a:xfrm>
            <a:off x="569880" y="979560"/>
            <a:ext cx="35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家好，我是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班的汪涵。别看我是个文文弱弱的小姑娘，在班级里我可是生活委员呢！每天我都会把第二天的天气写在黑板上，提醒同学们及时穿衣带伞。午餐后，我会用挑剔的目光审视每一张餐桌，被我点名的小桌长和他的成员可要继续努力了！食堂的干净整洁，也有我的一份功劳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" descr=""/>
          <p:cNvPicPr/>
          <p:nvPr/>
        </p:nvPicPr>
        <p:blipFill>
          <a:blip r:embed="rId2"/>
          <a:stretch/>
        </p:blipFill>
        <p:spPr>
          <a:xfrm>
            <a:off x="4618080" y="1079640"/>
            <a:ext cx="3240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12:26:04Z</dcterms:created>
  <dc:creator>lenovo</dc:creator>
  <dc:description/>
  <dc:language>en-US</dc:language>
  <cp:lastModifiedBy>lenovo</cp:lastModifiedBy>
  <dcterms:modified xsi:type="dcterms:W3CDTF">2017-10-09T12:28:2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