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E4A-2A25-4F15-955A-574AAE11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9DA-A5D1-430D-B747-91F8DE65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DF2-7C51-43CF-85DB-FE8C351D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505-4652-4E8A-9D7B-94CF4F22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513-7A61-4AA5-8048-ACDF9590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71C-1569-4190-9410-14D078D3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92F-8DC2-4829-9E58-09F119B6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9B6-572A-40B6-B499-7B28AF40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47A-29D2-4178-A518-B484AD8E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178-7784-40BF-B5B5-74B369C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C02-4BED-47AB-BBC7-035D6B1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DC8-6293-4129-A6D6-61EB1193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481E-B154-4031-BC90-EF4CB5E42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343040" y="1189080"/>
            <a:ext cx="4343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家好！我是二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班的虞天祺，我很荣幸能成为本次的升旗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热爱学习、遵守纪律、关心同学、乐于助人，每学期都被评为三好学生。我还在课余时间学习了书法，想要练就一手好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老师和同学们给我这次机会，我会好好珍惜、更加努力，争取下次再当升旗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29844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cp:keywords/>
  <dc:language>en-US</dc:language>
  <cp:lastModifiedBy>柏聂华</cp:lastModifiedBy>
  <cp:lastPrinted>1899-12-30T00:00:00Z</cp:lastPrinted>
  <dcterms:modified xsi:type="dcterms:W3CDTF">2017-03-20T05:47:55Z</dcterms:modified>
  <cp:revision>39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