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gif" ContentType="image/gif"/>
  <Override PartName="/ppt/media/image5.png" ContentType="image/png"/>
  <Override PartName="/ppt/media/image2.gif" ContentType="image/gif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51AD-C399-4506-A804-7C1FA681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C27-7649-48CB-A4C7-94873B61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263F-612E-44A1-B233-85DD40F8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F44-C612-4D65-B6F3-12234C37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56D2-712F-4C78-A06E-D974E072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1EDF-0990-468C-80B1-08DCC94D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4B36-6BA6-4628-987F-8C51400F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0E70-83D8-4190-AFD8-5D141A3E2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87F5-FDCA-4FF1-9D59-6768CB34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783E-5F08-459C-A177-CAFCCF99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9A3A-6851-43F6-8394-7728C134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2FF1-22F8-424E-B203-7939C85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5C55-1133-44B9-A0DF-11E82A0C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0545-7859-4F5D-A0B4-6817C565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85772-BF99-4D9F-88C8-C0246A5E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DAFF3-A2BC-4959-8E95-ACB34A1CC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EFC8-F657-4357-A570-76DB80F5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E72-9099-4359-AC85-4404F5CE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C85A-9FDE-4CB2-ABB0-4B15D35E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DFDE-53AA-497F-B203-3C0748BE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E9C-76D8-4535-944A-D4A59C8B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14E-1919-4DFA-B68D-8F6B69BA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4B4E-036B-4DC8-A2ED-338F29E9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E10B-B71A-4355-809D-AA7AD272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artoon2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CB65-9BB3-43E2-A1A5-704BCB19EC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artoon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2328C-6D97-4821-AFED-3BA000EB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升旗手：六（</a:t>
            </a:r>
            <a:r>
              <a:rPr b="1" lang="en-US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）班 丁  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211640" y="3220200"/>
            <a:ext cx="3816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丁翔同学责任感强，有担当。他各方面成绩优异，是同学们的榜样、老师的小助手。他多才多艺，拉二胡、吹小号都是强项，对体育项目也情有独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527280" cy="421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QQ图片20160317225049"/>
          <p:cNvPicPr/>
          <p:nvPr/>
        </p:nvPicPr>
        <p:blipFill>
          <a:blip r:embed="rId1"/>
          <a:stretch/>
        </p:blipFill>
        <p:spPr>
          <a:xfrm>
            <a:off x="539640" y="1268280"/>
            <a:ext cx="3291120" cy="5007240"/>
          </a:xfrm>
          <a:prstGeom prst="rect">
            <a:avLst/>
          </a:prstGeom>
          <a:ln w="0">
            <a:noFill/>
          </a:ln>
        </p:spPr>
      </p:pic>
      <p:pic>
        <p:nvPicPr>
          <p:cNvPr id="86" name="内容占位符 15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465800" cy="431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311120" y="423720"/>
            <a:ext cx="59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升旗手：六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班   王佳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02:45:26Z</dcterms:created>
  <dc:creator>keke</dc:creator>
  <dc:description/>
  <cp:keywords/>
  <dc:language>en-US</dc:language>
  <cp:lastModifiedBy>AutoBVT</cp:lastModifiedBy>
  <dcterms:modified xsi:type="dcterms:W3CDTF">2016-03-18T02:36:35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85</vt:lpwstr>
  </property>
</Properties>
</file>