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FF99-875A-4D98-B570-842DC257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D53-9914-4B63-9587-522D252B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5A77-9A1E-4632-9E34-913D98D9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3BFE-9C95-48F8-9B0B-307B1A9B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F027-6365-4C06-88F7-BDDCC3D7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583A-F21D-48BC-81C1-EC817389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0AB9-C833-42E2-8465-FE4538EB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A2E5-3B1C-4D11-9C24-E8CCF9BC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7C15-3016-4E66-AEC1-4B356460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133B-6697-41CF-A760-D5FAE873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E81D-C810-4718-9198-B0DAF53D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20B5-E06E-4988-82F4-BBE4EA86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C30A-4BB1-4B2E-90C1-4341B885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2878-1A07-4FE5-BB2B-E242ACD8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B632-6BDB-46E6-B2EE-A3E4EFAC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7516-8B9B-44F4-9A39-88A9718E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6618-FFD2-4389-A750-F52940BB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D3B-5B09-4C01-AE19-F7EFB71B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2CC4-E205-48D5-BD01-07594EE2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3AA-5FF7-4E04-8E3A-778CED65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0E10-1450-496C-907A-E6C0A68E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0F6-033C-43A6-912E-1F333E7A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3803-67DB-41BF-8E7E-3A82938A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6790-1929-4138-962D-681CC0FB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artoon2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0691-8C46-4D9D-9C98-2118FB845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artoon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5EF7-3659-463E-9B0F-8ACCFE479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升旗手：三（</a:t>
            </a:r>
            <a:r>
              <a:rPr b="1" lang="en-US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）许宝月 胡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356000" y="3367800"/>
            <a:ext cx="38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许宝月同学聪明伶俐，学习成绩优异，书写工整漂亮，课堂上有她响亮清脆的回答，课后有她关心集体的身影。她是老师的小帮手，同学们的好伙伴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35600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4357800" y="3196080"/>
            <a:ext cx="435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胡蝶同学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品学兼优，是同学们学习的好榜样。课堂上她总能聚精会神地听讲，认真地思考，那娟秀的字迹让每个老师都啧啧称赞，上学期她参加学校举行的写字比赛还获得了二等奖的好成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5720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升旗手：三（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）许宝月 胡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442764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45:26Z</dcterms:created>
  <dc:creator>keke</dc:creator>
  <dc:description/>
  <cp:keywords/>
  <dc:language>en-US</dc:language>
  <cp:lastModifiedBy>PC</cp:lastModifiedBy>
  <dcterms:modified xsi:type="dcterms:W3CDTF">2016-02-25T07:02:57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</Properties>
</file>