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7DC-1EA1-46A3-8BF1-DA1D431F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35F-101D-4344-A40F-5010F35A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E65-828A-4781-86E1-66EBAFEF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61C-3C5A-4564-8E8D-D620E0CF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E409-6D96-44CA-8F9E-DA0A3226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1709-08FD-442D-956C-AD7355A8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5451-A589-4721-A188-7BB97286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41FE-2F8C-459B-915D-69A5C235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824-6F7E-4632-8AFD-03FFB9B1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F767-B3D9-4F33-96B3-EBF3B772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595-D7F9-4EFF-A363-77D805F0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842-F57C-4C72-939B-0AD9C5C7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DB54-C382-4625-AA3B-275757C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E98E-E76A-415D-95D9-0A77FEE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4EF3-C05A-4CE0-88AE-4F919860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652B-7F20-49A3-ABED-A3D955D2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7DC4-C0ED-4DEB-B7BD-0F9BD3B5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269-236A-48CF-BCD8-16442F3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02B-56B4-48CA-A716-8168BAFC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0F8-F141-4C8D-8C9A-8988D8EE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673-04B8-4288-A75E-1F847FCC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475-FD19-455D-A0BF-D23400A9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A59-26B0-4A25-A008-160FCBD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034-22F9-4D26-8C6B-E274E1CD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artoon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5DAE-F419-4B6B-AFE5-AB11EC65C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artoo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0E50-19E0-4C39-82CC-018962197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六（</a:t>
            </a:r>
            <a:r>
              <a:rPr b="1" lang="en-US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陈彦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714920" y="2997000"/>
            <a:ext cx="44290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陈彦贝活泼开朗，热爱运动，尤其喜欢羽毛球、游泳。在学校严格要求自己，以集体为荣。在生活中尊老爱幼，是父母的贴心小棉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364320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5643720" y="25606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邹涵兴趣广泛， 擅长踢毽。学习上积极进取，上课发言积极，成绩优秀。她性格开朗，与同学相处融洽，是老师的小助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六（</a:t>
            </a:r>
            <a:r>
              <a:rPr b="1" lang="en-US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 邹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407196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45:26Z</dcterms:created>
  <dc:creator>keke</dc:creator>
  <dc:description/>
  <cp:keywords/>
  <dc:language>en-US</dc:language>
  <cp:lastModifiedBy>Apple</cp:lastModifiedBy>
  <dcterms:modified xsi:type="dcterms:W3CDTF">2016-09-01T13:26:35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