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F88-0DCD-4DE9-8AD7-A6642F91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C2D-6F65-4D01-8539-497C7130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FE1-5FEF-416C-A4F0-7B8D1E69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D56-825B-49FB-A659-5415975C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85F3-F0C1-4150-A660-3B0DF0F5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8688-3C28-4FDB-AD2D-C3649B7C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324C-AC68-4590-8739-0480BD88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C699-75A8-4412-97EC-571D1A37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3E7E-8268-4552-80B3-68523424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6107-8572-408E-9DCD-F88C2792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73E9-1400-44AC-B5D9-66662401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90D-9D24-4C99-AC11-D62C6FDD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4668-44CF-4C92-9F03-3B347126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CE3C-E652-458A-9F94-C3D966B0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4729-50DB-46E8-A9C2-4E78000A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50DB-A5C4-4AA5-ADB0-EC4EBFBB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E646-DF91-4601-B70F-C9141889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6FB-3BD3-486C-A77A-6EAD362A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C75-4E65-4472-9C65-69FFC436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2A77-DD1B-4035-95BF-638C0DFF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3AC-2166-4BD0-B604-B38CE689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E49-C0A0-480A-A317-1A318BDA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FE7-D127-437C-AB73-380EACC6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803-B8BB-4653-9F8A-9A940FF3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artoon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2F6B-CD5E-4D10-BC2B-D63425820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artoo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8862-2D2C-4875-AAB6-3EE9AA9B9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升旗手：二（</a:t>
            </a:r>
            <a:r>
              <a:rPr b="1" lang="en-US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8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）吴泽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211640" y="3221640"/>
            <a:ext cx="38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吴泽轩同学责任感强，有担当。他各方面成绩优异，是同学们的榜样、老师的小助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331308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45:26Z</dcterms:created>
  <dc:creator>keke</dc:creator>
  <dc:description/>
  <cp:keywords/>
  <dc:language>en-US</dc:language>
  <cp:lastModifiedBy>Administrator</cp:lastModifiedBy>
  <dcterms:modified xsi:type="dcterms:W3CDTF">2017-05-03T02:24:33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